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077840"/>
            <a:ext cx="9144000" cy="53755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873600" y="341280"/>
            <a:ext cx="4986360" cy="5191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38720" y="4797360"/>
            <a:ext cx="32814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4829040"/>
            <a:ext cx="3286080" cy="947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Garamond"/>
              </a:rPr>
              <a:t>Marzo</a:t>
            </a:r>
            <a:r>
              <a:rPr b="1" i="1" lang="es-AR" sz="28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1" i="1" lang="es-ES" sz="2800" spc="-1" strike="noStrike">
                <a:solidFill>
                  <a:srgbClr val="3333cc"/>
                </a:solidFill>
                <a:latin typeface="Garamond"/>
              </a:rPr>
              <a:t>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Garamond"/>
              </a:rPr>
              <a:t>Marzo 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20800" y="2055960"/>
            <a:ext cx="6491160" cy="105228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14360" y="1760400"/>
            <a:ext cx="8451720" cy="4993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COPIA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 el F931 </a:t>
            </a:r>
            <a:r>
              <a:rPr b="0" lang="es-AR" sz="2400" spc="-1" strike="noStrike">
                <a:solidFill>
                  <a:srgbClr val="3333cc"/>
                </a:solidFill>
                <a:latin typeface="Trebuchet MS"/>
              </a:rPr>
              <a:t>original/rectificativo, incluido el Saldo de retenciones y retenciones del periodo decla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Busca 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ALTAS </a:t>
            </a:r>
            <a:r>
              <a:rPr b="0" lang="es-AR" sz="2400" spc="-1" strike="noStrike">
                <a:solidFill>
                  <a:srgbClr val="3333cc"/>
                </a:solidFill>
                <a:latin typeface="Trebuchet MS"/>
              </a:rPr>
              <a:t>d/p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eriodo</a:t>
            </a:r>
            <a:r>
              <a:rPr b="0" lang="es-AR" sz="2400" spc="-1" strike="noStrike">
                <a:solidFill>
                  <a:srgbClr val="3333cc"/>
                </a:solidFill>
                <a:latin typeface="Trebuchet MS"/>
              </a:rPr>
              <a:t>/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miSimplificación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0" lang="es-AR" sz="2400" spc="-1" strike="noStrike">
                <a:solidFill>
                  <a:srgbClr val="3333cc"/>
                </a:solidFill>
                <a:latin typeface="Trebuchet MS"/>
              </a:rPr>
              <a:t>agrega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CUILES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BUSCA 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BAJAS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 y ELIMINA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CU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Impide agregar retenciones. Diferencias a ingre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Resta: 1- Enviar, 2- imprimir el acuse de reci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2760" y="260280"/>
            <a:ext cx="543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592600" y="266760"/>
            <a:ext cx="3551400" cy="6714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426240" y="1036800"/>
            <a:ext cx="5440320" cy="404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F931 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Rectificativa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Geometr231 Hv BT"/>
              </a:rPr>
              <a:t>Con Reten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4160" y="1092240"/>
            <a:ext cx="3846240" cy="150336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ahoma"/>
              </a:rPr>
              <a:t>UNIVERS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1° Etapa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-74,5%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338.427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Emple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952880" y="1582560"/>
          <a:ext cx="3944880" cy="4497480"/>
        </p:xfrm>
        <a:graphic>
          <a:graphicData uri="http://schemas.openxmlformats.org/drawingml/2006/table">
            <a:tbl>
              <a:tblPr/>
              <a:tblGrid>
                <a:gridCol w="1708200"/>
                <a:gridCol w="1073160"/>
                <a:gridCol w="116352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Tamaño del emple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antidad de emple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070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5.3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070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0.6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070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.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993366"/>
                          </a:solidFill>
                          <a:latin typeface="Trebuchet MS"/>
                          <a:ea typeface="Times New Roman"/>
                        </a:rPr>
                        <a:t>6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993366"/>
                          </a:solidFill>
                          <a:latin typeface="Trebuchet MS"/>
                          <a:ea typeface="Times New Roman"/>
                        </a:rPr>
                        <a:t>48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200" spc="-1" strike="noStrike">
                          <a:solidFill>
                            <a:srgbClr val="993366"/>
                          </a:solidFill>
                          <a:latin typeface="Trebuchet MS"/>
                          <a:ea typeface="Times New Roman"/>
                        </a:rPr>
                        <a:t>1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11-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37.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26-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10.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41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3.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51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8.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101-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5.9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501-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1501-2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2501-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Más de 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76480"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cc00"/>
                          </a:solidFill>
                          <a:latin typeface="Trebuchet MS"/>
                          <a:ea typeface="Times New Roman"/>
                        </a:rPr>
                        <a:t>Tot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cc00"/>
                          </a:solidFill>
                          <a:latin typeface="Trebuchet MS"/>
                          <a:ea typeface="Times New Roman"/>
                        </a:rPr>
                        <a:t>454.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ffcc00"/>
                          </a:solidFill>
                          <a:latin typeface="Trebuchet MS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000680" y="2286000"/>
            <a:ext cx="728640" cy="485640"/>
          </a:xfrm>
          <a:custGeom>
            <a:avLst/>
            <a:gdLst>
              <a:gd name="textAreaLeft" fmla="*/ 113760 w 728640"/>
              <a:gd name="textAreaRight" fmla="*/ 637560 w 7286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538960" y="247680"/>
            <a:ext cx="3338280" cy="5191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4730760" y="2133720"/>
            <a:ext cx="4224240" cy="8557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92320" y="4010040"/>
            <a:ext cx="9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1840" y="2962440"/>
            <a:ext cx="3473280" cy="196056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ahoma"/>
              </a:rPr>
              <a:t>UNIVERS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° Etapa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–10,7%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48.651Emple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2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10040" y="3114720"/>
            <a:ext cx="871560" cy="228600"/>
          </a:xfrm>
          <a:custGeom>
            <a:avLst/>
            <a:gdLst>
              <a:gd name="textAreaLeft" fmla="*/ 136080 w 871560"/>
              <a:gd name="textAreaRight" fmla="*/ 762840 w 871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83040" y="3076560"/>
            <a:ext cx="4052880" cy="22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720" y="5272200"/>
            <a:ext cx="3894120" cy="116028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Trebuchet MS"/>
              </a:rPr>
              <a:t>387.072 Empleadores 85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28600"/>
            <a:ext cx="3848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07280" y="228600"/>
            <a:ext cx="19515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9900"/>
                </a:solidFill>
                <a:latin typeface="Garamond"/>
              </a:rPr>
              <a:t>Mayo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69080" y="1574640"/>
            <a:ext cx="105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80"/>
                </a:solidFill>
                <a:latin typeface="Geometr231 Hv BT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3640" y="1614600"/>
            <a:ext cx="1518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800080"/>
                </a:solidFill>
                <a:latin typeface="Geometr231 Hv BT"/>
              </a:rPr>
              <a:t>suDeclar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92200" y="2430360"/>
            <a:ext cx="80121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44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ffcc00"/>
                </a:solidFill>
                <a:latin typeface="Garamond"/>
                <a:ea typeface="Times New Roman"/>
              </a:rPr>
              <a:t>Declaración  jurada  pro for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ffcc00"/>
                </a:solidFill>
                <a:latin typeface="Garamond"/>
                <a:ea typeface="Times New Roman"/>
              </a:rPr>
              <a:t>de  seguridad  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ffcc00"/>
                </a:solidFill>
                <a:latin typeface="Geometr231 Hv BT"/>
              </a:rPr>
              <a:t>vía 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720" y="4797360"/>
            <a:ext cx="3905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482904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ffffff"/>
                </a:solidFill>
                <a:latin typeface="Garamond"/>
              </a:rPr>
              <a:t>julio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 200</a:t>
            </a:r>
            <a:r>
              <a:rPr b="1" i="1" lang="es-AR" sz="2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2480" y="1547640"/>
            <a:ext cx="91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5160" y="1401840"/>
            <a:ext cx="6400800" cy="103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H="1">
            <a:off x="304560" y="609480"/>
            <a:ext cx="1904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9520" bIns="295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3080" y="647640"/>
            <a:ext cx="1104840" cy="3528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3366"/>
                </a:solidFill>
                <a:latin typeface="Geometr231 Hv BT"/>
              </a:rPr>
              <a:t>5-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76200" y="228600"/>
            <a:ext cx="1200240" cy="3528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3366"/>
                </a:solidFill>
                <a:latin typeface="Geometr231 Hv BT"/>
              </a:rPr>
              <a:t>6-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66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62280" y="919080"/>
            <a:ext cx="4173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66"/>
                </a:solidFill>
                <a:latin typeface="Geometr231 Hv BT"/>
              </a:rPr>
              <a:t>Tres (3) pasos para un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2160" y="2066760"/>
            <a:ext cx="1944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66"/>
                </a:solidFill>
                <a:latin typeface="Geometr231 Hv BT"/>
              </a:rPr>
              <a:t>I.  Ingresa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32080" y="1836720"/>
            <a:ext cx="3949920" cy="6462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557280" y="2905200"/>
            <a:ext cx="61689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66"/>
                </a:solidFill>
                <a:latin typeface="Geometr231 Hv BT"/>
              </a:rPr>
              <a:t>II. Verificar  si no hay modificaciones a introduc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5200" y="3629160"/>
            <a:ext cx="2797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66"/>
                </a:solidFill>
                <a:latin typeface="Geometr231 Hv BT"/>
              </a:rPr>
              <a:t>III. Aceptar y env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31920" y="4370400"/>
            <a:ext cx="7478640" cy="1175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eometr231 Hv BT"/>
              </a:rPr>
              <a:t>UN CAMBIO CULTURAL QUE SE PRODUCE EN SILEN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15960" y="4468680"/>
            <a:ext cx="2772000" cy="505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86440" y="4460760"/>
            <a:ext cx="3544920" cy="5810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287360"/>
            <a:ext cx="8321760" cy="54961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120000"/>
              </a:lnSpc>
              <a:spcAft>
                <a:spcPts val="3251"/>
              </a:spcAft>
              <a:buClr>
                <a:srgbClr val="46004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Trebuchet MS"/>
              </a:rPr>
              <a:t>Desde 2-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Trebuchet MS"/>
              </a:rPr>
              <a:t>Obligatorio p/empleadores con 1 empl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251"/>
              </a:spcAft>
              <a:buClr>
                <a:srgbClr val="46004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Trebuchet MS"/>
              </a:rPr>
              <a:t>Desde 3-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Trebuchet MS"/>
              </a:rPr>
              <a:t>Obligatorio p/empleadores con 2 a 5 emple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251"/>
              </a:spcAft>
              <a:buClr>
                <a:srgbClr val="46004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Trebuchet MS"/>
              </a:rPr>
              <a:t>Adhesion Voluntaria 6 a 10 empleados, excepto que sea por incremento de nominas de 1 a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251"/>
              </a:spcAft>
              <a:buClr>
                <a:srgbClr val="46004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rebuchet MS"/>
              </a:rPr>
              <a:t>Puesta en marcha: 1º DE MARZO DE 200</a:t>
            </a:r>
            <a:r>
              <a:rPr b="1" lang="es-AR" sz="2000" spc="-1" strike="noStrike">
                <a:solidFill>
                  <a:srgbClr val="3333cc"/>
                </a:solidFill>
                <a:latin typeface="Trebuchet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251"/>
              </a:spcAft>
              <a:buClr>
                <a:srgbClr val="46004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rebuchet MS"/>
              </a:rPr>
              <a:t>Resolución General</a:t>
            </a:r>
            <a:r>
              <a:rPr b="1" lang="es-AR" sz="2000" spc="-1" strike="noStrike">
                <a:solidFill>
                  <a:srgbClr val="3333cc"/>
                </a:solidFill>
                <a:latin typeface="Trebuchet MS"/>
              </a:rPr>
              <a:t> 240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760" y="260280"/>
            <a:ext cx="545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13360" y="257040"/>
            <a:ext cx="2981520" cy="4255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54040" y="1787400"/>
            <a:ext cx="8400600" cy="5070600"/>
            <a:chOff x="554040" y="1787400"/>
            <a:chExt cx="8400600" cy="5070600"/>
          </a:xfrm>
        </p:grpSpPr>
        <p:grpSp>
          <p:nvGrpSpPr>
            <p:cNvPr id="58" name=""/>
            <p:cNvGrpSpPr/>
            <p:nvPr/>
          </p:nvGrpSpPr>
          <p:grpSpPr>
            <a:xfrm>
              <a:off x="554040" y="1787400"/>
              <a:ext cx="8400600" cy="5070600"/>
              <a:chOff x="554040" y="1787400"/>
              <a:chExt cx="8400600" cy="5070600"/>
            </a:xfrm>
          </p:grpSpPr>
          <p:sp>
            <p:nvSpPr>
              <p:cNvPr id="59" name=""/>
              <p:cNvSpPr/>
              <p:nvPr/>
            </p:nvSpPr>
            <p:spPr>
              <a:xfrm>
                <a:off x="2877840" y="1787400"/>
                <a:ext cx="6076800" cy="5067360"/>
              </a:xfrm>
              <a:prstGeom prst="roundRect">
                <a:avLst>
                  <a:gd name="adj" fmla="val 5389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69c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84560" y="1790640"/>
                <a:ext cx="3047760" cy="5067360"/>
              </a:xfrm>
              <a:custGeom>
                <a:avLst/>
                <a:gdLst>
                  <a:gd name="textAreaLeft" fmla="*/ 63360 w 3047760"/>
                  <a:gd name="textAreaRight" fmla="*/ 2984400 w 3047760"/>
                  <a:gd name="textAreaTop" fmla="*/ 63360 h 5067360"/>
                  <a:gd name="textAreaBottom" fmla="*/ 5004000 h 5067360"/>
                </a:gdLst>
                <a:ahLst/>
                <a:rect l="textAreaLeft" t="textAreaTop" r="textAreaRight" b="textAreaBottom"/>
                <a:pathLst>
                  <a:path w="21600" h="35912">
                    <a:moveTo>
                      <a:pt x="1535" y="0"/>
                    </a:moveTo>
                    <a:arcTo wR="1535" hR="1535" stAng="16200000" swAng="-5400000"/>
                    <a:lnTo>
                      <a:pt x="0" y="34377"/>
                    </a:lnTo>
                    <a:arcTo wR="1535" hR="1535" stAng="10800000" swAng="-5400000"/>
                    <a:lnTo>
                      <a:pt x="20065" y="35912"/>
                    </a:lnTo>
                    <a:arcTo wR="1535" hR="1535" stAng="5400000" swAng="-5400000"/>
                    <a:lnTo>
                      <a:pt x="21600" y="1535"/>
                    </a:lnTo>
                    <a:arcTo wR="1535" hR="1535" stAng="0" swAng="-5400000"/>
                    <a:close/>
                  </a:path>
                </a:pathLst>
              </a:custGeom>
              <a:solidFill>
                <a:srgbClr val="0000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 rot="5400000">
                <a:off x="3884760" y="4041000"/>
                <a:ext cx="4681440" cy="647280"/>
              </a:xfrm>
              <a:prstGeom prst="rect">
                <a:avLst/>
              </a:prstGeom>
            </p:spPr>
            <p:txBody>
              <a:bodyPr wrap="none" lIns="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28440">
                      <a:solidFill>
                        <a:srgbClr val="ccecff"/>
                      </a:solidFill>
                      <a:miter/>
                    </a:ln>
                    <a:noFill/>
                    <a:latin typeface="Arial Black"/>
                  </a:rPr>
                  <a:t>Empleador</a:t>
                </a:r>
                <a:endParaRPr b="0" lang="en-US" sz="2400" spc="1" strike="noStrike">
                  <a:ln w="28440">
                    <a:solidFill>
                      <a:srgbClr val="ccecff"/>
                    </a:solidFill>
                    <a:miter/>
                  </a:ln>
                  <a:noFill/>
                  <a:latin typeface="Arial Black"/>
                  <a:ea typeface="Arial Black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724280" y="1930320"/>
                <a:ext cx="1011960" cy="4768560"/>
                <a:chOff x="4724280" y="1930320"/>
                <a:chExt cx="1011960" cy="4768560"/>
              </a:xfrm>
            </p:grpSpPr>
            <p:sp>
              <p:nvSpPr>
                <p:cNvPr id="63" name=""/>
                <p:cNvSpPr/>
                <p:nvPr/>
              </p:nvSpPr>
              <p:spPr>
                <a:xfrm rot="16200000">
                  <a:off x="4741920" y="5409000"/>
                  <a:ext cx="992160" cy="996120"/>
                </a:xfrm>
                <a:custGeom>
                  <a:avLst/>
                  <a:gdLst/>
                  <a:ahLst/>
                  <a:rect l="l" t="t" r="r" b="b"/>
                  <a:pathLst>
                    <a:path w="437" h="439">
                      <a:moveTo>
                        <a:pt x="125" y="439"/>
                      </a:moveTo>
                      <a:lnTo>
                        <a:pt x="437" y="439"/>
                      </a:lnTo>
                      <a:lnTo>
                        <a:pt x="229" y="0"/>
                      </a:lnTo>
                      <a:lnTo>
                        <a:pt x="78" y="0"/>
                      </a:lnTo>
                      <a:lnTo>
                        <a:pt x="0" y="170"/>
                      </a:lnTo>
                      <a:lnTo>
                        <a:pt x="125" y="439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6200000">
                  <a:off x="4773600" y="1885320"/>
                  <a:ext cx="617760" cy="707760"/>
                </a:xfrm>
                <a:custGeom>
                  <a:avLst/>
                  <a:gdLst/>
                  <a:ahLst/>
                  <a:rect l="l" t="t" r="r" b="b"/>
                  <a:pathLst>
                    <a:path w="115" h="132">
                      <a:moveTo>
                        <a:pt x="46" y="132"/>
                      </a:moveTo>
                      <a:cubicBezTo>
                        <a:pt x="84" y="132"/>
                        <a:pt x="115" y="103"/>
                        <a:pt x="115" y="67"/>
                      </a:cubicBezTo>
                      <a:cubicBezTo>
                        <a:pt x="115" y="30"/>
                        <a:pt x="84" y="0"/>
                        <a:pt x="45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2"/>
                        <a:pt x="0" y="132"/>
                        <a:pt x="0" y="132"/>
                      </a:cubicBezTo>
                      <a:lnTo>
                        <a:pt x="46" y="132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6200000">
                  <a:off x="4722480" y="5267160"/>
                  <a:ext cx="59040" cy="4716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6200000">
                  <a:off x="4915440" y="4488840"/>
                  <a:ext cx="633240" cy="1007280"/>
                </a:xfrm>
                <a:custGeom>
                  <a:avLst/>
                  <a:gdLst/>
                  <a:ahLst/>
                  <a:rect l="l" t="t" r="r" b="b"/>
                  <a:pathLst>
                    <a:path w="279" h="444">
                      <a:moveTo>
                        <a:pt x="0" y="253"/>
                      </a:moveTo>
                      <a:lnTo>
                        <a:pt x="0" y="444"/>
                      </a:lnTo>
                      <a:lnTo>
                        <a:pt x="279" y="444"/>
                      </a:lnTo>
                      <a:lnTo>
                        <a:pt x="279" y="0"/>
                      </a:lnTo>
                      <a:lnTo>
                        <a:pt x="0" y="253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16200000">
                  <a:off x="4725000" y="5146920"/>
                  <a:ext cx="172440" cy="165600"/>
                </a:xfrm>
                <a:custGeom>
                  <a:avLst/>
                  <a:gdLst/>
                  <a:ahLst/>
                  <a:rect l="l" t="t" r="r" b="b"/>
                  <a:pathLst>
                    <a:path w="32" h="31">
                      <a:moveTo>
                        <a:pt x="0" y="22"/>
                      </a:moveTo>
                      <a:cubicBezTo>
                        <a:pt x="0" y="31"/>
                        <a:pt x="0" y="31"/>
                        <a:pt x="0" y="31"/>
                      </a:cubicBezTo>
                      <a:cubicBezTo>
                        <a:pt x="32" y="0"/>
                        <a:pt x="32" y="0"/>
                        <a:pt x="32" y="0"/>
                      </a:cubicBezTo>
                      <a:cubicBezTo>
                        <a:pt x="29" y="0"/>
                        <a:pt x="26" y="0"/>
                        <a:pt x="23" y="0"/>
                      </a:cubicBez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6200000">
                  <a:off x="4720320" y="5029200"/>
                  <a:ext cx="294840" cy="278640"/>
                </a:xfrm>
                <a:custGeom>
                  <a:avLst/>
                  <a:gdLst/>
                  <a:ahLst/>
                  <a:rect l="l" t="t" r="r" b="b"/>
                  <a:pathLst>
                    <a:path w="55" h="52">
                      <a:moveTo>
                        <a:pt x="0" y="43"/>
                      </a:moveTo>
                      <a:cubicBezTo>
                        <a:pt x="0" y="52"/>
                        <a:pt x="0" y="52"/>
                        <a:pt x="0" y="52"/>
                      </a:cubicBezTo>
                      <a:cubicBezTo>
                        <a:pt x="55" y="0"/>
                        <a:pt x="55" y="0"/>
                        <a:pt x="55" y="0"/>
                      </a:cubicBezTo>
                      <a:cubicBezTo>
                        <a:pt x="52" y="0"/>
                        <a:pt x="49" y="0"/>
                        <a:pt x="45" y="0"/>
                      </a:cubicBez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16200000">
                  <a:off x="4718160" y="4913280"/>
                  <a:ext cx="412920" cy="392400"/>
                </a:xfrm>
                <a:custGeom>
                  <a:avLst/>
                  <a:gdLst/>
                  <a:ahLst/>
                  <a:rect l="l" t="t" r="r" b="b"/>
                  <a:pathLst>
                    <a:path w="77" h="73">
                      <a:moveTo>
                        <a:pt x="0" y="64"/>
                      </a:moveTo>
                      <a:cubicBezTo>
                        <a:pt x="0" y="73"/>
                        <a:pt x="0" y="73"/>
                        <a:pt x="0" y="73"/>
                      </a:cubicBezTo>
                      <a:cubicBezTo>
                        <a:pt x="77" y="0"/>
                        <a:pt x="77" y="0"/>
                        <a:pt x="77" y="0"/>
                      </a:cubicBezTo>
                      <a:cubicBezTo>
                        <a:pt x="74" y="0"/>
                        <a:pt x="70" y="0"/>
                        <a:pt x="67" y="0"/>
                      </a:cubicBez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16200000">
                  <a:off x="4711320" y="4795200"/>
                  <a:ext cx="537840" cy="503640"/>
                </a:xfrm>
                <a:custGeom>
                  <a:avLst/>
                  <a:gdLst/>
                  <a:ahLst/>
                  <a:rect l="l" t="t" r="r" b="b"/>
                  <a:pathLst>
                    <a:path w="100" h="94">
                      <a:moveTo>
                        <a:pt x="0" y="86"/>
                      </a:moveTo>
                      <a:cubicBezTo>
                        <a:pt x="0" y="94"/>
                        <a:pt x="0" y="94"/>
                        <a:pt x="0" y="94"/>
                      </a:cubicBezTo>
                      <a:cubicBezTo>
                        <a:pt x="100" y="0"/>
                        <a:pt x="100" y="0"/>
                        <a:pt x="100" y="0"/>
                      </a:cubicBezTo>
                      <a:cubicBezTo>
                        <a:pt x="96" y="0"/>
                        <a:pt x="93" y="0"/>
                        <a:pt x="90" y="0"/>
                      </a:cubicBez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6200000">
                  <a:off x="5679360" y="6642000"/>
                  <a:ext cx="54360" cy="59040"/>
                </a:xfrm>
                <a:custGeom>
                  <a:avLst/>
                  <a:gdLst/>
                  <a:ahLst/>
                  <a:rect l="l" t="t" r="r" b="b"/>
                  <a:pathLst>
                    <a:path w="24" h="26">
                      <a:moveTo>
                        <a:pt x="0" y="24"/>
                      </a:moveTo>
                      <a:lnTo>
                        <a:pt x="24" y="26"/>
                      </a:lnTo>
                      <a:lnTo>
                        <a:pt x="12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16200000">
                  <a:off x="5592240" y="6495840"/>
                  <a:ext cx="101880" cy="176760"/>
                </a:xfrm>
                <a:custGeom>
                  <a:avLst/>
                  <a:gdLst/>
                  <a:ahLst/>
                  <a:rect l="l" t="t" r="r" b="b"/>
                  <a:pathLst>
                    <a:path w="19" h="33">
                      <a:moveTo>
                        <a:pt x="11" y="33"/>
                      </a:moveTo>
                      <a:cubicBezTo>
                        <a:pt x="19" y="33"/>
                        <a:pt x="19" y="33"/>
                        <a:pt x="19" y="33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3" y="3"/>
                        <a:pt x="2" y="6"/>
                        <a:pt x="0" y="9"/>
                      </a:cubicBezTo>
                      <a:lnTo>
                        <a:pt x="11" y="33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16200000">
                  <a:off x="5501160" y="6346440"/>
                  <a:ext cx="160920" cy="299160"/>
                </a:xfrm>
                <a:custGeom>
                  <a:avLst/>
                  <a:gdLst/>
                  <a:ahLst/>
                  <a:rect l="l" t="t" r="r" b="b"/>
                  <a:pathLst>
                    <a:path w="30" h="56">
                      <a:moveTo>
                        <a:pt x="21" y="56"/>
                      </a:moveTo>
                      <a:cubicBezTo>
                        <a:pt x="30" y="56"/>
                        <a:pt x="30" y="56"/>
                        <a:pt x="30" y="56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3" y="3"/>
                        <a:pt x="2" y="6"/>
                        <a:pt x="0" y="9"/>
                      </a:cubicBezTo>
                      <a:lnTo>
                        <a:pt x="21" y="56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rot="16200000">
                  <a:off x="5413680" y="6194880"/>
                  <a:ext cx="215640" cy="429120"/>
                </a:xfrm>
                <a:custGeom>
                  <a:avLst/>
                  <a:gdLst/>
                  <a:ahLst/>
                  <a:rect l="l" t="t" r="r" b="b"/>
                  <a:pathLst>
                    <a:path w="40" h="80">
                      <a:moveTo>
                        <a:pt x="31" y="80"/>
                      </a:moveTo>
                      <a:cubicBezTo>
                        <a:pt x="40" y="80"/>
                        <a:pt x="40" y="80"/>
                        <a:pt x="40" y="8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3" y="3"/>
                        <a:pt x="1" y="7"/>
                        <a:pt x="0" y="10"/>
                      </a:cubicBezTo>
                      <a:lnTo>
                        <a:pt x="31" y="80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6200000">
                  <a:off x="5326560" y="6048360"/>
                  <a:ext cx="267480" cy="551520"/>
                </a:xfrm>
                <a:custGeom>
                  <a:avLst/>
                  <a:gdLst/>
                  <a:ahLst/>
                  <a:rect l="l" t="t" r="r" b="b"/>
                  <a:pathLst>
                    <a:path w="50" h="103">
                      <a:moveTo>
                        <a:pt x="42" y="103"/>
                      </a:moveTo>
                      <a:cubicBezTo>
                        <a:pt x="50" y="103"/>
                        <a:pt x="50" y="103"/>
                        <a:pt x="50" y="103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3" y="3"/>
                        <a:pt x="1" y="7"/>
                        <a:pt x="0" y="10"/>
                      </a:cubicBezTo>
                      <a:lnTo>
                        <a:pt x="42" y="103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16200000">
                  <a:off x="4722480" y="4007160"/>
                  <a:ext cx="59040" cy="4716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16200000">
                  <a:off x="4915440" y="3228840"/>
                  <a:ext cx="633600" cy="1007280"/>
                </a:xfrm>
                <a:custGeom>
                  <a:avLst/>
                  <a:gdLst/>
                  <a:ahLst/>
                  <a:rect l="l" t="t" r="r" b="b"/>
                  <a:pathLst>
                    <a:path w="279" h="444">
                      <a:moveTo>
                        <a:pt x="0" y="253"/>
                      </a:moveTo>
                      <a:lnTo>
                        <a:pt x="0" y="444"/>
                      </a:lnTo>
                      <a:lnTo>
                        <a:pt x="279" y="444"/>
                      </a:lnTo>
                      <a:lnTo>
                        <a:pt x="279" y="0"/>
                      </a:lnTo>
                      <a:lnTo>
                        <a:pt x="0" y="253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16200000">
                  <a:off x="4726440" y="3885480"/>
                  <a:ext cx="169920" cy="165600"/>
                </a:xfrm>
                <a:custGeom>
                  <a:avLst/>
                  <a:gdLst/>
                  <a:ahLst/>
                  <a:rect l="l" t="t" r="r" b="b"/>
                  <a:pathLst>
                    <a:path w="32" h="31">
                      <a:moveTo>
                        <a:pt x="0" y="22"/>
                      </a:moveTo>
                      <a:cubicBezTo>
                        <a:pt x="0" y="31"/>
                        <a:pt x="0" y="31"/>
                        <a:pt x="0" y="31"/>
                      </a:cubicBezTo>
                      <a:cubicBezTo>
                        <a:pt x="32" y="0"/>
                        <a:pt x="32" y="0"/>
                        <a:pt x="32" y="0"/>
                      </a:cubicBezTo>
                      <a:cubicBezTo>
                        <a:pt x="29" y="0"/>
                        <a:pt x="26" y="0"/>
                        <a:pt x="23" y="0"/>
                      </a:cubicBez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6200000">
                  <a:off x="4720320" y="3766320"/>
                  <a:ext cx="294840" cy="278640"/>
                </a:xfrm>
                <a:custGeom>
                  <a:avLst/>
                  <a:gdLst/>
                  <a:ahLst/>
                  <a:rect l="l" t="t" r="r" b="b"/>
                  <a:pathLst>
                    <a:path w="55" h="52">
                      <a:moveTo>
                        <a:pt x="0" y="43"/>
                      </a:moveTo>
                      <a:cubicBezTo>
                        <a:pt x="0" y="52"/>
                        <a:pt x="0" y="52"/>
                        <a:pt x="0" y="52"/>
                      </a:cubicBezTo>
                      <a:cubicBezTo>
                        <a:pt x="55" y="0"/>
                        <a:pt x="55" y="0"/>
                        <a:pt x="55" y="0"/>
                      </a:cubicBezTo>
                      <a:cubicBezTo>
                        <a:pt x="52" y="0"/>
                        <a:pt x="49" y="0"/>
                        <a:pt x="45" y="0"/>
                      </a:cubicBez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6200000">
                  <a:off x="4718160" y="3650400"/>
                  <a:ext cx="412920" cy="392400"/>
                </a:xfrm>
                <a:custGeom>
                  <a:avLst/>
                  <a:gdLst/>
                  <a:ahLst/>
                  <a:rect l="l" t="t" r="r" b="b"/>
                  <a:pathLst>
                    <a:path w="77" h="73">
                      <a:moveTo>
                        <a:pt x="0" y="64"/>
                      </a:moveTo>
                      <a:cubicBezTo>
                        <a:pt x="0" y="73"/>
                        <a:pt x="0" y="73"/>
                        <a:pt x="0" y="73"/>
                      </a:cubicBezTo>
                      <a:cubicBezTo>
                        <a:pt x="77" y="0"/>
                        <a:pt x="77" y="0"/>
                        <a:pt x="77" y="0"/>
                      </a:cubicBezTo>
                      <a:cubicBezTo>
                        <a:pt x="74" y="0"/>
                        <a:pt x="71" y="0"/>
                        <a:pt x="67" y="0"/>
                      </a:cubicBez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16200000">
                  <a:off x="4712760" y="3533760"/>
                  <a:ext cx="535320" cy="503640"/>
                </a:xfrm>
                <a:custGeom>
                  <a:avLst/>
                  <a:gdLst/>
                  <a:ahLst/>
                  <a:rect l="l" t="t" r="r" b="b"/>
                  <a:pathLst>
                    <a:path w="100" h="94">
                      <a:moveTo>
                        <a:pt x="0" y="86"/>
                      </a:moveTo>
                      <a:cubicBezTo>
                        <a:pt x="0" y="94"/>
                        <a:pt x="0" y="94"/>
                        <a:pt x="0" y="94"/>
                      </a:cubicBezTo>
                      <a:cubicBezTo>
                        <a:pt x="100" y="0"/>
                        <a:pt x="100" y="0"/>
                        <a:pt x="100" y="0"/>
                      </a:cubicBezTo>
                      <a:cubicBezTo>
                        <a:pt x="97" y="0"/>
                        <a:pt x="93" y="0"/>
                        <a:pt x="90" y="0"/>
                      </a:cubicBez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6200000">
                  <a:off x="4722840" y="3223800"/>
                  <a:ext cx="58680" cy="4716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0" y="0"/>
                      </a:moveTo>
                      <a:lnTo>
                        <a:pt x="0" y="21"/>
                      </a:lnTo>
                      <a:lnTo>
                        <a:pt x="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6200000">
                  <a:off x="4919040" y="2448720"/>
                  <a:ext cx="626400" cy="1007280"/>
                </a:xfrm>
                <a:custGeom>
                  <a:avLst/>
                  <a:gdLst/>
                  <a:ahLst/>
                  <a:rect l="l" t="t" r="r" b="b"/>
                  <a:pathLst>
                    <a:path w="276" h="444">
                      <a:moveTo>
                        <a:pt x="0" y="253"/>
                      </a:moveTo>
                      <a:lnTo>
                        <a:pt x="0" y="444"/>
                      </a:lnTo>
                      <a:lnTo>
                        <a:pt x="276" y="444"/>
                      </a:lnTo>
                      <a:lnTo>
                        <a:pt x="276" y="0"/>
                      </a:lnTo>
                      <a:lnTo>
                        <a:pt x="0" y="253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6200000">
                  <a:off x="4726080" y="3102120"/>
                  <a:ext cx="170280" cy="165600"/>
                </a:xfrm>
                <a:custGeom>
                  <a:avLst/>
                  <a:gdLst/>
                  <a:ahLst/>
                  <a:rect l="l" t="t" r="r" b="b"/>
                  <a:pathLst>
                    <a:path w="32" h="31">
                      <a:moveTo>
                        <a:pt x="0" y="22"/>
                      </a:moveTo>
                      <a:cubicBezTo>
                        <a:pt x="0" y="31"/>
                        <a:pt x="0" y="31"/>
                        <a:pt x="0" y="31"/>
                      </a:cubicBezTo>
                      <a:cubicBezTo>
                        <a:pt x="32" y="0"/>
                        <a:pt x="32" y="0"/>
                        <a:pt x="32" y="0"/>
                      </a:cubicBezTo>
                      <a:cubicBezTo>
                        <a:pt x="29" y="0"/>
                        <a:pt x="26" y="0"/>
                        <a:pt x="23" y="0"/>
                      </a:cubicBez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6200000">
                  <a:off x="4721400" y="2984400"/>
                  <a:ext cx="292680" cy="278640"/>
                </a:xfrm>
                <a:custGeom>
                  <a:avLst/>
                  <a:gdLst/>
                  <a:ahLst/>
                  <a:rect l="l" t="t" r="r" b="b"/>
                  <a:pathLst>
                    <a:path w="55" h="52">
                      <a:moveTo>
                        <a:pt x="0" y="43"/>
                      </a:moveTo>
                      <a:cubicBezTo>
                        <a:pt x="0" y="52"/>
                        <a:pt x="0" y="52"/>
                        <a:pt x="0" y="52"/>
                      </a:cubicBezTo>
                      <a:cubicBezTo>
                        <a:pt x="55" y="0"/>
                        <a:pt x="55" y="0"/>
                        <a:pt x="55" y="0"/>
                      </a:cubicBezTo>
                      <a:cubicBezTo>
                        <a:pt x="52" y="0"/>
                        <a:pt x="48" y="0"/>
                        <a:pt x="45" y="0"/>
                      </a:cubicBez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6200000">
                  <a:off x="4719240" y="2868480"/>
                  <a:ext cx="410760" cy="392400"/>
                </a:xfrm>
                <a:custGeom>
                  <a:avLst/>
                  <a:gdLst/>
                  <a:ahLst/>
                  <a:rect l="l" t="t" r="r" b="b"/>
                  <a:pathLst>
                    <a:path w="77" h="73">
                      <a:moveTo>
                        <a:pt x="0" y="64"/>
                      </a:moveTo>
                      <a:cubicBezTo>
                        <a:pt x="0" y="73"/>
                        <a:pt x="0" y="73"/>
                        <a:pt x="0" y="73"/>
                      </a:cubicBezTo>
                      <a:cubicBezTo>
                        <a:pt x="77" y="0"/>
                        <a:pt x="77" y="0"/>
                        <a:pt x="77" y="0"/>
                      </a:cubicBezTo>
                      <a:cubicBezTo>
                        <a:pt x="74" y="0"/>
                        <a:pt x="70" y="0"/>
                        <a:pt x="67" y="0"/>
                      </a:cubicBez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6200000">
                  <a:off x="4712400" y="2750400"/>
                  <a:ext cx="536040" cy="503640"/>
                </a:xfrm>
                <a:custGeom>
                  <a:avLst/>
                  <a:gdLst/>
                  <a:ahLst/>
                  <a:rect l="l" t="t" r="r" b="b"/>
                  <a:pathLst>
                    <a:path w="100" h="94">
                      <a:moveTo>
                        <a:pt x="0" y="86"/>
                      </a:moveTo>
                      <a:cubicBezTo>
                        <a:pt x="0" y="94"/>
                        <a:pt x="0" y="94"/>
                        <a:pt x="0" y="94"/>
                      </a:cubicBezTo>
                      <a:cubicBezTo>
                        <a:pt x="100" y="0"/>
                        <a:pt x="100" y="0"/>
                        <a:pt x="100" y="0"/>
                      </a:cubicBezTo>
                      <a:cubicBezTo>
                        <a:pt x="96" y="0"/>
                        <a:pt x="93" y="0"/>
                        <a:pt x="90" y="0"/>
                      </a:cubicBez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6200000">
                  <a:off x="4754880" y="4317840"/>
                  <a:ext cx="258480" cy="320040"/>
                </a:xfrm>
                <a:prstGeom prst="rect">
                  <a:avLst/>
                </a:pr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6200000">
                  <a:off x="5238000" y="4425120"/>
                  <a:ext cx="58680" cy="314640"/>
                </a:xfrm>
                <a:prstGeom prst="rect">
                  <a:avLst/>
                </a:pr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6200000">
                  <a:off x="4718520" y="4184280"/>
                  <a:ext cx="331560" cy="320040"/>
                </a:xfrm>
                <a:prstGeom prst="ellipse">
                  <a:avLst/>
                </a:pr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6200000">
                  <a:off x="5184720" y="4313160"/>
                  <a:ext cx="165600" cy="314640"/>
                </a:xfrm>
                <a:custGeom>
                  <a:avLst/>
                  <a:gdLst/>
                  <a:ahLst/>
                  <a:rect l="l" t="t" r="r" b="b"/>
                  <a:pathLst>
                    <a:path w="31" h="59">
                      <a:moveTo>
                        <a:pt x="0" y="59"/>
                      </a:moveTo>
                      <a:cubicBezTo>
                        <a:pt x="17" y="59"/>
                        <a:pt x="31" y="46"/>
                        <a:pt x="31" y="29"/>
                      </a:cubicBezTo>
                      <a:cubicBezTo>
                        <a:pt x="31" y="13"/>
                        <a:pt x="17" y="0"/>
                        <a:pt x="0" y="0"/>
                      </a:cubicBez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ffffff">
                    <a:alpha val="6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54040" y="3946320"/>
                <a:ext cx="1838160" cy="990720"/>
                <a:chOff x="554040" y="3946320"/>
                <a:chExt cx="1838160" cy="990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54040" y="3946320"/>
                  <a:ext cx="18381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69c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87240" y="4165560"/>
                  <a:ext cx="352080" cy="0"/>
                </a:xfrm>
                <a:prstGeom prst="line">
                  <a:avLst/>
                </a:prstGeom>
                <a:ln w="57240">
                  <a:solidFill>
                    <a:srgbClr val="00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93360" y="4429080"/>
                  <a:ext cx="352080" cy="0"/>
                </a:xfrm>
                <a:prstGeom prst="line">
                  <a:avLst/>
                </a:prstGeom>
                <a:ln w="57240">
                  <a:solidFill>
                    <a:srgbClr val="00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99840" y="4692600"/>
                  <a:ext cx="352080" cy="0"/>
                </a:xfrm>
                <a:prstGeom prst="line">
                  <a:avLst/>
                </a:prstGeom>
                <a:ln w="57240">
                  <a:solidFill>
                    <a:srgbClr val="8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081440" y="4051080"/>
                  <a:ext cx="107964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3366"/>
                      </a:solidFill>
                      <a:latin typeface="Trebuchet MS"/>
                    </a:rPr>
                    <a:t>Informa DDJJ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60200" y="4314600"/>
                  <a:ext cx="12855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3366"/>
                      </a:solidFill>
                      <a:latin typeface="Trebuchet MS"/>
                    </a:rPr>
                    <a:t>Envío / Registr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74960" y="4587840"/>
                  <a:ext cx="8175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3366"/>
                      </a:solidFill>
                      <a:latin typeface="Trebuchet MS"/>
                    </a:rPr>
                    <a:t>Recálcu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" name=""/>
            <p:cNvSpPr/>
            <p:nvPr/>
          </p:nvSpPr>
          <p:spPr>
            <a:xfrm flipH="1">
              <a:off x="5884560" y="1806480"/>
              <a:ext cx="2880" cy="504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12760" y="260280"/>
            <a:ext cx="7662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333440"/>
            <a:ext cx="2448000" cy="68760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5520" y="1319040"/>
            <a:ext cx="19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rebuchet MS"/>
              </a:rPr>
              <a:t>Circuito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708600" y="1287360"/>
            <a:ext cx="1890720" cy="1162080"/>
            <a:chOff x="6708600" y="1287360"/>
            <a:chExt cx="1890720" cy="1162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6708600" y="1287360"/>
              <a:ext cx="189072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21453600">
              <a:off x="7210080" y="1454040"/>
              <a:ext cx="463680" cy="16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5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16920" y="1681560"/>
              <a:ext cx="433080" cy="3006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Geometr231 Hv BT"/>
                </a:rPr>
                <a:t>CLAVE </a:t>
              </a:r>
              <a:br>
                <a:rPr sz="800"/>
              </a:br>
              <a:r>
                <a:rPr b="1" lang="es-ES_tradnl" sz="800" spc="-1" strike="noStrike">
                  <a:solidFill>
                    <a:srgbClr val="ffffff"/>
                  </a:solidFill>
                  <a:latin typeface="Geometr231 Hv BT"/>
                </a:rPr>
                <a:t>FISC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 rot="21463800">
              <a:off x="7227720" y="1450800"/>
              <a:ext cx="4320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3699000" y="5219640"/>
            <a:ext cx="4593960" cy="968400"/>
            <a:chOff x="3699000" y="5219640"/>
            <a:chExt cx="4593960" cy="968400"/>
          </a:xfrm>
        </p:grpSpPr>
        <p:sp>
          <p:nvSpPr>
            <p:cNvPr id="110" name=""/>
            <p:cNvSpPr/>
            <p:nvPr/>
          </p:nvSpPr>
          <p:spPr>
            <a:xfrm>
              <a:off x="3699000" y="5219640"/>
              <a:ext cx="1211040" cy="968400"/>
            </a:xfrm>
            <a:prstGeom prst="flowChartMagneticDisk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00"/>
                  </a:solidFill>
                  <a:latin typeface="Trebuchet MS"/>
                </a:rPr>
                <a:t>Regi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rebuchet MS"/>
                </a:rPr>
                <a:t>DDJJ + V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12" idx="2"/>
            </p:cNvCxnSpPr>
            <p:nvPr/>
          </p:nvCxnSpPr>
          <p:spPr>
            <a:xfrm rot="5400000">
              <a:off x="6484320" y="3895560"/>
              <a:ext cx="338760" cy="3278880"/>
            </a:xfrm>
            <a:prstGeom prst="bentConnector2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</p:cxnSp>
      </p:grpSp>
      <p:cxnSp>
        <p:nvCxnSpPr>
          <p:cNvPr id="113" name=""/>
          <p:cNvCxnSpPr>
            <a:stCxn id="114" idx="3"/>
            <a:endCxn id="115" idx="1"/>
          </p:cNvCxnSpPr>
          <p:nvPr/>
        </p:nvCxnSpPr>
        <p:spPr>
          <a:xfrm flipV="1">
            <a:off x="4973760" y="3071520"/>
            <a:ext cx="1846800" cy="1483200"/>
          </a:xfrm>
          <a:prstGeom prst="bentConnector3">
            <a:avLst>
              <a:gd name="adj1" fmla="val 72138"/>
            </a:avLst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grpSp>
        <p:nvGrpSpPr>
          <p:cNvPr id="116" name=""/>
          <p:cNvGrpSpPr/>
          <p:nvPr/>
        </p:nvGrpSpPr>
        <p:grpSpPr>
          <a:xfrm>
            <a:off x="3613320" y="4264200"/>
            <a:ext cx="2496600" cy="819000"/>
            <a:chOff x="3613320" y="4264200"/>
            <a:chExt cx="2496600" cy="819000"/>
          </a:xfrm>
        </p:grpSpPr>
        <p:sp>
          <p:nvSpPr>
            <p:cNvPr id="114" name=""/>
            <p:cNvSpPr/>
            <p:nvPr/>
          </p:nvSpPr>
          <p:spPr>
            <a:xfrm>
              <a:off x="3613320" y="4264200"/>
              <a:ext cx="1360440" cy="5806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00"/>
                  </a:solidFill>
                  <a:latin typeface="Trebuchet MS"/>
                </a:rPr>
                <a:t>Recalcula valores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rebuchet MS"/>
                </a:rPr>
                <a:t>Nueva DDJ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8" idx="2"/>
              <a:endCxn id="114" idx="2"/>
            </p:cNvCxnSpPr>
            <p:nvPr/>
          </p:nvCxnSpPr>
          <p:spPr>
            <a:xfrm rot="10800000">
              <a:off x="4293360" y="4844160"/>
              <a:ext cx="1816920" cy="239040"/>
            </a:xfrm>
            <a:prstGeom prst="bentConnector2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7753320" y="3922560"/>
            <a:ext cx="1077840" cy="1443240"/>
            <a:chOff x="7753320" y="3922560"/>
            <a:chExt cx="1077840" cy="1443240"/>
          </a:xfrm>
        </p:grpSpPr>
        <p:sp>
          <p:nvSpPr>
            <p:cNvPr id="112" name=""/>
            <p:cNvSpPr/>
            <p:nvPr/>
          </p:nvSpPr>
          <p:spPr>
            <a:xfrm>
              <a:off x="7753320" y="4784760"/>
              <a:ext cx="1077840" cy="5810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00"/>
                  </a:solidFill>
                  <a:latin typeface="Trebuchet MS"/>
                </a:rPr>
                <a:t>Envía DDJJ vía web y pago por Homeban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2" idx="0"/>
            </p:cNvCxnSpPr>
            <p:nvPr/>
          </p:nvCxnSpPr>
          <p:spPr>
            <a:xfrm>
              <a:off x="8145360" y="4205160"/>
              <a:ext cx="148320" cy="580320"/>
            </a:xfrm>
            <a:prstGeom prst="bentConnector2">
              <a:avLst/>
            </a:prstGeom>
            <a:ln w="38160">
              <a:solidFill>
                <a:srgbClr val="0099cc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8029440" y="3922560"/>
              <a:ext cx="257400" cy="25740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rebuchet MS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991120" y="3922560"/>
            <a:ext cx="1189080" cy="1451160"/>
            <a:chOff x="5991120" y="3922560"/>
            <a:chExt cx="1189080" cy="1451160"/>
          </a:xfrm>
        </p:grpSpPr>
        <p:cxnSp>
          <p:nvCxnSpPr>
            <p:cNvPr id="124" name=""/>
            <p:cNvCxnSpPr>
              <a:stCxn id="121" idx="1"/>
              <a:endCxn id="118" idx="1"/>
            </p:cNvCxnSpPr>
            <p:nvPr/>
          </p:nvCxnSpPr>
          <p:spPr>
            <a:xfrm flipV="1" rot="10800000">
              <a:off x="6585840" y="4204800"/>
              <a:ext cx="265680" cy="586800"/>
            </a:xfrm>
            <a:prstGeom prst="bentConnector2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</p:cxnSp>
        <p:grpSp>
          <p:nvGrpSpPr>
            <p:cNvPr id="125" name=""/>
            <p:cNvGrpSpPr/>
            <p:nvPr/>
          </p:nvGrpSpPr>
          <p:grpSpPr>
            <a:xfrm>
              <a:off x="5991120" y="3922560"/>
              <a:ext cx="1189080" cy="1451160"/>
              <a:chOff x="5991120" y="3922560"/>
              <a:chExt cx="1189080" cy="1451160"/>
            </a:xfrm>
          </p:grpSpPr>
          <p:sp>
            <p:nvSpPr>
              <p:cNvPr id="118" name=""/>
              <p:cNvSpPr/>
              <p:nvPr/>
            </p:nvSpPr>
            <p:spPr>
              <a:xfrm>
                <a:off x="5991120" y="4791240"/>
                <a:ext cx="1189080" cy="582480"/>
              </a:xfrm>
              <a:prstGeom prst="flowChartInputOutput">
                <a:avLst/>
              </a:prstGeom>
              <a:solidFill>
                <a:srgbClr val="3366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00"/>
                    </a:solidFill>
                    <a:latin typeface="Trebuchet MS"/>
                  </a:rPr>
                  <a:t>Modifica y envía</a:t>
                </a:r>
                <a:r>
                  <a:rPr b="1" lang="es-ES_tradnl" sz="1000" spc="-1" strike="noStrike">
                    <a:solidFill>
                      <a:srgbClr val="ffffff"/>
                    </a:solidFill>
                    <a:latin typeface="Trebuchet MS"/>
                  </a:rPr>
                  <a:t> </a:t>
                </a:r>
                <a:r>
                  <a:rPr b="1" lang="es-ES_tradnl" sz="1000" spc="-1" strike="noStrike">
                    <a:solidFill>
                      <a:srgbClr val="ffff00"/>
                    </a:solidFill>
                    <a:latin typeface="Trebuchet MS"/>
                  </a:rPr>
                  <a:t>para recálcu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26160" y="3922560"/>
                <a:ext cx="257400" cy="25740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rebuchet MS"/>
                  </a:rPr>
                  <a:t>N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4915800" y="2437560"/>
            <a:ext cx="1920600" cy="1459080"/>
            <a:chOff x="4915800" y="2437560"/>
            <a:chExt cx="1920600" cy="1459080"/>
          </a:xfrm>
        </p:grpSpPr>
        <p:sp>
          <p:nvSpPr>
            <p:cNvPr id="128" name=""/>
            <p:cNvSpPr/>
            <p:nvPr/>
          </p:nvSpPr>
          <p:spPr>
            <a:xfrm flipV="1" rot="20059200">
              <a:off x="4961160" y="3215880"/>
              <a:ext cx="1105920" cy="463320"/>
            </a:xfrm>
            <a:custGeom>
              <a:avLst/>
              <a:gdLst/>
              <a:ahLst/>
              <a:rect l="l" t="t" r="r" b="b"/>
              <a:pathLst>
                <a:path w="2095" h="656">
                  <a:moveTo>
                    <a:pt x="1135" y="3"/>
                  </a:moveTo>
                  <a:lnTo>
                    <a:pt x="1097" y="5"/>
                  </a:lnTo>
                  <a:lnTo>
                    <a:pt x="1060" y="7"/>
                  </a:lnTo>
                  <a:lnTo>
                    <a:pt x="1022" y="11"/>
                  </a:lnTo>
                  <a:lnTo>
                    <a:pt x="985" y="15"/>
                  </a:lnTo>
                  <a:lnTo>
                    <a:pt x="948" y="20"/>
                  </a:lnTo>
                  <a:lnTo>
                    <a:pt x="910" y="26"/>
                  </a:lnTo>
                  <a:lnTo>
                    <a:pt x="874" y="33"/>
                  </a:lnTo>
                  <a:lnTo>
                    <a:pt x="837" y="38"/>
                  </a:lnTo>
                  <a:lnTo>
                    <a:pt x="799" y="47"/>
                  </a:lnTo>
                  <a:lnTo>
                    <a:pt x="762" y="55"/>
                  </a:lnTo>
                  <a:lnTo>
                    <a:pt x="725" y="63"/>
                  </a:lnTo>
                  <a:lnTo>
                    <a:pt x="689" y="72"/>
                  </a:lnTo>
                  <a:lnTo>
                    <a:pt x="652" y="82"/>
                  </a:lnTo>
                  <a:lnTo>
                    <a:pt x="615" y="93"/>
                  </a:lnTo>
                  <a:lnTo>
                    <a:pt x="580" y="104"/>
                  </a:lnTo>
                  <a:lnTo>
                    <a:pt x="544" y="116"/>
                  </a:lnTo>
                  <a:lnTo>
                    <a:pt x="507" y="127"/>
                  </a:lnTo>
                  <a:lnTo>
                    <a:pt x="471" y="140"/>
                  </a:lnTo>
                  <a:lnTo>
                    <a:pt x="437" y="154"/>
                  </a:lnTo>
                  <a:lnTo>
                    <a:pt x="401" y="168"/>
                  </a:lnTo>
                  <a:lnTo>
                    <a:pt x="367" y="181"/>
                  </a:lnTo>
                  <a:lnTo>
                    <a:pt x="332" y="196"/>
                  </a:lnTo>
                  <a:lnTo>
                    <a:pt x="297" y="211"/>
                  </a:lnTo>
                  <a:lnTo>
                    <a:pt x="263" y="227"/>
                  </a:lnTo>
                  <a:lnTo>
                    <a:pt x="228" y="244"/>
                  </a:lnTo>
                  <a:lnTo>
                    <a:pt x="195" y="261"/>
                  </a:lnTo>
                  <a:lnTo>
                    <a:pt x="161" y="278"/>
                  </a:lnTo>
                  <a:lnTo>
                    <a:pt x="129" y="295"/>
                  </a:lnTo>
                  <a:lnTo>
                    <a:pt x="96" y="314"/>
                  </a:lnTo>
                  <a:lnTo>
                    <a:pt x="63" y="332"/>
                  </a:lnTo>
                  <a:lnTo>
                    <a:pt x="31" y="352"/>
                  </a:lnTo>
                  <a:lnTo>
                    <a:pt x="0" y="371"/>
                  </a:lnTo>
                  <a:lnTo>
                    <a:pt x="29" y="355"/>
                  </a:lnTo>
                  <a:lnTo>
                    <a:pt x="59" y="340"/>
                  </a:lnTo>
                  <a:lnTo>
                    <a:pt x="88" y="325"/>
                  </a:lnTo>
                  <a:lnTo>
                    <a:pt x="118" y="310"/>
                  </a:lnTo>
                  <a:lnTo>
                    <a:pt x="148" y="295"/>
                  </a:lnTo>
                  <a:lnTo>
                    <a:pt x="179" y="282"/>
                  </a:lnTo>
                  <a:lnTo>
                    <a:pt x="209" y="268"/>
                  </a:lnTo>
                  <a:lnTo>
                    <a:pt x="240" y="255"/>
                  </a:lnTo>
                  <a:lnTo>
                    <a:pt x="271" y="241"/>
                  </a:lnTo>
                  <a:lnTo>
                    <a:pt x="302" y="230"/>
                  </a:lnTo>
                  <a:lnTo>
                    <a:pt x="333" y="217"/>
                  </a:lnTo>
                  <a:lnTo>
                    <a:pt x="364" y="206"/>
                  </a:lnTo>
                  <a:lnTo>
                    <a:pt x="397" y="194"/>
                  </a:lnTo>
                  <a:lnTo>
                    <a:pt x="429" y="184"/>
                  </a:lnTo>
                  <a:lnTo>
                    <a:pt x="460" y="173"/>
                  </a:lnTo>
                  <a:lnTo>
                    <a:pt x="492" y="164"/>
                  </a:lnTo>
                  <a:lnTo>
                    <a:pt x="524" y="154"/>
                  </a:lnTo>
                  <a:lnTo>
                    <a:pt x="557" y="146"/>
                  </a:lnTo>
                  <a:lnTo>
                    <a:pt x="590" y="136"/>
                  </a:lnTo>
                  <a:lnTo>
                    <a:pt x="622" y="128"/>
                  </a:lnTo>
                  <a:lnTo>
                    <a:pt x="655" y="121"/>
                  </a:lnTo>
                  <a:lnTo>
                    <a:pt x="688" y="115"/>
                  </a:lnTo>
                  <a:lnTo>
                    <a:pt x="720" y="108"/>
                  </a:lnTo>
                  <a:lnTo>
                    <a:pt x="754" y="102"/>
                  </a:lnTo>
                  <a:lnTo>
                    <a:pt x="786" y="96"/>
                  </a:lnTo>
                  <a:lnTo>
                    <a:pt x="819" y="90"/>
                  </a:lnTo>
                  <a:lnTo>
                    <a:pt x="853" y="86"/>
                  </a:lnTo>
                  <a:lnTo>
                    <a:pt x="885" y="82"/>
                  </a:lnTo>
                  <a:lnTo>
                    <a:pt x="919" y="79"/>
                  </a:lnTo>
                  <a:lnTo>
                    <a:pt x="952" y="75"/>
                  </a:lnTo>
                  <a:lnTo>
                    <a:pt x="984" y="73"/>
                  </a:lnTo>
                  <a:lnTo>
                    <a:pt x="1018" y="71"/>
                  </a:lnTo>
                  <a:lnTo>
                    <a:pt x="1050" y="70"/>
                  </a:lnTo>
                  <a:lnTo>
                    <a:pt x="1081" y="68"/>
                  </a:lnTo>
                  <a:lnTo>
                    <a:pt x="1113" y="68"/>
                  </a:lnTo>
                  <a:lnTo>
                    <a:pt x="1144" y="68"/>
                  </a:lnTo>
                  <a:lnTo>
                    <a:pt x="1174" y="70"/>
                  </a:lnTo>
                  <a:lnTo>
                    <a:pt x="1205" y="71"/>
                  </a:lnTo>
                  <a:lnTo>
                    <a:pt x="1235" y="72"/>
                  </a:lnTo>
                  <a:lnTo>
                    <a:pt x="1264" y="74"/>
                  </a:lnTo>
                  <a:lnTo>
                    <a:pt x="1294" y="76"/>
                  </a:lnTo>
                  <a:lnTo>
                    <a:pt x="1323" y="80"/>
                  </a:lnTo>
                  <a:lnTo>
                    <a:pt x="1352" y="83"/>
                  </a:lnTo>
                  <a:lnTo>
                    <a:pt x="1379" y="88"/>
                  </a:lnTo>
                  <a:lnTo>
                    <a:pt x="1407" y="93"/>
                  </a:lnTo>
                  <a:lnTo>
                    <a:pt x="1435" y="97"/>
                  </a:lnTo>
                  <a:lnTo>
                    <a:pt x="1462" y="103"/>
                  </a:lnTo>
                  <a:lnTo>
                    <a:pt x="1489" y="109"/>
                  </a:lnTo>
                  <a:lnTo>
                    <a:pt x="1515" y="116"/>
                  </a:lnTo>
                  <a:lnTo>
                    <a:pt x="1541" y="123"/>
                  </a:lnTo>
                  <a:lnTo>
                    <a:pt x="1566" y="129"/>
                  </a:lnTo>
                  <a:lnTo>
                    <a:pt x="1591" y="138"/>
                  </a:lnTo>
                  <a:lnTo>
                    <a:pt x="1617" y="146"/>
                  </a:lnTo>
                  <a:lnTo>
                    <a:pt x="1641" y="155"/>
                  </a:lnTo>
                  <a:lnTo>
                    <a:pt x="1665" y="163"/>
                  </a:lnTo>
                  <a:lnTo>
                    <a:pt x="1688" y="173"/>
                  </a:lnTo>
                  <a:lnTo>
                    <a:pt x="1711" y="182"/>
                  </a:lnTo>
                  <a:lnTo>
                    <a:pt x="1733" y="193"/>
                  </a:lnTo>
                  <a:lnTo>
                    <a:pt x="1756" y="203"/>
                  </a:lnTo>
                  <a:lnTo>
                    <a:pt x="1778" y="215"/>
                  </a:lnTo>
                  <a:lnTo>
                    <a:pt x="1799" y="226"/>
                  </a:lnTo>
                  <a:lnTo>
                    <a:pt x="1820" y="238"/>
                  </a:lnTo>
                  <a:lnTo>
                    <a:pt x="1840" y="250"/>
                  </a:lnTo>
                  <a:lnTo>
                    <a:pt x="1860" y="263"/>
                  </a:lnTo>
                  <a:lnTo>
                    <a:pt x="1824" y="244"/>
                  </a:lnTo>
                  <a:lnTo>
                    <a:pt x="1787" y="225"/>
                  </a:lnTo>
                  <a:lnTo>
                    <a:pt x="1749" y="208"/>
                  </a:lnTo>
                  <a:lnTo>
                    <a:pt x="1711" y="192"/>
                  </a:lnTo>
                  <a:lnTo>
                    <a:pt x="1672" y="178"/>
                  </a:lnTo>
                  <a:lnTo>
                    <a:pt x="1632" y="165"/>
                  </a:lnTo>
                  <a:lnTo>
                    <a:pt x="1589" y="154"/>
                  </a:lnTo>
                  <a:lnTo>
                    <a:pt x="1547" y="144"/>
                  </a:lnTo>
                  <a:lnTo>
                    <a:pt x="1503" y="135"/>
                  </a:lnTo>
                  <a:lnTo>
                    <a:pt x="1458" y="129"/>
                  </a:lnTo>
                  <a:lnTo>
                    <a:pt x="1411" y="124"/>
                  </a:lnTo>
                  <a:lnTo>
                    <a:pt x="1363" y="120"/>
                  </a:lnTo>
                  <a:lnTo>
                    <a:pt x="1314" y="117"/>
                  </a:lnTo>
                  <a:lnTo>
                    <a:pt x="1262" y="117"/>
                  </a:lnTo>
                  <a:lnTo>
                    <a:pt x="1210" y="117"/>
                  </a:lnTo>
                  <a:lnTo>
                    <a:pt x="1156" y="119"/>
                  </a:lnTo>
                  <a:lnTo>
                    <a:pt x="1121" y="121"/>
                  </a:lnTo>
                  <a:lnTo>
                    <a:pt x="1087" y="124"/>
                  </a:lnTo>
                  <a:lnTo>
                    <a:pt x="1052" y="127"/>
                  </a:lnTo>
                  <a:lnTo>
                    <a:pt x="1018" y="131"/>
                  </a:lnTo>
                  <a:lnTo>
                    <a:pt x="983" y="135"/>
                  </a:lnTo>
                  <a:lnTo>
                    <a:pt x="948" y="141"/>
                  </a:lnTo>
                  <a:lnTo>
                    <a:pt x="915" y="147"/>
                  </a:lnTo>
                  <a:lnTo>
                    <a:pt x="880" y="153"/>
                  </a:lnTo>
                  <a:lnTo>
                    <a:pt x="846" y="159"/>
                  </a:lnTo>
                  <a:lnTo>
                    <a:pt x="813" y="168"/>
                  </a:lnTo>
                  <a:lnTo>
                    <a:pt x="778" y="176"/>
                  </a:lnTo>
                  <a:lnTo>
                    <a:pt x="745" y="184"/>
                  </a:lnTo>
                  <a:lnTo>
                    <a:pt x="710" y="193"/>
                  </a:lnTo>
                  <a:lnTo>
                    <a:pt x="677" y="202"/>
                  </a:lnTo>
                  <a:lnTo>
                    <a:pt x="643" y="212"/>
                  </a:lnTo>
                  <a:lnTo>
                    <a:pt x="611" y="224"/>
                  </a:lnTo>
                  <a:lnTo>
                    <a:pt x="577" y="234"/>
                  </a:lnTo>
                  <a:lnTo>
                    <a:pt x="544" y="247"/>
                  </a:lnTo>
                  <a:lnTo>
                    <a:pt x="512" y="259"/>
                  </a:lnTo>
                  <a:lnTo>
                    <a:pt x="479" y="271"/>
                  </a:lnTo>
                  <a:lnTo>
                    <a:pt x="447" y="285"/>
                  </a:lnTo>
                  <a:lnTo>
                    <a:pt x="415" y="299"/>
                  </a:lnTo>
                  <a:lnTo>
                    <a:pt x="383" y="313"/>
                  </a:lnTo>
                  <a:lnTo>
                    <a:pt x="352" y="328"/>
                  </a:lnTo>
                  <a:lnTo>
                    <a:pt x="320" y="343"/>
                  </a:lnTo>
                  <a:lnTo>
                    <a:pt x="289" y="358"/>
                  </a:lnTo>
                  <a:lnTo>
                    <a:pt x="258" y="374"/>
                  </a:lnTo>
                  <a:lnTo>
                    <a:pt x="228" y="390"/>
                  </a:lnTo>
                  <a:lnTo>
                    <a:pt x="198" y="407"/>
                  </a:lnTo>
                  <a:lnTo>
                    <a:pt x="168" y="424"/>
                  </a:lnTo>
                  <a:lnTo>
                    <a:pt x="138" y="442"/>
                  </a:lnTo>
                  <a:lnTo>
                    <a:pt x="110" y="460"/>
                  </a:lnTo>
                  <a:lnTo>
                    <a:pt x="136" y="445"/>
                  </a:lnTo>
                  <a:lnTo>
                    <a:pt x="164" y="431"/>
                  </a:lnTo>
                  <a:lnTo>
                    <a:pt x="190" y="418"/>
                  </a:lnTo>
                  <a:lnTo>
                    <a:pt x="218" y="405"/>
                  </a:lnTo>
                  <a:lnTo>
                    <a:pt x="246" y="391"/>
                  </a:lnTo>
                  <a:lnTo>
                    <a:pt x="273" y="378"/>
                  </a:lnTo>
                  <a:lnTo>
                    <a:pt x="301" y="367"/>
                  </a:lnTo>
                  <a:lnTo>
                    <a:pt x="329" y="354"/>
                  </a:lnTo>
                  <a:lnTo>
                    <a:pt x="357" y="343"/>
                  </a:lnTo>
                  <a:lnTo>
                    <a:pt x="386" y="331"/>
                  </a:lnTo>
                  <a:lnTo>
                    <a:pt x="415" y="321"/>
                  </a:lnTo>
                  <a:lnTo>
                    <a:pt x="444" y="310"/>
                  </a:lnTo>
                  <a:lnTo>
                    <a:pt x="473" y="300"/>
                  </a:lnTo>
                  <a:lnTo>
                    <a:pt x="501" y="290"/>
                  </a:lnTo>
                  <a:lnTo>
                    <a:pt x="530" y="280"/>
                  </a:lnTo>
                  <a:lnTo>
                    <a:pt x="560" y="271"/>
                  </a:lnTo>
                  <a:lnTo>
                    <a:pt x="589" y="263"/>
                  </a:lnTo>
                  <a:lnTo>
                    <a:pt x="619" y="255"/>
                  </a:lnTo>
                  <a:lnTo>
                    <a:pt x="648" y="247"/>
                  </a:lnTo>
                  <a:lnTo>
                    <a:pt x="678" y="240"/>
                  </a:lnTo>
                  <a:lnTo>
                    <a:pt x="708" y="233"/>
                  </a:lnTo>
                  <a:lnTo>
                    <a:pt x="738" y="226"/>
                  </a:lnTo>
                  <a:lnTo>
                    <a:pt x="768" y="221"/>
                  </a:lnTo>
                  <a:lnTo>
                    <a:pt x="798" y="215"/>
                  </a:lnTo>
                  <a:lnTo>
                    <a:pt x="827" y="210"/>
                  </a:lnTo>
                  <a:lnTo>
                    <a:pt x="857" y="206"/>
                  </a:lnTo>
                  <a:lnTo>
                    <a:pt x="887" y="201"/>
                  </a:lnTo>
                  <a:lnTo>
                    <a:pt x="917" y="197"/>
                  </a:lnTo>
                  <a:lnTo>
                    <a:pt x="948" y="194"/>
                  </a:lnTo>
                  <a:lnTo>
                    <a:pt x="978" y="192"/>
                  </a:lnTo>
                  <a:lnTo>
                    <a:pt x="1008" y="189"/>
                  </a:lnTo>
                  <a:lnTo>
                    <a:pt x="1038" y="187"/>
                  </a:lnTo>
                  <a:lnTo>
                    <a:pt x="1069" y="186"/>
                  </a:lnTo>
                  <a:lnTo>
                    <a:pt x="1101" y="185"/>
                  </a:lnTo>
                  <a:lnTo>
                    <a:pt x="1131" y="185"/>
                  </a:lnTo>
                  <a:lnTo>
                    <a:pt x="1161" y="185"/>
                  </a:lnTo>
                  <a:lnTo>
                    <a:pt x="1190" y="185"/>
                  </a:lnTo>
                  <a:lnTo>
                    <a:pt x="1219" y="186"/>
                  </a:lnTo>
                  <a:lnTo>
                    <a:pt x="1248" y="188"/>
                  </a:lnTo>
                  <a:lnTo>
                    <a:pt x="1276" y="191"/>
                  </a:lnTo>
                  <a:lnTo>
                    <a:pt x="1303" y="193"/>
                  </a:lnTo>
                  <a:lnTo>
                    <a:pt x="1331" y="196"/>
                  </a:lnTo>
                  <a:lnTo>
                    <a:pt x="1358" y="200"/>
                  </a:lnTo>
                  <a:lnTo>
                    <a:pt x="1384" y="204"/>
                  </a:lnTo>
                  <a:lnTo>
                    <a:pt x="1409" y="209"/>
                  </a:lnTo>
                  <a:lnTo>
                    <a:pt x="1435" y="214"/>
                  </a:lnTo>
                  <a:lnTo>
                    <a:pt x="1460" y="219"/>
                  </a:lnTo>
                  <a:lnTo>
                    <a:pt x="1484" y="225"/>
                  </a:lnTo>
                  <a:lnTo>
                    <a:pt x="1509" y="232"/>
                  </a:lnTo>
                  <a:lnTo>
                    <a:pt x="1532" y="239"/>
                  </a:lnTo>
                  <a:lnTo>
                    <a:pt x="1556" y="246"/>
                  </a:lnTo>
                  <a:lnTo>
                    <a:pt x="1579" y="254"/>
                  </a:lnTo>
                  <a:lnTo>
                    <a:pt x="1601" y="262"/>
                  </a:lnTo>
                  <a:lnTo>
                    <a:pt x="1623" y="271"/>
                  </a:lnTo>
                  <a:lnTo>
                    <a:pt x="1644" y="280"/>
                  </a:lnTo>
                  <a:lnTo>
                    <a:pt x="1666" y="290"/>
                  </a:lnTo>
                  <a:lnTo>
                    <a:pt x="1687" y="300"/>
                  </a:lnTo>
                  <a:lnTo>
                    <a:pt x="1708" y="312"/>
                  </a:lnTo>
                  <a:lnTo>
                    <a:pt x="1727" y="322"/>
                  </a:lnTo>
                  <a:lnTo>
                    <a:pt x="1747" y="333"/>
                  </a:lnTo>
                  <a:lnTo>
                    <a:pt x="1767" y="346"/>
                  </a:lnTo>
                  <a:lnTo>
                    <a:pt x="1786" y="358"/>
                  </a:lnTo>
                  <a:lnTo>
                    <a:pt x="1805" y="370"/>
                  </a:lnTo>
                  <a:lnTo>
                    <a:pt x="1823" y="384"/>
                  </a:lnTo>
                  <a:lnTo>
                    <a:pt x="1791" y="363"/>
                  </a:lnTo>
                  <a:lnTo>
                    <a:pt x="1756" y="345"/>
                  </a:lnTo>
                  <a:lnTo>
                    <a:pt x="1721" y="328"/>
                  </a:lnTo>
                  <a:lnTo>
                    <a:pt x="1683" y="312"/>
                  </a:lnTo>
                  <a:lnTo>
                    <a:pt x="1644" y="297"/>
                  </a:lnTo>
                  <a:lnTo>
                    <a:pt x="1604" y="283"/>
                  </a:lnTo>
                  <a:lnTo>
                    <a:pt x="1562" y="271"/>
                  </a:lnTo>
                  <a:lnTo>
                    <a:pt x="1519" y="261"/>
                  </a:lnTo>
                  <a:lnTo>
                    <a:pt x="1475" y="252"/>
                  </a:lnTo>
                  <a:lnTo>
                    <a:pt x="1429" y="245"/>
                  </a:lnTo>
                  <a:lnTo>
                    <a:pt x="1382" y="239"/>
                  </a:lnTo>
                  <a:lnTo>
                    <a:pt x="1333" y="235"/>
                  </a:lnTo>
                  <a:lnTo>
                    <a:pt x="1285" y="233"/>
                  </a:lnTo>
                  <a:lnTo>
                    <a:pt x="1234" y="233"/>
                  </a:lnTo>
                  <a:lnTo>
                    <a:pt x="1182" y="234"/>
                  </a:lnTo>
                  <a:lnTo>
                    <a:pt x="1129" y="238"/>
                  </a:lnTo>
                  <a:lnTo>
                    <a:pt x="1099" y="240"/>
                  </a:lnTo>
                  <a:lnTo>
                    <a:pt x="1068" y="244"/>
                  </a:lnTo>
                  <a:lnTo>
                    <a:pt x="1038" y="247"/>
                  </a:lnTo>
                  <a:lnTo>
                    <a:pt x="1008" y="250"/>
                  </a:lnTo>
                  <a:lnTo>
                    <a:pt x="977" y="255"/>
                  </a:lnTo>
                  <a:lnTo>
                    <a:pt x="947" y="261"/>
                  </a:lnTo>
                  <a:lnTo>
                    <a:pt x="917" y="267"/>
                  </a:lnTo>
                  <a:lnTo>
                    <a:pt x="887" y="272"/>
                  </a:lnTo>
                  <a:lnTo>
                    <a:pt x="857" y="279"/>
                  </a:lnTo>
                  <a:lnTo>
                    <a:pt x="826" y="286"/>
                  </a:lnTo>
                  <a:lnTo>
                    <a:pt x="798" y="294"/>
                  </a:lnTo>
                  <a:lnTo>
                    <a:pt x="768" y="302"/>
                  </a:lnTo>
                  <a:lnTo>
                    <a:pt x="738" y="312"/>
                  </a:lnTo>
                  <a:lnTo>
                    <a:pt x="708" y="321"/>
                  </a:lnTo>
                  <a:lnTo>
                    <a:pt x="679" y="330"/>
                  </a:lnTo>
                  <a:lnTo>
                    <a:pt x="649" y="340"/>
                  </a:lnTo>
                  <a:lnTo>
                    <a:pt x="620" y="351"/>
                  </a:lnTo>
                  <a:lnTo>
                    <a:pt x="591" y="361"/>
                  </a:lnTo>
                  <a:lnTo>
                    <a:pt x="562" y="373"/>
                  </a:lnTo>
                  <a:lnTo>
                    <a:pt x="534" y="384"/>
                  </a:lnTo>
                  <a:lnTo>
                    <a:pt x="505" y="397"/>
                  </a:lnTo>
                  <a:lnTo>
                    <a:pt x="477" y="409"/>
                  </a:lnTo>
                  <a:lnTo>
                    <a:pt x="448" y="422"/>
                  </a:lnTo>
                  <a:lnTo>
                    <a:pt x="421" y="436"/>
                  </a:lnTo>
                  <a:lnTo>
                    <a:pt x="393" y="450"/>
                  </a:lnTo>
                  <a:lnTo>
                    <a:pt x="365" y="464"/>
                  </a:lnTo>
                  <a:lnTo>
                    <a:pt x="339" y="479"/>
                  </a:lnTo>
                  <a:lnTo>
                    <a:pt x="312" y="494"/>
                  </a:lnTo>
                  <a:lnTo>
                    <a:pt x="286" y="509"/>
                  </a:lnTo>
                  <a:lnTo>
                    <a:pt x="259" y="525"/>
                  </a:lnTo>
                  <a:lnTo>
                    <a:pt x="233" y="541"/>
                  </a:lnTo>
                  <a:lnTo>
                    <a:pt x="208" y="557"/>
                  </a:lnTo>
                  <a:lnTo>
                    <a:pt x="231" y="544"/>
                  </a:lnTo>
                  <a:lnTo>
                    <a:pt x="254" y="532"/>
                  </a:lnTo>
                  <a:lnTo>
                    <a:pt x="278" y="520"/>
                  </a:lnTo>
                  <a:lnTo>
                    <a:pt x="301" y="507"/>
                  </a:lnTo>
                  <a:lnTo>
                    <a:pt x="325" y="496"/>
                  </a:lnTo>
                  <a:lnTo>
                    <a:pt x="349" y="484"/>
                  </a:lnTo>
                  <a:lnTo>
                    <a:pt x="373" y="474"/>
                  </a:lnTo>
                  <a:lnTo>
                    <a:pt x="398" y="464"/>
                  </a:lnTo>
                  <a:lnTo>
                    <a:pt x="422" y="453"/>
                  </a:lnTo>
                  <a:lnTo>
                    <a:pt x="447" y="443"/>
                  </a:lnTo>
                  <a:lnTo>
                    <a:pt x="471" y="432"/>
                  </a:lnTo>
                  <a:lnTo>
                    <a:pt x="497" y="423"/>
                  </a:lnTo>
                  <a:lnTo>
                    <a:pt x="521" y="414"/>
                  </a:lnTo>
                  <a:lnTo>
                    <a:pt x="546" y="406"/>
                  </a:lnTo>
                  <a:lnTo>
                    <a:pt x="572" y="397"/>
                  </a:lnTo>
                  <a:lnTo>
                    <a:pt x="597" y="389"/>
                  </a:lnTo>
                  <a:lnTo>
                    <a:pt x="622" y="381"/>
                  </a:lnTo>
                  <a:lnTo>
                    <a:pt x="649" y="374"/>
                  </a:lnTo>
                  <a:lnTo>
                    <a:pt x="674" y="367"/>
                  </a:lnTo>
                  <a:lnTo>
                    <a:pt x="700" y="360"/>
                  </a:lnTo>
                  <a:lnTo>
                    <a:pt x="726" y="353"/>
                  </a:lnTo>
                  <a:lnTo>
                    <a:pt x="751" y="347"/>
                  </a:lnTo>
                  <a:lnTo>
                    <a:pt x="778" y="341"/>
                  </a:lnTo>
                  <a:lnTo>
                    <a:pt x="803" y="337"/>
                  </a:lnTo>
                  <a:lnTo>
                    <a:pt x="830" y="331"/>
                  </a:lnTo>
                  <a:lnTo>
                    <a:pt x="856" y="327"/>
                  </a:lnTo>
                  <a:lnTo>
                    <a:pt x="882" y="323"/>
                  </a:lnTo>
                  <a:lnTo>
                    <a:pt x="908" y="320"/>
                  </a:lnTo>
                  <a:lnTo>
                    <a:pt x="935" y="316"/>
                  </a:lnTo>
                  <a:lnTo>
                    <a:pt x="960" y="313"/>
                  </a:lnTo>
                  <a:lnTo>
                    <a:pt x="987" y="310"/>
                  </a:lnTo>
                  <a:lnTo>
                    <a:pt x="1013" y="308"/>
                  </a:lnTo>
                  <a:lnTo>
                    <a:pt x="1066" y="305"/>
                  </a:lnTo>
                  <a:lnTo>
                    <a:pt x="1119" y="303"/>
                  </a:lnTo>
                  <a:lnTo>
                    <a:pt x="1170" y="305"/>
                  </a:lnTo>
                  <a:lnTo>
                    <a:pt x="1220" y="307"/>
                  </a:lnTo>
                  <a:lnTo>
                    <a:pt x="1269" y="312"/>
                  </a:lnTo>
                  <a:lnTo>
                    <a:pt x="1317" y="317"/>
                  </a:lnTo>
                  <a:lnTo>
                    <a:pt x="1363" y="324"/>
                  </a:lnTo>
                  <a:lnTo>
                    <a:pt x="1408" y="333"/>
                  </a:lnTo>
                  <a:lnTo>
                    <a:pt x="1452" y="345"/>
                  </a:lnTo>
                  <a:lnTo>
                    <a:pt x="1494" y="356"/>
                  </a:lnTo>
                  <a:lnTo>
                    <a:pt x="1535" y="370"/>
                  </a:lnTo>
                  <a:lnTo>
                    <a:pt x="1574" y="385"/>
                  </a:lnTo>
                  <a:lnTo>
                    <a:pt x="1611" y="403"/>
                  </a:lnTo>
                  <a:lnTo>
                    <a:pt x="1648" y="421"/>
                  </a:lnTo>
                  <a:lnTo>
                    <a:pt x="1683" y="441"/>
                  </a:lnTo>
                  <a:lnTo>
                    <a:pt x="1715" y="461"/>
                  </a:lnTo>
                  <a:lnTo>
                    <a:pt x="1686" y="445"/>
                  </a:lnTo>
                  <a:lnTo>
                    <a:pt x="1657" y="430"/>
                  </a:lnTo>
                  <a:lnTo>
                    <a:pt x="1626" y="416"/>
                  </a:lnTo>
                  <a:lnTo>
                    <a:pt x="1594" y="404"/>
                  </a:lnTo>
                  <a:lnTo>
                    <a:pt x="1560" y="393"/>
                  </a:lnTo>
                  <a:lnTo>
                    <a:pt x="1526" y="383"/>
                  </a:lnTo>
                  <a:lnTo>
                    <a:pt x="1490" y="374"/>
                  </a:lnTo>
                  <a:lnTo>
                    <a:pt x="1453" y="367"/>
                  </a:lnTo>
                  <a:lnTo>
                    <a:pt x="1415" y="360"/>
                  </a:lnTo>
                  <a:lnTo>
                    <a:pt x="1376" y="355"/>
                  </a:lnTo>
                  <a:lnTo>
                    <a:pt x="1336" y="352"/>
                  </a:lnTo>
                  <a:lnTo>
                    <a:pt x="1294" y="351"/>
                  </a:lnTo>
                  <a:lnTo>
                    <a:pt x="1253" y="350"/>
                  </a:lnTo>
                  <a:lnTo>
                    <a:pt x="1209" y="351"/>
                  </a:lnTo>
                  <a:lnTo>
                    <a:pt x="1165" y="353"/>
                  </a:lnTo>
                  <a:lnTo>
                    <a:pt x="1120" y="356"/>
                  </a:lnTo>
                  <a:lnTo>
                    <a:pt x="1094" y="359"/>
                  </a:lnTo>
                  <a:lnTo>
                    <a:pt x="1066" y="362"/>
                  </a:lnTo>
                  <a:lnTo>
                    <a:pt x="1040" y="367"/>
                  </a:lnTo>
                  <a:lnTo>
                    <a:pt x="1013" y="370"/>
                  </a:lnTo>
                  <a:lnTo>
                    <a:pt x="987" y="375"/>
                  </a:lnTo>
                  <a:lnTo>
                    <a:pt x="960" y="381"/>
                  </a:lnTo>
                  <a:lnTo>
                    <a:pt x="934" y="386"/>
                  </a:lnTo>
                  <a:lnTo>
                    <a:pt x="907" y="392"/>
                  </a:lnTo>
                  <a:lnTo>
                    <a:pt x="879" y="399"/>
                  </a:lnTo>
                  <a:lnTo>
                    <a:pt x="854" y="406"/>
                  </a:lnTo>
                  <a:lnTo>
                    <a:pt x="827" y="413"/>
                  </a:lnTo>
                  <a:lnTo>
                    <a:pt x="801" y="421"/>
                  </a:lnTo>
                  <a:lnTo>
                    <a:pt x="774" y="429"/>
                  </a:lnTo>
                  <a:lnTo>
                    <a:pt x="749" y="438"/>
                  </a:lnTo>
                  <a:lnTo>
                    <a:pt x="723" y="447"/>
                  </a:lnTo>
                  <a:lnTo>
                    <a:pt x="697" y="457"/>
                  </a:lnTo>
                  <a:lnTo>
                    <a:pt x="672" y="466"/>
                  </a:lnTo>
                  <a:lnTo>
                    <a:pt x="645" y="476"/>
                  </a:lnTo>
                  <a:lnTo>
                    <a:pt x="620" y="487"/>
                  </a:lnTo>
                  <a:lnTo>
                    <a:pt x="596" y="498"/>
                  </a:lnTo>
                  <a:lnTo>
                    <a:pt x="571" y="510"/>
                  </a:lnTo>
                  <a:lnTo>
                    <a:pt x="545" y="521"/>
                  </a:lnTo>
                  <a:lnTo>
                    <a:pt x="521" y="533"/>
                  </a:lnTo>
                  <a:lnTo>
                    <a:pt x="497" y="545"/>
                  </a:lnTo>
                  <a:lnTo>
                    <a:pt x="473" y="558"/>
                  </a:lnTo>
                  <a:lnTo>
                    <a:pt x="448" y="571"/>
                  </a:lnTo>
                  <a:lnTo>
                    <a:pt x="425" y="585"/>
                  </a:lnTo>
                  <a:lnTo>
                    <a:pt x="401" y="598"/>
                  </a:lnTo>
                  <a:lnTo>
                    <a:pt x="378" y="612"/>
                  </a:lnTo>
                  <a:lnTo>
                    <a:pt x="355" y="626"/>
                  </a:lnTo>
                  <a:lnTo>
                    <a:pt x="332" y="641"/>
                  </a:lnTo>
                  <a:lnTo>
                    <a:pt x="310" y="656"/>
                  </a:lnTo>
                  <a:lnTo>
                    <a:pt x="350" y="634"/>
                  </a:lnTo>
                  <a:lnTo>
                    <a:pt x="391" y="613"/>
                  </a:lnTo>
                  <a:lnTo>
                    <a:pt x="432" y="593"/>
                  </a:lnTo>
                  <a:lnTo>
                    <a:pt x="474" y="573"/>
                  </a:lnTo>
                  <a:lnTo>
                    <a:pt x="516" y="555"/>
                  </a:lnTo>
                  <a:lnTo>
                    <a:pt x="559" y="538"/>
                  </a:lnTo>
                  <a:lnTo>
                    <a:pt x="603" y="522"/>
                  </a:lnTo>
                  <a:lnTo>
                    <a:pt x="647" y="506"/>
                  </a:lnTo>
                  <a:lnTo>
                    <a:pt x="690" y="492"/>
                  </a:lnTo>
                  <a:lnTo>
                    <a:pt x="734" y="480"/>
                  </a:lnTo>
                  <a:lnTo>
                    <a:pt x="779" y="468"/>
                  </a:lnTo>
                  <a:lnTo>
                    <a:pt x="823" y="458"/>
                  </a:lnTo>
                  <a:lnTo>
                    <a:pt x="868" y="450"/>
                  </a:lnTo>
                  <a:lnTo>
                    <a:pt x="913" y="442"/>
                  </a:lnTo>
                  <a:lnTo>
                    <a:pt x="958" y="435"/>
                  </a:lnTo>
                  <a:lnTo>
                    <a:pt x="1003" y="430"/>
                  </a:lnTo>
                  <a:lnTo>
                    <a:pt x="1064" y="426"/>
                  </a:lnTo>
                  <a:lnTo>
                    <a:pt x="1124" y="423"/>
                  </a:lnTo>
                  <a:lnTo>
                    <a:pt x="1181" y="424"/>
                  </a:lnTo>
                  <a:lnTo>
                    <a:pt x="1237" y="428"/>
                  </a:lnTo>
                  <a:lnTo>
                    <a:pt x="1291" y="434"/>
                  </a:lnTo>
                  <a:lnTo>
                    <a:pt x="1341" y="442"/>
                  </a:lnTo>
                  <a:lnTo>
                    <a:pt x="1390" y="453"/>
                  </a:lnTo>
                  <a:lnTo>
                    <a:pt x="1436" y="466"/>
                  </a:lnTo>
                  <a:lnTo>
                    <a:pt x="1480" y="482"/>
                  </a:lnTo>
                  <a:lnTo>
                    <a:pt x="1521" y="499"/>
                  </a:lnTo>
                  <a:lnTo>
                    <a:pt x="1559" y="520"/>
                  </a:lnTo>
                  <a:lnTo>
                    <a:pt x="1594" y="542"/>
                  </a:lnTo>
                  <a:lnTo>
                    <a:pt x="1626" y="566"/>
                  </a:lnTo>
                  <a:lnTo>
                    <a:pt x="1655" y="593"/>
                  </a:lnTo>
                  <a:lnTo>
                    <a:pt x="1681" y="621"/>
                  </a:lnTo>
                  <a:lnTo>
                    <a:pt x="1703" y="651"/>
                  </a:lnTo>
                  <a:lnTo>
                    <a:pt x="2095" y="286"/>
                  </a:lnTo>
                  <a:lnTo>
                    <a:pt x="2074" y="268"/>
                  </a:lnTo>
                  <a:lnTo>
                    <a:pt x="2054" y="250"/>
                  </a:lnTo>
                  <a:lnTo>
                    <a:pt x="2032" y="233"/>
                  </a:lnTo>
                  <a:lnTo>
                    <a:pt x="2010" y="217"/>
                  </a:lnTo>
                  <a:lnTo>
                    <a:pt x="1987" y="201"/>
                  </a:lnTo>
                  <a:lnTo>
                    <a:pt x="1963" y="186"/>
                  </a:lnTo>
                  <a:lnTo>
                    <a:pt x="1938" y="171"/>
                  </a:lnTo>
                  <a:lnTo>
                    <a:pt x="1913" y="156"/>
                  </a:lnTo>
                  <a:lnTo>
                    <a:pt x="1888" y="142"/>
                  </a:lnTo>
                  <a:lnTo>
                    <a:pt x="1861" y="129"/>
                  </a:lnTo>
                  <a:lnTo>
                    <a:pt x="1835" y="117"/>
                  </a:lnTo>
                  <a:lnTo>
                    <a:pt x="1807" y="104"/>
                  </a:lnTo>
                  <a:lnTo>
                    <a:pt x="1778" y="94"/>
                  </a:lnTo>
                  <a:lnTo>
                    <a:pt x="1749" y="82"/>
                  </a:lnTo>
                  <a:lnTo>
                    <a:pt x="1719" y="72"/>
                  </a:lnTo>
                  <a:lnTo>
                    <a:pt x="1689" y="63"/>
                  </a:lnTo>
                  <a:lnTo>
                    <a:pt x="1659" y="53"/>
                  </a:lnTo>
                  <a:lnTo>
                    <a:pt x="1628" y="45"/>
                  </a:lnTo>
                  <a:lnTo>
                    <a:pt x="1596" y="38"/>
                  </a:lnTo>
                  <a:lnTo>
                    <a:pt x="1564" y="32"/>
                  </a:lnTo>
                  <a:lnTo>
                    <a:pt x="1530" y="25"/>
                  </a:lnTo>
                  <a:lnTo>
                    <a:pt x="1497" y="19"/>
                  </a:lnTo>
                  <a:lnTo>
                    <a:pt x="1464" y="14"/>
                  </a:lnTo>
                  <a:lnTo>
                    <a:pt x="1429" y="11"/>
                  </a:lnTo>
                  <a:lnTo>
                    <a:pt x="1394" y="6"/>
                  </a:lnTo>
                  <a:lnTo>
                    <a:pt x="1359" y="4"/>
                  </a:lnTo>
                  <a:lnTo>
                    <a:pt x="1322" y="2"/>
                  </a:lnTo>
                  <a:lnTo>
                    <a:pt x="1286" y="0"/>
                  </a:lnTo>
                  <a:lnTo>
                    <a:pt x="1249" y="0"/>
                  </a:lnTo>
                  <a:lnTo>
                    <a:pt x="1211" y="0"/>
                  </a:lnTo>
                  <a:lnTo>
                    <a:pt x="1173" y="2"/>
                  </a:lnTo>
                  <a:lnTo>
                    <a:pt x="1135" y="3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20059200">
              <a:off x="5684400" y="2653920"/>
              <a:ext cx="1105920" cy="463320"/>
            </a:xfrm>
            <a:custGeom>
              <a:avLst/>
              <a:gdLst/>
              <a:ahLst/>
              <a:rect l="l" t="t" r="r" b="b"/>
              <a:pathLst>
                <a:path w="2095" h="656">
                  <a:moveTo>
                    <a:pt x="1135" y="3"/>
                  </a:moveTo>
                  <a:lnTo>
                    <a:pt x="1097" y="5"/>
                  </a:lnTo>
                  <a:lnTo>
                    <a:pt x="1060" y="7"/>
                  </a:lnTo>
                  <a:lnTo>
                    <a:pt x="1022" y="11"/>
                  </a:lnTo>
                  <a:lnTo>
                    <a:pt x="985" y="15"/>
                  </a:lnTo>
                  <a:lnTo>
                    <a:pt x="948" y="20"/>
                  </a:lnTo>
                  <a:lnTo>
                    <a:pt x="910" y="26"/>
                  </a:lnTo>
                  <a:lnTo>
                    <a:pt x="874" y="33"/>
                  </a:lnTo>
                  <a:lnTo>
                    <a:pt x="837" y="38"/>
                  </a:lnTo>
                  <a:lnTo>
                    <a:pt x="799" y="47"/>
                  </a:lnTo>
                  <a:lnTo>
                    <a:pt x="762" y="55"/>
                  </a:lnTo>
                  <a:lnTo>
                    <a:pt x="725" y="63"/>
                  </a:lnTo>
                  <a:lnTo>
                    <a:pt x="689" y="72"/>
                  </a:lnTo>
                  <a:lnTo>
                    <a:pt x="652" y="82"/>
                  </a:lnTo>
                  <a:lnTo>
                    <a:pt x="615" y="93"/>
                  </a:lnTo>
                  <a:lnTo>
                    <a:pt x="580" y="104"/>
                  </a:lnTo>
                  <a:lnTo>
                    <a:pt x="544" y="116"/>
                  </a:lnTo>
                  <a:lnTo>
                    <a:pt x="507" y="127"/>
                  </a:lnTo>
                  <a:lnTo>
                    <a:pt x="471" y="140"/>
                  </a:lnTo>
                  <a:lnTo>
                    <a:pt x="437" y="154"/>
                  </a:lnTo>
                  <a:lnTo>
                    <a:pt x="401" y="168"/>
                  </a:lnTo>
                  <a:lnTo>
                    <a:pt x="367" y="181"/>
                  </a:lnTo>
                  <a:lnTo>
                    <a:pt x="332" y="196"/>
                  </a:lnTo>
                  <a:lnTo>
                    <a:pt x="297" y="211"/>
                  </a:lnTo>
                  <a:lnTo>
                    <a:pt x="263" y="227"/>
                  </a:lnTo>
                  <a:lnTo>
                    <a:pt x="228" y="244"/>
                  </a:lnTo>
                  <a:lnTo>
                    <a:pt x="195" y="261"/>
                  </a:lnTo>
                  <a:lnTo>
                    <a:pt x="161" y="278"/>
                  </a:lnTo>
                  <a:lnTo>
                    <a:pt x="129" y="295"/>
                  </a:lnTo>
                  <a:lnTo>
                    <a:pt x="96" y="314"/>
                  </a:lnTo>
                  <a:lnTo>
                    <a:pt x="63" y="332"/>
                  </a:lnTo>
                  <a:lnTo>
                    <a:pt x="31" y="352"/>
                  </a:lnTo>
                  <a:lnTo>
                    <a:pt x="0" y="371"/>
                  </a:lnTo>
                  <a:lnTo>
                    <a:pt x="29" y="355"/>
                  </a:lnTo>
                  <a:lnTo>
                    <a:pt x="59" y="340"/>
                  </a:lnTo>
                  <a:lnTo>
                    <a:pt x="88" y="325"/>
                  </a:lnTo>
                  <a:lnTo>
                    <a:pt x="118" y="310"/>
                  </a:lnTo>
                  <a:lnTo>
                    <a:pt x="148" y="295"/>
                  </a:lnTo>
                  <a:lnTo>
                    <a:pt x="179" y="282"/>
                  </a:lnTo>
                  <a:lnTo>
                    <a:pt x="209" y="268"/>
                  </a:lnTo>
                  <a:lnTo>
                    <a:pt x="240" y="255"/>
                  </a:lnTo>
                  <a:lnTo>
                    <a:pt x="271" y="241"/>
                  </a:lnTo>
                  <a:lnTo>
                    <a:pt x="302" y="230"/>
                  </a:lnTo>
                  <a:lnTo>
                    <a:pt x="333" y="217"/>
                  </a:lnTo>
                  <a:lnTo>
                    <a:pt x="364" y="206"/>
                  </a:lnTo>
                  <a:lnTo>
                    <a:pt x="397" y="194"/>
                  </a:lnTo>
                  <a:lnTo>
                    <a:pt x="429" y="184"/>
                  </a:lnTo>
                  <a:lnTo>
                    <a:pt x="460" y="173"/>
                  </a:lnTo>
                  <a:lnTo>
                    <a:pt x="492" y="164"/>
                  </a:lnTo>
                  <a:lnTo>
                    <a:pt x="524" y="154"/>
                  </a:lnTo>
                  <a:lnTo>
                    <a:pt x="557" y="146"/>
                  </a:lnTo>
                  <a:lnTo>
                    <a:pt x="590" y="136"/>
                  </a:lnTo>
                  <a:lnTo>
                    <a:pt x="622" y="128"/>
                  </a:lnTo>
                  <a:lnTo>
                    <a:pt x="655" y="121"/>
                  </a:lnTo>
                  <a:lnTo>
                    <a:pt x="688" y="115"/>
                  </a:lnTo>
                  <a:lnTo>
                    <a:pt x="720" y="108"/>
                  </a:lnTo>
                  <a:lnTo>
                    <a:pt x="754" y="102"/>
                  </a:lnTo>
                  <a:lnTo>
                    <a:pt x="786" y="96"/>
                  </a:lnTo>
                  <a:lnTo>
                    <a:pt x="819" y="90"/>
                  </a:lnTo>
                  <a:lnTo>
                    <a:pt x="853" y="86"/>
                  </a:lnTo>
                  <a:lnTo>
                    <a:pt x="885" y="82"/>
                  </a:lnTo>
                  <a:lnTo>
                    <a:pt x="919" y="79"/>
                  </a:lnTo>
                  <a:lnTo>
                    <a:pt x="952" y="75"/>
                  </a:lnTo>
                  <a:lnTo>
                    <a:pt x="984" y="73"/>
                  </a:lnTo>
                  <a:lnTo>
                    <a:pt x="1018" y="71"/>
                  </a:lnTo>
                  <a:lnTo>
                    <a:pt x="1050" y="70"/>
                  </a:lnTo>
                  <a:lnTo>
                    <a:pt x="1081" y="68"/>
                  </a:lnTo>
                  <a:lnTo>
                    <a:pt x="1113" y="68"/>
                  </a:lnTo>
                  <a:lnTo>
                    <a:pt x="1144" y="68"/>
                  </a:lnTo>
                  <a:lnTo>
                    <a:pt x="1174" y="70"/>
                  </a:lnTo>
                  <a:lnTo>
                    <a:pt x="1205" y="71"/>
                  </a:lnTo>
                  <a:lnTo>
                    <a:pt x="1235" y="72"/>
                  </a:lnTo>
                  <a:lnTo>
                    <a:pt x="1264" y="74"/>
                  </a:lnTo>
                  <a:lnTo>
                    <a:pt x="1294" y="76"/>
                  </a:lnTo>
                  <a:lnTo>
                    <a:pt x="1323" y="80"/>
                  </a:lnTo>
                  <a:lnTo>
                    <a:pt x="1352" y="83"/>
                  </a:lnTo>
                  <a:lnTo>
                    <a:pt x="1379" y="88"/>
                  </a:lnTo>
                  <a:lnTo>
                    <a:pt x="1407" y="93"/>
                  </a:lnTo>
                  <a:lnTo>
                    <a:pt x="1435" y="97"/>
                  </a:lnTo>
                  <a:lnTo>
                    <a:pt x="1462" y="103"/>
                  </a:lnTo>
                  <a:lnTo>
                    <a:pt x="1489" y="109"/>
                  </a:lnTo>
                  <a:lnTo>
                    <a:pt x="1515" y="116"/>
                  </a:lnTo>
                  <a:lnTo>
                    <a:pt x="1541" y="123"/>
                  </a:lnTo>
                  <a:lnTo>
                    <a:pt x="1566" y="129"/>
                  </a:lnTo>
                  <a:lnTo>
                    <a:pt x="1591" y="138"/>
                  </a:lnTo>
                  <a:lnTo>
                    <a:pt x="1617" y="146"/>
                  </a:lnTo>
                  <a:lnTo>
                    <a:pt x="1641" y="155"/>
                  </a:lnTo>
                  <a:lnTo>
                    <a:pt x="1665" y="163"/>
                  </a:lnTo>
                  <a:lnTo>
                    <a:pt x="1688" y="173"/>
                  </a:lnTo>
                  <a:lnTo>
                    <a:pt x="1711" y="182"/>
                  </a:lnTo>
                  <a:lnTo>
                    <a:pt x="1733" y="193"/>
                  </a:lnTo>
                  <a:lnTo>
                    <a:pt x="1756" y="203"/>
                  </a:lnTo>
                  <a:lnTo>
                    <a:pt x="1778" y="215"/>
                  </a:lnTo>
                  <a:lnTo>
                    <a:pt x="1799" y="226"/>
                  </a:lnTo>
                  <a:lnTo>
                    <a:pt x="1820" y="238"/>
                  </a:lnTo>
                  <a:lnTo>
                    <a:pt x="1840" y="250"/>
                  </a:lnTo>
                  <a:lnTo>
                    <a:pt x="1860" y="263"/>
                  </a:lnTo>
                  <a:lnTo>
                    <a:pt x="1824" y="244"/>
                  </a:lnTo>
                  <a:lnTo>
                    <a:pt x="1787" y="225"/>
                  </a:lnTo>
                  <a:lnTo>
                    <a:pt x="1749" y="208"/>
                  </a:lnTo>
                  <a:lnTo>
                    <a:pt x="1711" y="192"/>
                  </a:lnTo>
                  <a:lnTo>
                    <a:pt x="1672" y="178"/>
                  </a:lnTo>
                  <a:lnTo>
                    <a:pt x="1632" y="165"/>
                  </a:lnTo>
                  <a:lnTo>
                    <a:pt x="1589" y="154"/>
                  </a:lnTo>
                  <a:lnTo>
                    <a:pt x="1547" y="144"/>
                  </a:lnTo>
                  <a:lnTo>
                    <a:pt x="1503" y="135"/>
                  </a:lnTo>
                  <a:lnTo>
                    <a:pt x="1458" y="129"/>
                  </a:lnTo>
                  <a:lnTo>
                    <a:pt x="1411" y="124"/>
                  </a:lnTo>
                  <a:lnTo>
                    <a:pt x="1363" y="120"/>
                  </a:lnTo>
                  <a:lnTo>
                    <a:pt x="1314" y="117"/>
                  </a:lnTo>
                  <a:lnTo>
                    <a:pt x="1262" y="117"/>
                  </a:lnTo>
                  <a:lnTo>
                    <a:pt x="1210" y="117"/>
                  </a:lnTo>
                  <a:lnTo>
                    <a:pt x="1156" y="119"/>
                  </a:lnTo>
                  <a:lnTo>
                    <a:pt x="1121" y="121"/>
                  </a:lnTo>
                  <a:lnTo>
                    <a:pt x="1087" y="124"/>
                  </a:lnTo>
                  <a:lnTo>
                    <a:pt x="1052" y="127"/>
                  </a:lnTo>
                  <a:lnTo>
                    <a:pt x="1018" y="131"/>
                  </a:lnTo>
                  <a:lnTo>
                    <a:pt x="983" y="135"/>
                  </a:lnTo>
                  <a:lnTo>
                    <a:pt x="948" y="141"/>
                  </a:lnTo>
                  <a:lnTo>
                    <a:pt x="915" y="147"/>
                  </a:lnTo>
                  <a:lnTo>
                    <a:pt x="880" y="153"/>
                  </a:lnTo>
                  <a:lnTo>
                    <a:pt x="846" y="159"/>
                  </a:lnTo>
                  <a:lnTo>
                    <a:pt x="813" y="168"/>
                  </a:lnTo>
                  <a:lnTo>
                    <a:pt x="778" y="176"/>
                  </a:lnTo>
                  <a:lnTo>
                    <a:pt x="745" y="184"/>
                  </a:lnTo>
                  <a:lnTo>
                    <a:pt x="710" y="193"/>
                  </a:lnTo>
                  <a:lnTo>
                    <a:pt x="677" y="202"/>
                  </a:lnTo>
                  <a:lnTo>
                    <a:pt x="643" y="212"/>
                  </a:lnTo>
                  <a:lnTo>
                    <a:pt x="611" y="224"/>
                  </a:lnTo>
                  <a:lnTo>
                    <a:pt x="577" y="234"/>
                  </a:lnTo>
                  <a:lnTo>
                    <a:pt x="544" y="247"/>
                  </a:lnTo>
                  <a:lnTo>
                    <a:pt x="512" y="259"/>
                  </a:lnTo>
                  <a:lnTo>
                    <a:pt x="479" y="271"/>
                  </a:lnTo>
                  <a:lnTo>
                    <a:pt x="447" y="285"/>
                  </a:lnTo>
                  <a:lnTo>
                    <a:pt x="415" y="299"/>
                  </a:lnTo>
                  <a:lnTo>
                    <a:pt x="383" y="313"/>
                  </a:lnTo>
                  <a:lnTo>
                    <a:pt x="352" y="328"/>
                  </a:lnTo>
                  <a:lnTo>
                    <a:pt x="320" y="343"/>
                  </a:lnTo>
                  <a:lnTo>
                    <a:pt x="289" y="358"/>
                  </a:lnTo>
                  <a:lnTo>
                    <a:pt x="258" y="374"/>
                  </a:lnTo>
                  <a:lnTo>
                    <a:pt x="228" y="390"/>
                  </a:lnTo>
                  <a:lnTo>
                    <a:pt x="198" y="407"/>
                  </a:lnTo>
                  <a:lnTo>
                    <a:pt x="168" y="424"/>
                  </a:lnTo>
                  <a:lnTo>
                    <a:pt x="138" y="442"/>
                  </a:lnTo>
                  <a:lnTo>
                    <a:pt x="110" y="460"/>
                  </a:lnTo>
                  <a:lnTo>
                    <a:pt x="136" y="445"/>
                  </a:lnTo>
                  <a:lnTo>
                    <a:pt x="164" y="431"/>
                  </a:lnTo>
                  <a:lnTo>
                    <a:pt x="190" y="418"/>
                  </a:lnTo>
                  <a:lnTo>
                    <a:pt x="218" y="405"/>
                  </a:lnTo>
                  <a:lnTo>
                    <a:pt x="246" y="391"/>
                  </a:lnTo>
                  <a:lnTo>
                    <a:pt x="273" y="378"/>
                  </a:lnTo>
                  <a:lnTo>
                    <a:pt x="301" y="367"/>
                  </a:lnTo>
                  <a:lnTo>
                    <a:pt x="329" y="354"/>
                  </a:lnTo>
                  <a:lnTo>
                    <a:pt x="357" y="343"/>
                  </a:lnTo>
                  <a:lnTo>
                    <a:pt x="386" y="331"/>
                  </a:lnTo>
                  <a:lnTo>
                    <a:pt x="415" y="321"/>
                  </a:lnTo>
                  <a:lnTo>
                    <a:pt x="444" y="310"/>
                  </a:lnTo>
                  <a:lnTo>
                    <a:pt x="473" y="300"/>
                  </a:lnTo>
                  <a:lnTo>
                    <a:pt x="501" y="290"/>
                  </a:lnTo>
                  <a:lnTo>
                    <a:pt x="530" y="280"/>
                  </a:lnTo>
                  <a:lnTo>
                    <a:pt x="560" y="271"/>
                  </a:lnTo>
                  <a:lnTo>
                    <a:pt x="589" y="263"/>
                  </a:lnTo>
                  <a:lnTo>
                    <a:pt x="619" y="255"/>
                  </a:lnTo>
                  <a:lnTo>
                    <a:pt x="648" y="247"/>
                  </a:lnTo>
                  <a:lnTo>
                    <a:pt x="678" y="240"/>
                  </a:lnTo>
                  <a:lnTo>
                    <a:pt x="708" y="233"/>
                  </a:lnTo>
                  <a:lnTo>
                    <a:pt x="738" y="226"/>
                  </a:lnTo>
                  <a:lnTo>
                    <a:pt x="768" y="221"/>
                  </a:lnTo>
                  <a:lnTo>
                    <a:pt x="798" y="215"/>
                  </a:lnTo>
                  <a:lnTo>
                    <a:pt x="827" y="210"/>
                  </a:lnTo>
                  <a:lnTo>
                    <a:pt x="857" y="206"/>
                  </a:lnTo>
                  <a:lnTo>
                    <a:pt x="887" y="201"/>
                  </a:lnTo>
                  <a:lnTo>
                    <a:pt x="917" y="197"/>
                  </a:lnTo>
                  <a:lnTo>
                    <a:pt x="948" y="194"/>
                  </a:lnTo>
                  <a:lnTo>
                    <a:pt x="978" y="192"/>
                  </a:lnTo>
                  <a:lnTo>
                    <a:pt x="1008" y="189"/>
                  </a:lnTo>
                  <a:lnTo>
                    <a:pt x="1038" y="187"/>
                  </a:lnTo>
                  <a:lnTo>
                    <a:pt x="1069" y="186"/>
                  </a:lnTo>
                  <a:lnTo>
                    <a:pt x="1101" y="185"/>
                  </a:lnTo>
                  <a:lnTo>
                    <a:pt x="1131" y="185"/>
                  </a:lnTo>
                  <a:lnTo>
                    <a:pt x="1161" y="185"/>
                  </a:lnTo>
                  <a:lnTo>
                    <a:pt x="1190" y="185"/>
                  </a:lnTo>
                  <a:lnTo>
                    <a:pt x="1219" y="186"/>
                  </a:lnTo>
                  <a:lnTo>
                    <a:pt x="1248" y="188"/>
                  </a:lnTo>
                  <a:lnTo>
                    <a:pt x="1276" y="191"/>
                  </a:lnTo>
                  <a:lnTo>
                    <a:pt x="1303" y="193"/>
                  </a:lnTo>
                  <a:lnTo>
                    <a:pt x="1331" y="196"/>
                  </a:lnTo>
                  <a:lnTo>
                    <a:pt x="1358" y="200"/>
                  </a:lnTo>
                  <a:lnTo>
                    <a:pt x="1384" y="204"/>
                  </a:lnTo>
                  <a:lnTo>
                    <a:pt x="1409" y="209"/>
                  </a:lnTo>
                  <a:lnTo>
                    <a:pt x="1435" y="214"/>
                  </a:lnTo>
                  <a:lnTo>
                    <a:pt x="1460" y="219"/>
                  </a:lnTo>
                  <a:lnTo>
                    <a:pt x="1484" y="225"/>
                  </a:lnTo>
                  <a:lnTo>
                    <a:pt x="1509" y="232"/>
                  </a:lnTo>
                  <a:lnTo>
                    <a:pt x="1532" y="239"/>
                  </a:lnTo>
                  <a:lnTo>
                    <a:pt x="1556" y="246"/>
                  </a:lnTo>
                  <a:lnTo>
                    <a:pt x="1579" y="254"/>
                  </a:lnTo>
                  <a:lnTo>
                    <a:pt x="1601" y="262"/>
                  </a:lnTo>
                  <a:lnTo>
                    <a:pt x="1623" y="271"/>
                  </a:lnTo>
                  <a:lnTo>
                    <a:pt x="1644" y="280"/>
                  </a:lnTo>
                  <a:lnTo>
                    <a:pt x="1666" y="290"/>
                  </a:lnTo>
                  <a:lnTo>
                    <a:pt x="1687" y="300"/>
                  </a:lnTo>
                  <a:lnTo>
                    <a:pt x="1708" y="312"/>
                  </a:lnTo>
                  <a:lnTo>
                    <a:pt x="1727" y="322"/>
                  </a:lnTo>
                  <a:lnTo>
                    <a:pt x="1747" y="333"/>
                  </a:lnTo>
                  <a:lnTo>
                    <a:pt x="1767" y="346"/>
                  </a:lnTo>
                  <a:lnTo>
                    <a:pt x="1786" y="358"/>
                  </a:lnTo>
                  <a:lnTo>
                    <a:pt x="1805" y="370"/>
                  </a:lnTo>
                  <a:lnTo>
                    <a:pt x="1823" y="384"/>
                  </a:lnTo>
                  <a:lnTo>
                    <a:pt x="1791" y="363"/>
                  </a:lnTo>
                  <a:lnTo>
                    <a:pt x="1756" y="345"/>
                  </a:lnTo>
                  <a:lnTo>
                    <a:pt x="1721" y="328"/>
                  </a:lnTo>
                  <a:lnTo>
                    <a:pt x="1683" y="312"/>
                  </a:lnTo>
                  <a:lnTo>
                    <a:pt x="1644" y="297"/>
                  </a:lnTo>
                  <a:lnTo>
                    <a:pt x="1604" y="283"/>
                  </a:lnTo>
                  <a:lnTo>
                    <a:pt x="1562" y="271"/>
                  </a:lnTo>
                  <a:lnTo>
                    <a:pt x="1519" y="261"/>
                  </a:lnTo>
                  <a:lnTo>
                    <a:pt x="1475" y="252"/>
                  </a:lnTo>
                  <a:lnTo>
                    <a:pt x="1429" y="245"/>
                  </a:lnTo>
                  <a:lnTo>
                    <a:pt x="1382" y="239"/>
                  </a:lnTo>
                  <a:lnTo>
                    <a:pt x="1333" y="235"/>
                  </a:lnTo>
                  <a:lnTo>
                    <a:pt x="1285" y="233"/>
                  </a:lnTo>
                  <a:lnTo>
                    <a:pt x="1234" y="233"/>
                  </a:lnTo>
                  <a:lnTo>
                    <a:pt x="1182" y="234"/>
                  </a:lnTo>
                  <a:lnTo>
                    <a:pt x="1129" y="238"/>
                  </a:lnTo>
                  <a:lnTo>
                    <a:pt x="1099" y="240"/>
                  </a:lnTo>
                  <a:lnTo>
                    <a:pt x="1068" y="244"/>
                  </a:lnTo>
                  <a:lnTo>
                    <a:pt x="1038" y="247"/>
                  </a:lnTo>
                  <a:lnTo>
                    <a:pt x="1008" y="250"/>
                  </a:lnTo>
                  <a:lnTo>
                    <a:pt x="977" y="255"/>
                  </a:lnTo>
                  <a:lnTo>
                    <a:pt x="947" y="261"/>
                  </a:lnTo>
                  <a:lnTo>
                    <a:pt x="917" y="267"/>
                  </a:lnTo>
                  <a:lnTo>
                    <a:pt x="887" y="272"/>
                  </a:lnTo>
                  <a:lnTo>
                    <a:pt x="857" y="279"/>
                  </a:lnTo>
                  <a:lnTo>
                    <a:pt x="826" y="286"/>
                  </a:lnTo>
                  <a:lnTo>
                    <a:pt x="798" y="294"/>
                  </a:lnTo>
                  <a:lnTo>
                    <a:pt x="768" y="302"/>
                  </a:lnTo>
                  <a:lnTo>
                    <a:pt x="738" y="312"/>
                  </a:lnTo>
                  <a:lnTo>
                    <a:pt x="708" y="321"/>
                  </a:lnTo>
                  <a:lnTo>
                    <a:pt x="679" y="330"/>
                  </a:lnTo>
                  <a:lnTo>
                    <a:pt x="649" y="340"/>
                  </a:lnTo>
                  <a:lnTo>
                    <a:pt x="620" y="351"/>
                  </a:lnTo>
                  <a:lnTo>
                    <a:pt x="591" y="361"/>
                  </a:lnTo>
                  <a:lnTo>
                    <a:pt x="562" y="373"/>
                  </a:lnTo>
                  <a:lnTo>
                    <a:pt x="534" y="384"/>
                  </a:lnTo>
                  <a:lnTo>
                    <a:pt x="505" y="397"/>
                  </a:lnTo>
                  <a:lnTo>
                    <a:pt x="477" y="409"/>
                  </a:lnTo>
                  <a:lnTo>
                    <a:pt x="448" y="422"/>
                  </a:lnTo>
                  <a:lnTo>
                    <a:pt x="421" y="436"/>
                  </a:lnTo>
                  <a:lnTo>
                    <a:pt x="393" y="450"/>
                  </a:lnTo>
                  <a:lnTo>
                    <a:pt x="365" y="464"/>
                  </a:lnTo>
                  <a:lnTo>
                    <a:pt x="339" y="479"/>
                  </a:lnTo>
                  <a:lnTo>
                    <a:pt x="312" y="494"/>
                  </a:lnTo>
                  <a:lnTo>
                    <a:pt x="286" y="509"/>
                  </a:lnTo>
                  <a:lnTo>
                    <a:pt x="259" y="525"/>
                  </a:lnTo>
                  <a:lnTo>
                    <a:pt x="233" y="541"/>
                  </a:lnTo>
                  <a:lnTo>
                    <a:pt x="208" y="557"/>
                  </a:lnTo>
                  <a:lnTo>
                    <a:pt x="231" y="544"/>
                  </a:lnTo>
                  <a:lnTo>
                    <a:pt x="254" y="532"/>
                  </a:lnTo>
                  <a:lnTo>
                    <a:pt x="278" y="520"/>
                  </a:lnTo>
                  <a:lnTo>
                    <a:pt x="301" y="507"/>
                  </a:lnTo>
                  <a:lnTo>
                    <a:pt x="325" y="496"/>
                  </a:lnTo>
                  <a:lnTo>
                    <a:pt x="349" y="484"/>
                  </a:lnTo>
                  <a:lnTo>
                    <a:pt x="373" y="474"/>
                  </a:lnTo>
                  <a:lnTo>
                    <a:pt x="398" y="464"/>
                  </a:lnTo>
                  <a:lnTo>
                    <a:pt x="422" y="453"/>
                  </a:lnTo>
                  <a:lnTo>
                    <a:pt x="447" y="443"/>
                  </a:lnTo>
                  <a:lnTo>
                    <a:pt x="471" y="432"/>
                  </a:lnTo>
                  <a:lnTo>
                    <a:pt x="497" y="423"/>
                  </a:lnTo>
                  <a:lnTo>
                    <a:pt x="521" y="414"/>
                  </a:lnTo>
                  <a:lnTo>
                    <a:pt x="546" y="406"/>
                  </a:lnTo>
                  <a:lnTo>
                    <a:pt x="572" y="397"/>
                  </a:lnTo>
                  <a:lnTo>
                    <a:pt x="597" y="389"/>
                  </a:lnTo>
                  <a:lnTo>
                    <a:pt x="622" y="381"/>
                  </a:lnTo>
                  <a:lnTo>
                    <a:pt x="649" y="374"/>
                  </a:lnTo>
                  <a:lnTo>
                    <a:pt x="674" y="367"/>
                  </a:lnTo>
                  <a:lnTo>
                    <a:pt x="700" y="360"/>
                  </a:lnTo>
                  <a:lnTo>
                    <a:pt x="726" y="353"/>
                  </a:lnTo>
                  <a:lnTo>
                    <a:pt x="751" y="347"/>
                  </a:lnTo>
                  <a:lnTo>
                    <a:pt x="778" y="341"/>
                  </a:lnTo>
                  <a:lnTo>
                    <a:pt x="803" y="337"/>
                  </a:lnTo>
                  <a:lnTo>
                    <a:pt x="830" y="331"/>
                  </a:lnTo>
                  <a:lnTo>
                    <a:pt x="856" y="327"/>
                  </a:lnTo>
                  <a:lnTo>
                    <a:pt x="882" y="323"/>
                  </a:lnTo>
                  <a:lnTo>
                    <a:pt x="908" y="320"/>
                  </a:lnTo>
                  <a:lnTo>
                    <a:pt x="935" y="316"/>
                  </a:lnTo>
                  <a:lnTo>
                    <a:pt x="960" y="313"/>
                  </a:lnTo>
                  <a:lnTo>
                    <a:pt x="987" y="310"/>
                  </a:lnTo>
                  <a:lnTo>
                    <a:pt x="1013" y="308"/>
                  </a:lnTo>
                  <a:lnTo>
                    <a:pt x="1066" y="305"/>
                  </a:lnTo>
                  <a:lnTo>
                    <a:pt x="1119" y="303"/>
                  </a:lnTo>
                  <a:lnTo>
                    <a:pt x="1170" y="305"/>
                  </a:lnTo>
                  <a:lnTo>
                    <a:pt x="1220" y="307"/>
                  </a:lnTo>
                  <a:lnTo>
                    <a:pt x="1269" y="312"/>
                  </a:lnTo>
                  <a:lnTo>
                    <a:pt x="1317" y="317"/>
                  </a:lnTo>
                  <a:lnTo>
                    <a:pt x="1363" y="324"/>
                  </a:lnTo>
                  <a:lnTo>
                    <a:pt x="1408" y="333"/>
                  </a:lnTo>
                  <a:lnTo>
                    <a:pt x="1452" y="345"/>
                  </a:lnTo>
                  <a:lnTo>
                    <a:pt x="1494" y="356"/>
                  </a:lnTo>
                  <a:lnTo>
                    <a:pt x="1535" y="370"/>
                  </a:lnTo>
                  <a:lnTo>
                    <a:pt x="1574" y="385"/>
                  </a:lnTo>
                  <a:lnTo>
                    <a:pt x="1611" y="403"/>
                  </a:lnTo>
                  <a:lnTo>
                    <a:pt x="1648" y="421"/>
                  </a:lnTo>
                  <a:lnTo>
                    <a:pt x="1683" y="441"/>
                  </a:lnTo>
                  <a:lnTo>
                    <a:pt x="1715" y="461"/>
                  </a:lnTo>
                  <a:lnTo>
                    <a:pt x="1686" y="445"/>
                  </a:lnTo>
                  <a:lnTo>
                    <a:pt x="1657" y="430"/>
                  </a:lnTo>
                  <a:lnTo>
                    <a:pt x="1626" y="416"/>
                  </a:lnTo>
                  <a:lnTo>
                    <a:pt x="1594" y="404"/>
                  </a:lnTo>
                  <a:lnTo>
                    <a:pt x="1560" y="393"/>
                  </a:lnTo>
                  <a:lnTo>
                    <a:pt x="1526" y="383"/>
                  </a:lnTo>
                  <a:lnTo>
                    <a:pt x="1490" y="374"/>
                  </a:lnTo>
                  <a:lnTo>
                    <a:pt x="1453" y="367"/>
                  </a:lnTo>
                  <a:lnTo>
                    <a:pt x="1415" y="360"/>
                  </a:lnTo>
                  <a:lnTo>
                    <a:pt x="1376" y="355"/>
                  </a:lnTo>
                  <a:lnTo>
                    <a:pt x="1336" y="352"/>
                  </a:lnTo>
                  <a:lnTo>
                    <a:pt x="1294" y="351"/>
                  </a:lnTo>
                  <a:lnTo>
                    <a:pt x="1253" y="350"/>
                  </a:lnTo>
                  <a:lnTo>
                    <a:pt x="1209" y="351"/>
                  </a:lnTo>
                  <a:lnTo>
                    <a:pt x="1165" y="353"/>
                  </a:lnTo>
                  <a:lnTo>
                    <a:pt x="1120" y="356"/>
                  </a:lnTo>
                  <a:lnTo>
                    <a:pt x="1094" y="359"/>
                  </a:lnTo>
                  <a:lnTo>
                    <a:pt x="1066" y="362"/>
                  </a:lnTo>
                  <a:lnTo>
                    <a:pt x="1040" y="367"/>
                  </a:lnTo>
                  <a:lnTo>
                    <a:pt x="1013" y="370"/>
                  </a:lnTo>
                  <a:lnTo>
                    <a:pt x="987" y="375"/>
                  </a:lnTo>
                  <a:lnTo>
                    <a:pt x="960" y="381"/>
                  </a:lnTo>
                  <a:lnTo>
                    <a:pt x="934" y="386"/>
                  </a:lnTo>
                  <a:lnTo>
                    <a:pt x="907" y="392"/>
                  </a:lnTo>
                  <a:lnTo>
                    <a:pt x="879" y="399"/>
                  </a:lnTo>
                  <a:lnTo>
                    <a:pt x="854" y="406"/>
                  </a:lnTo>
                  <a:lnTo>
                    <a:pt x="827" y="413"/>
                  </a:lnTo>
                  <a:lnTo>
                    <a:pt x="801" y="421"/>
                  </a:lnTo>
                  <a:lnTo>
                    <a:pt x="774" y="429"/>
                  </a:lnTo>
                  <a:lnTo>
                    <a:pt x="749" y="438"/>
                  </a:lnTo>
                  <a:lnTo>
                    <a:pt x="723" y="447"/>
                  </a:lnTo>
                  <a:lnTo>
                    <a:pt x="697" y="457"/>
                  </a:lnTo>
                  <a:lnTo>
                    <a:pt x="672" y="466"/>
                  </a:lnTo>
                  <a:lnTo>
                    <a:pt x="645" y="476"/>
                  </a:lnTo>
                  <a:lnTo>
                    <a:pt x="620" y="487"/>
                  </a:lnTo>
                  <a:lnTo>
                    <a:pt x="596" y="498"/>
                  </a:lnTo>
                  <a:lnTo>
                    <a:pt x="571" y="510"/>
                  </a:lnTo>
                  <a:lnTo>
                    <a:pt x="545" y="521"/>
                  </a:lnTo>
                  <a:lnTo>
                    <a:pt x="521" y="533"/>
                  </a:lnTo>
                  <a:lnTo>
                    <a:pt x="497" y="545"/>
                  </a:lnTo>
                  <a:lnTo>
                    <a:pt x="473" y="558"/>
                  </a:lnTo>
                  <a:lnTo>
                    <a:pt x="448" y="571"/>
                  </a:lnTo>
                  <a:lnTo>
                    <a:pt x="425" y="585"/>
                  </a:lnTo>
                  <a:lnTo>
                    <a:pt x="401" y="598"/>
                  </a:lnTo>
                  <a:lnTo>
                    <a:pt x="378" y="612"/>
                  </a:lnTo>
                  <a:lnTo>
                    <a:pt x="355" y="626"/>
                  </a:lnTo>
                  <a:lnTo>
                    <a:pt x="332" y="641"/>
                  </a:lnTo>
                  <a:lnTo>
                    <a:pt x="310" y="656"/>
                  </a:lnTo>
                  <a:lnTo>
                    <a:pt x="350" y="634"/>
                  </a:lnTo>
                  <a:lnTo>
                    <a:pt x="391" y="613"/>
                  </a:lnTo>
                  <a:lnTo>
                    <a:pt x="432" y="593"/>
                  </a:lnTo>
                  <a:lnTo>
                    <a:pt x="474" y="573"/>
                  </a:lnTo>
                  <a:lnTo>
                    <a:pt x="516" y="555"/>
                  </a:lnTo>
                  <a:lnTo>
                    <a:pt x="559" y="538"/>
                  </a:lnTo>
                  <a:lnTo>
                    <a:pt x="603" y="522"/>
                  </a:lnTo>
                  <a:lnTo>
                    <a:pt x="647" y="506"/>
                  </a:lnTo>
                  <a:lnTo>
                    <a:pt x="690" y="492"/>
                  </a:lnTo>
                  <a:lnTo>
                    <a:pt x="734" y="480"/>
                  </a:lnTo>
                  <a:lnTo>
                    <a:pt x="779" y="468"/>
                  </a:lnTo>
                  <a:lnTo>
                    <a:pt x="823" y="458"/>
                  </a:lnTo>
                  <a:lnTo>
                    <a:pt x="868" y="450"/>
                  </a:lnTo>
                  <a:lnTo>
                    <a:pt x="913" y="442"/>
                  </a:lnTo>
                  <a:lnTo>
                    <a:pt x="958" y="435"/>
                  </a:lnTo>
                  <a:lnTo>
                    <a:pt x="1003" y="430"/>
                  </a:lnTo>
                  <a:lnTo>
                    <a:pt x="1064" y="426"/>
                  </a:lnTo>
                  <a:lnTo>
                    <a:pt x="1124" y="423"/>
                  </a:lnTo>
                  <a:lnTo>
                    <a:pt x="1181" y="424"/>
                  </a:lnTo>
                  <a:lnTo>
                    <a:pt x="1237" y="428"/>
                  </a:lnTo>
                  <a:lnTo>
                    <a:pt x="1291" y="434"/>
                  </a:lnTo>
                  <a:lnTo>
                    <a:pt x="1341" y="442"/>
                  </a:lnTo>
                  <a:lnTo>
                    <a:pt x="1390" y="453"/>
                  </a:lnTo>
                  <a:lnTo>
                    <a:pt x="1436" y="466"/>
                  </a:lnTo>
                  <a:lnTo>
                    <a:pt x="1480" y="482"/>
                  </a:lnTo>
                  <a:lnTo>
                    <a:pt x="1521" y="499"/>
                  </a:lnTo>
                  <a:lnTo>
                    <a:pt x="1559" y="520"/>
                  </a:lnTo>
                  <a:lnTo>
                    <a:pt x="1594" y="542"/>
                  </a:lnTo>
                  <a:lnTo>
                    <a:pt x="1626" y="566"/>
                  </a:lnTo>
                  <a:lnTo>
                    <a:pt x="1655" y="593"/>
                  </a:lnTo>
                  <a:lnTo>
                    <a:pt x="1681" y="621"/>
                  </a:lnTo>
                  <a:lnTo>
                    <a:pt x="1703" y="651"/>
                  </a:lnTo>
                  <a:lnTo>
                    <a:pt x="2095" y="286"/>
                  </a:lnTo>
                  <a:lnTo>
                    <a:pt x="2074" y="268"/>
                  </a:lnTo>
                  <a:lnTo>
                    <a:pt x="2054" y="250"/>
                  </a:lnTo>
                  <a:lnTo>
                    <a:pt x="2032" y="233"/>
                  </a:lnTo>
                  <a:lnTo>
                    <a:pt x="2010" y="217"/>
                  </a:lnTo>
                  <a:lnTo>
                    <a:pt x="1987" y="201"/>
                  </a:lnTo>
                  <a:lnTo>
                    <a:pt x="1963" y="186"/>
                  </a:lnTo>
                  <a:lnTo>
                    <a:pt x="1938" y="171"/>
                  </a:lnTo>
                  <a:lnTo>
                    <a:pt x="1913" y="156"/>
                  </a:lnTo>
                  <a:lnTo>
                    <a:pt x="1888" y="142"/>
                  </a:lnTo>
                  <a:lnTo>
                    <a:pt x="1861" y="129"/>
                  </a:lnTo>
                  <a:lnTo>
                    <a:pt x="1835" y="117"/>
                  </a:lnTo>
                  <a:lnTo>
                    <a:pt x="1807" y="104"/>
                  </a:lnTo>
                  <a:lnTo>
                    <a:pt x="1778" y="94"/>
                  </a:lnTo>
                  <a:lnTo>
                    <a:pt x="1749" y="82"/>
                  </a:lnTo>
                  <a:lnTo>
                    <a:pt x="1719" y="72"/>
                  </a:lnTo>
                  <a:lnTo>
                    <a:pt x="1689" y="63"/>
                  </a:lnTo>
                  <a:lnTo>
                    <a:pt x="1659" y="53"/>
                  </a:lnTo>
                  <a:lnTo>
                    <a:pt x="1628" y="45"/>
                  </a:lnTo>
                  <a:lnTo>
                    <a:pt x="1596" y="38"/>
                  </a:lnTo>
                  <a:lnTo>
                    <a:pt x="1564" y="32"/>
                  </a:lnTo>
                  <a:lnTo>
                    <a:pt x="1530" y="25"/>
                  </a:lnTo>
                  <a:lnTo>
                    <a:pt x="1497" y="19"/>
                  </a:lnTo>
                  <a:lnTo>
                    <a:pt x="1464" y="14"/>
                  </a:lnTo>
                  <a:lnTo>
                    <a:pt x="1429" y="11"/>
                  </a:lnTo>
                  <a:lnTo>
                    <a:pt x="1394" y="6"/>
                  </a:lnTo>
                  <a:lnTo>
                    <a:pt x="1359" y="4"/>
                  </a:lnTo>
                  <a:lnTo>
                    <a:pt x="1322" y="2"/>
                  </a:lnTo>
                  <a:lnTo>
                    <a:pt x="1286" y="0"/>
                  </a:lnTo>
                  <a:lnTo>
                    <a:pt x="1249" y="0"/>
                  </a:lnTo>
                  <a:lnTo>
                    <a:pt x="1211" y="0"/>
                  </a:lnTo>
                  <a:lnTo>
                    <a:pt x="1173" y="2"/>
                  </a:lnTo>
                  <a:lnTo>
                    <a:pt x="1135" y="3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16440" y="2913120"/>
              <a:ext cx="96480" cy="133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33480" bIns="-334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49920" y="2652120"/>
              <a:ext cx="96480" cy="13320"/>
            </a:xfrm>
            <a:prstGeom prst="line">
              <a:avLst/>
            </a:prstGeom>
            <a:ln w="3240">
              <a:solidFill>
                <a:srgbClr val="0099cc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33480" bIns="-334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6960" y="2825640"/>
              <a:ext cx="96840" cy="136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33120" bIns="-331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65040" y="2745360"/>
              <a:ext cx="97200" cy="13680"/>
            </a:xfrm>
            <a:prstGeom prst="line">
              <a:avLst/>
            </a:prstGeom>
            <a:ln w="3240">
              <a:solidFill>
                <a:srgbClr val="0099cc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33120" bIns="-331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819840" y="2781360"/>
            <a:ext cx="1360440" cy="58104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Trebuchet MS"/>
              </a:rPr>
              <a:t>Muestra</a:t>
            </a:r>
            <a:br>
              <a:rPr sz="1200"/>
            </a:b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DDJ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72440" y="2457360"/>
            <a:ext cx="295200" cy="276480"/>
          </a:xfrm>
          <a:custGeom>
            <a:avLst/>
            <a:gdLst>
              <a:gd name="textAreaLeft" fmla="*/ 46080 w 295200"/>
              <a:gd name="textAreaRight" fmla="*/ 258480 w 295200"/>
              <a:gd name="textAreaTop" fmla="*/ 69120 h 276480"/>
              <a:gd name="textAreaBottom" fmla="*/ 207360 h 276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48160" y="2320560"/>
            <a:ext cx="1495440" cy="1565640"/>
            <a:chOff x="3548160" y="2320560"/>
            <a:chExt cx="1495440" cy="1565640"/>
          </a:xfrm>
        </p:grpSpPr>
        <p:grpSp>
          <p:nvGrpSpPr>
            <p:cNvPr id="136" name=""/>
            <p:cNvGrpSpPr/>
            <p:nvPr/>
          </p:nvGrpSpPr>
          <p:grpSpPr>
            <a:xfrm>
              <a:off x="3548160" y="2320560"/>
              <a:ext cx="1495440" cy="927360"/>
              <a:chOff x="3548160" y="2320560"/>
              <a:chExt cx="1495440" cy="92736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3548160" y="2333520"/>
                <a:ext cx="1495440" cy="914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743280" y="2320200"/>
                <a:ext cx="1104840" cy="6764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606840" y="3305160"/>
              <a:ext cx="1360440" cy="58104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rebuchet MS"/>
                </a:rPr>
                <a:t>Ultima DDJJ OK 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rebuchet MS"/>
                </a:rPr>
                <a:t>+ novedades = nueva DDJ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102120" y="1660680"/>
            <a:ext cx="2503440" cy="968400"/>
            <a:chOff x="3102120" y="1660680"/>
            <a:chExt cx="2503440" cy="968400"/>
          </a:xfrm>
        </p:grpSpPr>
        <p:sp>
          <p:nvSpPr>
            <p:cNvPr id="141" name=""/>
            <p:cNvSpPr/>
            <p:nvPr/>
          </p:nvSpPr>
          <p:spPr>
            <a:xfrm>
              <a:off x="3102120" y="1660680"/>
              <a:ext cx="1211040" cy="968400"/>
            </a:xfrm>
            <a:prstGeom prst="flowChartMagneticDisk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Trebuchet MS"/>
                </a:rPr>
                <a:t>Mi </a:t>
              </a:r>
              <a:br>
                <a:rPr sz="1100"/>
              </a:br>
              <a:r>
                <a:rPr b="1" lang="es-ES" sz="1100" spc="-1" strike="noStrike">
                  <a:solidFill>
                    <a:srgbClr val="ffffff"/>
                  </a:solidFill>
                  <a:latin typeface="Trebuchet MS"/>
                </a:rPr>
                <a:t>Simplific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94160" y="1660680"/>
              <a:ext cx="1211400" cy="968400"/>
            </a:xfrm>
            <a:prstGeom prst="flowChartMagneticDisk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Trebuchet MS"/>
                </a:rPr>
                <a:t>Base DDJJ Seguridad Soci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851520" y="3441600"/>
            <a:ext cx="1293840" cy="1197000"/>
            <a:chOff x="6851520" y="3441600"/>
            <a:chExt cx="1293840" cy="1197000"/>
          </a:xfrm>
        </p:grpSpPr>
        <p:sp>
          <p:nvSpPr>
            <p:cNvPr id="121" name=""/>
            <p:cNvSpPr/>
            <p:nvPr/>
          </p:nvSpPr>
          <p:spPr>
            <a:xfrm>
              <a:off x="6851520" y="3772080"/>
              <a:ext cx="1293840" cy="866520"/>
            </a:xfrm>
            <a:prstGeom prst="flowChartDecision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00"/>
                  </a:solidFill>
                  <a:latin typeface="Geometr231 Hv BT"/>
                </a:rPr>
                <a:t>Acepta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Geometr231 Hv BT"/>
                </a:rPr>
                <a:t>DDJJ proforma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 rot="5400000">
              <a:off x="7381800" y="3450960"/>
              <a:ext cx="295200" cy="276120"/>
            </a:xfrm>
            <a:custGeom>
              <a:avLst/>
              <a:gdLst>
                <a:gd name="textAreaLeft" fmla="*/ 46080 w 295200"/>
                <a:gd name="textAreaRight" fmla="*/ 258480 w 295200"/>
                <a:gd name="textAreaTop" fmla="*/ 68760 h 276120"/>
                <a:gd name="textAreaBottom" fmla="*/ 207000 h 2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81520" y="257040"/>
            <a:ext cx="3213360" cy="6462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2496960" y="3090960"/>
            <a:ext cx="319320" cy="10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25400" y="1320840"/>
            <a:ext cx="7824960" cy="3528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*Genera  F931 original o rectificativo 2-2007 y sigu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487680" cy="15548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56800" y="3254400"/>
            <a:ext cx="230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3320" y="1851120"/>
            <a:ext cx="7721640" cy="3528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*Genera  F931 sin Cu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040" y="4494240"/>
            <a:ext cx="7750080" cy="3528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*Genera  F931 original sin presentacion del mes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60" y="5000760"/>
            <a:ext cx="7766280" cy="7704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Requiere Datos del empl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Haber cumplido con miSimpl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800" y="2457360"/>
            <a:ext cx="8359920" cy="1647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Permite informar las retenciones sufridas a cuenta de contrib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Permite informar las percepciones sufridas al comprar v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Permite modificar Datos de empleador (tipo de empleador por e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Permite imprimir el reporte todos los CU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Permite reimprimir reportes de F931 generados desde suDecl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Geometr231 Hv BT"/>
              </a:rPr>
              <a:t>Permite importar archivo 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2760" y="298440"/>
            <a:ext cx="545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7440" y="914400"/>
            <a:ext cx="1085760" cy="1352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567400" y="333360"/>
            <a:ext cx="3213000" cy="6462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6400800" y="1238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78240" y="1076400"/>
            <a:ext cx="3369960" cy="352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Di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0200" y="1685880"/>
            <a:ext cx="3714840" cy="352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PC: SIAP +SI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65840" y="1711440"/>
            <a:ext cx="3171600" cy="611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PC: conectada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520" y="2320920"/>
            <a:ext cx="3738600" cy="611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Mantener actualizadas las versiones de los aplic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65840" y="2327400"/>
            <a:ext cx="3166920" cy="611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AFIP mantiene la actualización en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10120" y="3476520"/>
            <a:ext cx="3166920" cy="352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AFIP efectúa los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680" y="3483000"/>
            <a:ext cx="3738600" cy="352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Resguardo de los arch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360" y="4314960"/>
            <a:ext cx="3700440" cy="352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Generar y enviar arch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4086360"/>
            <a:ext cx="3166920" cy="611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AFIP confecciona y envía “on l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2600" y="5210280"/>
            <a:ext cx="3643200" cy="611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Pueden omitirse novedades de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67360" y="5000760"/>
            <a:ext cx="3166920" cy="1388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Geometr231 Hv BT"/>
              </a:rPr>
              <a:t>AFIP NO OMITE: copia F931 anterior,  revisa miSimplificación y agrega y elimina regi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18960" y="816120"/>
            <a:ext cx="8452080" cy="5843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55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La aplicación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BUSCA ORIGINAL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65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Trebuchet MS"/>
              </a:rPr>
              <a:t>NO encuentra: </a:t>
            </a:r>
            <a:r>
              <a:rPr b="0" i="1" lang="es-AR" sz="2400" spc="-1" strike="noStrike">
                <a:solidFill>
                  <a:srgbClr val="3333cc"/>
                </a:solidFill>
                <a:latin typeface="Trebuchet MS"/>
              </a:rPr>
              <a:t>Genera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65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Trebuchet MS"/>
              </a:rPr>
              <a:t>Encuentra: 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ORIGINAL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Genera Rect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REVISA 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las ALTAS de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“miSimplificación”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ELIMINA 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las BAJAS de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“miSimplificación”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del periodo anterior –QUE PUDIERAN SURGI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PERMITE MODIFICAR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ó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ACEPTAR </a:t>
            </a:r>
            <a:r>
              <a:rPr b="0" lang="es-ES" sz="2400" spc="-1" strike="noStrike">
                <a:solidFill>
                  <a:srgbClr val="3333cc"/>
                </a:solidFill>
                <a:latin typeface="Geometr231 Hv BT"/>
              </a:rPr>
              <a:t>los datos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“en line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Resta: 1-Enviar, 2-imprimir acuse de recibo                                                                                                                              3- generar el VEP y      4- abonar –si pued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760" y="260280"/>
            <a:ext cx="543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92600" y="266760"/>
            <a:ext cx="3551400" cy="6714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286000" y="2400480"/>
            <a:ext cx="95400" cy="5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0080" bIns="100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530360" y="2717280"/>
            <a:ext cx="133344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27720" bIns="-277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69880" y="1998360"/>
            <a:ext cx="139068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27720" bIns="-277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8960" y="1531800"/>
            <a:ext cx="8452080" cy="4536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Trebuchet MS"/>
              </a:rPr>
              <a:t>F931 SIN CUILES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 La aplicación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COPIA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 el F931 del periodo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NO ENCUENTRA 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ALTAS en el periodo en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“miSimplificació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BUSCA  en “miSimplificación” las BAJAS del periodo anterior y ELIMINA los CU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Resta: 1- Enviar, 2- imprimir el acuse de reci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2760" y="260280"/>
            <a:ext cx="543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592600" y="266760"/>
            <a:ext cx="3551400" cy="6714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498600" y="903240"/>
            <a:ext cx="2242440" cy="404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Geometr231 Hv BT"/>
              </a:rPr>
              <a:t>DESCRIP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8960" y="2293920"/>
            <a:ext cx="8452080" cy="409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La aplicación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COPIA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 el F931 </a:t>
            </a:r>
            <a:r>
              <a:rPr b="0" lang="es-AR" sz="2400" spc="-1" strike="noStrike">
                <a:solidFill>
                  <a:srgbClr val="3333cc"/>
                </a:solidFill>
                <a:latin typeface="Trebuchet MS"/>
              </a:rPr>
              <a:t>original o rectificativo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Busca 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ALTAS </a:t>
            </a:r>
            <a:r>
              <a:rPr b="0" lang="es-AR" sz="2400" spc="-1" strike="noStrike">
                <a:solidFill>
                  <a:srgbClr val="3333cc"/>
                </a:solidFill>
                <a:latin typeface="Trebuchet MS"/>
              </a:rPr>
              <a:t>d/p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eriodo</a:t>
            </a:r>
            <a:r>
              <a:rPr b="0" lang="es-AR" sz="2400" spc="-1" strike="noStrike">
                <a:solidFill>
                  <a:srgbClr val="3333cc"/>
                </a:solidFill>
                <a:latin typeface="Trebuchet MS"/>
              </a:rPr>
              <a:t>/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miSimplificación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0" lang="es-AR" sz="2400" spc="-1" strike="noStrike">
                <a:solidFill>
                  <a:srgbClr val="3333cc"/>
                </a:solidFill>
                <a:latin typeface="Trebuchet MS"/>
              </a:rPr>
              <a:t>agrega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CUILES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BUSCA </a:t>
            </a:r>
            <a:r>
              <a:rPr b="0" lang="es-ES" sz="2400" spc="-1" strike="noStrike">
                <a:solidFill>
                  <a:srgbClr val="3333cc"/>
                </a:solidFill>
                <a:latin typeface="Trebuchet MS"/>
              </a:rPr>
              <a:t>BAJAS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informadas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 y ELIMINA</a:t>
            </a:r>
            <a:r>
              <a:rPr b="1" lang="es-AR" sz="2400" spc="-1" strike="noStrike">
                <a:solidFill>
                  <a:srgbClr val="3333cc"/>
                </a:solidFill>
                <a:latin typeface="Trebuchet MS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CU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Aft>
                <a:spcPts val="3600"/>
              </a:spcAft>
              <a:buClr>
                <a:srgbClr val="99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rebuchet MS"/>
              </a:rPr>
              <a:t>Resta: 1- Enviar, 2- imprimir el acuse de reci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760" y="260280"/>
            <a:ext cx="543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cc"/>
                </a:solidFill>
                <a:latin typeface="Garamond"/>
              </a:rPr>
              <a:t>Declaración jurada pro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592600" y="266760"/>
            <a:ext cx="3551400" cy="6714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410400" y="979560"/>
            <a:ext cx="5318280" cy="404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Trebuchet MS"/>
              </a:rPr>
              <a:t>F931 </a:t>
            </a:r>
            <a:r>
              <a:rPr b="1" lang="es-AR" sz="2400" spc="-1" strike="noStrike" u="sng">
                <a:solidFill>
                  <a:srgbClr val="3333cc"/>
                </a:solidFill>
                <a:uFillTx/>
                <a:latin typeface="Trebuchet MS"/>
              </a:rPr>
              <a:t>Rectificativa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rebuchet MS"/>
              </a:rPr>
              <a:t>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Geometr231 Hv BT"/>
              </a:rPr>
              <a:t>Sin Retenciones</a:t>
            </a:r>
            <a:r>
              <a:rPr b="1" lang="es-ES_tradnl" sz="2400" spc="-1" strike="noStrike">
                <a:solidFill>
                  <a:srgbClr val="3333cc"/>
                </a:solidFill>
                <a:latin typeface="Geometr231 Hv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7:48:46Z</dcterms:created>
  <dc:creator>AFIP</dc:creator>
  <dc:description/>
  <dc:language>en-US</dc:language>
  <cp:lastModifiedBy>a</cp:lastModifiedBy>
  <cp:lastPrinted>2005-11-18T12:40:59Z</cp:lastPrinted>
  <dcterms:modified xsi:type="dcterms:W3CDTF">2008-07-02T19:26:10Z</dcterms:modified>
  <cp:revision>397</cp:revision>
  <dc:subject/>
  <dc:title>Sin título de diapositiva</dc:title>
</cp:coreProperties>
</file>