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0.xml.rels" ContentType="application/vnd.openxmlformats-package.relationships+xml"/>
  <Override PartName="/ppt/notesSlides/notesSlide8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8.wmf" ContentType="image/x-wmf"/>
  <Override PartName="/ppt/media/image36.wmf" ContentType="image/x-wmf"/>
  <Override PartName="/ppt/media/image79.png" ContentType="image/png"/>
  <Override PartName="/ppt/media/image35.wmf" ContentType="image/x-wmf"/>
  <Override PartName="/ppt/media/image78.png" ContentType="image/png"/>
  <Override PartName="/ppt/media/image34.wmf" ContentType="image/x-wmf"/>
  <Override PartName="/ppt/media/image77.png" ContentType="image/png"/>
  <Override PartName="/ppt/media/image33.wmf" ContentType="image/x-wmf"/>
  <Override PartName="/ppt/media/image76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3.gif" ContentType="image/gif"/>
  <Override PartName="/ppt/media/image86.png" ContentType="image/png"/>
  <Override PartName="/ppt/media/image13.png" ContentType="image/png"/>
  <Override PartName="/ppt/media/image1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40.wmf" ContentType="image/x-wmf"/>
  <Override PartName="/ppt/media/image6.png" ContentType="image/png"/>
  <Override PartName="/ppt/media/image18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2.wmf" ContentType="image/x-wmf"/>
  <Override PartName="/ppt/media/image75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107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F83E-E1D3-4F44-9FC4-7C17AFD4CD6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8A44-D513-4F91-AD94-A35ECE85C61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7787-C946-4343-956D-C89ECA73F52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1ADB-1315-4F67-BC05-EF8CE601CC0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8832-E875-42AB-8DD4-D904E6E72A4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7EBA-CC3F-4B7A-AB08-51A9F26E341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00C2-23BE-45A9-83FD-667BCCE3E89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B116-E4F0-4FB5-B9C3-7AE83178E52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080E-9B31-4116-8ED7-7FCE9B59F9D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C1E8-5488-431F-98C8-13429C80E64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838E-2130-4473-8E74-D7BA04451DA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A5D3-D5B8-42EE-BA8B-EF04FB58290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3652-17F3-4F1F-A951-F1FEA5C7590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92D3-6FE0-4C16-B00C-28BF6BA083C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1D1E-9BC4-4A16-9AE8-C3BA1216655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710B-4D49-4192-A936-94940D93CFB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F8F5-A773-4244-9518-0AE99F043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8F18-B8B8-416B-9C61-1B5633DC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A3CA-8E04-4AAB-A90B-28AF49AB3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0711-7109-4E1F-84E2-EA3F51C61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C9AC-33B5-474B-B553-8C16A84A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9DE3-84E9-40C4-AFA3-A52703BB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7D2E-7538-4484-88E3-F70FB167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9718-CCA1-4A83-81A6-DC500361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7E62-B831-4740-9CC6-66D056E1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0012-793B-4F07-B64C-FB8F556D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7075-F095-41E0-B7D9-B54D3DF9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AF09-0788-445E-8674-656EAC83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415E-3782-450A-8BD4-3EB620A6A357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8.png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30.png"/><Relationship Id="rId14" Type="http://schemas.openxmlformats.org/officeDocument/2006/relationships/oleObject" Target="../embeddings/oleObject2.bin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26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8.png"/><Relationship Id="rId10" Type="http://schemas.openxmlformats.org/officeDocument/2006/relationships/package" Target="../embeddings/oleObject2.xlsx"/><Relationship Id="rId11" Type="http://schemas.openxmlformats.org/officeDocument/2006/relationships/image" Target="../media/image32.wmf"/><Relationship Id="rId12" Type="http://schemas.openxmlformats.org/officeDocument/2006/relationships/package" Target="../embeddings/oleObject3.xlsx"/><Relationship Id="rId13" Type="http://schemas.openxmlformats.org/officeDocument/2006/relationships/image" Target="../media/image33.wmf"/><Relationship Id="rId14" Type="http://schemas.openxmlformats.org/officeDocument/2006/relationships/package" Target="../embeddings/oleObject4.xlsx"/><Relationship Id="rId15" Type="http://schemas.openxmlformats.org/officeDocument/2006/relationships/image" Target="../media/image34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30.png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1.png"/><Relationship Id="rId2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26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8.png"/><Relationship Id="rId10" Type="http://schemas.openxmlformats.org/officeDocument/2006/relationships/package" Target="../embeddings/oleObject2.xlsx"/><Relationship Id="rId11" Type="http://schemas.openxmlformats.org/officeDocument/2006/relationships/image" Target="../media/image35.wmf"/><Relationship Id="rId12" Type="http://schemas.openxmlformats.org/officeDocument/2006/relationships/package" Target="../embeddings/oleObject3.xlsx"/><Relationship Id="rId13" Type="http://schemas.openxmlformats.org/officeDocument/2006/relationships/image" Target="../media/image36.wmf"/><Relationship Id="rId14" Type="http://schemas.openxmlformats.org/officeDocument/2006/relationships/image" Target="../media/image37.png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30.png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26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8.png"/><Relationship Id="rId10" Type="http://schemas.openxmlformats.org/officeDocument/2006/relationships/package" Target="../embeddings/oleObject2.xlsx"/><Relationship Id="rId11" Type="http://schemas.openxmlformats.org/officeDocument/2006/relationships/image" Target="../media/image38.wmf"/><Relationship Id="rId12" Type="http://schemas.openxmlformats.org/officeDocument/2006/relationships/image" Target="../media/image39.png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30.png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26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8.png"/><Relationship Id="rId10" Type="http://schemas.openxmlformats.org/officeDocument/2006/relationships/package" Target="../embeddings/oleObject2.xlsx"/><Relationship Id="rId11" Type="http://schemas.openxmlformats.org/officeDocument/2006/relationships/image" Target="../media/image40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30.png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image" Target="../media/image6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8.png"/><Relationship Id="rId13" Type="http://schemas.openxmlformats.org/officeDocument/2006/relationships/image" Target="../media/image78.png"/><Relationship Id="rId14" Type="http://schemas.openxmlformats.org/officeDocument/2006/relationships/image" Target="../media/image79.png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gif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3.gif"/><Relationship Id="rId6" Type="http://schemas.openxmlformats.org/officeDocument/2006/relationships/slideLayout" Target="../slideLayouts/slideLayout8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107.png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762120" y="260280"/>
          <a:ext cx="7315200" cy="9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0280"/>
                    <a:ext cx="731520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" name=""/>
          <p:cNvGrpSpPr/>
          <p:nvPr/>
        </p:nvGrpSpPr>
        <p:grpSpPr>
          <a:xfrm>
            <a:off x="232200" y="1544400"/>
            <a:ext cx="8671320" cy="2833920"/>
            <a:chOff x="232200" y="1544400"/>
            <a:chExt cx="8671320" cy="2833920"/>
          </a:xfrm>
        </p:grpSpPr>
        <p:cxnSp>
          <p:nvCxnSpPr>
            <p:cNvPr id="51" name="_s245787"/>
            <p:cNvCxnSpPr>
              <a:stCxn id="52" idx="0"/>
              <a:endCxn id="53" idx="2"/>
            </p:cNvCxnSpPr>
            <p:nvPr/>
          </p:nvCxnSpPr>
          <p:spPr>
            <a:xfrm flipV="1" rot="16200000">
              <a:off x="5889960" y="914400"/>
              <a:ext cx="228960" cy="2872800"/>
            </a:xfrm>
            <a:prstGeom prst="bentConnector5">
              <a:avLst>
                <a:gd name="adj1" fmla="val 101259"/>
                <a:gd name="adj2" fmla="val -50933"/>
                <a:gd name="adj3" fmla="val -4403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245788"/>
            <p:cNvCxnSpPr>
              <a:stCxn id="55" idx="0"/>
              <a:endCxn id="53" idx="2"/>
            </p:cNvCxnSpPr>
            <p:nvPr/>
          </p:nvCxnSpPr>
          <p:spPr>
            <a:xfrm flipH="1" flipV="1" rot="5400000">
              <a:off x="4453200" y="2350800"/>
              <a:ext cx="228960" cy="7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245789"/>
            <p:cNvCxnSpPr>
              <a:stCxn id="57" idx="0"/>
              <a:endCxn id="53" idx="2"/>
            </p:cNvCxnSpPr>
            <p:nvPr/>
          </p:nvCxnSpPr>
          <p:spPr>
            <a:xfrm flipH="1" flipV="1" rot="5400000">
              <a:off x="3016800" y="914400"/>
              <a:ext cx="228960" cy="2873520"/>
            </a:xfrm>
            <a:prstGeom prst="bentConnector5">
              <a:avLst>
                <a:gd name="adj1" fmla="val 101259"/>
                <a:gd name="adj2" fmla="val -50908"/>
                <a:gd name="adj3" fmla="val -4403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3" name="_s245790"/>
            <p:cNvSpPr/>
            <p:nvPr/>
          </p:nvSpPr>
          <p:spPr>
            <a:xfrm>
              <a:off x="2727000" y="1544400"/>
              <a:ext cx="3682080" cy="692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840" rIns="8784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3500" spc="-1" strike="noStrike">
                  <a:solidFill>
                    <a:srgbClr val="333399"/>
                  </a:solidFill>
                  <a:latin typeface="Arial"/>
                </a:rPr>
                <a:t>ALTERNATIVAS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245791"/>
            <p:cNvSpPr/>
            <p:nvPr/>
          </p:nvSpPr>
          <p:spPr>
            <a:xfrm>
              <a:off x="463680" y="2465280"/>
              <a:ext cx="2462400" cy="774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840" rIns="8784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3800" spc="-1" strike="noStrike">
                  <a:solidFill>
                    <a:srgbClr val="333399"/>
                  </a:solidFill>
                  <a:latin typeface="Arial"/>
                </a:rPr>
                <a:t>ON LINE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245792"/>
            <p:cNvSpPr/>
            <p:nvPr/>
          </p:nvSpPr>
          <p:spPr>
            <a:xfrm>
              <a:off x="3336480" y="2465280"/>
              <a:ext cx="2462400" cy="774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840" rIns="8784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3800" spc="-1" strike="noStrike">
                  <a:solidFill>
                    <a:srgbClr val="333399"/>
                  </a:solidFill>
                  <a:latin typeface="Arial"/>
                </a:rPr>
                <a:t>OFF LINE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245793"/>
            <p:cNvSpPr/>
            <p:nvPr/>
          </p:nvSpPr>
          <p:spPr>
            <a:xfrm>
              <a:off x="6209280" y="2465280"/>
              <a:ext cx="2462400" cy="774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840" rIns="8784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4000" spc="-1" strike="noStrike">
                  <a:solidFill>
                    <a:srgbClr val="333399"/>
                  </a:solidFill>
                  <a:latin typeface="Arial"/>
                </a:rPr>
                <a:t>F.885N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33120" y="3657600"/>
              <a:ext cx="1726920" cy="72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3600" spc="-1" strike="noStrike">
                  <a:solidFill>
                    <a:srgbClr val="333399"/>
                  </a:solidFill>
                  <a:latin typeface="Arial"/>
                </a:rPr>
                <a:t>F.93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403280" y="3645000"/>
            <a:ext cx="3148200" cy="2173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00720" y="3716280"/>
            <a:ext cx="7128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838400" y="4781520"/>
            <a:ext cx="2800440" cy="927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3676680"/>
            <a:ext cx="1587600" cy="66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333399"/>
                </a:solidFill>
                <a:latin typeface="Arial"/>
              </a:rPr>
              <a:t>F.9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93892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64200" y="4282920"/>
            <a:ext cx="16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59640" y="4149720"/>
            <a:ext cx="215892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333399"/>
                </a:solidFill>
                <a:latin typeface="Arial"/>
              </a:rPr>
              <a:t>AG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486560" y="3278160"/>
            <a:ext cx="38160" cy="798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00640" y="3219480"/>
            <a:ext cx="57240" cy="495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33840" y="4343400"/>
            <a:ext cx="76320" cy="1085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5181480"/>
            <a:ext cx="3940200" cy="129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Arial"/>
              </a:rPr>
              <a:t>NOVED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32004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320040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3352680"/>
            <a:ext cx="304812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44197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724280" y="4800600"/>
            <a:ext cx="281952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2209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814320" y="457200"/>
          <a:ext cx="802476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4320" y="457200"/>
                    <a:ext cx="802476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410080" y="476280"/>
          <a:ext cx="2928960" cy="75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476280"/>
                    <a:ext cx="292896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 flipH="1" flipV="1">
            <a:off x="5076720" y="5950080"/>
            <a:ext cx="3672000" cy="90792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24720" cy="5905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H="1" flipV="1">
            <a:off x="4859280" y="4868640"/>
            <a:ext cx="3673440" cy="198900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7956720" y="4436640"/>
            <a:ext cx="576000" cy="242100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7715160" cy="536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5410080" y="404640"/>
          <a:ext cx="2743200" cy="72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404640"/>
                    <a:ext cx="27432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963720" y="457200"/>
          <a:ext cx="772308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3720" y="457200"/>
                    <a:ext cx="772308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5796000" y="549360"/>
          <a:ext cx="274320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6000" y="549360"/>
                    <a:ext cx="274320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622280" y="5799240"/>
            <a:ext cx="5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.1.1.4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24000" y="404640"/>
          <a:ext cx="8496000" cy="612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4640"/>
                    <a:ext cx="849600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 flipH="1" flipV="1">
            <a:off x="3276720" y="1628280"/>
            <a:ext cx="5410080" cy="317196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7092720" y="1844280"/>
            <a:ext cx="1655640" cy="302436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534520" cy="60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685800" y="380880"/>
            <a:ext cx="7918200" cy="6216480"/>
            <a:chOff x="685800" y="380880"/>
            <a:chExt cx="7918200" cy="621648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725760" y="6361920"/>
              <a:ext cx="7878240" cy="23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685800" y="380880"/>
              <a:ext cx="7918200" cy="89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3"/>
            <a:stretch/>
          </p:blipFill>
          <p:spPr>
            <a:xfrm>
              <a:off x="3629520" y="1027080"/>
              <a:ext cx="1644840" cy="24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4"/>
            <a:stretch/>
          </p:blipFill>
          <p:spPr>
            <a:xfrm>
              <a:off x="5254200" y="1027080"/>
              <a:ext cx="1644480" cy="24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5"/>
            <a:stretch/>
          </p:blipFill>
          <p:spPr>
            <a:xfrm>
              <a:off x="6898680" y="1027080"/>
              <a:ext cx="1644480" cy="2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8118000" y="6361920"/>
              <a:ext cx="420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P.0.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3" name=""/>
            <p:cNvGraphicFramePr/>
            <p:nvPr/>
          </p:nvGraphicFramePr>
          <p:xfrm>
            <a:off x="808920" y="1437480"/>
            <a:ext cx="79560" cy="8200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08920" y="1437480"/>
                      <a:ext cx="79560" cy="82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5" name=""/>
            <p:cNvGrpSpPr/>
            <p:nvPr/>
          </p:nvGrpSpPr>
          <p:grpSpPr>
            <a:xfrm>
              <a:off x="778320" y="1406520"/>
              <a:ext cx="5469840" cy="933120"/>
              <a:chOff x="778320" y="1406520"/>
              <a:chExt cx="5469840" cy="933120"/>
            </a:xfrm>
          </p:grpSpPr>
          <p:sp>
            <p:nvSpPr>
              <p:cNvPr id="86" name=""/>
              <p:cNvSpPr/>
              <p:nvPr/>
            </p:nvSpPr>
            <p:spPr>
              <a:xfrm>
                <a:off x="806760" y="1437480"/>
                <a:ext cx="5441400" cy="809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333399"/>
                    </a:solidFill>
                    <a:latin typeface="Arial"/>
                  </a:rPr>
                  <a:t>CUIT - CONTRIBUYENTE: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     33-12345678-1 - EMPLEADOR 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333399"/>
                    </a:solidFill>
                    <a:latin typeface="Arial"/>
                  </a:rPr>
                  <a:t>INICIO EMPLEADOR: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             01/01/200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333399"/>
                    </a:solidFill>
                    <a:latin typeface="Arial"/>
                  </a:rPr>
                  <a:t>ART CONTRATADA: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               00019 - BERKLEY INTERNACIONAL ASEGURADORA DE RIESGOS DE TRABAJ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            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(Ingresada por el contribuyente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333399"/>
                    </a:solidFill>
                    <a:latin typeface="Arial"/>
                  </a:rPr>
                  <a:t>FECHA DE CONTRATACION: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01/01/200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87" name=""/>
              <p:cNvGraphicFramePr/>
              <p:nvPr/>
            </p:nvGraphicFramePr>
            <p:xfrm>
              <a:off x="778320" y="1406520"/>
              <a:ext cx="109800" cy="93312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88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778320" y="1406520"/>
                        <a:ext cx="109800" cy="93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89" name=""/>
            <p:cNvSpPr/>
            <p:nvPr/>
          </p:nvSpPr>
          <p:spPr>
            <a:xfrm>
              <a:off x="1132200" y="3161160"/>
              <a:ext cx="324828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725760" y="1263240"/>
              <a:ext cx="7877880" cy="5108040"/>
              <a:chOff x="725760" y="1263240"/>
              <a:chExt cx="7877880" cy="5108040"/>
            </a:xfrm>
          </p:grpSpPr>
          <p:pic>
            <p:nvPicPr>
              <p:cNvPr id="91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25760" y="1263240"/>
                <a:ext cx="7877880" cy="5108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2" name=""/>
              <p:cNvGrpSpPr/>
              <p:nvPr/>
            </p:nvGrpSpPr>
            <p:grpSpPr>
              <a:xfrm>
                <a:off x="766080" y="1437480"/>
                <a:ext cx="5469840" cy="932760"/>
                <a:chOff x="766080" y="1437480"/>
                <a:chExt cx="5469840" cy="93276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794520" y="1468440"/>
                  <a:ext cx="5441400" cy="80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700" spc="-1" strike="noStrike">
                      <a:solidFill>
                        <a:srgbClr val="333399"/>
                      </a:solidFill>
                      <a:latin typeface="Arial"/>
                    </a:rPr>
                    <a:t>CUIT - CONTRIBUYENTE: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         33-12345678-1 - EMPLEADOR 1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700" spc="-1" strike="noStrike">
                      <a:solidFill>
                        <a:srgbClr val="333399"/>
                      </a:solidFill>
                      <a:latin typeface="Arial"/>
                    </a:rPr>
                    <a:t>INICIO EMPLEADOR: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                 01/01/200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700" spc="-1" strike="noStrike">
                      <a:solidFill>
                        <a:srgbClr val="333399"/>
                      </a:solidFill>
                      <a:latin typeface="Arial"/>
                    </a:rPr>
                    <a:t>ART CONTRATADA: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                   00019 - BERKLEY INTERNACIONAL ASEGURADORA DE RIESGOS DE TRABAJ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                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(Ingresada por el contribuyente)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700" spc="-1" strike="noStrike">
                      <a:solidFill>
                        <a:srgbClr val="333399"/>
                      </a:solidFill>
                      <a:latin typeface="Arial"/>
                    </a:rPr>
                    <a:t>FECHA DE CONTRATACION: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    01/01/200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94" name=""/>
                <p:cNvGraphicFramePr/>
                <p:nvPr/>
              </p:nvGraphicFramePr>
              <p:xfrm>
                <a:off x="766080" y="1437480"/>
                <a:ext cx="109800" cy="93276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95" name="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766080" y="1437480"/>
                          <a:ext cx="109800" cy="932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96" name=""/>
          <p:cNvSpPr/>
          <p:nvPr/>
        </p:nvSpPr>
        <p:spPr>
          <a:xfrm>
            <a:off x="6918480" y="417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410080" y="404640"/>
          <a:ext cx="2791080" cy="621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10080" y="404640"/>
                    <a:ext cx="27910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1057320"/>
            <a:ext cx="7391520" cy="4743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38080" y="5791320"/>
            <a:ext cx="7391520" cy="218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800280" y="237960"/>
            <a:ext cx="7429320" cy="828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3562200" y="838080"/>
            <a:ext cx="1543320" cy="228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508644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662940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838080" y="1066680"/>
            <a:ext cx="7391520" cy="4743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412800" y="1981080"/>
            <a:ext cx="229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REGISTRAR  MEDIOS  DE  CONTAC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8"/>
          <a:stretch/>
        </p:blipFill>
        <p:spPr>
          <a:xfrm>
            <a:off x="2743200" y="2362320"/>
            <a:ext cx="3352680" cy="30456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2743200" y="2971800"/>
            <a:ext cx="3352680" cy="457200"/>
          </a:xfrm>
          <a:prstGeom prst="rect">
            <a:avLst/>
          </a:prstGeom>
          <a:solidFill>
            <a:srgbClr val="ddffff">
              <a:alpha val="50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43200" y="3200400"/>
            <a:ext cx="33526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3200" y="3429000"/>
            <a:ext cx="33526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43200" y="2971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Teléfo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81480" y="29862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Comerc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743200" y="2362320"/>
            <a:ext cx="3352680" cy="610200"/>
            <a:chOff x="2743200" y="2362320"/>
            <a:chExt cx="3352680" cy="610200"/>
          </a:xfrm>
        </p:grpSpPr>
        <p:sp>
          <p:nvSpPr>
            <p:cNvPr id="159" name=""/>
            <p:cNvSpPr/>
            <p:nvPr/>
          </p:nvSpPr>
          <p:spPr>
            <a:xfrm>
              <a:off x="2743200" y="2362320"/>
              <a:ext cx="3352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Medios de contacto registrados en nuestra base de dato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743200" y="2635200"/>
              <a:ext cx="3352680" cy="337320"/>
              <a:chOff x="2743200" y="2635200"/>
              <a:chExt cx="3352680" cy="337320"/>
            </a:xfrm>
          </p:grpSpPr>
          <p:sp>
            <p:nvSpPr>
              <p:cNvPr id="161" name=""/>
              <p:cNvSpPr/>
              <p:nvPr/>
            </p:nvSpPr>
            <p:spPr>
              <a:xfrm>
                <a:off x="2743200" y="2635200"/>
                <a:ext cx="609480" cy="337320"/>
              </a:xfrm>
              <a:prstGeom prst="rect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ccecff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800" spc="-1" strike="noStrike">
                    <a:solidFill>
                      <a:srgbClr val="000000"/>
                    </a:solidFill>
                    <a:latin typeface="Arial"/>
                  </a:rPr>
                  <a:t>Medi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352680" y="2635200"/>
                <a:ext cx="1828800" cy="337320"/>
              </a:xfrm>
              <a:prstGeom prst="rect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ccecff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800" spc="-1" strike="noStrike">
                    <a:solidFill>
                      <a:srgbClr val="000000"/>
                    </a:solidFill>
                    <a:latin typeface="Arial"/>
                  </a:rPr>
                  <a:t>Descripció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181480" y="2635200"/>
                <a:ext cx="914400" cy="337320"/>
              </a:xfrm>
              <a:prstGeom prst="rect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ccecff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s-ES_tradnl" sz="800" spc="-1" strike="noStrike">
                    <a:solidFill>
                      <a:srgbClr val="000000"/>
                    </a:solidFill>
                    <a:latin typeface="Arial"/>
                  </a:rPr>
                  <a:t>Tip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"/>
          <p:cNvSpPr/>
          <p:nvPr/>
        </p:nvSpPr>
        <p:spPr>
          <a:xfrm>
            <a:off x="3352680" y="2666880"/>
            <a:ext cx="0" cy="7621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2666880"/>
            <a:ext cx="0" cy="7621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666880"/>
            <a:ext cx="0" cy="7621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298620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4123-45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43200" y="3214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E-Ma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52680" y="321480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elcontribuyente@mail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81480" y="32148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Comerc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24480" y="2666880"/>
            <a:ext cx="685800" cy="457200"/>
          </a:xfrm>
          <a:prstGeom prst="wedgeRoundRectCallout">
            <a:avLst>
              <a:gd name="adj1" fmla="val -86111"/>
              <a:gd name="adj2" fmla="val 43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egistra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aja 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edio 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ontac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143000"/>
            <a:ext cx="5105520" cy="80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CUIT - CONTRIBUYENTE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33-12345678-1 - EMPLEADO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INICIO EMPLEADOR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ART CONTRATADA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00019 - BERKLEY INTERNACIONAL ASEGURADORA DE RIESGOS DE TRABAJ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(Ingresada por el contribuyente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FECHA DE CONTRATACION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722000" y="579924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.1.1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5943600" y="3048120"/>
            <a:ext cx="95400" cy="1141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0"/>
          <a:stretch/>
        </p:blipFill>
        <p:spPr>
          <a:xfrm>
            <a:off x="5943600" y="3276720"/>
            <a:ext cx="95400" cy="114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1"/>
          <a:stretch/>
        </p:blipFill>
        <p:spPr>
          <a:xfrm>
            <a:off x="3733920" y="5410080"/>
            <a:ext cx="1390680" cy="2574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666880" y="4952880"/>
            <a:ext cx="762120" cy="609840"/>
          </a:xfrm>
          <a:prstGeom prst="wedgeRoundRectCallout">
            <a:avLst>
              <a:gd name="adj1" fmla="val 85208"/>
              <a:gd name="adj2" fmla="val 4036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egistra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altas d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edios 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ontac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867280" y="304920"/>
          <a:ext cx="1981440" cy="514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867280" y="304920"/>
                    <a:ext cx="198144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410080" y="333360"/>
          <a:ext cx="2743200" cy="503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410080" y="333360"/>
                    <a:ext cx="27432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622280" y="5799240"/>
            <a:ext cx="5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.1.1.6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497800" cy="61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838080" y="1057320"/>
            <a:ext cx="7391520" cy="4743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762120" y="5715000"/>
            <a:ext cx="7391160" cy="2192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800280" y="237960"/>
            <a:ext cx="7429320" cy="828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3562200" y="838080"/>
            <a:ext cx="1543320" cy="228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508644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662940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7"/>
          <a:stretch/>
        </p:blipFill>
        <p:spPr>
          <a:xfrm>
            <a:off x="838080" y="1066680"/>
            <a:ext cx="7391520" cy="4734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622280" y="5799240"/>
            <a:ext cx="5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.1.2.6.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143000"/>
            <a:ext cx="5105520" cy="80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CUIT - CONTRIBUYENTE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33-12345678-1 - EMPLEADO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INICIO EMPLEADOR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ART CONTRATADA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00019 - BERKLEY INTERNACIONAL ASEGURADORA DE RIESGOS DE TRABAJ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(Ingresada por el contribuyente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FECHA DE CONTRATACION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887400" y="1190520"/>
          <a:ext cx="103320" cy="738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87400" y="1190520"/>
                    <a:ext cx="10332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914400" y="1981080"/>
            <a:ext cx="7197840" cy="179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ONSULTA  DE  DATOS  DEL  PADR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2362320"/>
            <a:ext cx="6621480" cy="1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ersonas fís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442880" y="2585880"/>
          <a:ext cx="4476960" cy="1673280"/>
        </p:xfrm>
        <a:graphic>
          <a:graphicData uri="http://schemas.openxmlformats.org/presentationml/2006/ole">
            <p:oleObj progId="Excel.Sheet.12" r:id="rId10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442880" y="2585880"/>
                    <a:ext cx="447696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1447920" y="4343400"/>
          <a:ext cx="2895480" cy="685800"/>
        </p:xfrm>
        <a:graphic>
          <a:graphicData uri="http://schemas.openxmlformats.org/presentationml/2006/ole">
            <p:oleObj progId="Excel.Sheet.12" r:id="rId12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47920" y="4343400"/>
                    <a:ext cx="2895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648320" y="4343400"/>
          <a:ext cx="2895480" cy="685800"/>
        </p:xfrm>
        <a:graphic>
          <a:graphicData uri="http://schemas.openxmlformats.org/presentationml/2006/ole">
            <p:oleObj progId="Excel.Sheet.12" r:id="rId14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648320" y="4343400"/>
                    <a:ext cx="2895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5867280" y="304920"/>
          <a:ext cx="1981440" cy="514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867280" y="304920"/>
                    <a:ext cx="198144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 flipH="1" flipV="1">
            <a:off x="6172200" y="5791320"/>
            <a:ext cx="417600" cy="3031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410080" y="333360"/>
          <a:ext cx="2743200" cy="5032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410080" y="333360"/>
                    <a:ext cx="27432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 flipH="1" flipV="1">
            <a:off x="4723920" y="2514600"/>
            <a:ext cx="3886200" cy="31240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38080" y="1057320"/>
            <a:ext cx="7391520" cy="4743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838080" y="5791320"/>
            <a:ext cx="7391520" cy="2188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800280" y="237960"/>
            <a:ext cx="7429320" cy="828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562200" y="838080"/>
            <a:ext cx="1543320" cy="2286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508644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662940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7"/>
          <a:stretch/>
        </p:blipFill>
        <p:spPr>
          <a:xfrm>
            <a:off x="838080" y="1057320"/>
            <a:ext cx="7391520" cy="4734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622280" y="5799240"/>
            <a:ext cx="5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.1.2.6.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14400" y="1143000"/>
            <a:ext cx="5105520" cy="80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CUIT - CONTRIBUYENTE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33-12345678-1 - EMPLEADO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INICIO EMPLEADOR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ART CONTRATADA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00019 - BERKLEY INTERNACIONAL ASEGURADORA DE RIESGOS DE TRABAJ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(Ingresada por el contribuyente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FECHA DE CONTRATACION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887400" y="1190520"/>
          <a:ext cx="103320" cy="738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87400" y="1190520"/>
                    <a:ext cx="10332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914400" y="1981080"/>
            <a:ext cx="7197840" cy="179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ONSULTA  DE  DATOS  DEL  PADR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2362320"/>
            <a:ext cx="6621480" cy="1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atos societarios - Personas juríd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143000" y="2590920"/>
          <a:ext cx="6629400" cy="1485720"/>
        </p:xfrm>
        <a:graphic>
          <a:graphicData uri="http://schemas.openxmlformats.org/presentationml/2006/ole">
            <p:oleObj progId="Excel.Sheet.12" r:id="rId10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43000" y="2590920"/>
                    <a:ext cx="662940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1143000" y="4191120"/>
          <a:ext cx="2895480" cy="685800"/>
        </p:xfrm>
        <a:graphic>
          <a:graphicData uri="http://schemas.openxmlformats.org/presentationml/2006/ole">
            <p:oleObj progId="Excel.Sheet.12" r:id="rId12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143000" y="4191120"/>
                    <a:ext cx="2895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" descr=""/>
          <p:cNvPicPr/>
          <p:nvPr/>
        </p:nvPicPr>
        <p:blipFill>
          <a:blip r:embed="rId14"/>
          <a:stretch/>
        </p:blipFill>
        <p:spPr>
          <a:xfrm>
            <a:off x="3886200" y="5486400"/>
            <a:ext cx="1390680" cy="25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"/>
          <p:cNvGraphicFramePr/>
          <p:nvPr/>
        </p:nvGraphicFramePr>
        <p:xfrm>
          <a:off x="5867280" y="304920"/>
          <a:ext cx="1981440" cy="514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867280" y="304920"/>
                    <a:ext cx="198144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5410080" y="333360"/>
          <a:ext cx="2743200" cy="503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10080" y="333360"/>
                    <a:ext cx="27432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 flipH="1" flipV="1">
            <a:off x="5333760" y="2514600"/>
            <a:ext cx="2819160" cy="320040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5409720" y="5638680"/>
            <a:ext cx="2667240" cy="763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38080" y="1047600"/>
            <a:ext cx="7391520" cy="47437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838080" y="5781600"/>
            <a:ext cx="7391520" cy="2192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800280" y="228600"/>
            <a:ext cx="7429320" cy="828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3562200" y="828720"/>
            <a:ext cx="1543320" cy="2286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5086440" y="82872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6629400" y="82872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7"/>
          <a:stretch/>
        </p:blipFill>
        <p:spPr>
          <a:xfrm>
            <a:off x="838080" y="1047600"/>
            <a:ext cx="7391520" cy="4734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7621560" y="578952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.1.2.6.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1133640"/>
            <a:ext cx="5105520" cy="80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CUIT - CONTRIBUYENTE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33-12345678-1 - EMPLEADO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INICIO EMPLEADOR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ART CONTRATADA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00019 - BERKLEY INTERNACIONAL ASEGURADORA DE RIESGOS DE TRABAJ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(Ingresada por el contribuyente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FECHA DE CONTRATACION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887400" y="1181160"/>
          <a:ext cx="103320" cy="738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87400" y="1181160"/>
                    <a:ext cx="10332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914400" y="1971720"/>
            <a:ext cx="7197840" cy="179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ONSULTA  DE  DATOS  DEL  PADR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2352600"/>
            <a:ext cx="6621480" cy="179640"/>
          </a:xfrm>
          <a:prstGeom prst="rect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ridades societarias en ejercicio o componentes sociales según RG 41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143000" y="2576520"/>
          <a:ext cx="6354720" cy="1047600"/>
        </p:xfrm>
        <a:graphic>
          <a:graphicData uri="http://schemas.openxmlformats.org/presentationml/2006/ole">
            <p:oleObj progId="Excel.Sheet.12" r:id="rId10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43000" y="2576520"/>
                    <a:ext cx="635472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8" name="" descr=""/>
          <p:cNvPicPr/>
          <p:nvPr/>
        </p:nvPicPr>
        <p:blipFill>
          <a:blip r:embed="rId12"/>
          <a:stretch/>
        </p:blipFill>
        <p:spPr>
          <a:xfrm>
            <a:off x="3809880" y="5477040"/>
            <a:ext cx="1390680" cy="2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5867280" y="295200"/>
          <a:ext cx="1981440" cy="514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67280" y="295200"/>
                    <a:ext cx="198144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 flipV="1">
            <a:off x="6132600" y="2514240"/>
            <a:ext cx="496800" cy="434340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410080" y="260280"/>
          <a:ext cx="2743200" cy="576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10080" y="260280"/>
                    <a:ext cx="27432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838080" y="1057320"/>
            <a:ext cx="7391520" cy="47433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838080" y="5791320"/>
            <a:ext cx="7391520" cy="2188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800280" y="237960"/>
            <a:ext cx="7429320" cy="8287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3562200" y="838080"/>
            <a:ext cx="1543320" cy="2286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508644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6"/>
          <a:stretch/>
        </p:blipFill>
        <p:spPr>
          <a:xfrm>
            <a:off x="662940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7"/>
          <a:stretch/>
        </p:blipFill>
        <p:spPr>
          <a:xfrm>
            <a:off x="838080" y="1057320"/>
            <a:ext cx="7391520" cy="47433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7722000" y="579924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.1.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143000"/>
            <a:ext cx="5105520" cy="80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CUIT - CONTRIBUYENTE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33-12345678-1 - EMPLEADO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INICIO EMPLEADOR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ART CONTRATADA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00019 - BERKLEY INTERNACIONAL ASEGURADORA DE RIESGOS DE TRABAJ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(Ingresada por el contribuyente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FECHA DE CONTRATACION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887400" y="1190520"/>
          <a:ext cx="103320" cy="738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87400" y="1190520"/>
                    <a:ext cx="10332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914400" y="1981080"/>
            <a:ext cx="7197840" cy="179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ONSULTA  DE  OBRAS  SOCI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1720" y="2362320"/>
            <a:ext cx="5038560" cy="1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etalle de entidades relacionadas con las actividades de la empre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962000" y="2562120"/>
          <a:ext cx="5048280" cy="1171800"/>
        </p:xfrm>
        <a:graphic>
          <a:graphicData uri="http://schemas.openxmlformats.org/presentationml/2006/ole">
            <p:oleObj progId="Excel.Sheet.12" r:id="rId10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62000" y="2562120"/>
                    <a:ext cx="5048280" cy="11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5867280" y="304920"/>
          <a:ext cx="1981440" cy="514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867280" y="304920"/>
                    <a:ext cx="198144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5410080" y="333360"/>
          <a:ext cx="2833920" cy="503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410080" y="333360"/>
                    <a:ext cx="2833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 flipV="1">
            <a:off x="1143000" y="3505320"/>
            <a:ext cx="4191120" cy="3047760"/>
          </a:xfrm>
          <a:prstGeom prst="line">
            <a:avLst/>
          </a:prstGeom>
          <a:ln w="5724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"/>
          <p:cNvGraphicFramePr/>
          <p:nvPr/>
        </p:nvGraphicFramePr>
        <p:xfrm>
          <a:off x="380880" y="304920"/>
          <a:ext cx="829476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2947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5410080" y="333360"/>
          <a:ext cx="319428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333360"/>
                    <a:ext cx="31942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609480" y="380880"/>
          <a:ext cx="7925040" cy="58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7925040" cy="58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5651640" y="404640"/>
          <a:ext cx="2808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404640"/>
                    <a:ext cx="2808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17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V="1">
            <a:off x="2133720" y="3886200"/>
            <a:ext cx="0" cy="26668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2133720" y="5866920"/>
            <a:ext cx="1752480" cy="6858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28600" y="205704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ICIO COMO EMPLE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GISTRAR DOMICILIOS DE EXPLOTAC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GISTRAR OBRA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VENIO COLECTIVO DE TRABAJO O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FUERA D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CONVE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494000" y="274680"/>
          <a:ext cx="615456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0" y="274680"/>
                    <a:ext cx="6154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2485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990720" y="4343400"/>
            <a:ext cx="7391160" cy="25146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2590560" y="4419360"/>
            <a:ext cx="5715000" cy="24382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8229600" y="4266720"/>
            <a:ext cx="152280" cy="25909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971440" y="4114800"/>
            <a:ext cx="5257800" cy="27432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2590920" y="6324480"/>
            <a:ext cx="5486400" cy="5335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"/>
          <p:cNvGraphicFramePr/>
          <p:nvPr/>
        </p:nvGraphicFramePr>
        <p:xfrm>
          <a:off x="380880" y="517680"/>
          <a:ext cx="8153640" cy="58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17680"/>
                    <a:ext cx="8153640" cy="58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 flipH="1" flipV="1">
            <a:off x="5181480" y="1752120"/>
            <a:ext cx="3633840" cy="44038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609480" y="304920"/>
          <a:ext cx="7925040" cy="59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7925040" cy="59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 flipH="1" flipV="1">
            <a:off x="5105520" y="1523520"/>
            <a:ext cx="3504960" cy="4953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457200" y="380880"/>
          <a:ext cx="822960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2296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 flipH="1" flipV="1">
            <a:off x="4724280" y="1599840"/>
            <a:ext cx="3353040" cy="4800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457200" y="457200"/>
          <a:ext cx="815328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15328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 flipH="1" flipV="1">
            <a:off x="5562360" y="1752120"/>
            <a:ext cx="3276360" cy="44960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895320" y="533520"/>
          <a:ext cx="771516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5320" y="533520"/>
                    <a:ext cx="771516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6191280" cy="52578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2133720" y="457200"/>
            <a:ext cx="6172200" cy="61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96720" y="230040"/>
            <a:ext cx="8359920" cy="47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0" name=""/>
          <p:cNvGraphicFramePr/>
          <p:nvPr/>
        </p:nvGraphicFramePr>
        <p:xfrm>
          <a:off x="609480" y="380880"/>
          <a:ext cx="7925040" cy="58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7925040" cy="58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 flipH="1" flipV="1">
            <a:off x="5638320" y="1599840"/>
            <a:ext cx="2598840" cy="17859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5410080" y="404640"/>
          <a:ext cx="304956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404640"/>
                    <a:ext cx="30495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24000" y="333360"/>
          <a:ext cx="8567640" cy="626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3360"/>
                    <a:ext cx="856764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 flipH="1" flipV="1">
            <a:off x="5076720" y="6092640"/>
            <a:ext cx="1943280" cy="765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410080" y="404640"/>
          <a:ext cx="304956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404640"/>
                    <a:ext cx="30495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873000" y="457200"/>
          <a:ext cx="789012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3000" y="457200"/>
                    <a:ext cx="78901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 flipH="1" flipV="1">
            <a:off x="7924680" y="4114440"/>
            <a:ext cx="914400" cy="2438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5410080" y="476280"/>
          <a:ext cx="319428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476280"/>
                    <a:ext cx="319428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4479840" y="2779560"/>
            <a:ext cx="18432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533520" y="457200"/>
          <a:ext cx="822960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7200"/>
                    <a:ext cx="82296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5508720" y="476280"/>
          <a:ext cx="3265560" cy="60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476280"/>
                    <a:ext cx="326556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 flipH="1" flipV="1">
            <a:off x="3352320" y="4266720"/>
            <a:ext cx="5410440" cy="259092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3428640" y="4572000"/>
            <a:ext cx="5257800" cy="228600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3428640" y="4876560"/>
            <a:ext cx="5334120" cy="198108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3428640" y="5105520"/>
            <a:ext cx="5257800" cy="175248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228600" y="260280"/>
            <a:ext cx="7324560" cy="62215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1523880" y="795240"/>
            <a:ext cx="700884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"/>
          <p:cNvGraphicFramePr/>
          <p:nvPr/>
        </p:nvGraphicFramePr>
        <p:xfrm>
          <a:off x="873000" y="457200"/>
          <a:ext cx="789012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3000" y="457200"/>
                    <a:ext cx="78901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 flipH="1" flipV="1">
            <a:off x="8077320" y="4114440"/>
            <a:ext cx="761760" cy="2438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5940360" y="476280"/>
          <a:ext cx="274320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476280"/>
                    <a:ext cx="274320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934920" y="457200"/>
          <a:ext cx="767556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4920" y="457200"/>
                    <a:ext cx="767556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 flipH="1" flipV="1">
            <a:off x="5333760" y="2666880"/>
            <a:ext cx="3276360" cy="33530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5508720" y="476280"/>
          <a:ext cx="3168720" cy="60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476280"/>
                    <a:ext cx="316872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 flipH="1" flipV="1">
            <a:off x="7924680" y="4952880"/>
            <a:ext cx="609840" cy="106704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873000" y="457200"/>
          <a:ext cx="789012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3000" y="457200"/>
                    <a:ext cx="78901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 flipH="1" flipV="1">
            <a:off x="8381520" y="4266720"/>
            <a:ext cx="762120" cy="22100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5940360" y="549360"/>
          <a:ext cx="2743200" cy="60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549360"/>
                    <a:ext cx="274320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" name=""/>
          <p:cNvGraphicFramePr/>
          <p:nvPr/>
        </p:nvGraphicFramePr>
        <p:xfrm>
          <a:off x="876240" y="457200"/>
          <a:ext cx="773424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457200"/>
                    <a:ext cx="773424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 flipH="1" flipV="1">
            <a:off x="5105160" y="1905120"/>
            <a:ext cx="3276360" cy="350496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5866920" y="5486400"/>
            <a:ext cx="2514600" cy="763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467480" cy="55627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914400" y="2057400"/>
            <a:ext cx="739152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REGISTRAR ANULACIONES DE B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447920" y="2362320"/>
            <a:ext cx="6400800" cy="231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eleccione CONFIRMAR para dar curso o CANCELAR, en caso contrar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 flipV="1">
            <a:off x="6095520" y="2209680"/>
            <a:ext cx="2667240" cy="4267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5334120" y="2514600"/>
            <a:ext cx="914400" cy="28954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5410080" y="476280"/>
          <a:ext cx="2743200" cy="50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476280"/>
                    <a:ext cx="27432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"/>
          <p:cNvGraphicFramePr/>
          <p:nvPr/>
        </p:nvGraphicFramePr>
        <p:xfrm>
          <a:off x="5943600" y="733320"/>
          <a:ext cx="198108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733320"/>
                    <a:ext cx="198108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395280" y="1052640"/>
            <a:ext cx="8497800" cy="547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2" name=""/>
          <p:cNvGraphicFramePr/>
          <p:nvPr/>
        </p:nvGraphicFramePr>
        <p:xfrm>
          <a:off x="5410080" y="549360"/>
          <a:ext cx="3409920" cy="503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10080" y="549360"/>
                    <a:ext cx="3409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274680"/>
            <a:ext cx="8496000" cy="6178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H="1" flipV="1">
            <a:off x="2771640" y="2852280"/>
            <a:ext cx="5616720" cy="352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20000" cy="53294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 flipH="1" flipV="1">
            <a:off x="7956720" y="4941360"/>
            <a:ext cx="1371600" cy="213372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5435640" y="981000"/>
          <a:ext cx="3240000" cy="79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35640" y="981000"/>
                    <a:ext cx="324000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380880" y="1347840"/>
            <a:ext cx="7815240" cy="51292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 flipV="1">
            <a:off x="5410080" y="4419720"/>
            <a:ext cx="914400" cy="167616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3428640" y="5181480"/>
            <a:ext cx="1981080" cy="9144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3047760" y="5486040"/>
            <a:ext cx="2438280" cy="6858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2666880" y="5715000"/>
            <a:ext cx="2743200" cy="4572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7315200" y="5257440"/>
            <a:ext cx="1828800" cy="16002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7391520" y="5943600"/>
            <a:ext cx="1752480" cy="9144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3962160" y="4800240"/>
            <a:ext cx="5181480" cy="20574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5867280" y="685800"/>
          <a:ext cx="205740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685800"/>
                    <a:ext cx="20574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304920" y="380880"/>
            <a:ext cx="8381880" cy="609624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 flipH="1" flipV="1">
            <a:off x="2666880" y="4800600"/>
            <a:ext cx="60962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8915400" cy="58338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 flipH="1" flipV="1">
            <a:off x="4495680" y="3962160"/>
            <a:ext cx="4114800" cy="2895480"/>
          </a:xfrm>
          <a:prstGeom prst="line">
            <a:avLst/>
          </a:prstGeom>
          <a:ln w="5724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3276720" y="4038480"/>
            <a:ext cx="5333760" cy="2819520"/>
          </a:xfrm>
          <a:prstGeom prst="line">
            <a:avLst/>
          </a:prstGeom>
          <a:ln w="5724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604872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 flipH="1" flipV="1">
            <a:off x="6227640" y="3789360"/>
            <a:ext cx="2586240" cy="5428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 flipV="1">
            <a:off x="7667280" y="3787920"/>
            <a:ext cx="1111320" cy="5443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4140000" y="3933360"/>
            <a:ext cx="4770360" cy="3985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 flipV="1">
            <a:off x="8101080" y="3644640"/>
            <a:ext cx="650880" cy="7095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651280" y="4286160"/>
            <a:ext cx="3157560" cy="6480"/>
          </a:xfrm>
          <a:prstGeom prst="line">
            <a:avLst/>
          </a:prstGeom>
          <a:ln w="572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4978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562880" cy="34290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685800" y="3657600"/>
            <a:ext cx="7562880" cy="28954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 flipH="1" flipV="1">
            <a:off x="7238880" y="5562720"/>
            <a:ext cx="1905120" cy="129528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685800" y="228600"/>
            <a:ext cx="75438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912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 flipH="1" flipV="1">
            <a:off x="5579640" y="3573000"/>
            <a:ext cx="3024360" cy="280836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61200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 flipH="1" flipV="1">
            <a:off x="5292720" y="4005360"/>
            <a:ext cx="3851280" cy="285264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6191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H="1" flipV="1">
            <a:off x="4716000" y="5300640"/>
            <a:ext cx="4427640" cy="122400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76240" y="676440"/>
            <a:ext cx="7391520" cy="550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0" name=""/>
          <p:cNvGraphicFramePr/>
          <p:nvPr/>
        </p:nvGraphicFramePr>
        <p:xfrm>
          <a:off x="5943600" y="685800"/>
          <a:ext cx="198108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3600" y="685800"/>
                    <a:ext cx="19810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5508720" y="692280"/>
          <a:ext cx="2743200" cy="50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08720" y="692280"/>
                    <a:ext cx="27432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803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"/>
          <p:cNvGrpSpPr/>
          <p:nvPr/>
        </p:nvGrpSpPr>
        <p:grpSpPr>
          <a:xfrm>
            <a:off x="826920" y="404640"/>
            <a:ext cx="7239240" cy="5772240"/>
            <a:chOff x="826920" y="404640"/>
            <a:chExt cx="7239240" cy="577224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863640" y="5958000"/>
              <a:ext cx="72021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2"/>
            <a:stretch/>
          </p:blipFill>
          <p:spPr>
            <a:xfrm>
              <a:off x="826920" y="404640"/>
              <a:ext cx="723924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3"/>
            <a:stretch/>
          </p:blipFill>
          <p:spPr>
            <a:xfrm>
              <a:off x="3517920" y="1004760"/>
              <a:ext cx="15037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" descr=""/>
            <p:cNvPicPr/>
            <p:nvPr/>
          </p:nvPicPr>
          <p:blipFill>
            <a:blip r:embed="rId4"/>
            <a:stretch/>
          </p:blipFill>
          <p:spPr>
            <a:xfrm>
              <a:off x="5003280" y="1004760"/>
              <a:ext cx="15033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" descr=""/>
            <p:cNvPicPr/>
            <p:nvPr/>
          </p:nvPicPr>
          <p:blipFill>
            <a:blip r:embed="rId5"/>
            <a:stretch/>
          </p:blipFill>
          <p:spPr>
            <a:xfrm>
              <a:off x="6506640" y="1004760"/>
              <a:ext cx="150336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622280" y="5958000"/>
              <a:ext cx="420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P.3.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12" name=""/>
            <p:cNvGraphicFramePr/>
            <p:nvPr/>
          </p:nvGraphicFramePr>
          <p:xfrm>
            <a:off x="939240" y="1386000"/>
            <a:ext cx="72720" cy="7617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1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39240" y="1386000"/>
                      <a:ext cx="72720" cy="76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14" name=""/>
            <p:cNvGrpSpPr/>
            <p:nvPr/>
          </p:nvGrpSpPr>
          <p:grpSpPr>
            <a:xfrm>
              <a:off x="911520" y="1357200"/>
              <a:ext cx="5000760" cy="866880"/>
              <a:chOff x="911520" y="1357200"/>
              <a:chExt cx="5000760" cy="866880"/>
            </a:xfrm>
          </p:grpSpPr>
          <p:sp>
            <p:nvSpPr>
              <p:cNvPr id="415" name=""/>
              <p:cNvSpPr/>
              <p:nvPr/>
            </p:nvSpPr>
            <p:spPr>
              <a:xfrm>
                <a:off x="937800" y="1386000"/>
                <a:ext cx="4974480" cy="809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333399"/>
                    </a:solidFill>
                    <a:latin typeface="Arial"/>
                  </a:rPr>
                  <a:t>CUIT - CONTRIBUYENTE: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     33-12345678-1 - EMPLEADOR 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333399"/>
                    </a:solidFill>
                    <a:latin typeface="Arial"/>
                  </a:rPr>
                  <a:t>INICIO EMPLEADOR: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             01/01/200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333399"/>
                    </a:solidFill>
                    <a:latin typeface="Arial"/>
                  </a:rPr>
                  <a:t>ART CONTRATADA: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               00019 - BERKLEY INTERNACIONAL ASEGURADORA DE RIESGOS DE TRABAJ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            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(Ingresada por el contribuyente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333399"/>
                    </a:solidFill>
                    <a:latin typeface="Arial"/>
                  </a:rPr>
                  <a:t>FECHA DE CONTRATACION: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01/01/200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416" name=""/>
              <p:cNvGraphicFramePr/>
              <p:nvPr/>
            </p:nvGraphicFramePr>
            <p:xfrm>
              <a:off x="911520" y="1357200"/>
              <a:ext cx="100440" cy="86688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417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911520" y="1357200"/>
                        <a:ext cx="100440" cy="866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18" name=""/>
            <p:cNvSpPr/>
            <p:nvPr/>
          </p:nvSpPr>
          <p:spPr>
            <a:xfrm>
              <a:off x="1235160" y="2986200"/>
              <a:ext cx="2969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863640" y="1224000"/>
              <a:ext cx="7202160" cy="4743360"/>
              <a:chOff x="863640" y="1224000"/>
              <a:chExt cx="7202160" cy="474336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63640" y="1224000"/>
                <a:ext cx="7202160" cy="4743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21" name=""/>
              <p:cNvGrpSpPr/>
              <p:nvPr/>
            </p:nvGrpSpPr>
            <p:grpSpPr>
              <a:xfrm>
                <a:off x="900720" y="1386000"/>
                <a:ext cx="5000400" cy="866520"/>
                <a:chOff x="900720" y="1386000"/>
                <a:chExt cx="5000400" cy="86652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927000" y="1414440"/>
                  <a:ext cx="4974120" cy="80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700" spc="-1" strike="noStrike">
                      <a:solidFill>
                        <a:srgbClr val="333399"/>
                      </a:solidFill>
                      <a:latin typeface="Arial"/>
                    </a:rPr>
                    <a:t>CUIT - CONTRIBUYENTE: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         33-12345678-1 - EMPLEADOR 1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700" spc="-1" strike="noStrike">
                      <a:solidFill>
                        <a:srgbClr val="333399"/>
                      </a:solidFill>
                      <a:latin typeface="Arial"/>
                    </a:rPr>
                    <a:t>INICIO EMPLEADOR: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                 01/01/200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700" spc="-1" strike="noStrike">
                      <a:solidFill>
                        <a:srgbClr val="333399"/>
                      </a:solidFill>
                      <a:latin typeface="Arial"/>
                    </a:rPr>
                    <a:t>ART CONTRATADA: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                   00019 - BERKLEY INTERNACIONAL ASEGURADORA DE RIESGOS DE TRABAJ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                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(Ingresada por el contribuyente)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700" spc="-1" strike="noStrike">
                      <a:solidFill>
                        <a:srgbClr val="333399"/>
                      </a:solidFill>
                      <a:latin typeface="Arial"/>
                    </a:rPr>
                    <a:t>FECHA DE CONTRATACION: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    01/01/200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423" name=""/>
                <p:cNvGraphicFramePr/>
                <p:nvPr/>
              </p:nvGraphicFramePr>
              <p:xfrm>
                <a:off x="900720" y="1386000"/>
                <a:ext cx="100440" cy="86652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424" name="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900720" y="1386000"/>
                          <a:ext cx="100440" cy="866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pic>
        <p:nvPicPr>
          <p:cNvPr id="425" name="" descr=""/>
          <p:cNvPicPr/>
          <p:nvPr/>
        </p:nvPicPr>
        <p:blipFill>
          <a:blip r:embed="rId13"/>
          <a:stretch/>
        </p:blipFill>
        <p:spPr>
          <a:xfrm>
            <a:off x="5791320" y="1076400"/>
            <a:ext cx="1523880" cy="152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26" name="" descr=""/>
          <p:cNvPicPr/>
          <p:nvPr/>
        </p:nvPicPr>
        <p:blipFill>
          <a:blip r:embed="rId14"/>
          <a:stretch/>
        </p:blipFill>
        <p:spPr>
          <a:xfrm>
            <a:off x="7315200" y="1076400"/>
            <a:ext cx="1523880" cy="16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aphicFrame>
        <p:nvGraphicFramePr>
          <p:cNvPr id="427" name=""/>
          <p:cNvGraphicFramePr/>
          <p:nvPr/>
        </p:nvGraphicFramePr>
        <p:xfrm>
          <a:off x="5410080" y="333360"/>
          <a:ext cx="2617920" cy="503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10080" y="333360"/>
                    <a:ext cx="2617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"/>
          <p:cNvSpPr/>
          <p:nvPr/>
        </p:nvSpPr>
        <p:spPr>
          <a:xfrm flipV="1">
            <a:off x="1476360" y="1341360"/>
            <a:ext cx="5111640" cy="511344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380440" cy="604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1" name=""/>
          <p:cNvGraphicFramePr/>
          <p:nvPr/>
        </p:nvGraphicFramePr>
        <p:xfrm>
          <a:off x="5410080" y="549360"/>
          <a:ext cx="3265560" cy="57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549360"/>
                    <a:ext cx="326556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"/>
          <p:cNvGraphicFramePr/>
          <p:nvPr/>
        </p:nvGraphicFramePr>
        <p:xfrm>
          <a:off x="5508720" y="692280"/>
          <a:ext cx="2950920" cy="60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692280"/>
                    <a:ext cx="295092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539640" y="260280"/>
            <a:ext cx="8207640" cy="61200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 flipH="1" flipV="1">
            <a:off x="1258560" y="4365360"/>
            <a:ext cx="7885080" cy="20876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864480" y="3344760"/>
            <a:ext cx="1160280" cy="10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903240" y="3381480"/>
            <a:ext cx="2057400" cy="80640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  <p:pic>
        <p:nvPicPr>
          <p:cNvPr id="440" name="j0300520" descr="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844560" y="1797120"/>
            <a:ext cx="2143080" cy="101592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1355760" y="808200"/>
            <a:ext cx="1089000" cy="96984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1312920" y="882720"/>
            <a:ext cx="1181160" cy="36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MI REGIS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259680" y="4883040"/>
            <a:ext cx="1922400" cy="116208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775560" y="4923000"/>
            <a:ext cx="89676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A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280200" y="5324400"/>
            <a:ext cx="19159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BASE DE D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RELACIONE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PERSO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7144560" y="4438440"/>
            <a:ext cx="64440" cy="456120"/>
          </a:xfrm>
          <a:prstGeom prst="straightConnector1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</p:cxnSp>
      <p:pic>
        <p:nvPicPr>
          <p:cNvPr id="447" name="" descr=""/>
          <p:cNvPicPr/>
          <p:nvPr/>
        </p:nvPicPr>
        <p:blipFill>
          <a:blip r:embed="rId4"/>
          <a:stretch/>
        </p:blipFill>
        <p:spPr>
          <a:xfrm>
            <a:off x="7091280" y="3408480"/>
            <a:ext cx="731880" cy="9302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  <p:pic>
        <p:nvPicPr>
          <p:cNvPr id="448" name="j0300520" descr=""/>
          <p:cNvPicPr/>
          <p:nvPr/>
        </p:nvPicPr>
        <p:blipFill>
          <a:blip r:embed="rId5">
            <a:lum bright="40000"/>
          </a:blip>
          <a:stretch/>
        </p:blipFill>
        <p:spPr>
          <a:xfrm>
            <a:off x="5124600" y="3395520"/>
            <a:ext cx="1268280" cy="792360"/>
          </a:xfrm>
          <a:prstGeom prst="rect">
            <a:avLst/>
          </a:prstGeom>
          <a:ln w="0">
            <a:noFill/>
          </a:ln>
        </p:spPr>
      </p:pic>
      <p:cxnSp>
        <p:nvCxnSpPr>
          <p:cNvPr id="449" name=""/>
          <p:cNvCxnSpPr/>
          <p:nvPr/>
        </p:nvCxnSpPr>
        <p:spPr>
          <a:xfrm>
            <a:off x="3049560" y="4094280"/>
            <a:ext cx="3791520" cy="8640"/>
          </a:xfrm>
          <a:prstGeom prst="straightConnector1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450" name=""/>
          <p:cNvCxnSpPr/>
          <p:nvPr/>
        </p:nvCxnSpPr>
        <p:spPr>
          <a:xfrm flipH="1" rot="16200000">
            <a:off x="887400" y="2524680"/>
            <a:ext cx="1797840" cy="25308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451" name=""/>
          <p:cNvCxnSpPr/>
          <p:nvPr/>
        </p:nvCxnSpPr>
        <p:spPr>
          <a:xfrm flipV="1" rot="16200000">
            <a:off x="1190160" y="2498040"/>
            <a:ext cx="1843920" cy="259560"/>
          </a:xfrm>
          <a:prstGeom prst="curvedConnector5">
            <a:avLst>
              <a:gd name="adj1" fmla="val 49951"/>
              <a:gd name="adj2" fmla="val 50000"/>
              <a:gd name="adj3" fmla="val 49951"/>
            </a:avLst>
          </a:prstGeom>
          <a:ln w="7632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452" name=""/>
          <p:cNvCxnSpPr/>
          <p:nvPr/>
        </p:nvCxnSpPr>
        <p:spPr>
          <a:xfrm>
            <a:off x="3036960" y="3840120"/>
            <a:ext cx="3791520" cy="8640"/>
          </a:xfrm>
          <a:prstGeom prst="straightConnector1">
            <a:avLst/>
          </a:prstGeom>
          <a:ln w="76320">
            <a:solidFill>
              <a:srgbClr val="ff0000"/>
            </a:solidFill>
            <a:prstDash val="sysDot"/>
            <a:miter/>
            <a:headEnd len="med" type="triangle" w="med"/>
          </a:ln>
        </p:spPr>
      </p:cxnSp>
      <p:sp>
        <p:nvSpPr>
          <p:cNvPr id="453" name=""/>
          <p:cNvSpPr/>
          <p:nvPr/>
        </p:nvSpPr>
        <p:spPr>
          <a:xfrm>
            <a:off x="3684600" y="3622680"/>
            <a:ext cx="1422360" cy="717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99"/>
                </a:solidFill>
                <a:latin typeface="Arial"/>
                <a:ea typeface="Arial"/>
              </a:rPr>
              <a:t>WEB 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99"/>
                </a:solidFill>
                <a:latin typeface="Arial"/>
                <a:ea typeface="Arial"/>
              </a:rPr>
              <a:t>CONSULTA ON LINE DE VINC. FAMILI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4" name=""/>
          <p:cNvCxnSpPr/>
          <p:nvPr/>
        </p:nvCxnSpPr>
        <p:spPr>
          <a:xfrm flipH="1">
            <a:off x="7437240" y="4414680"/>
            <a:ext cx="64080" cy="456480"/>
          </a:xfrm>
          <a:prstGeom prst="straightConnector1">
            <a:avLst/>
          </a:prstGeom>
          <a:ln w="76320">
            <a:solidFill>
              <a:srgbClr val="006600"/>
            </a:solidFill>
            <a:miter/>
            <a:headEnd len="med" type="triangle" w="med"/>
          </a:ln>
        </p:spPr>
      </p:cxn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886880" cy="54226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 rot="10184400">
            <a:off x="0" y="6019560"/>
            <a:ext cx="1371600" cy="838080"/>
          </a:xfrm>
          <a:prstGeom prst="wedgeEllipseCallout">
            <a:avLst>
              <a:gd name="adj1" fmla="val -81754"/>
              <a:gd name="adj2" fmla="val 12359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lta de vinc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315200" y="3352680"/>
            <a:ext cx="1828800" cy="762120"/>
          </a:xfrm>
          <a:prstGeom prst="wedgeEllipseCallout">
            <a:avLst>
              <a:gd name="adj1" fmla="val -11023"/>
              <a:gd name="adj2" fmla="val 1114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Novedad del vinc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5410080" y="765000"/>
          <a:ext cx="3338640" cy="64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765000"/>
                    <a:ext cx="333864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"/>
          <p:cNvSpPr/>
          <p:nvPr/>
        </p:nvSpPr>
        <p:spPr>
          <a:xfrm flipV="1">
            <a:off x="6248520" y="4952520"/>
            <a:ext cx="1981080" cy="167652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304920" y="404640"/>
            <a:ext cx="8534160" cy="604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2" name=""/>
          <p:cNvGraphicFramePr/>
          <p:nvPr/>
        </p:nvGraphicFramePr>
        <p:xfrm>
          <a:off x="5410080" y="476280"/>
          <a:ext cx="3409920" cy="50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476280"/>
                    <a:ext cx="34099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871560" y="533520"/>
            <a:ext cx="7967520" cy="491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5" name=""/>
          <p:cNvGraphicFramePr/>
          <p:nvPr/>
        </p:nvGraphicFramePr>
        <p:xfrm>
          <a:off x="5410080" y="620640"/>
          <a:ext cx="340992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620640"/>
                    <a:ext cx="34099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"/>
          <p:cNvSpPr/>
          <p:nvPr/>
        </p:nvSpPr>
        <p:spPr>
          <a:xfrm flipH="1" flipV="1">
            <a:off x="1447920" y="3809880"/>
            <a:ext cx="6705360" cy="236232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610840" cy="61722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 flipH="1" flipV="1">
            <a:off x="1907640" y="5444640"/>
            <a:ext cx="6551640" cy="86364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244000" y="4941720"/>
            <a:ext cx="21564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274680"/>
            <a:ext cx="8496000" cy="6178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 flipV="1">
            <a:off x="2771640" y="2852280"/>
            <a:ext cx="5616720" cy="352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1" name=""/>
          <p:cNvGraphicFramePr/>
          <p:nvPr/>
        </p:nvGraphicFramePr>
        <p:xfrm>
          <a:off x="915840" y="685800"/>
          <a:ext cx="784728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85800"/>
                    <a:ext cx="784728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"/>
          <p:cNvSpPr/>
          <p:nvPr/>
        </p:nvSpPr>
        <p:spPr>
          <a:xfrm flipH="1" flipV="1">
            <a:off x="5334120" y="3657600"/>
            <a:ext cx="3504960" cy="320040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4419360" y="3733920"/>
            <a:ext cx="4343400" cy="312408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 flipV="1">
            <a:off x="3428640" y="3809520"/>
            <a:ext cx="5257800" cy="304812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3428640" y="4038480"/>
            <a:ext cx="5257800" cy="281952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912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 flipH="1" flipV="1">
            <a:off x="4572000" y="2923920"/>
            <a:ext cx="4572000" cy="393372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 flipH="1" flipV="1">
            <a:off x="3132000" y="2781360"/>
            <a:ext cx="5616720" cy="367200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280360" cy="612000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 flipH="1" flipV="1">
            <a:off x="5148000" y="3644640"/>
            <a:ext cx="3995640" cy="3213000"/>
          </a:xfrm>
          <a:prstGeom prst="line">
            <a:avLst/>
          </a:prstGeom>
          <a:ln w="7632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 flipV="1">
            <a:off x="5724000" y="5157360"/>
            <a:ext cx="3419640" cy="1700280"/>
          </a:xfrm>
          <a:prstGeom prst="line">
            <a:avLst/>
          </a:prstGeom>
          <a:ln w="5724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33744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 flipH="1" flipV="1">
            <a:off x="4500720" y="3284640"/>
            <a:ext cx="3024000" cy="22320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 flipV="1">
            <a:off x="4859280" y="4723920"/>
            <a:ext cx="2665440" cy="79236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8" name=""/>
          <p:cNvGraphicFramePr/>
          <p:nvPr/>
        </p:nvGraphicFramePr>
        <p:xfrm>
          <a:off x="395280" y="260280"/>
          <a:ext cx="8373960" cy="628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8373960" cy="628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"/>
          <p:cNvSpPr/>
          <p:nvPr/>
        </p:nvSpPr>
        <p:spPr>
          <a:xfrm flipH="1" flipV="1">
            <a:off x="3851280" y="3789000"/>
            <a:ext cx="4897440" cy="280836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1" name=""/>
          <p:cNvGraphicFramePr/>
          <p:nvPr/>
        </p:nvGraphicFramePr>
        <p:xfrm>
          <a:off x="152280" y="457200"/>
          <a:ext cx="8610840" cy="50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57200"/>
                    <a:ext cx="8610840" cy="50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228600" y="995400"/>
            <a:ext cx="8763120" cy="540540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 flipH="1" flipV="1">
            <a:off x="4343040" y="4114800"/>
            <a:ext cx="4800600" cy="2743200"/>
          </a:xfrm>
          <a:prstGeom prst="line">
            <a:avLst/>
          </a:prstGeom>
          <a:ln w="381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 flipV="1">
            <a:off x="5486040" y="5486400"/>
            <a:ext cx="2971800" cy="1371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 flipV="1">
            <a:off x="5181480" y="5714640"/>
            <a:ext cx="327672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 flipV="1">
            <a:off x="5105160" y="5867280"/>
            <a:ext cx="335268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19308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 flipH="1" flipV="1">
            <a:off x="3780000" y="3715920"/>
            <a:ext cx="5364000" cy="314172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 flipV="1">
            <a:off x="1600200" y="2590920"/>
            <a:ext cx="0" cy="13716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057400" y="2209320"/>
            <a:ext cx="457200" cy="1600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172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H="1" flipV="1">
            <a:off x="8458200" y="4114440"/>
            <a:ext cx="533520" cy="1676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 flipH="1" flipV="1">
            <a:off x="7956720" y="4005360"/>
            <a:ext cx="1187280" cy="1008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418280" y="3246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2124000" y="6165720"/>
            <a:ext cx="0" cy="43200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2050920" y="6021000"/>
            <a:ext cx="1944720" cy="52236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2195640" y="6021360"/>
            <a:ext cx="3744720" cy="50328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12217200">
            <a:off x="6743520" y="5040000"/>
            <a:ext cx="2095200" cy="1758960"/>
          </a:xfrm>
          <a:prstGeom prst="cloudCallout">
            <a:avLst>
              <a:gd name="adj1" fmla="val 22217"/>
              <a:gd name="adj2" fmla="val 65148"/>
            </a:avLst>
          </a:prstGeom>
          <a:solidFill>
            <a:srgbClr val="ebebb3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080200" y="56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6947640" y="5516640"/>
            <a:ext cx="194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nular hasta las 24 hs del día de comuni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19128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 flipH="1" flipV="1">
            <a:off x="3348000" y="3284640"/>
            <a:ext cx="5796000" cy="3573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820000" cy="633744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 flipV="1">
            <a:off x="250920" y="3715920"/>
            <a:ext cx="1152360" cy="2808360"/>
          </a:xfrm>
          <a:prstGeom prst="line">
            <a:avLst/>
          </a:prstGeom>
          <a:ln w="5724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885960" y="404640"/>
            <a:ext cx="7372080" cy="604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4" name=""/>
          <p:cNvGraphicFramePr/>
          <p:nvPr/>
        </p:nvGraphicFramePr>
        <p:xfrm>
          <a:off x="5410080" y="476280"/>
          <a:ext cx="2743200" cy="50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476280"/>
                    <a:ext cx="27432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"/>
          <p:cNvSpPr/>
          <p:nvPr/>
        </p:nvSpPr>
        <p:spPr>
          <a:xfrm flipH="1" flipV="1">
            <a:off x="3995280" y="2276640"/>
            <a:ext cx="3961080" cy="3240000"/>
          </a:xfrm>
          <a:prstGeom prst="line">
            <a:avLst/>
          </a:prstGeom>
          <a:ln w="5724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48760" cy="554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8" name=""/>
          <p:cNvGraphicFramePr/>
          <p:nvPr/>
        </p:nvGraphicFramePr>
        <p:xfrm>
          <a:off x="5410080" y="549360"/>
          <a:ext cx="3265560" cy="50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549360"/>
                    <a:ext cx="32655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7372440" cy="604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1" name=""/>
          <p:cNvGraphicFramePr/>
          <p:nvPr/>
        </p:nvGraphicFramePr>
        <p:xfrm>
          <a:off x="5410080" y="549360"/>
          <a:ext cx="304956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549360"/>
                    <a:ext cx="30495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39621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380880" y="4303800"/>
            <a:ext cx="8305920" cy="255420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 flipH="1" flipV="1">
            <a:off x="5943600" y="5562360"/>
            <a:ext cx="3200400" cy="106668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 flipV="1">
            <a:off x="5638320" y="5866920"/>
            <a:ext cx="3505320" cy="76212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7" name=""/>
          <p:cNvGraphicFramePr/>
          <p:nvPr/>
        </p:nvGraphicFramePr>
        <p:xfrm>
          <a:off x="762120" y="304920"/>
          <a:ext cx="738000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04920"/>
                    <a:ext cx="73800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6537240" y="385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357000">
            <a:off x="6399360" y="4581360"/>
            <a:ext cx="2743200" cy="1413000"/>
          </a:xfrm>
          <a:prstGeom prst="wedgeEllipseCallout">
            <a:avLst>
              <a:gd name="adj1" fmla="val -102736"/>
              <a:gd name="adj2" fmla="val -12033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 las 48hs la respuesta de ANSES en ventanilla electró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5410080" y="333360"/>
          <a:ext cx="269100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333360"/>
                    <a:ext cx="26910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13:15:14Z</dcterms:created>
  <dc:creator>.</dc:creator>
  <dc:description/>
  <dc:language>en-US</dc:language>
  <cp:lastModifiedBy>a</cp:lastModifiedBy>
  <dcterms:modified xsi:type="dcterms:W3CDTF">2008-06-30T21:05:40Z</dcterms:modified>
  <cp:revision>50</cp:revision>
  <dc:subject/>
  <dc:title>Diapositiva 1</dc:title>
</cp:coreProperties>
</file>