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2215-273A-4D1D-8938-ADCA9624E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512892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4BEF-7894-455E-B74A-ABB405232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F2E7-5AEE-45AC-B0A7-D023CE995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2F88-ABAD-44EA-91DB-852829A2F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94A8-522D-473A-8667-15863CAB2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512892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457164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5128920"/>
            <a:ext cx="2502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F41F-D8E2-4809-8537-1161C6FD8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8AA8-20F8-4E88-AA5C-40EE8A325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AD3A-C07E-434F-87F4-DF50AF85C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4F42-7C14-4879-B2BC-FC6337005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1F3A-B7C6-4B96-8EF9-6EC53F1B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512892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621D-CF31-4EDA-85E2-5620CE611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4571640"/>
            <a:ext cx="3792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5128920"/>
            <a:ext cx="77724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8798-2083-4703-BF67-BD3CD34B7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50200"/>
            <a:ext cx="9145440" cy="30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9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1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91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6691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6691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6691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6691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39440" y="6589440"/>
            <a:ext cx="5280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1920" y="658944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5891-C361-467D-9EBB-8EE3DFF5A63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72880" y="809640"/>
            <a:ext cx="3537000" cy="32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1792440"/>
            <a:ext cx="9145440" cy="33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130480"/>
            <a:ext cx="9144000" cy="4724280"/>
          </a:xfrm>
          <a:prstGeom prst="rect">
            <a:avLst/>
          </a:prstGeom>
          <a:solidFill>
            <a:srgbClr val="0066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d3f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dd3f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175520" y="284040"/>
            <a:ext cx="1479600" cy="1206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d3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9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1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9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9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9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9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.ar/imgres?imgurl=http://www.ofilin.com.mx/getthumb.php%3Ffile%3D153&amp;imgrefurl=http://www.ofilin.com.mx/categorias.php%3FC_ID%3D66&amp;h=364&amp;w=423&amp;sz=32&amp;hl=es&amp;start=4&amp;tbnid=zqVcR5n-eqFyvM:&amp;tbnh=108&amp;tbnw=126&amp;prev=/images%3Fq%3Damerican%2Bexpress%26gbv%3D2%26svnum%3D10%26hl%3Des%26sa%3D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336852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add3f0"/>
                </a:solidFill>
                <a:latin typeface="Arial"/>
              </a:rPr>
              <a:t>Los nuevos paradigmas del liderazgo</a:t>
            </a: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dd3f0"/>
                </a:solidFill>
                <a:latin typeface="Arial"/>
              </a:rPr>
              <a:t>Consejo Profesional de Ciencias Económicas</a:t>
            </a: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dd3f0"/>
                </a:solidFill>
                <a:latin typeface="Arial"/>
              </a:rPr>
              <a:t>Julio de 2008</a:t>
            </a: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2240" y="6324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add3f0"/>
                </a:solidFill>
                <a:latin typeface="Arial"/>
              </a:rPr>
              <a:t>Inspiramos emprendedores. Inspiramos cambi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98600" y="1117440"/>
            <a:ext cx="8099280" cy="1590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5760" y="2906640"/>
            <a:ext cx="8796240" cy="147816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  <a:ea typeface="Arial"/>
              </a:rPr>
              <a:t>Identifica y apoya a un grupo cada vez mayor de emprendedores 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  <a:ea typeface="Arial"/>
              </a:rPr>
              <a:t>que tienen la visión de ser líderes de cambio 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  <a:ea typeface="Arial"/>
              </a:rPr>
              <a:t>en sus comunidades, 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  <a:ea typeface="Arial"/>
              </a:rPr>
              <a:t>a través de sí mismos y de sus compañías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pic>
        <p:nvPicPr>
          <p:cNvPr id="2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00920" y="247680"/>
            <a:ext cx="1200240" cy="1028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784080" y="372960"/>
            <a:ext cx="2847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36852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add3f0"/>
                </a:solidFill>
                <a:latin typeface="Arial"/>
              </a:rPr>
              <a:t>Los nuevos paradigmas del liderazgo</a:t>
            </a: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dd3f0"/>
                </a:solidFill>
                <a:latin typeface="Arial"/>
              </a:rPr>
              <a:t>Consejo Profesional de Ciencias Económicas</a:t>
            </a: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dd3f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dd3f0"/>
                </a:solidFill>
                <a:latin typeface="Arial"/>
              </a:rPr>
              <a:t>Julio de 2008</a:t>
            </a:r>
            <a:endParaRPr b="0" lang="en-US" sz="2400" spc="-1" strike="noStrike">
              <a:solidFill>
                <a:srgbClr val="add3f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62240" y="6324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add3f0"/>
                </a:solidFill>
                <a:latin typeface="Arial"/>
              </a:rPr>
              <a:t>Inspiramos emprendedores. Inspiramos cambi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89440" y="2959200"/>
            <a:ext cx="1469880" cy="172404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840" y="2111400"/>
            <a:ext cx="2782800" cy="665280"/>
          </a:xfrm>
          <a:prstGeom prst="rect">
            <a:avLst/>
          </a:prstGeom>
          <a:solidFill>
            <a:srgbClr val="00a8a5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920" y="100080"/>
            <a:ext cx="88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EL PARADIGMA TRADICIONAL 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DEL LIDERAZGO SE CENTRA EN EL CRECIMIENTO…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00640" y="2986200"/>
            <a:ext cx="2632320" cy="1778040"/>
          </a:xfrm>
          <a:prstGeom prst="ellipse">
            <a:avLst/>
          </a:prstGeom>
          <a:solidFill>
            <a:srgbClr val="00a8a5">
              <a:alpha val="53000"/>
            </a:srgbClr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2773440"/>
            <a:ext cx="2782800" cy="235260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70560" y="3662280"/>
            <a:ext cx="619200" cy="46512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72080" y="3429000"/>
            <a:ext cx="17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Balance económico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8120" y="3463920"/>
            <a:ext cx="1839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Crecimiento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=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Desarrollo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920" y="2214720"/>
            <a:ext cx="24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Líder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760" y="3084480"/>
            <a:ext cx="2550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Planific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Organiz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Control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Motiv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4800" y="979560"/>
            <a:ext cx="8461440" cy="25200"/>
          </a:xfrm>
          <a:prstGeom prst="line">
            <a:avLst/>
          </a:prstGeom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3703680"/>
            <a:ext cx="619200" cy="46512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71800" y="2766960"/>
            <a:ext cx="2730600" cy="227988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99200" y="164772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91"/>
                </a:solidFill>
                <a:latin typeface="Arial"/>
              </a:rPr>
              <a:t>Valor Económic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57880" y="608328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91"/>
                </a:solidFill>
                <a:latin typeface="Arial"/>
              </a:rPr>
              <a:t>Valor Ambienta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200" y="611352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91"/>
                </a:solidFill>
                <a:latin typeface="Arial"/>
              </a:rPr>
              <a:t>Valor Social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4800" y="979560"/>
            <a:ext cx="8461440" cy="25200"/>
          </a:xfrm>
          <a:prstGeom prst="line">
            <a:avLst/>
          </a:prstGeom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8080" y="0"/>
            <a:ext cx="86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EL NUEVO PARADIGMA OBLIGA AL LÍDER A TENER 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UNA VISIÓN MUCHO MÁS AMPLIA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10120" y="448164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14760" y="11574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531800" y="4513320"/>
            <a:ext cx="125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89440" y="3330720"/>
            <a:ext cx="1469880" cy="172404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840" y="1382760"/>
            <a:ext cx="2782800" cy="665280"/>
          </a:xfrm>
          <a:prstGeom prst="rect">
            <a:avLst/>
          </a:prstGeom>
          <a:solidFill>
            <a:srgbClr val="00a8a5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920" y="71280"/>
            <a:ext cx="88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EL DESAFÍO DE LOS LÍDERES ACTUALES ES INCLUIR 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AL DESARROLLO SUSTENTABLE EN SU ADN 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00640" y="3314880"/>
            <a:ext cx="2632320" cy="1777680"/>
          </a:xfrm>
          <a:prstGeom prst="ellipse">
            <a:avLst/>
          </a:prstGeom>
          <a:solidFill>
            <a:srgbClr val="00a8a5">
              <a:alpha val="53000"/>
            </a:srgbClr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840" y="2201760"/>
            <a:ext cx="2782800" cy="171000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70560" y="3933720"/>
            <a:ext cx="619200" cy="46512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72080" y="3672000"/>
            <a:ext cx="1709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Triple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8120" y="3949560"/>
            <a:ext cx="1839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Desarrollo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sustentable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1500120"/>
            <a:ext cx="24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Líder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7760" y="2170080"/>
            <a:ext cx="2550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Planific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Organiz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Control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Motiv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4800" y="979560"/>
            <a:ext cx="8461440" cy="25200"/>
          </a:xfrm>
          <a:prstGeom prst="line">
            <a:avLst/>
          </a:prstGeom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9640" y="3975120"/>
            <a:ext cx="619200" cy="46512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240" y="4416480"/>
            <a:ext cx="2782800" cy="170964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00" y="4753080"/>
            <a:ext cx="28605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66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Visión integral 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6691"/>
                </a:solidFill>
                <a:latin typeface="Arial"/>
              </a:rPr>
              <a:t>y a largo plazo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20" y="3809880"/>
            <a:ext cx="2860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91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38160" y="34920"/>
            <a:ext cx="9182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LOS LÍDERES DE HOY DEBEN DESARROLLAR CAPA-CIDADES MÁS ALLÁ DEL CONOCIMIENTO ACADÉMICO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4800" y="979560"/>
            <a:ext cx="8461440" cy="25200"/>
          </a:xfrm>
          <a:prstGeom prst="line">
            <a:avLst/>
          </a:prstGeom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160" y="1484280"/>
            <a:ext cx="64040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Deja el pasado y crea una nueva visión de lo posible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Observa el todo y está conectado. Detecta cambios a tiempo y se adapta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Aprende su camino en vez de aplicar recetas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Aprende constantemente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Conecta con las personas, sabe escuchar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Es persuasivo en vez de autoritario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1"/>
                </a:solidFill>
                <a:latin typeface="Arial"/>
              </a:rPr>
              <a:t>Comprometido con su causa y la de su comunidad </a:t>
            </a: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1328760"/>
            <a:ext cx="2000520" cy="50796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Emprendedor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4200" y="2114640"/>
            <a:ext cx="2000520" cy="50796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4200" y="3029040"/>
            <a:ext cx="2000520" cy="50796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Resiliente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4200" y="3886200"/>
            <a:ext cx="2000520" cy="43488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Curios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4200" y="4529160"/>
            <a:ext cx="2000520" cy="43488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Empátic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200" y="5186520"/>
            <a:ext cx="2000520" cy="43488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Persuasiv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5815080"/>
            <a:ext cx="2000520" cy="43488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1"/>
                </a:solidFill>
                <a:latin typeface="Arial"/>
              </a:rPr>
              <a:t>Comprometido</a:t>
            </a:r>
            <a:endParaRPr b="0" lang="en-US" sz="20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923840"/>
            <a:ext cx="8269200" cy="2855880"/>
          </a:xfrm>
          <a:prstGeom prst="rect">
            <a:avLst/>
          </a:prstGeom>
          <a:solidFill>
            <a:srgbClr val="add3f0"/>
          </a:solidFill>
          <a:ln w="25560">
            <a:solidFill>
              <a:srgbClr val="00669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El secreto de aquellos que asombran al mundo </a:t>
            </a:r>
            <a:br>
              <a:rPr sz="2800"/>
            </a:b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es que creen que nada es imposible</a:t>
            </a:r>
            <a:br>
              <a:rPr sz="2800"/>
            </a:br>
            <a:br>
              <a:rPr sz="2800"/>
            </a:b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br>
              <a:rPr sz="2800"/>
            </a:b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6691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Henry D. Thoreau</a:t>
            </a:r>
            <a:endParaRPr b="1" lang="en-US" sz="2400" spc="-1" strike="noStrike">
              <a:solidFill>
                <a:srgbClr val="0066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40840"/>
            <a:ext cx="82310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1"/>
                </a:solidFill>
                <a:latin typeface="Arial"/>
                <a:ea typeface="Arial"/>
              </a:rPr>
              <a:t>LOS EMPRENDEDORES SON UNO DE LOS PILARES DEL FUTURO DE UN PAÍS   </a:t>
            </a:r>
            <a:br>
              <a:rPr sz="2400"/>
            </a:br>
            <a:endParaRPr b="1" lang="en-US" sz="2400" spc="-1" strike="noStrike">
              <a:solidFill>
                <a:srgbClr val="00669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17760" y="1287360"/>
            <a:ext cx="1924200" cy="36540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Innovadores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64200" y="2590920"/>
            <a:ext cx="1940040" cy="36504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Visionarios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280" y="2590920"/>
            <a:ext cx="1923840" cy="36504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Piensan en grande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280" y="3895560"/>
            <a:ext cx="1952640" cy="36540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Toman riesgos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7200" y="3895560"/>
            <a:ext cx="1968480" cy="36540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Crean trabajo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6640" y="5200560"/>
            <a:ext cx="1968480" cy="36504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Agregan valor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3880" y="5200560"/>
            <a:ext cx="1952640" cy="365040"/>
          </a:xfrm>
          <a:prstGeom prst="rect">
            <a:avLst/>
          </a:prstGeom>
          <a:solidFill>
            <a:srgbClr val="96d2e6"/>
          </a:solidFill>
          <a:ln w="12600">
            <a:solidFill>
              <a:srgbClr val="005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5069"/>
                </a:solidFill>
                <a:latin typeface="Arial"/>
                <a:ea typeface="Arial"/>
              </a:rPr>
              <a:t>Comprometidos</a:t>
            </a:r>
            <a:endParaRPr b="0" lang="en-US" sz="1500" spc="-1" strike="noStrike">
              <a:solidFill>
                <a:srgbClr val="006691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59320" y="2444760"/>
            <a:ext cx="1576080" cy="2187720"/>
          </a:xfrm>
          <a:prstGeom prst="rect">
            <a:avLst/>
          </a:prstGeom>
          <a:ln w="38160">
            <a:solidFill>
              <a:srgbClr val="0066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5360" y="114480"/>
            <a:ext cx="89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ENDEAVOR PROMUEVE LA ACTIVIDAD EMPRENDEDORA </a:t>
            </a:r>
            <a:br>
              <a:rPr sz="2400"/>
            </a:br>
            <a:r>
              <a:rPr b="1" lang="es-AR" sz="2400" spc="-1" strike="noStrike">
                <a:solidFill>
                  <a:srgbClr val="006691"/>
                </a:solidFill>
                <a:latin typeface="Arial"/>
              </a:rPr>
              <a:t>EN DOS NIVELES</a:t>
            </a:r>
            <a:endParaRPr b="0" lang="en-US" sz="2400" spc="-1" strike="noStrike">
              <a:solidFill>
                <a:srgbClr val="006691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44960" y="906480"/>
            <a:ext cx="8220960" cy="4644360"/>
            <a:chOff x="444960" y="906480"/>
            <a:chExt cx="8220960" cy="4644360"/>
          </a:xfrm>
        </p:grpSpPr>
        <p:sp>
          <p:nvSpPr>
            <p:cNvPr id="143" name=""/>
            <p:cNvSpPr/>
            <p:nvPr/>
          </p:nvSpPr>
          <p:spPr>
            <a:xfrm flipH="1" rot="10800000">
              <a:off x="444960" y="1287720"/>
              <a:ext cx="3526560" cy="330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30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30186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42520" y="1306800"/>
              <a:ext cx="3446280" cy="3276720"/>
              <a:chOff x="542520" y="1306800"/>
              <a:chExt cx="3446280" cy="3276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267640" y="1306800"/>
                <a:ext cx="140040" cy="1066320"/>
                <a:chOff x="2267640" y="1306800"/>
                <a:chExt cx="140040" cy="10663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267640" y="1306800"/>
                  <a:ext cx="140040" cy="508320"/>
                </a:xfrm>
                <a:prstGeom prst="line">
                  <a:avLst/>
                </a:prstGeom>
                <a:ln w="38160">
                  <a:solidFill>
                    <a:srgbClr val="0066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1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291760" y="1809000"/>
                  <a:ext cx="114480" cy="564120"/>
                </a:xfrm>
                <a:prstGeom prst="line">
                  <a:avLst/>
                </a:prstGeom>
                <a:ln w="38160">
                  <a:solidFill>
                    <a:srgbClr val="0066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H="1" rot="5400000">
                <a:off x="619560" y="1229040"/>
                <a:ext cx="3276720" cy="34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dd3f0"/>
              </a:solidFill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5400000">
                <a:off x="1649520" y="2376000"/>
                <a:ext cx="1244880" cy="124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dd3f0"/>
              </a:solidFill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2880720" y="2955240"/>
                <a:ext cx="1108080" cy="134640"/>
                <a:chOff x="2880720" y="2955240"/>
                <a:chExt cx="1108080" cy="13464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3460320" y="2955240"/>
                  <a:ext cx="528480" cy="134640"/>
                </a:xfrm>
                <a:prstGeom prst="line">
                  <a:avLst/>
                </a:prstGeom>
                <a:ln w="38160">
                  <a:solidFill>
                    <a:srgbClr val="0066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1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2880720" y="2979000"/>
                  <a:ext cx="586440" cy="109800"/>
                </a:xfrm>
                <a:prstGeom prst="line">
                  <a:avLst/>
                </a:prstGeom>
                <a:ln w="38160">
                  <a:solidFill>
                    <a:srgbClr val="0066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1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 flipH="1">
              <a:off x="561240" y="1301040"/>
              <a:ext cx="3405600" cy="33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6200000">
              <a:off x="629640" y="1242000"/>
              <a:ext cx="3274560" cy="341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5" y="0"/>
                  </a:moveTo>
                  <a:arcTo wR="10800" hR="10800" stAng="-5420577" swAng="5438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5" y="0"/>
                  </a:moveTo>
                  <a:arcTo wR="10800" hR="10800" stAng="-5420577" swAng="5438058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57280" y="2824920"/>
              <a:ext cx="1108080" cy="134640"/>
              <a:chOff x="557280" y="2824920"/>
              <a:chExt cx="1108080" cy="13464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557280" y="2824920"/>
                <a:ext cx="528480" cy="134640"/>
              </a:xfrm>
              <a:prstGeom prst="line">
                <a:avLst/>
              </a:prstGeom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78920" y="2826000"/>
                <a:ext cx="586440" cy="109800"/>
              </a:xfrm>
              <a:prstGeom prst="line">
                <a:avLst/>
              </a:prstGeom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H="1">
              <a:off x="1666440" y="2365920"/>
              <a:ext cx="1293840" cy="11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a8a5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70160" y="1310760"/>
              <a:ext cx="140040" cy="1067400"/>
              <a:chOff x="2270160" y="1310760"/>
              <a:chExt cx="140040" cy="1067400"/>
            </a:xfrm>
          </p:grpSpPr>
          <p:sp>
            <p:nvSpPr>
              <p:cNvPr id="160" name=""/>
              <p:cNvSpPr/>
              <p:nvPr/>
            </p:nvSpPr>
            <p:spPr>
              <a:xfrm>
                <a:off x="2270160" y="1310760"/>
                <a:ext cx="140040" cy="508680"/>
              </a:xfrm>
              <a:prstGeom prst="line">
                <a:avLst/>
              </a:prstGeom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294280" y="1813680"/>
                <a:ext cx="114480" cy="564480"/>
              </a:xfrm>
              <a:prstGeom prst="line">
                <a:avLst/>
              </a:prstGeom>
              <a:ln w="38160">
                <a:solidFill>
                  <a:srgbClr val="0066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1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 rot="10800000">
              <a:off x="1599480" y="2365200"/>
              <a:ext cx="1293120" cy="11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a8a5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147760" y="4103640"/>
              <a:ext cx="139680" cy="50580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149200" y="3547800"/>
              <a:ext cx="113760" cy="56160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6200000">
              <a:off x="1664640" y="2315880"/>
              <a:ext cx="1244880" cy="124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a8a5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0760" y="2368800"/>
              <a:ext cx="1229400" cy="1181520"/>
            </a:xfrm>
            <a:prstGeom prst="ellipse">
              <a:avLst/>
            </a:prstGeom>
            <a:solidFill>
              <a:srgbClr val="006691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6200000">
              <a:off x="4768920" y="1222200"/>
              <a:ext cx="3274560" cy="341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5" y="0"/>
                  </a:moveTo>
                  <a:arcTo wR="10800" hR="10800" stAng="-5420577" swAng="5438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5" y="0"/>
                  </a:moveTo>
                  <a:arcTo wR="10800" hR="10800" stAng="-5420577" swAng="5438058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00520" y="1280160"/>
              <a:ext cx="3405600" cy="33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05720" y="2345400"/>
              <a:ext cx="1293840" cy="11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5400000">
              <a:off x="4745520" y="1199880"/>
              <a:ext cx="3277440" cy="34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5792400" y="2350800"/>
              <a:ext cx="1246320" cy="12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51" y="51"/>
                  </a:moveTo>
                  <a:arcTo wR="10800" hR="10800" stAng="-5734284" swAng="620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9751" y="51"/>
                  </a:moveTo>
                  <a:arcTo wR="10800" hR="10800" stAng="-5734284" swAng="620475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0800000">
              <a:off x="4694040" y="1265760"/>
              <a:ext cx="3405600" cy="330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30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30186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0800000">
              <a:off x="5738400" y="2344680"/>
              <a:ext cx="1293840" cy="11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5804280" y="2294640"/>
              <a:ext cx="1244160" cy="124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add3f0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695840" y="2804040"/>
              <a:ext cx="528480" cy="13464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18560" y="2805120"/>
              <a:ext cx="586440" cy="10980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025760" y="3928320"/>
              <a:ext cx="419760" cy="28872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744600" y="3423600"/>
              <a:ext cx="272880" cy="50688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279920" y="1709280"/>
              <a:ext cx="253440" cy="46260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794280" y="2166840"/>
              <a:ext cx="474480" cy="325440"/>
            </a:xfrm>
            <a:prstGeom prst="line">
              <a:avLst/>
            </a:prstGeom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56400" y="2342520"/>
              <a:ext cx="1281600" cy="1182960"/>
            </a:xfrm>
            <a:prstGeom prst="ellipse">
              <a:avLst/>
            </a:prstGeom>
            <a:solidFill>
              <a:srgbClr val="006691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3717200">
              <a:off x="4789440" y="1432800"/>
              <a:ext cx="466920" cy="186120"/>
            </a:xfrm>
            <a:prstGeom prst="rightArrow">
              <a:avLst>
                <a:gd name="adj1" fmla="val 50000"/>
                <a:gd name="adj2" fmla="val 62718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117200">
              <a:off x="7682400" y="1559520"/>
              <a:ext cx="485280" cy="179280"/>
            </a:xfrm>
            <a:prstGeom prst="rightArrow">
              <a:avLst>
                <a:gd name="adj1" fmla="val 50000"/>
                <a:gd name="adj2" fmla="val 67671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 rot="19117200">
              <a:off x="4700160" y="4161240"/>
              <a:ext cx="484920" cy="178920"/>
            </a:xfrm>
            <a:prstGeom prst="rightArrow">
              <a:avLst>
                <a:gd name="adj1" fmla="val 50000"/>
                <a:gd name="adj2" fmla="val 67757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 rot="13717200">
              <a:off x="7540920" y="4234680"/>
              <a:ext cx="466920" cy="186120"/>
            </a:xfrm>
            <a:prstGeom prst="rightArrow">
              <a:avLst>
                <a:gd name="adj1" fmla="val 50000"/>
                <a:gd name="adj2" fmla="val 62718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6232680" y="973080"/>
              <a:ext cx="319680" cy="186120"/>
            </a:xfrm>
            <a:prstGeom prst="rightArrow">
              <a:avLst>
                <a:gd name="adj1" fmla="val 50000"/>
                <a:gd name="adj2" fmla="val 42940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 rot="16200000">
              <a:off x="6226560" y="4700880"/>
              <a:ext cx="330840" cy="186120"/>
            </a:xfrm>
            <a:prstGeom prst="rightArrow">
              <a:avLst>
                <a:gd name="adj1" fmla="val 50000"/>
                <a:gd name="adj2" fmla="val 44439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81000" y="2848320"/>
              <a:ext cx="484920" cy="179280"/>
            </a:xfrm>
            <a:prstGeom prst="rightArrow">
              <a:avLst>
                <a:gd name="adj1" fmla="val 50000"/>
                <a:gd name="adj2" fmla="val 67620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7720" y="2705400"/>
              <a:ext cx="554400" cy="466920"/>
            </a:xfrm>
            <a:prstGeom prst="leftRightArrow">
              <a:avLst>
                <a:gd name="adj1" fmla="val 50000"/>
                <a:gd name="adj2" fmla="val 23637"/>
              </a:avLst>
            </a:prstGeom>
            <a:solidFill>
              <a:srgbClr val="f08b1d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 rot="5400000">
              <a:off x="2130120" y="3542040"/>
              <a:ext cx="533880" cy="348300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-360 h 3483000"/>
                <a:gd name="textAreaBottom" fmla="*/ 3483000 h 34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a8a5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poyo enfocado: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s-AR" sz="1200" spc="-1" strike="noStrike" u="sng">
                  <a:solidFill>
                    <a:srgbClr val="ffffff"/>
                  </a:solidFill>
                  <a:uFillTx/>
                  <a:latin typeface="Verdana"/>
                  <a:ea typeface="Arial"/>
                </a:rPr>
                <a:t>Aceleramos el crecimiento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 rot="5400000">
              <a:off x="6133320" y="3542040"/>
              <a:ext cx="533880" cy="348300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-360 h 3483000"/>
                <a:gd name="textAreaBottom" fmla="*/ 3483000 h 34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a8a5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poyo masivo:</a:t>
              </a:r>
              <a:br>
                <a:rPr sz="1200"/>
              </a:br>
              <a:r>
                <a:rPr b="1" lang="es-AR" sz="1200" spc="-1" strike="noStrike" u="sng">
                  <a:solidFill>
                    <a:srgbClr val="ffffff"/>
                  </a:solidFill>
                  <a:uFillTx/>
                  <a:latin typeface="Verdana"/>
                  <a:ea typeface="Arial"/>
                </a:rPr>
                <a:t> Desarrollamos la cultura emprendedora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51200" y="1823760"/>
              <a:ext cx="1220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Seleccionamos</a:t>
              </a:r>
              <a:br>
                <a:rPr sz="1000"/>
              </a:b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emprendedores 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con alto 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potencial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802880"/>
              <a:ext cx="1236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Los apoyamos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para desarrollar 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sus compañías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00840" y="3574080"/>
              <a:ext cx="113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Comparten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su experiencia 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e información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9760" y="3561480"/>
              <a:ext cx="13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Contribuyen con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la sustentabilidad</a:t>
              </a:r>
              <a:br>
                <a:rPr sz="1000"/>
              </a:br>
              <a:r>
                <a:rPr b="1" lang="es-AR" sz="10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     de Endeavor</a:t>
              </a:r>
              <a:endParaRPr b="0" lang="en-US" sz="10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4960" y="1969920"/>
              <a:ext cx="97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Inspiramos</a:t>
              </a:r>
              <a:endParaRPr b="0" lang="en-US" sz="11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2280" y="2795760"/>
              <a:ext cx="1084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Capacitamos</a:t>
              </a:r>
              <a:endParaRPr b="0" lang="en-US" sz="11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44280" y="3697920"/>
              <a:ext cx="852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6691"/>
                  </a:solidFill>
                  <a:latin typeface="Verdana"/>
                  <a:ea typeface="Arial"/>
                </a:rPr>
                <a:t>Influimos</a:t>
              </a:r>
              <a:endParaRPr b="0" lang="en-US" sz="11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33320" y="2313000"/>
              <a:ext cx="1258200" cy="1217880"/>
            </a:xfrm>
            <a:prstGeom prst="ellipse">
              <a:avLst/>
            </a:prstGeom>
            <a:solidFill>
              <a:srgbClr val="006691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cciones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on 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mprendedores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de alto 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impacto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1240" y="2313000"/>
              <a:ext cx="1258200" cy="1217880"/>
            </a:xfrm>
            <a:prstGeom prst="ellipse">
              <a:avLst/>
            </a:prstGeom>
            <a:solidFill>
              <a:srgbClr val="006691"/>
            </a:solidFill>
            <a:ln w="3816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cciones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on el 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mundo</a:t>
              </a:r>
              <a:br>
                <a:rPr sz="1200"/>
              </a:br>
              <a:r>
                <a:rPr b="1" lang="es-AR" sz="1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mprendedor</a:t>
              </a:r>
              <a:endParaRPr b="0" lang="en-US" sz="12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28560" y="5786280"/>
            <a:ext cx="7515360" cy="528840"/>
          </a:xfrm>
          <a:prstGeom prst="rect">
            <a:avLst/>
          </a:prstGeom>
          <a:solidFill>
            <a:srgbClr val="add3f0"/>
          </a:solidFill>
          <a:ln w="38160">
            <a:solidFill>
              <a:srgbClr val="006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Filosofía Recibir y Dar</a:t>
            </a:r>
            <a:endParaRPr b="0" lang="en-US" sz="2200" spc="-1" strike="noStrike">
              <a:solidFill>
                <a:srgbClr val="00669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EL MODELO ENDEAVOR GENERA ALTO IMPACTO</a:t>
            </a:r>
            <a:br>
              <a:rPr sz="2200"/>
            </a:br>
            <a:r>
              <a:rPr b="1" lang="es-AR" sz="2200" spc="-1" strike="noStrike">
                <a:solidFill>
                  <a:srgbClr val="006691"/>
                </a:solidFill>
                <a:latin typeface="Arial"/>
              </a:rPr>
              <a:t>EN DIFERENTES ÁREAS</a:t>
            </a:r>
            <a:endParaRPr b="1" lang="en-US" sz="2200" spc="-1" strike="noStrike">
              <a:solidFill>
                <a:srgbClr val="006691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" y="1295280"/>
            <a:ext cx="8370360" cy="5143320"/>
            <a:chOff x="228600" y="1295280"/>
            <a:chExt cx="8370360" cy="5143320"/>
          </a:xfrm>
        </p:grpSpPr>
        <p:sp>
          <p:nvSpPr>
            <p:cNvPr id="204" name=""/>
            <p:cNvSpPr/>
            <p:nvPr/>
          </p:nvSpPr>
          <p:spPr>
            <a:xfrm>
              <a:off x="369000" y="6301800"/>
              <a:ext cx="1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33984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160" y="1295280"/>
              <a:ext cx="1414440" cy="741240"/>
            </a:xfrm>
            <a:prstGeom prst="rect">
              <a:avLst/>
            </a:prstGeom>
            <a:solidFill>
              <a:srgbClr val="add3f0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apital 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Humano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68160" y="2323800"/>
              <a:ext cx="1414440" cy="741240"/>
            </a:xfrm>
            <a:prstGeom prst="rect">
              <a:avLst/>
            </a:prstGeom>
            <a:solidFill>
              <a:srgbClr val="add3f0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apit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Soci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8160" y="3352680"/>
              <a:ext cx="1414440" cy="741240"/>
            </a:xfrm>
            <a:prstGeom prst="rect">
              <a:avLst/>
            </a:prstGeom>
            <a:solidFill>
              <a:srgbClr val="add3f0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apit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Financiero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68160" y="4381200"/>
              <a:ext cx="1414440" cy="741240"/>
            </a:xfrm>
            <a:prstGeom prst="rect">
              <a:avLst/>
            </a:prstGeom>
            <a:solidFill>
              <a:srgbClr val="add3f0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apital 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Intelectu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68160" y="5411520"/>
              <a:ext cx="1414440" cy="741240"/>
            </a:xfrm>
            <a:prstGeom prst="rect">
              <a:avLst/>
            </a:prstGeom>
            <a:solidFill>
              <a:srgbClr val="add3f0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apit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Cultural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endCxn id="206" idx="1"/>
            </p:cNvCxnSpPr>
            <p:nvPr/>
          </p:nvCxnSpPr>
          <p:spPr>
            <a:xfrm flipV="1">
              <a:off x="2055600" y="2694240"/>
              <a:ext cx="1312920" cy="1024560"/>
            </a:xfrm>
            <a:prstGeom prst="bentConnector3">
              <a:avLst>
                <a:gd name="adj1" fmla="val 49917"/>
              </a:avLst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1"/>
            </p:cNvCxnSpPr>
            <p:nvPr/>
          </p:nvCxnSpPr>
          <p:spPr>
            <a:xfrm flipV="1">
              <a:off x="2055600" y="1665720"/>
              <a:ext cx="1312920" cy="2053080"/>
            </a:xfrm>
            <a:prstGeom prst="bentConnector3">
              <a:avLst>
                <a:gd name="adj1" fmla="val 49917"/>
              </a:avLst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endCxn id="207" idx="1"/>
            </p:cNvCxnSpPr>
            <p:nvPr/>
          </p:nvCxnSpPr>
          <p:spPr>
            <a:xfrm>
              <a:off x="2055600" y="3718800"/>
              <a:ext cx="1312920" cy="5040"/>
            </a:xfrm>
            <a:prstGeom prst="bentConnector3">
              <a:avLst>
                <a:gd name="adj1" fmla="val 49917"/>
              </a:avLst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endCxn id="208" idx="1"/>
            </p:cNvCxnSpPr>
            <p:nvPr/>
          </p:nvCxnSpPr>
          <p:spPr>
            <a:xfrm>
              <a:off x="2055600" y="3718440"/>
              <a:ext cx="1312920" cy="1033560"/>
            </a:xfrm>
            <a:prstGeom prst="bentConnector3">
              <a:avLst>
                <a:gd name="adj1" fmla="val 49917"/>
              </a:avLst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endCxn id="209" idx="1"/>
            </p:cNvCxnSpPr>
            <p:nvPr/>
          </p:nvCxnSpPr>
          <p:spPr>
            <a:xfrm>
              <a:off x="2055600" y="3718800"/>
              <a:ext cx="1312920" cy="2064240"/>
            </a:xfrm>
            <a:prstGeom prst="bentConnector3">
              <a:avLst>
                <a:gd name="adj1" fmla="val 49917"/>
              </a:avLst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5740560" y="1295280"/>
              <a:ext cx="2858400" cy="741240"/>
            </a:xfrm>
            <a:prstGeom prst="rect">
              <a:avLst/>
            </a:prstGeom>
            <a:solidFill>
              <a:srgbClr val="00a8a5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oyo al desarrollo  de líderes a través de capacitación y mentoreo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0560" y="2323800"/>
              <a:ext cx="2858400" cy="741240"/>
            </a:xfrm>
            <a:prstGeom prst="rect">
              <a:avLst/>
            </a:prstGeom>
            <a:solidFill>
              <a:srgbClr val="00a8a5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itución 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dinamización de redes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0560" y="3352680"/>
              <a:ext cx="2858400" cy="741240"/>
            </a:xfrm>
            <a:prstGeom prst="rect">
              <a:avLst/>
            </a:prstGeom>
            <a:solidFill>
              <a:srgbClr val="00a8a5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eación de trabajos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generación de riqueza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0560" y="4381200"/>
              <a:ext cx="2858400" cy="741240"/>
            </a:xfrm>
            <a:prstGeom prst="rect">
              <a:avLst/>
            </a:prstGeom>
            <a:solidFill>
              <a:srgbClr val="00a8a5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eración de conocimiemto sobre </a:t>
              </a:r>
              <a:r>
                <a:rPr b="1" i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repreneurship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0560" y="5434920"/>
              <a:ext cx="2858400" cy="741240"/>
            </a:xfrm>
            <a:prstGeom prst="rect">
              <a:avLst/>
            </a:prstGeom>
            <a:solidFill>
              <a:srgbClr val="00a8a5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fusión 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 emprendedores modelo para inspirar a otros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/>
            <p:nvPr/>
          </p:nvCxnSpPr>
          <p:spPr>
            <a:xfrm>
              <a:off x="4800600" y="1665360"/>
              <a:ext cx="957960" cy="1080"/>
            </a:xfrm>
            <a:prstGeom prst="bentConnector2">
              <a:avLst/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/>
            <p:nvPr/>
          </p:nvCxnSpPr>
          <p:spPr>
            <a:xfrm>
              <a:off x="4798800" y="3715560"/>
              <a:ext cx="957960" cy="1080"/>
            </a:xfrm>
            <a:prstGeom prst="bentConnector2">
              <a:avLst/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>
              <a:off x="4798800" y="2673720"/>
              <a:ext cx="957960" cy="1080"/>
            </a:xfrm>
            <a:prstGeom prst="bentConnector2">
              <a:avLst/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4798800" y="4757400"/>
              <a:ext cx="957960" cy="1080"/>
            </a:xfrm>
            <a:prstGeom prst="bentConnector2">
              <a:avLst/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4798800" y="5771520"/>
              <a:ext cx="957960" cy="1080"/>
            </a:xfrm>
            <a:prstGeom prst="bentConnector2">
              <a:avLst/>
            </a:prstGeom>
            <a:ln w="12600">
              <a:solidFill>
                <a:srgbClr val="006691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228600" y="2795040"/>
              <a:ext cx="1858320" cy="1848600"/>
            </a:xfrm>
            <a:prstGeom prst="ellipse">
              <a:avLst/>
            </a:prstGeom>
            <a:solidFill>
              <a:srgbClr val="f08b1d"/>
            </a:solidFill>
            <a:ln w="12600">
              <a:solidFill>
                <a:srgbClr val="0066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Endeavor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6691"/>
                  </a:solidFill>
                  <a:latin typeface="Arial"/>
                  <a:ea typeface="Arial"/>
                </a:rPr>
                <a:t>y su Red</a:t>
              </a:r>
              <a:endParaRPr b="0" lang="en-US" sz="1600" spc="-1" strike="noStrike">
                <a:solidFill>
                  <a:srgbClr val="00669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6:29:21Z</dcterms:created>
  <dc:creator>Maria Julia Bearzi</dc:creator>
  <dc:description/>
  <cp:keywords/>
  <dc:language>en-US</dc:language>
  <cp:lastModifiedBy>CPCECABA</cp:lastModifiedBy>
  <dcterms:modified xsi:type="dcterms:W3CDTF">2008-07-04T17:26:33Z</dcterms:modified>
  <cp:revision>158</cp:revision>
  <dc:subject/>
  <dc:title>Diapositiva 1</dc:title>
</cp:coreProperties>
</file>