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C6F-3FD1-426D-8135-B5DF28D6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617-ADC3-458C-9D60-AE50D17C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2F9-5491-462F-AC55-D8B064E7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B8A-EEF8-4747-B1C3-D795ABCA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06F-0014-42DB-973D-9149E85A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941-2357-449E-83D7-18E5863F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BED-2933-4213-ADCF-D57F748C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379-B5B7-470F-9CA6-627347CE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705-9034-49F6-9AB1-EB3B8EF9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197-6AC5-4B89-987F-01217D7E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931-E5A6-4339-999C-AF0680A8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DB7D-EED6-4692-88D7-915173B2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0D5E-78C4-4CE7-AC13-09C1CAFA326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00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 flipV="1">
            <a:off x="5790960" y="365760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5867280" y="3809520"/>
            <a:ext cx="24386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5867280" y="4038480"/>
            <a:ext cx="24386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00200" y="4648320"/>
            <a:ext cx="640080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ff"/>
                </a:solidFill>
                <a:latin typeface="Times New Roman"/>
              </a:rPr>
              <a:t>CARGA DE DATOS COMO EMPLE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 flipV="1">
            <a:off x="8077320" y="3809520"/>
            <a:ext cx="761760" cy="30481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429000" y="2971440"/>
            <a:ext cx="5410080" cy="38862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3657240" y="3657600"/>
            <a:ext cx="5181480" cy="32004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590920" y="4419360"/>
            <a:ext cx="6324480" cy="24382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76360" y="4800240"/>
            <a:ext cx="5562360" cy="20574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33720" y="304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Times New Roman"/>
              </a:rPr>
              <a:t>DATOS DEL EMPLE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 flipV="1">
            <a:off x="6095520" y="4572000"/>
            <a:ext cx="3048120" cy="22860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 flipV="1">
            <a:off x="3809520" y="2057040"/>
            <a:ext cx="5334120" cy="24382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895120" y="3276360"/>
            <a:ext cx="6248520" cy="11430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095520" y="4266720"/>
            <a:ext cx="3048120" cy="3049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 flipV="1">
            <a:off x="4495320" y="4114440"/>
            <a:ext cx="4419720" cy="15238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267080" y="4647960"/>
            <a:ext cx="4648320" cy="99036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523880"/>
            <a:ext cx="2133720" cy="7038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ff"/>
                </a:solidFill>
                <a:latin typeface="Times New Roman"/>
              </a:rPr>
              <a:t>INFORMACION RETE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1828800"/>
            <a:ext cx="304560" cy="19810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114800" y="3124080"/>
            <a:ext cx="2438280" cy="19051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1905120"/>
            <a:ext cx="228600" cy="2438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1905120"/>
            <a:ext cx="75960" cy="2971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9051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600200"/>
            <a:ext cx="3276720" cy="8254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66"/>
                </a:solidFill>
                <a:latin typeface="Times New Roman"/>
              </a:rPr>
              <a:t>Informacion  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743200"/>
            <a:ext cx="533160" cy="13716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2666880"/>
            <a:ext cx="533160" cy="20574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590920"/>
            <a:ext cx="533160" cy="2743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657600" y="3352680"/>
            <a:ext cx="2895480" cy="22860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6096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 flipV="1">
            <a:off x="2971800" y="5486040"/>
            <a:ext cx="5867280" cy="10666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048120" y="3047760"/>
            <a:ext cx="152280" cy="24382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597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 flipV="1">
            <a:off x="4284720" y="2781360"/>
            <a:ext cx="4859280" cy="367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4211280" y="3212640"/>
            <a:ext cx="4932360" cy="32403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 flipV="1">
            <a:off x="8076960" y="5486400"/>
            <a:ext cx="1066680" cy="1371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8305920" cy="358128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sp>
        <p:nvSpPr>
          <p:cNvPr id="116" name=""/>
          <p:cNvSpPr/>
          <p:nvPr/>
        </p:nvSpPr>
        <p:spPr>
          <a:xfrm flipH="1" flipV="1">
            <a:off x="3634920" y="3357360"/>
            <a:ext cx="5040360" cy="287964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019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H="1" flipV="1">
            <a:off x="7467480" y="4191120"/>
            <a:ext cx="1371600" cy="22096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7543800" y="5410080"/>
            <a:ext cx="1295280" cy="9144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7543800" y="5867280"/>
            <a:ext cx="1295280" cy="4572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7467480" y="4648320"/>
            <a:ext cx="1371600" cy="17524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7467480" y="3733920"/>
            <a:ext cx="1371600" cy="26668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7543800" y="2437920"/>
            <a:ext cx="1295280" cy="39625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7467480" y="5029200"/>
            <a:ext cx="1371600" cy="1371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324480"/>
          </a:xfrm>
          <a:prstGeom prst="rect">
            <a:avLst/>
          </a:prstGeom>
          <a:ln w="9360">
            <a:solidFill>
              <a:srgbClr val="ccccff"/>
            </a:solidFill>
            <a:miter/>
          </a:ln>
        </p:spPr>
      </p:pic>
      <p:sp>
        <p:nvSpPr>
          <p:cNvPr id="126" name=""/>
          <p:cNvSpPr/>
          <p:nvPr/>
        </p:nvSpPr>
        <p:spPr>
          <a:xfrm flipH="1" flipV="1">
            <a:off x="3504960" y="914040"/>
            <a:ext cx="5181480" cy="48769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514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7009920" y="4952520"/>
            <a:ext cx="1600200" cy="7621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437920" y="5105160"/>
            <a:ext cx="6248520" cy="6094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610840" cy="6248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H="1" flipV="1">
            <a:off x="5943240" y="1218960"/>
            <a:ext cx="2971800" cy="563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 flipH="1" flipV="1">
            <a:off x="5029200" y="6534000"/>
            <a:ext cx="4114800" cy="3240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553080" y="2514600"/>
            <a:ext cx="990720" cy="38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962520" y="6178680"/>
            <a:ext cx="990360" cy="450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372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6248520" y="7162920"/>
            <a:ext cx="2286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>
            <a:off x="5486400" y="6248520"/>
            <a:ext cx="1828800" cy="3808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315200" y="1600200"/>
            <a:ext cx="838080" cy="464832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315200" y="2666520"/>
            <a:ext cx="838080" cy="358164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315200" y="3733560"/>
            <a:ext cx="838080" cy="251460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52640" y="762120"/>
            <a:ext cx="7405560" cy="5410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23840" y="117360"/>
            <a:ext cx="251712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Times New Roman"/>
              </a:rPr>
              <a:t>Borrador de F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00240" y="380880"/>
            <a:ext cx="680076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6858000" cy="2590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H="1" flipV="1">
            <a:off x="4952880" y="6172200"/>
            <a:ext cx="3657600" cy="3808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00400" y="6248520"/>
            <a:ext cx="2286000" cy="341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 flipV="1">
            <a:off x="8381880" y="2666880"/>
            <a:ext cx="457200" cy="41911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6553080" y="2437920"/>
            <a:ext cx="1524240" cy="30481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 flipV="1">
            <a:off x="4038480" y="1905120"/>
            <a:ext cx="4724640" cy="49528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657600" y="2057040"/>
            <a:ext cx="5105520" cy="4800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2133360" y="2286000"/>
            <a:ext cx="6629400" cy="45720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286000" y="2819520"/>
            <a:ext cx="6477120" cy="40384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204920"/>
            <a:ext cx="8001000" cy="5272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76520" y="345960"/>
            <a:ext cx="56386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Times New Roman"/>
              </a:rPr>
              <a:t>Borrador de datos con cálculos por CU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8001000" y="1981080"/>
            <a:ext cx="838080" cy="45720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52600" y="1190520"/>
            <a:ext cx="6238800" cy="4753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76520" y="345960"/>
            <a:ext cx="56386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Times New Roman"/>
              </a:rPr>
              <a:t>Borrador de datos con cálculos por CU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143000" y="5715000"/>
            <a:ext cx="6838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00400" y="6248520"/>
            <a:ext cx="2286000" cy="341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H="1" flipV="1">
            <a:off x="5486040" y="6324480"/>
            <a:ext cx="3352680" cy="5335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V="1">
            <a:off x="7086600" y="3809880"/>
            <a:ext cx="1523880" cy="22860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224000"/>
            <a:ext cx="9144000" cy="5634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95280" y="304920"/>
            <a:ext cx="6705720" cy="459720"/>
          </a:xfrm>
          <a:prstGeom prst="rect">
            <a:avLst/>
          </a:prstGeom>
          <a:noFill/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Times New Roman"/>
              </a:rPr>
              <a:t>Reporte todos los CUILES de la nom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s las Obra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71800" y="2361960"/>
            <a:ext cx="685800" cy="53316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057400" y="2666520"/>
            <a:ext cx="1600200" cy="11430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581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r Obra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934320" y="2438280"/>
            <a:ext cx="1143000" cy="152424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191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Ver la nomina 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67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3371760"/>
            <a:ext cx="91440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80920" y="0"/>
            <a:ext cx="7382160" cy="3276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7334280" cy="3581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H="1">
            <a:off x="5257440" y="6019920"/>
            <a:ext cx="3886200" cy="53316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 flipV="1">
            <a:off x="8381520" y="838080"/>
            <a:ext cx="762120" cy="60199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flipH="1" flipV="1">
            <a:off x="5409720" y="3428640"/>
            <a:ext cx="3505320" cy="34290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172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4419360" y="5714640"/>
            <a:ext cx="4724280" cy="11430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6019920" y="5790960"/>
            <a:ext cx="3124080" cy="10666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6629040" y="5562720"/>
            <a:ext cx="2514600" cy="12952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52480" y="838080"/>
            <a:ext cx="7439040" cy="4357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H="1" flipV="1">
            <a:off x="5181480" y="2971440"/>
            <a:ext cx="3733920" cy="38862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286000"/>
            <a:ext cx="5335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V="1">
            <a:off x="838080" y="3200400"/>
            <a:ext cx="3962520" cy="3657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990720" y="5257800"/>
            <a:ext cx="4876560" cy="1447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990720" y="5410080"/>
            <a:ext cx="5715000" cy="1447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066680" y="5410080"/>
            <a:ext cx="6096240" cy="1447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H="1" flipV="1">
            <a:off x="8305920" y="2819520"/>
            <a:ext cx="838080" cy="40384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8076960" y="3962160"/>
            <a:ext cx="1066680" cy="28954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7924320" y="4191120"/>
            <a:ext cx="1219320" cy="2666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7772400" y="4419360"/>
            <a:ext cx="1371600" cy="2438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71560" y="1114560"/>
            <a:ext cx="7400880" cy="4628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 flipV="1">
            <a:off x="4266720" y="1828440"/>
            <a:ext cx="4876920" cy="3886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380880"/>
            <a:ext cx="8305560" cy="175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cc"/>
                </a:solidFill>
                <a:latin typeface="Times New Roman"/>
              </a:rPr>
              <a:t>PERIODO A CONFECCIONAR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cc"/>
                </a:solidFill>
                <a:latin typeface="Times New Roman"/>
              </a:rPr>
              <a:t>Con/sin  nóm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cc"/>
                </a:solidFill>
                <a:latin typeface="Times New Roman"/>
              </a:rPr>
              <a:t>Con/sin archivo de impor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534160" cy="3200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 flipV="1">
            <a:off x="4724280" y="3581280"/>
            <a:ext cx="4114800" cy="2286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4038480" y="3962520"/>
            <a:ext cx="4724640" cy="18288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657600" y="4343400"/>
            <a:ext cx="5105520" cy="1447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05120" y="533520"/>
            <a:ext cx="5486400" cy="45972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Periodo anterior a 2-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0980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048280" cy="2362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H="1">
            <a:off x="3504960" y="914400"/>
            <a:ext cx="2057400" cy="22096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9:50:34Z</dcterms:created>
  <dc:creator>a</dc:creator>
  <dc:description/>
  <dc:language>en-US</dc:language>
  <cp:lastModifiedBy>Congresos y Eventos</cp:lastModifiedBy>
  <dcterms:modified xsi:type="dcterms:W3CDTF">2008-07-02T19:27:05Z</dcterms:modified>
  <cp:revision>2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4623632</vt:r8>
  </property>
  <property fmtid="{D5CDD505-2E9C-101B-9397-08002B2CF9AE}" pid="3" name="_AuthorEmail">
    <vt:lpwstr>rosanafrachia@cponline.org.ar</vt:lpwstr>
  </property>
  <property fmtid="{D5CDD505-2E9C-101B-9397-08002B2CF9AE}" pid="4" name="_AuthorEmailDisplayName">
    <vt:lpwstr>Rosana Laura Frachia</vt:lpwstr>
  </property>
  <property fmtid="{D5CDD505-2E9C-101B-9397-08002B2CF9AE}" pid="5" name="_EmailSubject">
    <vt:lpwstr>Material Mi Simplificación Faltante</vt:lpwstr>
  </property>
  <property fmtid="{D5CDD505-2E9C-101B-9397-08002B2CF9AE}" pid="6" name="_PreviousAdHocReviewCycleID">
    <vt:r8>243709214</vt:r8>
  </property>
</Properties>
</file>