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0.xml.rels" ContentType="application/vnd.openxmlformats-package.relationships+xml"/>
  <Override PartName="/ppt/notesSlides/notesSlide8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7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3.gif" ContentType="image/gif"/>
  <Override PartName="/ppt/media/image86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10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6A2-0307-452D-B73D-493BE91B28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631A-E1EA-408F-BAF4-882C6D0B65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2D95-7C92-4395-B41E-D6975E1496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6FF-785B-4ACD-8F26-B69DF330D9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251B-8D1D-4FC6-BD89-095C3F7688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0CEE-8CE4-41C9-8030-B4B4D56457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463-AD6D-44FA-B4F9-63428E9BE8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F91D-3A13-46DD-8BDC-9ED0794D68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B166-2ACB-4715-9C1C-4969865F9C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1227-36D8-4106-9041-0FC39F5B52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C65-40FA-43A1-B767-5D692BD1FF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EFE-E27E-4071-9F6A-1B1AE83366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5C7A-CA84-4E71-8A99-9FEAE70BCA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3531-D6AB-46A7-A42A-B61AA6DFA4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137-A320-4B0D-BF44-DCAC70E6FE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82D-FE05-4EFF-BE8B-9E10EB9DF6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A88-716F-499B-915E-3CB5F2E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49A-4B18-490C-B957-D3096C76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04D-51C5-4034-9A7F-8F8D1470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24A-9C8C-4A83-83A8-8E227909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FAE-AF30-416A-93AD-E2F264C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71D-03F5-4B99-B600-A97AFD48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55F-46E4-4D8F-9560-A307453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1FA-D663-465F-BACE-ABAAE3F4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806-EB0F-4E39-8B45-AD0D9EB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C7D-4103-4560-8F6F-047BCC0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0A3-2E35-4B2E-8DB8-3C04D33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9D5-E8FC-4D46-88C6-34F8EF7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07C-8EA6-4B92-A2E9-02C4B9307300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2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33.wmf"/><Relationship Id="rId14" Type="http://schemas.openxmlformats.org/officeDocument/2006/relationships/package" Target="../embeddings/oleObject4.xlsx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0.png"/><Relationship Id="rId18" Type="http://schemas.openxmlformats.org/officeDocument/2006/relationships/oleObject" Target="../embeddings/oleObject6.bin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5.wmf"/><Relationship Id="rId12" Type="http://schemas.openxmlformats.org/officeDocument/2006/relationships/package" Target="../embeddings/oleObject3.xlsx"/><Relationship Id="rId13" Type="http://schemas.openxmlformats.org/officeDocument/2006/relationships/image" Target="../media/image36.wmf"/><Relationship Id="rId14" Type="http://schemas.openxmlformats.org/officeDocument/2006/relationships/image" Target="../media/image37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38.wmf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package" Target="../embeddings/oleObject2.xlsx"/><Relationship Id="rId11" Type="http://schemas.openxmlformats.org/officeDocument/2006/relationships/image" Target="../media/image40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6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image" Target="../media/image78.png"/><Relationship Id="rId14" Type="http://schemas.openxmlformats.org/officeDocument/2006/relationships/image" Target="../media/image79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gif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3.gif"/><Relationship Id="rId6" Type="http://schemas.openxmlformats.org/officeDocument/2006/relationships/slideLayout" Target="../slideLayouts/slideLayout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62120" y="260280"/>
          <a:ext cx="73152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0280"/>
                    <a:ext cx="73152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232200" y="1544400"/>
            <a:ext cx="8671320" cy="2833920"/>
            <a:chOff x="232200" y="1544400"/>
            <a:chExt cx="8671320" cy="2833920"/>
          </a:xfrm>
        </p:grpSpPr>
        <p:cxnSp>
          <p:nvCxnSpPr>
            <p:cNvPr id="51" name="_s245787"/>
            <p:cNvCxnSpPr>
              <a:stCxn id="52" idx="0"/>
              <a:endCxn id="53" idx="2"/>
            </p:cNvCxnSpPr>
            <p:nvPr/>
          </p:nvCxnSpPr>
          <p:spPr>
            <a:xfrm flipV="1" rot="16200000">
              <a:off x="5889960" y="914400"/>
              <a:ext cx="228960" cy="2872800"/>
            </a:xfrm>
            <a:prstGeom prst="bentConnector5">
              <a:avLst>
                <a:gd name="adj1" fmla="val 101259"/>
                <a:gd name="adj2" fmla="val -50933"/>
                <a:gd name="adj3" fmla="val -440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4578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4453200" y="2350800"/>
              <a:ext cx="228960" cy="7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45789"/>
            <p:cNvCxnSpPr>
              <a:stCxn id="57" idx="0"/>
              <a:endCxn id="53" idx="2"/>
            </p:cNvCxnSpPr>
            <p:nvPr/>
          </p:nvCxnSpPr>
          <p:spPr>
            <a:xfrm flipH="1" flipV="1" rot="5400000">
              <a:off x="3016800" y="914400"/>
              <a:ext cx="228960" cy="2873520"/>
            </a:xfrm>
            <a:prstGeom prst="bentConnector5">
              <a:avLst>
                <a:gd name="adj1" fmla="val 101259"/>
                <a:gd name="adj2" fmla="val -50908"/>
                <a:gd name="adj3" fmla="val -440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245790"/>
            <p:cNvSpPr/>
            <p:nvPr/>
          </p:nvSpPr>
          <p:spPr>
            <a:xfrm>
              <a:off x="2727000" y="1544400"/>
              <a:ext cx="3682080" cy="692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500" spc="-1" strike="noStrike">
                  <a:solidFill>
                    <a:srgbClr val="333399"/>
                  </a:solidFill>
                  <a:latin typeface="Arial"/>
                </a:rPr>
                <a:t>ALTERNATIVA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45791"/>
            <p:cNvSpPr/>
            <p:nvPr/>
          </p:nvSpPr>
          <p:spPr>
            <a:xfrm>
              <a:off x="4636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333399"/>
                  </a:solidFill>
                  <a:latin typeface="Arial"/>
                </a:rPr>
                <a:t>ON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45792"/>
            <p:cNvSpPr/>
            <p:nvPr/>
          </p:nvSpPr>
          <p:spPr>
            <a:xfrm>
              <a:off x="33364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333399"/>
                  </a:solidFill>
                  <a:latin typeface="Arial"/>
                </a:rPr>
                <a:t>OFF LINE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45793"/>
            <p:cNvSpPr/>
            <p:nvPr/>
          </p:nvSpPr>
          <p:spPr>
            <a:xfrm>
              <a:off x="6209280" y="2465280"/>
              <a:ext cx="2462400" cy="77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840" rIns="8784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4000" spc="-1" strike="noStrike">
                  <a:solidFill>
                    <a:srgbClr val="333399"/>
                  </a:solidFill>
                  <a:latin typeface="Arial"/>
                </a:rPr>
                <a:t>F.885N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3120" y="3657600"/>
              <a:ext cx="17269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333399"/>
                  </a:solidFill>
                  <a:latin typeface="Arial"/>
                </a:rPr>
                <a:t>F.93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03280" y="3645000"/>
            <a:ext cx="3148200" cy="2173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3716280"/>
            <a:ext cx="712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838400" y="4781520"/>
            <a:ext cx="2800440" cy="927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676680"/>
            <a:ext cx="1587600" cy="66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Arial"/>
              </a:rPr>
              <a:t>F.9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93892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64200" y="4282920"/>
            <a:ext cx="16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14972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Arial"/>
              </a:rPr>
              <a:t>AG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86560" y="3278160"/>
            <a:ext cx="38160" cy="798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00640" y="3219480"/>
            <a:ext cx="57240" cy="495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33840" y="4343400"/>
            <a:ext cx="76320" cy="1085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181480"/>
            <a:ext cx="3940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NOVE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200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32004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352680"/>
            <a:ext cx="30481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44197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24280" y="4800600"/>
            <a:ext cx="2819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2096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14320" y="457200"/>
          <a:ext cx="80247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457200"/>
                    <a:ext cx="80247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476280"/>
          <a:ext cx="292896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29289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 flipV="1">
            <a:off x="5076720" y="5950080"/>
            <a:ext cx="3672000" cy="907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4859280" y="4868640"/>
            <a:ext cx="3673440" cy="1989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956720" y="4436640"/>
            <a:ext cx="576000" cy="2421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15160" cy="536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5410080" y="404640"/>
          <a:ext cx="274320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04640"/>
                    <a:ext cx="27432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963720" y="457200"/>
          <a:ext cx="7723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457200"/>
                    <a:ext cx="7723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96000" y="549360"/>
          <a:ext cx="27432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549360"/>
                    <a:ext cx="27432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4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404640"/>
          <a:ext cx="8496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4640"/>
                    <a:ext cx="8496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flipH="1" flipV="1">
            <a:off x="3276720" y="1628280"/>
            <a:ext cx="5410080" cy="31719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7092720" y="1844280"/>
            <a:ext cx="1655640" cy="3024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685800" y="380880"/>
            <a:ext cx="7918200" cy="6216480"/>
            <a:chOff x="685800" y="380880"/>
            <a:chExt cx="7918200" cy="621648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725760" y="6361920"/>
              <a:ext cx="78782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85800" y="380880"/>
              <a:ext cx="791820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629520" y="1027080"/>
              <a:ext cx="164484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525420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6898680" y="1027080"/>
              <a:ext cx="1644480" cy="2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118000" y="636192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0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808920" y="1437480"/>
            <a:ext cx="79560" cy="820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8920" y="1437480"/>
                      <a:ext cx="79560" cy="82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778320" y="1406520"/>
              <a:ext cx="5469840" cy="933120"/>
              <a:chOff x="778320" y="1406520"/>
              <a:chExt cx="5469840" cy="933120"/>
            </a:xfrm>
          </p:grpSpPr>
          <p:sp>
            <p:nvSpPr>
              <p:cNvPr id="86" name=""/>
              <p:cNvSpPr/>
              <p:nvPr/>
            </p:nvSpPr>
            <p:spPr>
              <a:xfrm>
                <a:off x="806760" y="1437480"/>
                <a:ext cx="544140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7" name=""/>
              <p:cNvGraphicFramePr/>
              <p:nvPr/>
            </p:nvGraphicFramePr>
            <p:xfrm>
              <a:off x="778320" y="1406520"/>
              <a:ext cx="109800" cy="93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8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78320" y="1406520"/>
                        <a:ext cx="109800" cy="93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9" name=""/>
            <p:cNvSpPr/>
            <p:nvPr/>
          </p:nvSpPr>
          <p:spPr>
            <a:xfrm>
              <a:off x="1132200" y="3161160"/>
              <a:ext cx="32482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725760" y="1263240"/>
              <a:ext cx="7877880" cy="5108040"/>
              <a:chOff x="725760" y="1263240"/>
              <a:chExt cx="7877880" cy="5108040"/>
            </a:xfrm>
          </p:grpSpPr>
          <p:pic>
            <p:nvPicPr>
              <p:cNvPr id="9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5760" y="1263240"/>
                <a:ext cx="7877880" cy="5108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2" name=""/>
              <p:cNvGrpSpPr/>
              <p:nvPr/>
            </p:nvGrpSpPr>
            <p:grpSpPr>
              <a:xfrm>
                <a:off x="766080" y="1437480"/>
                <a:ext cx="5469840" cy="932760"/>
                <a:chOff x="766080" y="1437480"/>
                <a:chExt cx="5469840" cy="93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94520" y="1468440"/>
                  <a:ext cx="544140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94" name=""/>
                <p:cNvGraphicFramePr/>
                <p:nvPr/>
              </p:nvGraphicFramePr>
              <p:xfrm>
                <a:off x="766080" y="1437480"/>
                <a:ext cx="109800" cy="9327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5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766080" y="1437480"/>
                          <a:ext cx="109800" cy="932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96" name=""/>
          <p:cNvSpPr/>
          <p:nvPr/>
        </p:nvSpPr>
        <p:spPr>
          <a:xfrm>
            <a:off x="69184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410080" y="404640"/>
          <a:ext cx="2791080" cy="621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4640"/>
                    <a:ext cx="2791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4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412800" y="1981080"/>
            <a:ext cx="229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GISTRAR  MEDIOS  DE  CONTAC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743200" y="2362320"/>
            <a:ext cx="3352680" cy="3045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743200" y="2971800"/>
            <a:ext cx="3352680" cy="457200"/>
          </a:xfrm>
          <a:prstGeom prst="rect">
            <a:avLst/>
          </a:prstGeom>
          <a:solidFill>
            <a:srgbClr val="ddffff">
              <a:alpha val="5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2004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429000"/>
            <a:ext cx="3352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2971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Teléfo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9862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743200" y="2362320"/>
            <a:ext cx="3352680" cy="610200"/>
            <a:chOff x="2743200" y="2362320"/>
            <a:chExt cx="3352680" cy="610200"/>
          </a:xfrm>
        </p:grpSpPr>
        <p:sp>
          <p:nvSpPr>
            <p:cNvPr id="159" name=""/>
            <p:cNvSpPr/>
            <p:nvPr/>
          </p:nvSpPr>
          <p:spPr>
            <a:xfrm>
              <a:off x="2743200" y="2362320"/>
              <a:ext cx="3352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edios de contacto registrados en nuestra base de dat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743200" y="2635200"/>
              <a:ext cx="3352680" cy="337320"/>
              <a:chOff x="2743200" y="2635200"/>
              <a:chExt cx="3352680" cy="337320"/>
            </a:xfrm>
          </p:grpSpPr>
          <p:sp>
            <p:nvSpPr>
              <p:cNvPr id="161" name=""/>
              <p:cNvSpPr/>
              <p:nvPr/>
            </p:nvSpPr>
            <p:spPr>
              <a:xfrm>
                <a:off x="2743200" y="2635200"/>
                <a:ext cx="60948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Medi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52680" y="2635200"/>
                <a:ext cx="18288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Descrip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181480" y="2635200"/>
                <a:ext cx="914400" cy="33732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Tip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33526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666880"/>
            <a:ext cx="0" cy="7621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9862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4123-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214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-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32148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elcontribuyente@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214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66"/>
                </a:solidFill>
                <a:latin typeface="Tahoma"/>
              </a:rPr>
              <a:t>Comer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2666880"/>
            <a:ext cx="685800" cy="457200"/>
          </a:xfrm>
          <a:prstGeom prst="wedgeRoundRectCallout">
            <a:avLst>
              <a:gd name="adj1" fmla="val -86111"/>
              <a:gd name="adj2" fmla="val 43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aja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5943600" y="30481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5943600" y="3276720"/>
            <a:ext cx="95400" cy="11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3733920" y="5410080"/>
            <a:ext cx="1390680" cy="257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66880" y="4952880"/>
            <a:ext cx="762120" cy="609840"/>
          </a:xfrm>
          <a:prstGeom prst="wedgeRoundRectCallout">
            <a:avLst>
              <a:gd name="adj1" fmla="val 85208"/>
              <a:gd name="adj2" fmla="val 40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egistr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ltas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edios 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1.6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5715000"/>
            <a:ext cx="7391160" cy="219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06668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ersonas fís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442880" y="2585880"/>
          <a:ext cx="4476960" cy="167328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2880" y="2585880"/>
                    <a:ext cx="44769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479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4343400"/>
          <a:ext cx="2895480" cy="6858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8320" y="434340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H="1" flipV="1">
            <a:off x="6172200" y="5791320"/>
            <a:ext cx="417600" cy="303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 flipH="1" flipV="1">
            <a:off x="4723920" y="2514600"/>
            <a:ext cx="3886200" cy="3124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2280" y="5799240"/>
            <a:ext cx="5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2362320"/>
            <a:ext cx="662148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atos societarios - Personas juríd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43000" y="2590920"/>
          <a:ext cx="6629400" cy="148572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90920"/>
                    <a:ext cx="6629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143000" y="4191120"/>
          <a:ext cx="2895480" cy="685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191120"/>
                    <a:ext cx="28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3886200" y="5486400"/>
            <a:ext cx="1390680" cy="25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410080" y="333360"/>
          <a:ext cx="2743200" cy="503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333360"/>
                    <a:ext cx="2743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H="1" flipV="1">
            <a:off x="5333760" y="2514600"/>
            <a:ext cx="2819160" cy="32004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09720" y="5638680"/>
            <a:ext cx="266724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1047600"/>
            <a:ext cx="7391520" cy="4743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38080" y="5781600"/>
            <a:ext cx="7391520" cy="219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00280" y="22860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62200" y="82872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508644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629400" y="82872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838080" y="1047600"/>
            <a:ext cx="7391520" cy="4734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560" y="578952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6.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3364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87400" y="1181160"/>
          <a:ext cx="103320" cy="73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81160"/>
                    <a:ext cx="1033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914400" y="1971720"/>
            <a:ext cx="7197840" cy="179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DATOS  DEL  PAD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352600"/>
            <a:ext cx="6621480" cy="1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ridades societarias en ejercicio o componentes sociales según RG 4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143000" y="2576520"/>
          <a:ext cx="6354720" cy="10476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2576520"/>
                    <a:ext cx="63547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3809880" y="5477040"/>
            <a:ext cx="139068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867280" y="295200"/>
          <a:ext cx="1981440" cy="51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7280" y="295200"/>
                    <a:ext cx="1981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 flipV="1">
            <a:off x="6132600" y="2514240"/>
            <a:ext cx="496800" cy="43434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10080" y="260280"/>
          <a:ext cx="274320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260280"/>
                    <a:ext cx="274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38080" y="5791320"/>
            <a:ext cx="7391520" cy="21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280" y="237960"/>
            <a:ext cx="7429320" cy="828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3562200" y="838080"/>
            <a:ext cx="154332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508644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6629400" y="838080"/>
            <a:ext cx="154296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8080" y="1057320"/>
            <a:ext cx="7391520" cy="4743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22000" y="579924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.1.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143000"/>
            <a:ext cx="5105520" cy="80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CUIT - CONTRIBUYENTE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33-12345678-1 - EMPLEADO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INICIO EMPLEADOR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ART CONTRATADA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00019 - BERKLEY INTERNACIONAL ASEGURADORA DE RIESGOS DE TRABA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(Ingresada por el contribuyente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Arial"/>
              </a:rPr>
              <a:t>FECHA DE CONTRATACION: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01/01/2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87400" y="1190520"/>
          <a:ext cx="103320" cy="738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7400" y="1190520"/>
                    <a:ext cx="1033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914400" y="1981080"/>
            <a:ext cx="7197840" cy="17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SULTA  DE  OBRAS  SO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1720" y="2362320"/>
            <a:ext cx="5038560" cy="179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talle de entidades relacionadas con las actividades de la empr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962000" y="2562120"/>
          <a:ext cx="5048280" cy="11718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62000" y="2562120"/>
                    <a:ext cx="504828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5867280" y="304920"/>
          <a:ext cx="1981440" cy="514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304920"/>
                    <a:ext cx="19814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410080" y="333360"/>
          <a:ext cx="283392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333360"/>
                    <a:ext cx="2833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V="1">
            <a:off x="1143000" y="3505320"/>
            <a:ext cx="4191120" cy="304776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80880" y="304920"/>
          <a:ext cx="82947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294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410080" y="333360"/>
          <a:ext cx="31942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3194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651640" y="404640"/>
          <a:ext cx="2808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404640"/>
                    <a:ext cx="2808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2133720" y="3886200"/>
            <a:ext cx="0" cy="26668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133720" y="5866920"/>
            <a:ext cx="1752480" cy="6858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ICIO COMO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AR DOMICILIOS DE EXPLOTA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AR OBR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VENIO COLECTIVO DE TRABAJO O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FUERA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CONV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94000" y="274680"/>
          <a:ext cx="61545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274680"/>
                    <a:ext cx="6154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990720" y="4343400"/>
            <a:ext cx="7391160" cy="25146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590560" y="4419360"/>
            <a:ext cx="5715000" cy="2438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229600" y="4266720"/>
            <a:ext cx="152280" cy="25909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971440" y="4114800"/>
            <a:ext cx="5257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590920" y="6324480"/>
            <a:ext cx="54864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380880" y="517680"/>
          <a:ext cx="8153640" cy="58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17680"/>
                    <a:ext cx="8153640" cy="58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 flipH="1" flipV="1">
            <a:off x="5181480" y="1752120"/>
            <a:ext cx="3633840" cy="4403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609480" y="304920"/>
          <a:ext cx="7925040" cy="59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92504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 flipH="1" flipV="1">
            <a:off x="5105520" y="1523520"/>
            <a:ext cx="3504960" cy="4953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457200" y="38088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 flipH="1" flipV="1">
            <a:off x="4724280" y="1599840"/>
            <a:ext cx="3353040" cy="4800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457200" y="457200"/>
          <a:ext cx="815328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1532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 flipV="1">
            <a:off x="5562360" y="1752120"/>
            <a:ext cx="3276360" cy="4496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95320" y="533520"/>
          <a:ext cx="77151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533520"/>
                    <a:ext cx="7715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191280" cy="52578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61722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6720" y="230040"/>
            <a:ext cx="83599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609480" y="380880"/>
          <a:ext cx="7925040" cy="58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7925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H="1" flipV="1">
            <a:off x="5638320" y="1599840"/>
            <a:ext cx="2598840" cy="1785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410080" y="404640"/>
          <a:ext cx="30495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049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33360"/>
          <a:ext cx="856764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5676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 flipH="1" flipV="1">
            <a:off x="5076720" y="6092640"/>
            <a:ext cx="1943280" cy="765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10080" y="404640"/>
          <a:ext cx="3049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04640"/>
                    <a:ext cx="3049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H="1" flipV="1">
            <a:off x="7924680" y="4114440"/>
            <a:ext cx="91440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410080" y="476280"/>
          <a:ext cx="319428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76280"/>
                    <a:ext cx="3194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479840" y="2779560"/>
            <a:ext cx="1843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33520" y="457200"/>
          <a:ext cx="8229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508720" y="476280"/>
          <a:ext cx="32655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265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 flipV="1">
            <a:off x="3352320" y="4266720"/>
            <a:ext cx="5410440" cy="25909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428640" y="4572000"/>
            <a:ext cx="5257800" cy="228600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3428640" y="4876560"/>
            <a:ext cx="5334120" cy="19810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428640" y="5105520"/>
            <a:ext cx="5257800" cy="17524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28600" y="260280"/>
            <a:ext cx="7324560" cy="6221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523880" y="795240"/>
            <a:ext cx="700884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flipH="1" flipV="1">
            <a:off x="8077320" y="4114440"/>
            <a:ext cx="761760" cy="2438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940360" y="476280"/>
          <a:ext cx="274320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476280"/>
                    <a:ext cx="2743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934920" y="457200"/>
          <a:ext cx="7675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457200"/>
                    <a:ext cx="7675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 flipH="1" flipV="1">
            <a:off x="5333760" y="2666880"/>
            <a:ext cx="3276360" cy="3353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508720" y="476280"/>
          <a:ext cx="31687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476280"/>
                    <a:ext cx="31687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7924680" y="4952880"/>
            <a:ext cx="609840" cy="10670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873000" y="457200"/>
          <a:ext cx="78901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457200"/>
                    <a:ext cx="78901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 flipH="1" flipV="1">
            <a:off x="8381520" y="4266720"/>
            <a:ext cx="762120" cy="2210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940360" y="549360"/>
          <a:ext cx="274320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549360"/>
                    <a:ext cx="2743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876240" y="457200"/>
          <a:ext cx="773424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57200"/>
                    <a:ext cx="773424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 flipH="1" flipV="1">
            <a:off x="5105160" y="1905120"/>
            <a:ext cx="3276360" cy="350496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66920" y="5486400"/>
            <a:ext cx="2514600" cy="76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14400" y="2057400"/>
            <a:ext cx="7391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GISTRAR ANULACIONES DE B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2362320"/>
            <a:ext cx="6400800" cy="231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leccione CONFIRMAR para dar curso o CANCELAR, en caso contr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6095520" y="2209680"/>
            <a:ext cx="2667240" cy="426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334120" y="2514600"/>
            <a:ext cx="914400" cy="2895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943600" y="733320"/>
          <a:ext cx="198108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733320"/>
                    <a:ext cx="19810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8497800" cy="54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5410080" y="549360"/>
          <a:ext cx="3409920" cy="50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549360"/>
                    <a:ext cx="340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496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771640" y="2852280"/>
            <a:ext cx="561672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920000" cy="5329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 flipH="1" flipV="1">
            <a:off x="7956720" y="4941360"/>
            <a:ext cx="1371600" cy="213372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435640" y="981000"/>
          <a:ext cx="32400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981000"/>
                    <a:ext cx="3240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347840"/>
            <a:ext cx="7815240" cy="5129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5410080" y="4419720"/>
            <a:ext cx="914400" cy="16761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428640" y="5181480"/>
            <a:ext cx="1981080" cy="914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047760" y="5486040"/>
            <a:ext cx="2438280" cy="6858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666880" y="5715000"/>
            <a:ext cx="2743200" cy="457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315200" y="5257440"/>
            <a:ext cx="182880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7391520" y="5943600"/>
            <a:ext cx="1752480" cy="9144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962160" y="4800240"/>
            <a:ext cx="5181480" cy="20574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5867280" y="685800"/>
          <a:ext cx="20574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85800"/>
                    <a:ext cx="2057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8381880" cy="60962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flipH="1" flipV="1">
            <a:off x="2666880" y="4800600"/>
            <a:ext cx="6096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915400" cy="5833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H="1" flipV="1">
            <a:off x="4495680" y="3962160"/>
            <a:ext cx="4114800" cy="289548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3276720" y="4038480"/>
            <a:ext cx="5333760" cy="281952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6227640" y="3789360"/>
            <a:ext cx="2586240" cy="542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7667280" y="3787920"/>
            <a:ext cx="1111320" cy="5443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4140000" y="3933360"/>
            <a:ext cx="4770360" cy="398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8101080" y="3644640"/>
            <a:ext cx="650880" cy="709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651280" y="4286160"/>
            <a:ext cx="3157560" cy="64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4978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62880" cy="3429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562880" cy="2895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 flipH="1" flipV="1">
            <a:off x="7238880" y="5562720"/>
            <a:ext cx="1905120" cy="129528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5800" y="228600"/>
            <a:ext cx="7543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 flipH="1" flipV="1">
            <a:off x="5579640" y="3573000"/>
            <a:ext cx="3024360" cy="280836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flipH="1" flipV="1">
            <a:off x="5292720" y="4005360"/>
            <a:ext cx="3851280" cy="285264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 flipV="1">
            <a:off x="4716000" y="5300640"/>
            <a:ext cx="4427640" cy="1224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76240" y="676440"/>
            <a:ext cx="7391520" cy="55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5943600" y="685800"/>
          <a:ext cx="198108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685800"/>
                    <a:ext cx="19810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508720" y="692280"/>
          <a:ext cx="27432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720" y="692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826920" y="404640"/>
            <a:ext cx="7239240" cy="5772240"/>
            <a:chOff x="826920" y="404640"/>
            <a:chExt cx="7239240" cy="577224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863640" y="5958000"/>
              <a:ext cx="72021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>
              <a:off x="826920" y="404640"/>
              <a:ext cx="723924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3"/>
            <a:stretch/>
          </p:blipFill>
          <p:spPr>
            <a:xfrm>
              <a:off x="3517920" y="1004760"/>
              <a:ext cx="15037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4"/>
            <a:stretch/>
          </p:blipFill>
          <p:spPr>
            <a:xfrm>
              <a:off x="5003280" y="100476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5"/>
            <a:stretch/>
          </p:blipFill>
          <p:spPr>
            <a:xfrm>
              <a:off x="6506640" y="1004760"/>
              <a:ext cx="15033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622280" y="5958000"/>
              <a:ext cx="420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.3.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2" name=""/>
            <p:cNvGraphicFramePr/>
            <p:nvPr/>
          </p:nvGraphicFramePr>
          <p:xfrm>
            <a:off x="939240" y="1386000"/>
            <a:ext cx="7272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39240" y="1386000"/>
                      <a:ext cx="7272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4" name=""/>
            <p:cNvGrpSpPr/>
            <p:nvPr/>
          </p:nvGrpSpPr>
          <p:grpSpPr>
            <a:xfrm>
              <a:off x="911520" y="1357200"/>
              <a:ext cx="5000760" cy="866880"/>
              <a:chOff x="911520" y="1357200"/>
              <a:chExt cx="5000760" cy="866880"/>
            </a:xfrm>
          </p:grpSpPr>
          <p:sp>
            <p:nvSpPr>
              <p:cNvPr id="415" name=""/>
              <p:cNvSpPr/>
              <p:nvPr/>
            </p:nvSpPr>
            <p:spPr>
              <a:xfrm>
                <a:off x="937800" y="1386000"/>
                <a:ext cx="4974480" cy="809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CUIT - CONTRIBUYENTE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33-12345678-1 - EMPLEADOR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INICIO EMPLEADOR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ART CONTRATADA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   00019 - BERKLEY INTERNACIONAL ASEGURADORA DE RIESGOS DE TRABAJ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(Ingresada por el contribuyente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700" spc="-1" strike="noStrike">
                    <a:solidFill>
                      <a:srgbClr val="333399"/>
                    </a:solidFill>
                    <a:latin typeface="Arial"/>
                  </a:rPr>
                  <a:t>FECHA DE CONTRATACION:</a:t>
                </a:r>
                <a:r>
                  <a:rPr b="0" lang="es-ES_tradnl" sz="700" spc="-1" strike="noStrike">
                    <a:solidFill>
                      <a:srgbClr val="000000"/>
                    </a:solidFill>
                    <a:latin typeface="Arial"/>
                  </a:rPr>
                  <a:t>    01/01/20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16" name=""/>
              <p:cNvGraphicFramePr/>
              <p:nvPr/>
            </p:nvGraphicFramePr>
            <p:xfrm>
              <a:off x="911520" y="1357200"/>
              <a:ext cx="100440" cy="8668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1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911520" y="1357200"/>
                        <a:ext cx="100440" cy="8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18" name=""/>
            <p:cNvSpPr/>
            <p:nvPr/>
          </p:nvSpPr>
          <p:spPr>
            <a:xfrm>
              <a:off x="1235160" y="2986200"/>
              <a:ext cx="296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63640" y="1224000"/>
              <a:ext cx="7202160" cy="4743360"/>
              <a:chOff x="863640" y="1224000"/>
              <a:chExt cx="7202160" cy="474336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63640" y="1224000"/>
                <a:ext cx="7202160" cy="4743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1" name=""/>
              <p:cNvGrpSpPr/>
              <p:nvPr/>
            </p:nvGrpSpPr>
            <p:grpSpPr>
              <a:xfrm>
                <a:off x="900720" y="1386000"/>
                <a:ext cx="5000400" cy="866520"/>
                <a:chOff x="900720" y="1386000"/>
                <a:chExt cx="5000400" cy="8665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927000" y="1414440"/>
                  <a:ext cx="4974120" cy="80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CUIT - CONTRIBUYENTE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33-12345678-1 - EMPLEADOR 1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INICIO EMPLEADOR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ART CONTRATADA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   00019 - BERKLEY INTERNACIONAL ASEGURADORA DE RIESGOS DE TRABAJ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            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(Ingresada por el contribuyente)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700" spc="-1" strike="noStrike">
                      <a:solidFill>
                        <a:srgbClr val="333399"/>
                      </a:solidFill>
                      <a:latin typeface="Arial"/>
                    </a:rPr>
                    <a:t>FECHA DE CONTRATACION: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Arial"/>
                    </a:rPr>
                    <a:t>    01/01/2000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23" name=""/>
                <p:cNvGraphicFramePr/>
                <p:nvPr/>
              </p:nvGraphicFramePr>
              <p:xfrm>
                <a:off x="900720" y="1386000"/>
                <a:ext cx="100440" cy="866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42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900720" y="1386000"/>
                          <a:ext cx="100440" cy="866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pic>
        <p:nvPicPr>
          <p:cNvPr id="425" name="" descr=""/>
          <p:cNvPicPr/>
          <p:nvPr/>
        </p:nvPicPr>
        <p:blipFill>
          <a:blip r:embed="rId13"/>
          <a:stretch/>
        </p:blipFill>
        <p:spPr>
          <a:xfrm>
            <a:off x="5791320" y="1076400"/>
            <a:ext cx="1523880" cy="15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14"/>
          <a:stretch/>
        </p:blipFill>
        <p:spPr>
          <a:xfrm>
            <a:off x="7315200" y="1076400"/>
            <a:ext cx="1523880" cy="16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427" name=""/>
          <p:cNvGraphicFramePr/>
          <p:nvPr/>
        </p:nvGraphicFramePr>
        <p:xfrm>
          <a:off x="5410080" y="333360"/>
          <a:ext cx="2617920" cy="50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0080" y="333360"/>
                    <a:ext cx="261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 flipV="1">
            <a:off x="1476360" y="1341360"/>
            <a:ext cx="5111640" cy="511344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0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"/>
          <p:cNvGraphicFramePr/>
          <p:nvPr/>
        </p:nvGraphicFramePr>
        <p:xfrm>
          <a:off x="5410080" y="549360"/>
          <a:ext cx="3265560" cy="57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5508720" y="692280"/>
          <a:ext cx="295092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692280"/>
                    <a:ext cx="29509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8207640" cy="6120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H="1" flipV="1">
            <a:off x="1258560" y="4365360"/>
            <a:ext cx="7885080" cy="208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64480" y="3344760"/>
            <a:ext cx="116028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03240" y="3381480"/>
            <a:ext cx="2057400" cy="8064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440" name="j0300520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844560" y="1797120"/>
            <a:ext cx="2143080" cy="1015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355760" y="808200"/>
            <a:ext cx="1089000" cy="9698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312920" y="882720"/>
            <a:ext cx="1181160" cy="36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MI REGIS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59680" y="4883040"/>
            <a:ext cx="1922400" cy="11620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75560" y="4923000"/>
            <a:ext cx="8967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80200" y="5324400"/>
            <a:ext cx="1915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BASE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ELACION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7144560" y="4438440"/>
            <a:ext cx="64440" cy="456120"/>
          </a:xfrm>
          <a:prstGeom prst="straightConnector1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7091280" y="3408480"/>
            <a:ext cx="731880" cy="9302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448" name="j0300520" descr=""/>
          <p:cNvPicPr/>
          <p:nvPr/>
        </p:nvPicPr>
        <p:blipFill>
          <a:blip r:embed="rId5">
            <a:lum bright="40000"/>
          </a:blip>
          <a:stretch/>
        </p:blipFill>
        <p:spPr>
          <a:xfrm>
            <a:off x="5124600" y="3395520"/>
            <a:ext cx="1268280" cy="792360"/>
          </a:xfrm>
          <a:prstGeom prst="rect">
            <a:avLst/>
          </a:prstGeom>
          <a:ln w="0">
            <a:noFill/>
          </a:ln>
        </p:spPr>
      </p:pic>
      <p:cxnSp>
        <p:nvCxnSpPr>
          <p:cNvPr id="449" name=""/>
          <p:cNvCxnSpPr/>
          <p:nvPr/>
        </p:nvCxnSpPr>
        <p:spPr>
          <a:xfrm>
            <a:off x="3049560" y="4094280"/>
            <a:ext cx="3791520" cy="8640"/>
          </a:xfrm>
          <a:prstGeom prst="straightConnector1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450" name=""/>
          <p:cNvCxnSpPr/>
          <p:nvPr/>
        </p:nvCxnSpPr>
        <p:spPr>
          <a:xfrm flipH="1" rot="16200000">
            <a:off x="887400" y="2524680"/>
            <a:ext cx="1797840" cy="2530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51" name=""/>
          <p:cNvCxnSpPr/>
          <p:nvPr/>
        </p:nvCxnSpPr>
        <p:spPr>
          <a:xfrm flipV="1" rot="16200000">
            <a:off x="1190160" y="2498040"/>
            <a:ext cx="1843920" cy="25956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7632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52" name=""/>
          <p:cNvCxnSpPr/>
          <p:nvPr/>
        </p:nvCxnSpPr>
        <p:spPr>
          <a:xfrm>
            <a:off x="3036960" y="3840120"/>
            <a:ext cx="3791520" cy="8640"/>
          </a:xfrm>
          <a:prstGeom prst="straightConnector1">
            <a:avLst/>
          </a:prstGeom>
          <a:ln w="76320">
            <a:solidFill>
              <a:srgbClr val="ff0000"/>
            </a:solidFill>
            <a:prstDash val="sysDot"/>
            <a:miter/>
            <a:head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684600" y="3622680"/>
            <a:ext cx="1422360" cy="71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99"/>
                </a:solidFill>
                <a:latin typeface="Arial"/>
                <a:ea typeface="Arial"/>
              </a:rPr>
              <a:t>WEB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99"/>
                </a:solidFill>
                <a:latin typeface="Arial"/>
                <a:ea typeface="Arial"/>
              </a:rPr>
              <a:t>CONSULTA ON LINE DE VINC. FAMILI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/>
          <p:nvPr/>
        </p:nvCxnSpPr>
        <p:spPr>
          <a:xfrm flipH="1">
            <a:off x="7437240" y="4414680"/>
            <a:ext cx="64080" cy="456480"/>
          </a:xfrm>
          <a:prstGeom prst="straightConnector1">
            <a:avLst/>
          </a:prstGeom>
          <a:ln w="76320">
            <a:solidFill>
              <a:srgbClr val="006600"/>
            </a:solidFill>
            <a:miter/>
            <a:headEnd len="med" type="triangle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886880" cy="54226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10184400">
            <a:off x="0" y="6019560"/>
            <a:ext cx="1371600" cy="838080"/>
          </a:xfrm>
          <a:prstGeom prst="wedgeEllipseCallout">
            <a:avLst>
              <a:gd name="adj1" fmla="val -81754"/>
              <a:gd name="adj2" fmla="val 123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lta de vinc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315200" y="3352680"/>
            <a:ext cx="1828800" cy="762120"/>
          </a:xfrm>
          <a:prstGeom prst="wedgeEllipseCallout">
            <a:avLst>
              <a:gd name="adj1" fmla="val -11023"/>
              <a:gd name="adj2" fmla="val 11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Novedad del vin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410080" y="765000"/>
          <a:ext cx="333864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765000"/>
                    <a:ext cx="3338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 flipV="1">
            <a:off x="6248520" y="4952520"/>
            <a:ext cx="1981080" cy="16765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04920" y="404640"/>
            <a:ext cx="853416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5410080" y="476280"/>
          <a:ext cx="34099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3409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871560" y="533520"/>
            <a:ext cx="7967520" cy="49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5410080" y="620640"/>
          <a:ext cx="340992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620640"/>
                    <a:ext cx="3409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 flipH="1" flipV="1">
            <a:off x="1447920" y="3809880"/>
            <a:ext cx="6705360" cy="23623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10840" cy="6172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 flipV="1">
            <a:off x="1907640" y="5444640"/>
            <a:ext cx="6551640" cy="863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44000" y="4941720"/>
            <a:ext cx="21564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496000" cy="617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 flipV="1">
            <a:off x="2771640" y="2852280"/>
            <a:ext cx="5616720" cy="35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915840" y="685800"/>
          <a:ext cx="784728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5800"/>
                    <a:ext cx="784728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 flipH="1" flipV="1">
            <a:off x="5334120" y="3657600"/>
            <a:ext cx="3504960" cy="3200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4419360" y="3733920"/>
            <a:ext cx="4343400" cy="31240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428640" y="3809520"/>
            <a:ext cx="5257800" cy="3048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3428640" y="4038480"/>
            <a:ext cx="5257800" cy="28195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 flipH="1" flipV="1">
            <a:off x="4572000" y="2923920"/>
            <a:ext cx="4572000" cy="39337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 flipH="1" flipV="1">
            <a:off x="3132000" y="2781360"/>
            <a:ext cx="5616720" cy="3672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80360" cy="6120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 flipH="1" flipV="1">
            <a:off x="5148000" y="3644640"/>
            <a:ext cx="3995640" cy="3213000"/>
          </a:xfrm>
          <a:prstGeom prst="line">
            <a:avLst/>
          </a:prstGeom>
          <a:ln w="7632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5724000" y="5157360"/>
            <a:ext cx="3419640" cy="170028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 flipH="1" flipV="1">
            <a:off x="4500720" y="3284640"/>
            <a:ext cx="3024000" cy="2232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4859280" y="4723920"/>
            <a:ext cx="26654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395280" y="260280"/>
          <a:ext cx="837396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37396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 flipH="1" flipV="1">
            <a:off x="3851280" y="3789000"/>
            <a:ext cx="4897440" cy="280836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152280" y="457200"/>
          <a:ext cx="8610840" cy="50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61084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228600" y="995400"/>
            <a:ext cx="8763120" cy="54054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 flipH="1" flipV="1">
            <a:off x="4343040" y="4114800"/>
            <a:ext cx="4800600" cy="274320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5486040" y="5486400"/>
            <a:ext cx="297180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181480" y="5714640"/>
            <a:ext cx="32767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5105160" y="5867280"/>
            <a:ext cx="33526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 flipH="1" flipV="1">
            <a:off x="3780000" y="3715920"/>
            <a:ext cx="5364000" cy="3141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1600200" y="2590920"/>
            <a:ext cx="0" cy="13716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057400" y="2209320"/>
            <a:ext cx="45720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 flipV="1">
            <a:off x="8458200" y="4114440"/>
            <a:ext cx="5335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280360" cy="61930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 flipH="1" flipV="1">
            <a:off x="7956720" y="4005360"/>
            <a:ext cx="1187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24000" y="6165720"/>
            <a:ext cx="0" cy="4320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050920" y="6021000"/>
            <a:ext cx="1944720" cy="5223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95640" y="6021360"/>
            <a:ext cx="3744720" cy="50328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2217200">
            <a:off x="6743520" y="5040000"/>
            <a:ext cx="2095200" cy="1758960"/>
          </a:xfrm>
          <a:prstGeom prst="cloudCallout">
            <a:avLst>
              <a:gd name="adj1" fmla="val 22217"/>
              <a:gd name="adj2" fmla="val 65148"/>
            </a:avLst>
          </a:prstGeom>
          <a:solidFill>
            <a:srgbClr val="ebebb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8020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947640" y="5516640"/>
            <a:ext cx="19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nular hasta las 24 hs del día de comun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 flipH="1" flipV="1">
            <a:off x="3348000" y="3284640"/>
            <a:ext cx="5796000" cy="357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 flipV="1">
            <a:off x="250920" y="3715920"/>
            <a:ext cx="1152360" cy="280836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885960" y="404640"/>
            <a:ext cx="7372080" cy="604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"/>
          <p:cNvGraphicFramePr/>
          <p:nvPr/>
        </p:nvGraphicFramePr>
        <p:xfrm>
          <a:off x="5410080" y="476280"/>
          <a:ext cx="2743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476280"/>
                    <a:ext cx="2743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 flipH="1" flipV="1">
            <a:off x="3995280" y="2276640"/>
            <a:ext cx="3961080" cy="3240000"/>
          </a:xfrm>
          <a:prstGeom prst="line">
            <a:avLst/>
          </a:prstGeom>
          <a:ln w="5724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48760" cy="554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5410080" y="549360"/>
          <a:ext cx="326556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2655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372440" cy="60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5410080" y="549360"/>
          <a:ext cx="304956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549360"/>
                    <a:ext cx="3049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39621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380880" y="4303800"/>
            <a:ext cx="8305920" cy="25542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H="1" flipV="1">
            <a:off x="5943600" y="5562360"/>
            <a:ext cx="3200400" cy="10666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5638320" y="5866920"/>
            <a:ext cx="3505320" cy="762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762120" y="304920"/>
          <a:ext cx="7380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380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537240" y="385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357000">
            <a:off x="6399360" y="4581360"/>
            <a:ext cx="2743200" cy="1413000"/>
          </a:xfrm>
          <a:prstGeom prst="wedgeEllipseCallout">
            <a:avLst>
              <a:gd name="adj1" fmla="val -102736"/>
              <a:gd name="adj2" fmla="val -120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s 48hs la respuesta de ANSES en ventanilla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5410080" y="333360"/>
          <a:ext cx="26910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33360"/>
                    <a:ext cx="2691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3:15:14Z</dcterms:created>
  <dc:creator>.</dc:creator>
  <dc:description/>
  <dc:language>en-US</dc:language>
  <cp:lastModifiedBy>Congresos y Eventos</cp:lastModifiedBy>
  <dcterms:modified xsi:type="dcterms:W3CDTF">2008-07-02T19:25:08Z</dcterms:modified>
  <cp:revision>5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477900</vt:r8>
  </property>
  <property fmtid="{D5CDD505-2E9C-101B-9397-08002B2CF9AE}" pid="3" name="_AuthorEmail">
    <vt:lpwstr>rosanafrachia@cponline.org.ar</vt:lpwstr>
  </property>
  <property fmtid="{D5CDD505-2E9C-101B-9397-08002B2CF9AE}" pid="4" name="_AuthorEmailDisplayName">
    <vt:lpwstr>Rosana Laura Frachia</vt:lpwstr>
  </property>
  <property fmtid="{D5CDD505-2E9C-101B-9397-08002B2CF9AE}" pid="5" name="_EmailSubject">
    <vt:lpwstr>Material Mi Simplificación Faltante</vt:lpwstr>
  </property>
</Properties>
</file>