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4.wmf" ContentType="image/x-wmf"/>
  <Override PartName="/ppt/media/image23.jpeg" ContentType="image/jpeg"/>
  <Override PartName="/ppt/media/image21.jpeg" ContentType="image/jpeg"/>
  <Override PartName="/ppt/media/image32.wmf" ContentType="image/x-wmf"/>
  <Override PartName="/ppt/media/image18.jpeg" ContentType="image/jpeg"/>
  <Override PartName="/ppt/media/image22.jpeg" ContentType="image/jpeg"/>
  <Override PartName="/ppt/media/image42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1.png" ContentType="image/png"/>
  <Override PartName="/ppt/media/image26.png" ContentType="image/png"/>
  <Override PartName="/ppt/media/image13.jpeg" ContentType="image/jpeg"/>
  <Override PartName="/ppt/media/image34.jpeg" ContentType="image/jpeg"/>
  <Override PartName="/ppt/media/image40.wmf" ContentType="image/x-wmf"/>
  <Override PartName="/ppt/media/image9.wmf" ContentType="image/x-wmf"/>
  <Override PartName="/ppt/media/image35.png" ContentType="image/png"/>
  <Override PartName="/ppt/media/image43.jpeg" ContentType="image/jpeg"/>
  <Override PartName="/ppt/media/image36.jpeg" ContentType="image/jpeg"/>
  <Override PartName="/ppt/media/image11.jpeg" ContentType="image/jpeg"/>
  <Override PartName="/ppt/media/image38.jpeg" ContentType="image/jpeg"/>
  <Override PartName="/ppt/media/image8.wmf" ContentType="image/x-wmf"/>
  <Override PartName="/ppt/media/image37.jpeg" ContentType="image/jpeg"/>
  <Override PartName="/ppt/media/image12.jpeg" ContentType="image/jpeg"/>
  <Override PartName="/ppt/media/image33.jpeg" ContentType="image/jpeg"/>
  <Override PartName="/ppt/media/image5.wmf" ContentType="image/x-wmf"/>
  <Override PartName="/ppt/media/image27.jpeg" ContentType="image/jpeg"/>
  <Override PartName="/ppt/media/image4.wmf" ContentType="image/x-wmf"/>
  <Override PartName="/ppt/media/image39.jpeg" ContentType="image/jpeg"/>
  <Override PartName="/ppt/media/image41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A0B-ADA4-4A6A-A87E-26899B3F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274-33C2-4771-B0E5-54D3285F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14C8-8E70-46CE-9ADC-D9FED81F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F9F-60D8-4B14-B345-D43AB37E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F91C-40B5-41B8-9F3D-47844B07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9162-655E-4BAC-97DE-BEC946C7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6653-E92F-427A-8E58-2E6928A4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3EC2-FBB8-4DC3-98F4-80AFE230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A709-CDDF-43B9-AE90-41056E68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51F0-07CF-47E9-B407-A3E021B3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9459-798D-4098-B4D3-DC9477C3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205F-AA22-400D-9E77-D901B20A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76CC-3C37-41F7-99DB-99726EE5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F776-4A6F-4801-A4B6-C6DD8F2C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E10E-9B6B-444C-8922-7F35EC93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FF44-2443-4E39-8DA6-DA3527DC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BB9B-0D4E-439F-9ECD-4F4C1EA9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D7D-9179-4AA0-AE18-4C33BA77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6AF-EB51-41A0-A8CF-829FF094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05F0-BD6B-4E96-ACD2-06AC49A0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EAC-0D8A-4D28-8DD8-41E22C27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9A34-D059-4D2A-B346-6C9488DF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60A-2296-48B9-BA15-A6A44583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145-9085-4A2E-A029-FD70945E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D994-A20D-4FAD-954D-0ECC3985180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240F-3637-4E9A-B9FB-7E0BDB37B66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hyperlink" Target="http://images.google.com.ar/imgres?imgurl=http://i.treehugger.com/images/2007/10/24/china-pollution-prob-003.jpg&amp;imgrefurl=http://www.treehugger.com/files/2007/07/pollution_in_china_pics.php&amp;h=312&amp;w=468&amp;sz=55&amp;hl=es&amp;start=56&amp;um=1&amp;tbnid=gmI2MG8nHiXEUM:&amp;tbnh=85&amp;tbnw=128&amp;prev=/images%3Fq%3DPOLLUTION%26start%3D40%26ndsp%3D20%26um%3D1%26hl%3Des%26sa%3DN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com.ar/imgres?imgurl=http://ngenespanol.com/wp-content/uploads/2008/04/1-pollution-factory-714web.thumbnail.jpg&amp;imgrefurl=http://ngenespanol.com/2008/04/30/aguas-amargas/&amp;h=445&amp;w=450&amp;sz=30&amp;hl=es&amp;start=90&amp;um=1&amp;tbnid=WJpK5ZKvrPAtIM:&amp;tbnh=126&amp;tbnw=127&amp;prev=/images%3Fq%3DPOLLUTION%26start%3D80%26ndsp%3D20%26um%3D1%26hl%3Des%26sa%3DN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images.google.com.ar/imgres?imgurl=http://bp0.blogger.com/_C_Ueo_ZyhZg/Rq_2PqZpKwI/AAAAAAAAAJw/Q3-lkmsT59I/s1600/tenerife.jpg&amp;imgrefurl=http://josebarral.blogspot.com/2007/08/incendium-ad-portas.html&amp;h=364&amp;w=540&amp;sz=58&amp;hl=es&amp;start=14&amp;um=1&amp;tbnid=ugAAnS0hbb37AM:&amp;tbnh=89&amp;tbnw=132&amp;prev=/images%3Fq%3DBOSQUES%2BFUEGO%26um%3D1%26hl%3Des%26sa%3DG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.ar/imgres?imgurl=http://www.libertaddigital.com/fotos/noticias/supolucion.jpg&amp;imgrefurl=http://revista.libertaddigital.com/articulo.php/1276230868&amp;h=200&amp;w=190&amp;sz=10&amp;hl=es&amp;start=7&amp;um=1&amp;tbnid=0l6uiiMYhc_bAM:&amp;tbnh=104&amp;tbnw=99&amp;prev=/images%3Fq%3DPOLUCION%2BFABRIL%26um%3D1%26hl%3Des%26sa%3DG" TargetMode="External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hyperlink" Target="http://images.google.com.ar/imgres?imgurl=http://mareaverde.com/Activismo2005/ocean.JPG&amp;imgrefurl=http://mareaverde.com/Activismo2005/oceanos.html&amp;h=355&amp;w=397&amp;sz=44&amp;hl=es&amp;start=179&amp;um=1&amp;tbnid=6huWTykkZgkyeM:&amp;tbnh=111&amp;tbnw=124&amp;prev=/images%3Fq%3DRECURSOS%2BNATURALES%26start%3D160%26ndsp%3D20%26um%3D1%26hl%3Des%26sa%3DN" TargetMode="External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hyperlink" Target="http://inedugra.files.wordpress.com/2007/04/justicia.jpg" TargetMode="External"/><Relationship Id="rId7" Type="http://schemas.openxmlformats.org/officeDocument/2006/relationships/image" Target="../media/image19.jpeg"/><Relationship Id="rId8" Type="http://schemas.openxmlformats.org/officeDocument/2006/relationships/hyperlink" Target="http://images.google.com.ar/imgres?imgurl=http://bp1.blogger.com/_Om8BNTdFXRE/RyJqG0uaZzI/AAAAAAAAAFg/ntVrvEK1I90/s400/identidad%2Bculturall.JPG&amp;imgrefurl=http://incluyendoperonolimitando.blogspot.com/2007/10/18-que-es-tener-identidad-cultural.html&amp;h=338&amp;w=358&amp;sz=24&amp;hl=es&amp;start=2&amp;um=1&amp;tbnid=tIk2_yiSy_dgEM:&amp;tbnh=114&amp;tbnw=121&amp;prev=/images%3Fq%3D%2B%2Bidentidad%26um%3D1%26hl%3Des%26sa%3DG" TargetMode="External"/><Relationship Id="rId9" Type="http://schemas.openxmlformats.org/officeDocument/2006/relationships/image" Target="../media/image20.jpeg"/><Relationship Id="rId10" Type="http://schemas.openxmlformats.org/officeDocument/2006/relationships/hyperlink" Target="http://images.google.com.ar/imgres?imgurl=http://bp3.blogger.com/_fnTUriyulHo/RgawLx38MsI/AAAAAAAAAIQ/_bxod7UF9kw/s400/02-Biodiversidad.jpg&amp;imgrefurl=http://brunerias.blogspot.com/2007/03/biodiversidad.html&amp;h=239&amp;w=400&amp;sz=34&amp;hl=es&amp;start=188&amp;um=1&amp;tbnid=t3tHdLW6mX_dyM:&amp;tbnh=74&amp;tbnw=124&amp;prev=/images%3Fq%3DBIODIVERSIDAD%26start%3D180%26ndsp%3D20%26um%3D1%26hl%3Des%26sa%3DN" TargetMode="External"/><Relationship Id="rId11" Type="http://schemas.openxmlformats.org/officeDocument/2006/relationships/image" Target="../media/image21.jpeg"/><Relationship Id="rId12" Type="http://schemas.openxmlformats.org/officeDocument/2006/relationships/hyperlink" Target="http://images.google.com.ar/imgres?imgurl=http://www.minhacienda.gov.co/portal/pls/portal/docs/1/87691.JPG&amp;imgrefurl=http://www.minhacienda.gov.co/MinHacienda/elministerio/controlinternodisciplinario/Etica%2520y%2520Valores&amp;h=500&amp;w=431&amp;sz=110&amp;hl=es&amp;start=22&amp;um=1&amp;tbnid=cfLvAy_tE32jYM:&amp;tbnh=130&amp;tbnw=112&amp;prev=/images%3Fq%3D%2B%2Bvalores%26start%3D20%26ndsp%3D20%26um%3D1%26hl%3Des%26sa%3DN" TargetMode="External"/><Relationship Id="rId13" Type="http://schemas.openxmlformats.org/officeDocument/2006/relationships/image" Target="../media/image22.jpeg"/><Relationship Id="rId14" Type="http://schemas.openxmlformats.org/officeDocument/2006/relationships/hyperlink" Target="http://images.google.com.ar/imgres?imgurl=http://www.revistafuturos.info/images/futuros20/democracia_formal.jpg&amp;imgrefurl=http://www.webalalza.com/inmigracion/2008/05/13/page/2/&amp;h=346&amp;w=340&amp;sz=18&amp;hl=es&amp;start=26&amp;um=1&amp;tbnid=NTAH5nnBikHAVM:&amp;tbnh=120&amp;tbnw=118&amp;prev=/images%3Fq%3Ddemocracia%26start%3D20%26ndsp%3D20%26um%3D1%26hl%3Des%26sa%3DN" TargetMode="External"/><Relationship Id="rId15" Type="http://schemas.openxmlformats.org/officeDocument/2006/relationships/image" Target="../media/image23.jpeg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24.wmf"/><Relationship Id="rId18" Type="http://schemas.openxmlformats.org/officeDocument/2006/relationships/hyperlink" Target="http://images.google.com.ar/imgres?imgurl=http://pmatamoros.rn.cl/files/2008/01/participacion_ciudadana.jpg&amp;imgrefurl=http://pmatamoros.rn.cl/tag/rn/&amp;h=277&amp;w=458&amp;sz=55&amp;hl=es&amp;start=2&amp;um=1&amp;tbnid=CLmu4ChHLFKjTM:&amp;altq=participacion+ciudadana,participacion,&amp;tbnh=77&amp;tbnw=128&amp;prev=/images%3Fq%3Dparticipaci%25C3%25B3n%2Bciudadana%26um%3D1%26hl%3Des%26sa%3DG" TargetMode="External"/><Relationship Id="rId19" Type="http://schemas.openxmlformats.org/officeDocument/2006/relationships/image" Target="../media/image25.jpeg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hyperlink" Target="http://images.google.com.ar/imgres?imgurl=http://www.kepplerspeakers.com/literature/Makower-j.jpg&amp;imgrefurl=http://www.kepplerspeakers.com/hottopics/2007/08/unpredictable_markets_and_the_1.asp&amp;h=200&amp;w=200&amp;sz=23&amp;hl=es&amp;start=2&amp;um=1&amp;tbnid=t35r-hYkEFbb9M:&amp;tbnh=104&amp;tbnw=104&amp;prev=/images%3Fq%3Dby%2BJoel%2BMakower%26um%3D1%26hl%3Des%26sa%3DN" TargetMode="External"/><Relationship Id="rId6" Type="http://schemas.openxmlformats.org/officeDocument/2006/relationships/image" Target="../media/image31.jpeg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michael.ellerman.id.au/blog/wp-content/mpe/uploads/2007/07/19/oxfam-trail-walk-sponsor-gaz/Oxfam_Logo.png&amp;imgrefurl=http://michael.ellerman.id.au/blog/2007/07/19/oxfam-trail-walk-sponsor-gaz/&amp;h=238&amp;w=255&amp;sz=8&amp;hl=es&amp;start=18&amp;um=1&amp;tbnid=bhBb4wSD_iHOUM:&amp;tbnh=104&amp;tbnw=111&amp;prev=/images%3Fq%3D%2BOxfam%2B%26um%3D1%26hl%3Des%26sa%3DG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www.oxfam.org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www.siamazonia.org.pe/Graficos/logos/LogoWWF.gif&amp;imgrefurl=http://www.siamazonia.org.pe/RedSiz/nodos.html&amp;h=1024&amp;w=1280&amp;sz=18&amp;hl=es&amp;start=1&amp;um=1&amp;tbnid=grf1N9JwwN1kLM:&amp;tbnh=120&amp;tbnw=150&amp;prev=/images%3Fq%3Dwwf%26um%3D1%26hl%3Des%26sa%3DN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www.worldwildlife.org/" TargetMode="External"/><Relationship Id="rId4" Type="http://schemas.openxmlformats.org/officeDocument/2006/relationships/hyperlink" Target="http://www.worldwildlife.org/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unfccc.int/2860.php" TargetMode="External"/><Relationship Id="rId3" Type="http://schemas.openxmlformats.org/officeDocument/2006/relationships/hyperlink" Target="http://unfccc.int/2860.php" TargetMode="External"/><Relationship Id="rId4" Type="http://schemas.openxmlformats.org/officeDocument/2006/relationships/hyperlink" Target="http://unfccc.int/2860.php" TargetMode="External"/><Relationship Id="rId5" Type="http://schemas.openxmlformats.org/officeDocument/2006/relationships/hyperlink" Target="http://unfccc.int/2860.php" TargetMode="External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science.widener.edu/svb/molecule/jpeg/co2.jpg&amp;imgrefurl=http://jaimegco.blogspot.com/2008/02/depsitos-de-dixido-de-carbono-contra-el.html&amp;h=424&amp;w=608&amp;sz=10&amp;hl=es&amp;start=11&amp;um=1&amp;tbnid=IsrSxF-mIFmO8M:&amp;altq=co2,&amp;tbnh=95&amp;tbnw=136&amp;prev=/images%3Fq%3DDIOXIDO%2BDE%2BCARBONO%2BCCS%26um%3D1%26hl%3Des%26sa%3D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www.rena.edu.ve/cuartaEtapa/psicologia/Imagenes/T16Img1.gif&amp;imgrefurl=http://despueshablo.blogspot.com/2007/05/liderazgo-y-motivacin.html&amp;h=223&amp;w=254&amp;sz=7&amp;hl=es&amp;start=16&amp;um=1&amp;tbnid=K7vSVGtQZ4_0MM:&amp;altq=motivaci&#243;n,&amp;tbnh=97&amp;tbnw=111&amp;prev=/images%3Fq%3DLIDERAZGO%26um%3D1%26hl%3Des%26sa%3DN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images.google.com.ar/imgres?imgurl=http://www.todo-argentina.net/historia/revmayo/imagenes/cabildo.jpg&amp;imgrefurl=http://barweb.blogspot.com/2005_05_01_archive.html&amp;h=473&amp;w=678&amp;sz=42&amp;hl=es&amp;start=7&amp;um=1&amp;tbnid=gTt9hlbZKSeCQM:&amp;altq=cabildo,&amp;tbnh=97&amp;tbnw=139&amp;prev=/images%3Fq%3D25%2BDE%2BMAYO%2BDE%2B1810%26um%3D1%26hl%3Des%26sa%3DG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www.pequenasnoticias.com.ar/boletines/bpn_334/LogoCPCE.gif&amp;imgrefurl=http://www.pequenasnoticias.com.ar/Acerca_de_Leyes/Indice_Acerca_de.asp&amp;h=219&amp;w=250&amp;sz=18&amp;hl=es&amp;start=4&amp;um=1&amp;tbnid=81otSxDrkU5etM:&amp;tbnh=97&amp;tbnw=111&amp;prev=/images%3Fq%3DLOGO%2BCONSEJO%2BPROFESIONAL%2BCIENCIAS%2BECONOMICAS%26um%3D1%26hl%3Des%26sa%3DG" TargetMode="External"/><Relationship Id="rId2" Type="http://schemas.openxmlformats.org/officeDocument/2006/relationships/image" Target="../media/image3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image" Target="../media/image43.jpeg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65520" y="2033640"/>
            <a:ext cx="5758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SUSTENTAB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456000" y="2790720"/>
            <a:ext cx="3168720" cy="3024360"/>
          </a:xfrm>
          <a:prstGeom prst="ellipse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951280" y="1711440"/>
          <a:ext cx="112068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1280" y="1711440"/>
                    <a:ext cx="112068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3887640" y="3151080"/>
          <a:ext cx="2276640" cy="227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7640" y="3151080"/>
                    <a:ext cx="227664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3543480" y="2905200"/>
            <a:ext cx="502920" cy="79200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43200" y="2776680"/>
            <a:ext cx="503280" cy="79200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57680" y="2674800"/>
            <a:ext cx="503280" cy="7923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75040" y="2575080"/>
            <a:ext cx="503280" cy="79200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87720" y="2489040"/>
            <a:ext cx="503280" cy="7923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64000" y="2286000"/>
            <a:ext cx="250920" cy="1008000"/>
          </a:xfrm>
          <a:custGeom>
            <a:avLst/>
            <a:gdLst/>
            <a:ahLst/>
            <a:rect l="l" t="t" r="r" b="b"/>
            <a:pathLst>
              <a:path w="158" h="635">
                <a:moveTo>
                  <a:pt x="52" y="635"/>
                </a:moveTo>
                <a:cubicBezTo>
                  <a:pt x="78" y="582"/>
                  <a:pt x="104" y="529"/>
                  <a:pt x="97" y="499"/>
                </a:cubicBezTo>
                <a:cubicBezTo>
                  <a:pt x="90" y="469"/>
                  <a:pt x="14" y="484"/>
                  <a:pt x="7" y="454"/>
                </a:cubicBezTo>
                <a:cubicBezTo>
                  <a:pt x="0" y="424"/>
                  <a:pt x="29" y="363"/>
                  <a:pt x="52" y="318"/>
                </a:cubicBezTo>
                <a:cubicBezTo>
                  <a:pt x="75" y="273"/>
                  <a:pt x="128" y="235"/>
                  <a:pt x="143" y="182"/>
                </a:cubicBezTo>
                <a:cubicBezTo>
                  <a:pt x="158" y="129"/>
                  <a:pt x="150" y="64"/>
                  <a:pt x="143" y="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80000" y="2214720"/>
            <a:ext cx="250920" cy="1008000"/>
          </a:xfrm>
          <a:custGeom>
            <a:avLst/>
            <a:gdLst/>
            <a:ahLst/>
            <a:rect l="l" t="t" r="r" b="b"/>
            <a:pathLst>
              <a:path w="158" h="635">
                <a:moveTo>
                  <a:pt x="52" y="635"/>
                </a:moveTo>
                <a:cubicBezTo>
                  <a:pt x="78" y="582"/>
                  <a:pt x="104" y="529"/>
                  <a:pt x="97" y="499"/>
                </a:cubicBezTo>
                <a:cubicBezTo>
                  <a:pt x="90" y="469"/>
                  <a:pt x="14" y="484"/>
                  <a:pt x="7" y="454"/>
                </a:cubicBezTo>
                <a:cubicBezTo>
                  <a:pt x="0" y="424"/>
                  <a:pt x="29" y="363"/>
                  <a:pt x="52" y="318"/>
                </a:cubicBezTo>
                <a:cubicBezTo>
                  <a:pt x="75" y="273"/>
                  <a:pt x="128" y="235"/>
                  <a:pt x="143" y="182"/>
                </a:cubicBezTo>
                <a:cubicBezTo>
                  <a:pt x="158" y="129"/>
                  <a:pt x="150" y="64"/>
                  <a:pt x="143" y="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96000" y="2143080"/>
            <a:ext cx="250560" cy="1008000"/>
          </a:xfrm>
          <a:custGeom>
            <a:avLst/>
            <a:gdLst/>
            <a:ahLst/>
            <a:rect l="l" t="t" r="r" b="b"/>
            <a:pathLst>
              <a:path w="158" h="635">
                <a:moveTo>
                  <a:pt x="52" y="635"/>
                </a:moveTo>
                <a:cubicBezTo>
                  <a:pt x="78" y="582"/>
                  <a:pt x="104" y="529"/>
                  <a:pt x="97" y="499"/>
                </a:cubicBezTo>
                <a:cubicBezTo>
                  <a:pt x="90" y="469"/>
                  <a:pt x="14" y="484"/>
                  <a:pt x="7" y="454"/>
                </a:cubicBezTo>
                <a:cubicBezTo>
                  <a:pt x="0" y="424"/>
                  <a:pt x="29" y="363"/>
                  <a:pt x="52" y="318"/>
                </a:cubicBezTo>
                <a:cubicBezTo>
                  <a:pt x="75" y="273"/>
                  <a:pt x="128" y="235"/>
                  <a:pt x="143" y="182"/>
                </a:cubicBezTo>
                <a:cubicBezTo>
                  <a:pt x="158" y="129"/>
                  <a:pt x="150" y="64"/>
                  <a:pt x="143" y="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56360" y="2865600"/>
            <a:ext cx="360360" cy="501480"/>
          </a:xfrm>
          <a:custGeom>
            <a:avLst/>
            <a:gdLst/>
            <a:ahLst/>
            <a:rect l="l" t="t" r="r" b="b"/>
            <a:pathLst>
              <a:path w="227" h="234">
                <a:moveTo>
                  <a:pt x="0" y="144"/>
                </a:moveTo>
                <a:cubicBezTo>
                  <a:pt x="33" y="132"/>
                  <a:pt x="67" y="121"/>
                  <a:pt x="90" y="98"/>
                </a:cubicBezTo>
                <a:cubicBezTo>
                  <a:pt x="113" y="75"/>
                  <a:pt x="121" y="0"/>
                  <a:pt x="136" y="8"/>
                </a:cubicBezTo>
                <a:cubicBezTo>
                  <a:pt x="151" y="16"/>
                  <a:pt x="166" y="106"/>
                  <a:pt x="181" y="144"/>
                </a:cubicBezTo>
                <a:cubicBezTo>
                  <a:pt x="196" y="182"/>
                  <a:pt x="211" y="208"/>
                  <a:pt x="227" y="23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5715200">
            <a:off x="3586680" y="3727800"/>
            <a:ext cx="360360" cy="501480"/>
          </a:xfrm>
          <a:custGeom>
            <a:avLst/>
            <a:gdLst/>
            <a:ahLst/>
            <a:rect l="l" t="t" r="r" b="b"/>
            <a:pathLst>
              <a:path w="227" h="234">
                <a:moveTo>
                  <a:pt x="0" y="144"/>
                </a:moveTo>
                <a:cubicBezTo>
                  <a:pt x="33" y="132"/>
                  <a:pt x="67" y="121"/>
                  <a:pt x="90" y="98"/>
                </a:cubicBezTo>
                <a:cubicBezTo>
                  <a:pt x="113" y="75"/>
                  <a:pt x="121" y="0"/>
                  <a:pt x="136" y="8"/>
                </a:cubicBezTo>
                <a:cubicBezTo>
                  <a:pt x="151" y="16"/>
                  <a:pt x="166" y="106"/>
                  <a:pt x="181" y="144"/>
                </a:cubicBezTo>
                <a:cubicBezTo>
                  <a:pt x="196" y="182"/>
                  <a:pt x="211" y="208"/>
                  <a:pt x="227" y="234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2916800">
            <a:off x="3916080" y="4895280"/>
            <a:ext cx="360360" cy="501480"/>
          </a:xfrm>
          <a:custGeom>
            <a:avLst/>
            <a:gdLst/>
            <a:ahLst/>
            <a:rect l="l" t="t" r="r" b="b"/>
            <a:pathLst>
              <a:path w="227" h="234">
                <a:moveTo>
                  <a:pt x="0" y="144"/>
                </a:moveTo>
                <a:cubicBezTo>
                  <a:pt x="33" y="132"/>
                  <a:pt x="67" y="121"/>
                  <a:pt x="90" y="98"/>
                </a:cubicBezTo>
                <a:cubicBezTo>
                  <a:pt x="113" y="75"/>
                  <a:pt x="121" y="0"/>
                  <a:pt x="136" y="8"/>
                </a:cubicBezTo>
                <a:cubicBezTo>
                  <a:pt x="151" y="16"/>
                  <a:pt x="166" y="106"/>
                  <a:pt x="181" y="144"/>
                </a:cubicBezTo>
                <a:cubicBezTo>
                  <a:pt x="196" y="182"/>
                  <a:pt x="211" y="208"/>
                  <a:pt x="227" y="234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8970000">
            <a:off x="4966920" y="5300640"/>
            <a:ext cx="360360" cy="501840"/>
          </a:xfrm>
          <a:custGeom>
            <a:avLst/>
            <a:gdLst/>
            <a:ahLst/>
            <a:rect l="l" t="t" r="r" b="b"/>
            <a:pathLst>
              <a:path w="227" h="234">
                <a:moveTo>
                  <a:pt x="0" y="144"/>
                </a:moveTo>
                <a:cubicBezTo>
                  <a:pt x="33" y="132"/>
                  <a:pt x="67" y="121"/>
                  <a:pt x="90" y="98"/>
                </a:cubicBezTo>
                <a:cubicBezTo>
                  <a:pt x="113" y="75"/>
                  <a:pt x="121" y="0"/>
                  <a:pt x="136" y="8"/>
                </a:cubicBezTo>
                <a:cubicBezTo>
                  <a:pt x="151" y="16"/>
                  <a:pt x="166" y="106"/>
                  <a:pt x="181" y="144"/>
                </a:cubicBezTo>
                <a:cubicBezTo>
                  <a:pt x="196" y="182"/>
                  <a:pt x="211" y="208"/>
                  <a:pt x="227" y="23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683800">
            <a:off x="5888520" y="4807440"/>
            <a:ext cx="360360" cy="501480"/>
          </a:xfrm>
          <a:custGeom>
            <a:avLst/>
            <a:gdLst/>
            <a:ahLst/>
            <a:rect l="l" t="t" r="r" b="b"/>
            <a:pathLst>
              <a:path w="227" h="234">
                <a:moveTo>
                  <a:pt x="0" y="144"/>
                </a:moveTo>
                <a:cubicBezTo>
                  <a:pt x="33" y="132"/>
                  <a:pt x="67" y="121"/>
                  <a:pt x="90" y="98"/>
                </a:cubicBezTo>
                <a:cubicBezTo>
                  <a:pt x="113" y="75"/>
                  <a:pt x="121" y="0"/>
                  <a:pt x="136" y="8"/>
                </a:cubicBezTo>
                <a:cubicBezTo>
                  <a:pt x="151" y="16"/>
                  <a:pt x="166" y="106"/>
                  <a:pt x="181" y="144"/>
                </a:cubicBezTo>
                <a:cubicBezTo>
                  <a:pt x="196" y="182"/>
                  <a:pt x="211" y="208"/>
                  <a:pt x="227" y="234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2470800">
            <a:off x="6073560" y="3657600"/>
            <a:ext cx="360360" cy="501480"/>
          </a:xfrm>
          <a:custGeom>
            <a:avLst/>
            <a:gdLst/>
            <a:ahLst/>
            <a:rect l="l" t="t" r="r" b="b"/>
            <a:pathLst>
              <a:path w="227" h="234">
                <a:moveTo>
                  <a:pt x="0" y="144"/>
                </a:moveTo>
                <a:cubicBezTo>
                  <a:pt x="33" y="132"/>
                  <a:pt x="67" y="121"/>
                  <a:pt x="90" y="98"/>
                </a:cubicBezTo>
                <a:cubicBezTo>
                  <a:pt x="113" y="75"/>
                  <a:pt x="121" y="0"/>
                  <a:pt x="136" y="8"/>
                </a:cubicBezTo>
                <a:cubicBezTo>
                  <a:pt x="151" y="16"/>
                  <a:pt x="166" y="106"/>
                  <a:pt x="181" y="144"/>
                </a:cubicBezTo>
                <a:cubicBezTo>
                  <a:pt x="196" y="182"/>
                  <a:pt x="211" y="208"/>
                  <a:pt x="227" y="234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03280" y="692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LENTAMIENTO GLOB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61240" y="163440"/>
            <a:ext cx="45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00720" y="1484280"/>
            <a:ext cx="2519280" cy="18208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9640" y="1919160"/>
            <a:ext cx="2001960" cy="19861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9640" y="4076640"/>
            <a:ext cx="2016360" cy="1962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32720" y="3716280"/>
            <a:ext cx="2055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38040" y="620640"/>
            <a:ext cx="741672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0920" y="549360"/>
            <a:ext cx="0" cy="6048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0920" y="6597720"/>
            <a:ext cx="82818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8040" y="981000"/>
            <a:ext cx="684072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8040" y="1341360"/>
            <a:ext cx="36576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8040" y="1700280"/>
            <a:ext cx="32259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8040" y="2060640"/>
            <a:ext cx="15699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8040" y="2421000"/>
            <a:ext cx="14972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8040" y="2781360"/>
            <a:ext cx="14256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8040" y="3141720"/>
            <a:ext cx="113832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8040" y="3500280"/>
            <a:ext cx="48888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8040" y="3860640"/>
            <a:ext cx="48888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38040" y="4221000"/>
            <a:ext cx="48888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8040" y="4581360"/>
            <a:ext cx="34632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8040" y="4941720"/>
            <a:ext cx="34632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8040" y="5300640"/>
            <a:ext cx="2732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8040" y="5661000"/>
            <a:ext cx="13032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38040" y="6021360"/>
            <a:ext cx="13032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10120" y="56340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Verdana"/>
              </a:rPr>
              <a:t>MINERÍA METÁL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51160" y="952560"/>
            <a:ext cx="16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Verdana"/>
              </a:rPr>
              <a:t>ENERGÍA ELÉCT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90040" y="1297080"/>
            <a:ext cx="195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Verdana"/>
              </a:rPr>
              <a:t>SUSTANCIAS QUÍM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85360" y="1655640"/>
            <a:ext cx="176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Verdana"/>
              </a:rPr>
              <a:t>METALES PRIMARI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18400" y="200196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Verdana"/>
              </a:rPr>
              <a:t>PAP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22720" y="236232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Verdana"/>
              </a:rPr>
              <a:t>BASU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54480" y="2736720"/>
            <a:ext cx="249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Verdana"/>
              </a:rPr>
              <a:t>EQUIPAMIENTO ELECTRÓN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48280" y="309708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Verdana"/>
              </a:rPr>
              <a:t>ALIMEN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73840" y="347184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Verdana"/>
              </a:rPr>
              <a:t>PLÁST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195800" y="38163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Verdana"/>
              </a:rPr>
              <a:t>TRANSPOR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89680" y="416232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Verdana"/>
              </a:rPr>
              <a:t>PATRÓL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13080" y="45514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Verdana"/>
              </a:rPr>
              <a:t>METALÚRG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69320" y="4913280"/>
            <a:ext cx="26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Verdana"/>
              </a:rPr>
              <a:t>CRISTALES/CEMENTO/ARCHI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20280" y="525636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Verdana"/>
              </a:rPr>
              <a:t>DESECH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222800" y="561672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Verdana"/>
              </a:rPr>
              <a:t>IMPRES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96240" y="596268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Verdana"/>
              </a:rPr>
              <a:t>EXPLOTACIÓN DE HU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87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77840" y="1535040"/>
            <a:ext cx="395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5960" y="658188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05840" y="658188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250920" y="1197000"/>
          <a:ext cx="8497800" cy="40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49780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1002240" y="19731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30,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40960" y="17096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27,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06520" y="191124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13, 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44600" y="3711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,8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54400" y="284652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,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978160" y="257328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2, 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46400" y="22860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,6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67400" y="212724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3,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35040" y="154152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2,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610400" y="42148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1,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11880" y="53006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78,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11880" y="5805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1,1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05640" y="532908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ACIONES DESARROL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986920" y="5823000"/>
            <a:ext cx="43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CIONES EN DESARRO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54920" y="44280"/>
            <a:ext cx="45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81080" y="59544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TRIBUCIÓN AL CALENTAMIENTO GLOB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071720" y="5545080"/>
            <a:ext cx="748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73160" y="5546880"/>
            <a:ext cx="7488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71720" y="1484280"/>
            <a:ext cx="0" cy="4753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42920" y="6237360"/>
            <a:ext cx="75614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71720" y="4264200"/>
            <a:ext cx="748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71720" y="4913280"/>
            <a:ext cx="748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01600" y="2320920"/>
            <a:ext cx="748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01600" y="2970360"/>
            <a:ext cx="748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87560" y="3616200"/>
            <a:ext cx="748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7440" y="5587920"/>
            <a:ext cx="90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erso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99760" y="5353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760" y="472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9760" y="4062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9976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976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9760" y="2119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87280" y="5978520"/>
            <a:ext cx="8654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95640" y="5978520"/>
            <a:ext cx="86508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03640" y="5734080"/>
            <a:ext cx="865080" cy="46044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211640" y="4581360"/>
            <a:ext cx="865080" cy="16131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4581360"/>
            <a:ext cx="865080" cy="16131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4365720"/>
            <a:ext cx="86544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236000" y="2492280"/>
            <a:ext cx="865080" cy="370224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222920" y="593568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Verdana"/>
              </a:rPr>
              <a:t>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01040" y="5641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,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37040" y="595008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Verdana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77360" y="56545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,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14160" y="5424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,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76720" y="596268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Verdana"/>
              </a:rPr>
              <a:t>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22880" y="5950080"/>
            <a:ext cx="67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Verdana"/>
              </a:rPr>
              <a:t>JAP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22160" y="42498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,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71640" y="5950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Verdana"/>
              </a:rPr>
              <a:t>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44560" y="42498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,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96840" y="39337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,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330240" y="59500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Verdana"/>
              </a:rPr>
              <a:t>RUS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431840" y="59500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Verdana"/>
              </a:rPr>
              <a:t>U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32120" y="1989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,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598240" y="531648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P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32160" y="955800"/>
            <a:ext cx="58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ISIÓN DE CARBONO POR PERSO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89600" y="115920"/>
            <a:ext cx="45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28160" y="6524640"/>
            <a:ext cx="172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7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071720" y="5545080"/>
            <a:ext cx="748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71720" y="1484280"/>
            <a:ext cx="0" cy="4753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42920" y="6237360"/>
            <a:ext cx="75614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71720" y="4264200"/>
            <a:ext cx="748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71720" y="4913280"/>
            <a:ext cx="748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01600" y="2320920"/>
            <a:ext cx="748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01600" y="2970360"/>
            <a:ext cx="748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087560" y="3616200"/>
            <a:ext cx="748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160" y="5587920"/>
            <a:ext cx="95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étr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(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99760" y="5353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99760" y="472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99760" y="4062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9976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9976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9760" y="2119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5978520"/>
            <a:ext cx="8654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195640" y="5661000"/>
            <a:ext cx="8650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03640" y="4365720"/>
            <a:ext cx="86508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211640" y="5445000"/>
            <a:ext cx="865080" cy="749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19640" y="4076640"/>
            <a:ext cx="865080" cy="2117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27640" y="5229360"/>
            <a:ext cx="865440" cy="9651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236000" y="2637000"/>
            <a:ext cx="865080" cy="3557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22920" y="595008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Verdana"/>
              </a:rPr>
              <a:t>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01040" y="5641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,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37040" y="595008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Verdana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77360" y="52293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,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14160" y="39337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,8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6720" y="596268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Verdana"/>
              </a:rPr>
              <a:t>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322880" y="5950080"/>
            <a:ext cx="67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Verdana"/>
              </a:rPr>
              <a:t>JAP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22160" y="50785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,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471640" y="5950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Verdana"/>
              </a:rPr>
              <a:t>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44560" y="35733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,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354000" y="48751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,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330240" y="59500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Verdana"/>
              </a:rPr>
              <a:t>RUS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431840" y="59500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Verdana"/>
              </a:rPr>
              <a:t>U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332120" y="23036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,4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25240" y="836640"/>
            <a:ext cx="64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ISIÓN DE CARBONO POR PAÍS/REG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89600" y="115920"/>
            <a:ext cx="45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28160" y="6524640"/>
            <a:ext cx="172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71280" y="28440"/>
            <a:ext cx="8893440" cy="6829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492000" y="260280"/>
            <a:ext cx="86364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453760" y="33336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GENER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PRESEN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758840" y="260280"/>
            <a:ext cx="86364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915800" y="33336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GENER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FUTUR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860280" y="31680"/>
            <a:ext cx="1219680" cy="1349640"/>
            <a:chOff x="3860280" y="31680"/>
            <a:chExt cx="1219680" cy="1349640"/>
          </a:xfrm>
        </p:grpSpPr>
        <p:grpSp>
          <p:nvGrpSpPr>
            <p:cNvPr id="454" name=""/>
            <p:cNvGrpSpPr/>
            <p:nvPr/>
          </p:nvGrpSpPr>
          <p:grpSpPr>
            <a:xfrm>
              <a:off x="3927240" y="31680"/>
              <a:ext cx="1152720" cy="1152360"/>
              <a:chOff x="3927240" y="31680"/>
              <a:chExt cx="1152720" cy="1152360"/>
            </a:xfrm>
          </p:grpSpPr>
          <p:graphicFrame>
            <p:nvGraphicFramePr>
              <p:cNvPr id="455" name=""/>
              <p:cNvGraphicFramePr/>
              <p:nvPr/>
            </p:nvGraphicFramePr>
            <p:xfrm>
              <a:off x="3927240" y="31680"/>
              <a:ext cx="1152720" cy="1152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5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927240" y="31680"/>
                        <a:ext cx="1152720" cy="115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57" name=""/>
              <p:cNvSpPr/>
              <p:nvPr/>
            </p:nvSpPr>
            <p:spPr>
              <a:xfrm>
                <a:off x="4014360" y="998280"/>
                <a:ext cx="87228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107960" y="824400"/>
                <a:ext cx="68544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207320" y="621000"/>
                <a:ext cx="49860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282200" y="447120"/>
                <a:ext cx="3427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4892760" y="839880"/>
                <a:ext cx="93240" cy="150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4799160" y="666720"/>
                <a:ext cx="93240" cy="150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4705920" y="469440"/>
                <a:ext cx="93240" cy="150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4618440" y="296280"/>
                <a:ext cx="93240" cy="150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3860280" y="1104840"/>
              <a:ext cx="121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Verdana"/>
                </a:rPr>
                <a:t>NECESIDAD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832400" y="822240"/>
            <a:ext cx="1610280" cy="1600560"/>
            <a:chOff x="1832400" y="822240"/>
            <a:chExt cx="1610280" cy="1600560"/>
          </a:xfrm>
        </p:grpSpPr>
        <p:pic>
          <p:nvPicPr>
            <p:cNvPr id="467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900080" y="822240"/>
              <a:ext cx="151308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1832400" y="2176560"/>
              <a:ext cx="161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Verdana"/>
                </a:rPr>
                <a:t>RECURSOS NATUR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95280" y="2421000"/>
            <a:ext cx="2336760" cy="1774800"/>
            <a:chOff x="395280" y="2421000"/>
            <a:chExt cx="2336760" cy="1774800"/>
          </a:xfrm>
        </p:grpSpPr>
        <p:pic>
          <p:nvPicPr>
            <p:cNvPr id="470" name="" descr=""/>
            <p:cNvPicPr/>
            <p:nvPr/>
          </p:nvPicPr>
          <p:blipFill>
            <a:blip r:embed="rId5"/>
            <a:stretch/>
          </p:blipFill>
          <p:spPr>
            <a:xfrm>
              <a:off x="395280" y="2421000"/>
              <a:ext cx="230508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433080" y="3949560"/>
              <a:ext cx="229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Verdana"/>
                </a:rPr>
                <a:t>POBREZA Y DESIGUALDAD SOCI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738480" y="2565360"/>
            <a:ext cx="1727640" cy="2124360"/>
            <a:chOff x="6738480" y="2565360"/>
            <a:chExt cx="1727640" cy="2124360"/>
          </a:xfrm>
        </p:grpSpPr>
        <p:pic>
          <p:nvPicPr>
            <p:cNvPr id="473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875280" y="2565360"/>
              <a:ext cx="1442880" cy="18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6738480" y="4413240"/>
              <a:ext cx="172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Verdana"/>
                </a:rPr>
                <a:t>EQUIDAD Y JUSTICI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1619280" y="4149720"/>
            <a:ext cx="1657440" cy="1946520"/>
            <a:chOff x="1619280" y="4149720"/>
            <a:chExt cx="1657440" cy="1946520"/>
          </a:xfrm>
        </p:grpSpPr>
        <p:pic>
          <p:nvPicPr>
            <p:cNvPr id="476" name="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1619280" y="4149720"/>
              <a:ext cx="1657440" cy="15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1946160" y="5819760"/>
              <a:ext cx="104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Verdana"/>
                </a:rPr>
                <a:t>IDENTIDA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148360" y="907920"/>
            <a:ext cx="2303280" cy="1716480"/>
            <a:chOff x="5148360" y="907920"/>
            <a:chExt cx="2303280" cy="1716480"/>
          </a:xfrm>
        </p:grpSpPr>
        <p:pic>
          <p:nvPicPr>
            <p:cNvPr id="479" name="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5148360" y="907920"/>
              <a:ext cx="2303280" cy="13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5621760" y="2347920"/>
              <a:ext cx="139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Verdana"/>
                </a:rPr>
                <a:t>BIODIVERSIDA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3578760" y="3271680"/>
            <a:ext cx="1873800" cy="2402280"/>
            <a:chOff x="3578760" y="3271680"/>
            <a:chExt cx="1873800" cy="2402280"/>
          </a:xfrm>
        </p:grpSpPr>
        <p:pic>
          <p:nvPicPr>
            <p:cNvPr id="482" name="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3700440" y="3271680"/>
              <a:ext cx="161100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3578760" y="5214960"/>
              <a:ext cx="1873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Verdana"/>
                </a:rPr>
                <a:t>SISTEMAS DE VALOR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Verdana"/>
                </a:rPr>
                <a:t>  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Verdana"/>
                </a:rPr>
                <a:t>Y CULTURA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865840" y="4848120"/>
            <a:ext cx="1209600" cy="1462320"/>
            <a:chOff x="5865840" y="4848120"/>
            <a:chExt cx="1209600" cy="1462320"/>
          </a:xfrm>
        </p:grpSpPr>
        <p:pic>
          <p:nvPicPr>
            <p:cNvPr id="485" name="" descr="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5916600" y="4848120"/>
              <a:ext cx="1086840" cy="11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5865840" y="6033960"/>
              <a:ext cx="120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Verdana"/>
                </a:rPr>
                <a:t>DEMOCRACI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7" name=""/>
          <p:cNvGraphicFramePr/>
          <p:nvPr/>
        </p:nvGraphicFramePr>
        <p:xfrm>
          <a:off x="3936960" y="1614600"/>
          <a:ext cx="1270080" cy="1498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1614600"/>
                    <a:ext cx="1270080" cy="14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 flipV="1">
            <a:off x="4500720" y="1341360"/>
            <a:ext cx="0" cy="2872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3780000" y="1844640"/>
            <a:ext cx="28728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932360" y="2205000"/>
            <a:ext cx="28728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3779640" y="2492280"/>
            <a:ext cx="360360" cy="730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932360" y="2708280"/>
            <a:ext cx="431640" cy="1443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00720" y="2984400"/>
            <a:ext cx="0" cy="28728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3780000" y="2781360"/>
            <a:ext cx="287280" cy="3603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932360" y="2924280"/>
            <a:ext cx="431640" cy="2887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3512880" y="5605560"/>
            <a:ext cx="2197080" cy="1209960"/>
            <a:chOff x="3512880" y="5605560"/>
            <a:chExt cx="2197080" cy="1209960"/>
          </a:xfrm>
        </p:grpSpPr>
        <p:pic>
          <p:nvPicPr>
            <p:cNvPr id="498" name="" descr="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3753000" y="5605560"/>
              <a:ext cx="15843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3512880" y="6539040"/>
              <a:ext cx="219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Verdana"/>
                </a:rPr>
                <a:t>PARTICIPACIÓN DE TOD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7310160" y="6524640"/>
            <a:ext cx="16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15360" y="538200"/>
            <a:ext cx="5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670160" y="5349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4760" y="616572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037280" y="616572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STEN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484360" y="3068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APOR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1159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24000" y="7970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LA REVOLUCIÓN NECES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ómo los individuos e Instituciones est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        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rabajando juntos para crear u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undo Suste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310160" y="6524640"/>
            <a:ext cx="16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book cover"/>
          <p:cNvPicPr/>
          <p:nvPr/>
        </p:nvPicPr>
        <p:blipFill>
          <a:blip r:embed="rId1"/>
          <a:stretch/>
        </p:blipFill>
        <p:spPr>
          <a:xfrm>
            <a:off x="6084720" y="2708280"/>
            <a:ext cx="2426040" cy="36813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749160" y="344016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BRYAN SM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1360" y="41958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JOE LA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48080" y="498780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RA SCH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05680" y="578016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INA KRUSCHW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92720" y="263700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PETER SE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95280" y="115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Denis Goulet's Picture"/>
          <p:cNvPicPr/>
          <p:nvPr/>
        </p:nvPicPr>
        <p:blipFill>
          <a:blip r:embed="rId1"/>
          <a:stretch/>
        </p:blipFill>
        <p:spPr>
          <a:xfrm>
            <a:off x="468360" y="765000"/>
            <a:ext cx="1905120" cy="283860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38760" y="37162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NIS A GOUL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5280" y="115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067280" y="907920"/>
            <a:ext cx="2879640" cy="2881440"/>
            <a:chOff x="4067280" y="907920"/>
            <a:chExt cx="2879640" cy="2881440"/>
          </a:xfrm>
        </p:grpSpPr>
        <p:pic>
          <p:nvPicPr>
            <p:cNvPr id="524" name="" descr="Etica del Desarrollo"/>
            <p:cNvPicPr/>
            <p:nvPr/>
          </p:nvPicPr>
          <p:blipFill>
            <a:blip r:embed="rId2"/>
            <a:stretch/>
          </p:blipFill>
          <p:spPr>
            <a:xfrm>
              <a:off x="5673240" y="1894320"/>
              <a:ext cx="75456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" descr=""/>
            <p:cNvPicPr/>
            <p:nvPr/>
          </p:nvPicPr>
          <p:blipFill>
            <a:blip r:embed="rId3"/>
            <a:stretch/>
          </p:blipFill>
          <p:spPr>
            <a:xfrm>
              <a:off x="4067280" y="918720"/>
              <a:ext cx="2879640" cy="28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6393600" y="907920"/>
              <a:ext cx="553320" cy="28706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67280" y="918720"/>
              <a:ext cx="552960" cy="28706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8" name="" descr="SOGB"/>
          <p:cNvPicPr/>
          <p:nvPr/>
        </p:nvPicPr>
        <p:blipFill>
          <a:blip r:embed="rId4"/>
          <a:stretch/>
        </p:blipFill>
        <p:spPr>
          <a:xfrm>
            <a:off x="6948360" y="4076640"/>
            <a:ext cx="1843200" cy="230364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6560" y="407664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84480" y="60786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JOEL MAKOW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7"/>
          <a:stretch/>
        </p:blipFill>
        <p:spPr>
          <a:xfrm>
            <a:off x="4500720" y="4076640"/>
            <a:ext cx="1657080" cy="24480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310160" y="6524640"/>
            <a:ext cx="16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395280" y="1760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328160" y="6524640"/>
            <a:ext cx="172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052640"/>
            <a:ext cx="2447640" cy="22921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3852720" y="1844640"/>
            <a:ext cx="353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Verdana"/>
                <a:hlinkClick r:id="rId3"/>
              </a:rPr>
              <a:t>http://www.oxfam.org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112120" y="357336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USTICIA ECONÓM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292120" y="4246560"/>
            <a:ext cx="46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RVICIOS SOCIALES BÁS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24160" y="4944960"/>
            <a:ext cx="58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RECHOS EN CRISIS HUMANIT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26160" y="563580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USTICIA EN GÉN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924360" y="5796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0382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1. AGRADE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159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5415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2. DETON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20210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3. DICOTOM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8480" y="2506680"/>
            <a:ext cx="76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- MODERNIDA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rsus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MEDIO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8480" y="3029040"/>
            <a:ext cx="76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- NEGOCIO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rsus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PLAN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98480" y="3532320"/>
            <a:ext cx="76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- PARTICIPACIÓ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rsus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COMPROMI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4037040"/>
            <a:ext cx="76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4. SUSTENTABILIDAD Y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45403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5. EJEMP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503244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- COMPROMISO INSTITU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553572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- COMPROMISO INDIV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6840" y="6010200"/>
            <a:ext cx="37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6. MENSAJE FI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409680" y="1047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310160" y="6524640"/>
            <a:ext cx="16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981000"/>
            <a:ext cx="1800000" cy="14400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2580120" y="1341360"/>
            <a:ext cx="430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6d1ec"/>
                </a:solidFill>
                <a:uFillTx/>
                <a:latin typeface="Verdana"/>
                <a:hlinkClick r:id="rId3"/>
              </a:rPr>
              <a:t>http://</a:t>
            </a:r>
            <a:r>
              <a:rPr b="0" lang="es-ES" sz="2400" spc="-1" strike="noStrike" u="sng">
                <a:solidFill>
                  <a:srgbClr val="86d1ec"/>
                </a:solidFill>
                <a:uFillTx/>
                <a:latin typeface="Verdana"/>
                <a:hlinkClick r:id="rId4"/>
              </a:rPr>
              <a:t>www.worldwildlife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60080" y="2492280"/>
            <a:ext cx="52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S LUGARES MARINOS CRÍ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094120" y="316548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DA PERSONA CU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141640" y="3863880"/>
            <a:ext cx="41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TECCIÓN DE BOS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55680" y="455436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SQUES, RÍOS Y LL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24360" y="52768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DICIONES V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153520" y="599616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LVA TROPICAL 2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6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Logo"/>
          <p:cNvPicPr/>
          <p:nvPr/>
        </p:nvPicPr>
        <p:blipFill>
          <a:blip r:embed="rId1"/>
          <a:stretch/>
        </p:blipFill>
        <p:spPr>
          <a:xfrm>
            <a:off x="324000" y="907920"/>
            <a:ext cx="2952720" cy="13050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3939840" y="1197000"/>
            <a:ext cx="399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6d1ec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s-ES" sz="2400" spc="-1" strike="noStrike" u="sng">
                <a:solidFill>
                  <a:srgbClr val="86d1ec"/>
                </a:solidFill>
                <a:uFillTx/>
                <a:latin typeface="Verdana"/>
                <a:hlinkClick r:id="rId3"/>
              </a:rPr>
              <a:t>unfccc.int</a:t>
            </a:r>
            <a:r>
              <a:rPr b="0" lang="es-ES" sz="2400" spc="-1" strike="noStrike" u="sng">
                <a:solidFill>
                  <a:srgbClr val="86d1ec"/>
                </a:solidFill>
                <a:uFillTx/>
                <a:latin typeface="Verdana"/>
                <a:hlinkClick r:id="rId4"/>
              </a:rPr>
              <a:t>/2860.</a:t>
            </a:r>
            <a:r>
              <a:rPr b="0" lang="es-ES" sz="2400" spc="-1" strike="noStrike" u="sng">
                <a:solidFill>
                  <a:srgbClr val="86d1ec"/>
                </a:solidFill>
                <a:uFillTx/>
                <a:latin typeface="Verdana"/>
                <a:hlinkClick r:id="rId5"/>
              </a:rPr>
              <a:t>php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033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64840" y="256536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EMPERATURA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817240" y="170028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0,6º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522200" y="1700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X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837760" y="2322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1,4º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850720" y="2898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5,8º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67920" y="2563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2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429160" y="34290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&gt;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0.000 AÑ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02200" y="441180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IVEL DEL M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095080" y="419580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66"/>
                </a:solidFill>
                <a:latin typeface="Verdana"/>
              </a:rPr>
              <a:t>10 y 20 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03120" y="41958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085720" y="470052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66"/>
                </a:solidFill>
                <a:latin typeface="Verdana"/>
              </a:rPr>
              <a:t>10 y 88 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582320" y="4700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2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932840" y="5734080"/>
            <a:ext cx="25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OBLEMA D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GUA PO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148360" y="5300640"/>
            <a:ext cx="1655640" cy="1225440"/>
          </a:xfrm>
          <a:custGeom>
            <a:avLst/>
            <a:gdLst>
              <a:gd name="textAreaLeft" fmla="*/ 475200 w 1655640"/>
              <a:gd name="textAreaRight" fmla="*/ 1418040 w 1655640"/>
              <a:gd name="textAreaTop" fmla="*/ 705960 h 1225440"/>
              <a:gd name="textAreaBottom" fmla="*/ 1049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328160" y="6524640"/>
            <a:ext cx="172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3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Logo"/>
          <p:cNvPicPr/>
          <p:nvPr/>
        </p:nvPicPr>
        <p:blipFill>
          <a:blip r:embed="rId1"/>
          <a:stretch/>
        </p:blipFill>
        <p:spPr>
          <a:xfrm>
            <a:off x="324000" y="692280"/>
            <a:ext cx="2952720" cy="13046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324000" y="-27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49120" y="40924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FE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371680" y="2276640"/>
            <a:ext cx="55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SIGNIFICATIVOS Y PERTURB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498760" y="2809800"/>
            <a:ext cx="598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INTRUSIÓN DE AGUA SALADA AFEC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LAS RESERVAS DE AGUA DULCE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08000" y="3686040"/>
            <a:ext cx="70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66"/>
                </a:solidFill>
                <a:latin typeface="Verdana"/>
              </a:rPr>
              <a:t>LA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&gt;</a:t>
            </a:r>
            <a:r>
              <a:rPr b="1" lang="es-ES" sz="2400" spc="-1" strike="noStrike">
                <a:solidFill>
                  <a:srgbClr val="66ff66"/>
                </a:solidFill>
                <a:latin typeface="Verdana"/>
              </a:rPr>
              <a:t> PARTE DE ESPECIES EN PROC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66"/>
                </a:solidFill>
                <a:latin typeface="Verdana"/>
              </a:rPr>
              <a:t>EXTINCIÓN (</a:t>
            </a: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20%</a:t>
            </a:r>
            <a:r>
              <a:rPr b="1" lang="es-ES" sz="24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Verdana"/>
              </a:rPr>
              <a:t>M</a:t>
            </a:r>
            <a:r>
              <a:rPr b="1" lang="es-ES" sz="2400" spc="-1" strike="noStrike">
                <a:solidFill>
                  <a:srgbClr val="66ff66"/>
                </a:solidFill>
                <a:latin typeface="Verdana"/>
              </a:rPr>
              <a:t> ; </a:t>
            </a: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12%</a:t>
            </a:r>
            <a:r>
              <a:rPr b="1" lang="es-ES" sz="24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1" lang="es-ES" sz="2400" spc="-1" strike="noStrike">
                <a:solidFill>
                  <a:srgbClr val="66ff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908000" y="462276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66"/>
                </a:solidFill>
                <a:latin typeface="Verdana"/>
              </a:rPr>
              <a:t>LA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&gt;</a:t>
            </a:r>
            <a:r>
              <a:rPr b="1" lang="es-ES" sz="2400" spc="-1" strike="noStrike">
                <a:solidFill>
                  <a:srgbClr val="66ff66"/>
                </a:solidFill>
                <a:latin typeface="Verdana"/>
              </a:rPr>
              <a:t> PARTE DE LOS HUMANOS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&gt;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POB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66"/>
                </a:solidFill>
                <a:latin typeface="Verdana"/>
              </a:rPr>
              <a:t>SERÁ VULNERABLE A LOS CAMB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908000" y="555948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EL CAMBIO CLIMÁTICO SERÁ PO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                  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EQUIT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328160" y="6524640"/>
            <a:ext cx="172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Logo"/>
          <p:cNvPicPr/>
          <p:nvPr/>
        </p:nvPicPr>
        <p:blipFill>
          <a:blip r:embed="rId1"/>
          <a:stretch/>
        </p:blipFill>
        <p:spPr>
          <a:xfrm>
            <a:off x="324000" y="907920"/>
            <a:ext cx="2952720" cy="1305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050920" y="1317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48920" y="376380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É HA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77560" y="2276640"/>
            <a:ext cx="444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REDUCIR EMISIÓN DE G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DE EFECTO INVERNAD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34720" y="3254400"/>
            <a:ext cx="384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AMPLIAR LA SUPERFIC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            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FORES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04200" y="4191120"/>
            <a:ext cx="451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CAMBIO DE ESTILOS DE V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       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Y DE LAS NOR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59200" y="5157720"/>
            <a:ext cx="46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MEDIDAS DE ADAPTACIÓN 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      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CAMBIO CLIMÁ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328160" y="6524640"/>
            <a:ext cx="172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7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0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971640" y="3068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SUSTENTABILIDAD Y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0880" y="1159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80880" y="1303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26920" y="1989000"/>
            <a:ext cx="764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Verdana"/>
              </a:rPr>
              <a:t>LA HUMANIDAD ANTE UNA DECISIÓN ESTRATÉG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8" dur="indefinite" restart="never" nodeType="tmRoot">
          <p:childTnLst>
            <p:seq>
              <p:cTn id="1569" dur="indefinite" nodeType="mainSeq">
                <p:childTnLst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80880" y="1303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55640" y="1341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UNDAMENTOS CIENTÍF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55640" y="19908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OPORTES TECNOLÓG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55640" y="2664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“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KNOW HOW” INDUST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211640" y="4941720"/>
            <a:ext cx="1008000" cy="347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404720" y="5373720"/>
            <a:ext cx="64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RISIS CLIMÁTIC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211640" y="3213000"/>
            <a:ext cx="1008000" cy="347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645000"/>
            <a:ext cx="1728720" cy="120816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179280" y="40514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OLUCIÓN C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7164360" y="1628640"/>
            <a:ext cx="0" cy="43214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908000" y="5950080"/>
            <a:ext cx="52563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908000" y="3068640"/>
            <a:ext cx="525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08000" y="4508640"/>
            <a:ext cx="525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908000" y="1628640"/>
            <a:ext cx="525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908000" y="2349360"/>
            <a:ext cx="525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908000" y="3789360"/>
            <a:ext cx="525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908000" y="5229360"/>
            <a:ext cx="525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908000" y="1628640"/>
            <a:ext cx="0" cy="43214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11320" y="5030640"/>
            <a:ext cx="6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O,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137960" y="42940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147320" y="3587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1,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134720" y="28591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2,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133280" y="21337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2,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134720" y="14270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3,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92520" y="1736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2,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979640" y="2133720"/>
            <a:ext cx="5184720" cy="2279520"/>
          </a:xfrm>
          <a:custGeom>
            <a:avLst/>
            <a:gdLst/>
            <a:ahLst/>
            <a:rect l="l" t="t" r="r" b="b"/>
            <a:pathLst>
              <a:path w="3266" h="1436">
                <a:moveTo>
                  <a:pt x="0" y="1406"/>
                </a:moveTo>
                <a:cubicBezTo>
                  <a:pt x="90" y="1421"/>
                  <a:pt x="181" y="1436"/>
                  <a:pt x="272" y="1406"/>
                </a:cubicBezTo>
                <a:cubicBezTo>
                  <a:pt x="363" y="1376"/>
                  <a:pt x="438" y="1269"/>
                  <a:pt x="544" y="1224"/>
                </a:cubicBezTo>
                <a:cubicBezTo>
                  <a:pt x="650" y="1179"/>
                  <a:pt x="756" y="1149"/>
                  <a:pt x="907" y="1134"/>
                </a:cubicBezTo>
                <a:cubicBezTo>
                  <a:pt x="1058" y="1119"/>
                  <a:pt x="1301" y="1217"/>
                  <a:pt x="1452" y="1134"/>
                </a:cubicBezTo>
                <a:cubicBezTo>
                  <a:pt x="1603" y="1051"/>
                  <a:pt x="1663" y="733"/>
                  <a:pt x="1814" y="635"/>
                </a:cubicBezTo>
                <a:cubicBezTo>
                  <a:pt x="1965" y="537"/>
                  <a:pt x="2215" y="582"/>
                  <a:pt x="2359" y="544"/>
                </a:cubicBezTo>
                <a:cubicBezTo>
                  <a:pt x="2503" y="506"/>
                  <a:pt x="2585" y="446"/>
                  <a:pt x="2676" y="408"/>
                </a:cubicBezTo>
                <a:cubicBezTo>
                  <a:pt x="2767" y="370"/>
                  <a:pt x="2820" y="370"/>
                  <a:pt x="2903" y="317"/>
                </a:cubicBezTo>
                <a:cubicBezTo>
                  <a:pt x="2986" y="264"/>
                  <a:pt x="3114" y="143"/>
                  <a:pt x="3175" y="90"/>
                </a:cubicBezTo>
                <a:cubicBezTo>
                  <a:pt x="3236" y="37"/>
                  <a:pt x="3251" y="18"/>
                  <a:pt x="3266" y="0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093080" y="2262240"/>
            <a:ext cx="142920" cy="374760"/>
          </a:xfrm>
          <a:prstGeom prst="rect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093080" y="2679840"/>
            <a:ext cx="142920" cy="403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572600" y="2190600"/>
            <a:ext cx="1287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ff66"/>
                </a:solidFill>
                <a:latin typeface="Verdana"/>
              </a:rPr>
              <a:t>EFICIE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ff66"/>
                </a:solidFill>
                <a:latin typeface="Verdana"/>
              </a:rPr>
              <a:t>EN ELECTRICIDA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669440" y="2630520"/>
            <a:ext cx="107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Verdana"/>
              </a:rPr>
              <a:t>USOS FIN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Verdana"/>
              </a:rPr>
              <a:t>EFICIEN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093080" y="3125880"/>
            <a:ext cx="142920" cy="474480"/>
          </a:xfrm>
          <a:prstGeom prst="rect">
            <a:avLst/>
          </a:prstGeom>
          <a:solidFill>
            <a:srgbClr val="cc33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70160" y="3111480"/>
            <a:ext cx="109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Verdana"/>
              </a:rPr>
              <a:t>EFICIENCIA 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Verdana"/>
              </a:rPr>
              <a:t>VEHÍCULOS 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Verdana"/>
              </a:rPr>
              <a:t>PASAJER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093080" y="3630600"/>
            <a:ext cx="142920" cy="474840"/>
          </a:xfrm>
          <a:prstGeom prst="rect">
            <a:avLst/>
          </a:prstGeom>
          <a:solidFill>
            <a:srgbClr val="86d1ec"/>
          </a:solidFill>
          <a:ln w="9360">
            <a:solidFill>
              <a:srgbClr val="86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519320" y="369396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6d1ec"/>
                </a:solidFill>
                <a:latin typeface="Verdana"/>
              </a:rPr>
              <a:t>OTRAS EFICIENCIA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6d1ec"/>
                </a:solidFill>
                <a:latin typeface="Verdana"/>
              </a:rPr>
              <a:t>EN TRANSPOR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093080" y="4149720"/>
            <a:ext cx="14292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738920" y="4121280"/>
            <a:ext cx="100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RENOV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689000" y="24559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1,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537920" y="6127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19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871360" y="6127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598640" y="612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759000" y="612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20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554920" y="44280"/>
            <a:ext cx="45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006720" y="73980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QUÉ PUEDEN HACER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394400" y="907920"/>
            <a:ext cx="1065240" cy="720720"/>
            <a:chOff x="7394400" y="907920"/>
            <a:chExt cx="1065240" cy="720720"/>
          </a:xfrm>
        </p:grpSpPr>
        <p:sp>
          <p:nvSpPr>
            <p:cNvPr id="646" name=""/>
            <p:cNvSpPr/>
            <p:nvPr/>
          </p:nvSpPr>
          <p:spPr>
            <a:xfrm>
              <a:off x="7956720" y="981000"/>
              <a:ext cx="502920" cy="647640"/>
            </a:xfrm>
            <a:prstGeom prst="downArrow">
              <a:avLst>
                <a:gd name="adj1" fmla="val 50000"/>
                <a:gd name="adj2" fmla="val 32194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394400" y="907920"/>
              <a:ext cx="93672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4080" y="4762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SA (CC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08000" y="4653000"/>
            <a:ext cx="525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364160" y="44719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0,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179280" y="9079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STENTABILIDAD Y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68360" y="1700280"/>
            <a:ext cx="42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OBLIGACIÓN M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0880" y="1303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8360" y="2205000"/>
            <a:ext cx="42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8360" y="2755800"/>
            <a:ext cx="80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CONDICIÓN INDISPENS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70040" y="3284640"/>
            <a:ext cx="56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PROMISO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70040" y="3860640"/>
            <a:ext cx="56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CIENCIA ECOLÓ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70040" y="4437000"/>
            <a:ext cx="56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ENSAMIENTO GLOB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5013360"/>
            <a:ext cx="80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CONTENIDOS DE LA DISCIPL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ENCORCE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95280" y="9079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RARA COINCIDIENCIA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200 AÑ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0880" y="1303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916280"/>
            <a:ext cx="1871640" cy="163512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179280" y="364500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76640" y="1413000"/>
            <a:ext cx="2980080" cy="20793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4889520" y="36021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ICENTEN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51280" y="4221000"/>
            <a:ext cx="1297080" cy="1224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11280" y="551664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PROMISO GLOBAL DE LAS ACTUALES GENERACIONES PENSANDO EN LAS FUTU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6" dur="indefinite" restart="never" nodeType="tmRoot">
          <p:childTnLst>
            <p:seq>
              <p:cTn id="1847" dur="indefinite" nodeType="mainSeq">
                <p:childTnLst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484360" y="31417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AGRADECIMI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159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352440" y="476280"/>
            <a:ext cx="8569440" cy="633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85880" y="981000"/>
            <a:ext cx="718920" cy="647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85880" y="2060640"/>
            <a:ext cx="718920" cy="647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85880" y="3141720"/>
            <a:ext cx="718920" cy="647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85880" y="4149720"/>
            <a:ext cx="718920" cy="647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85880" y="5157720"/>
            <a:ext cx="718920" cy="647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009880" y="981000"/>
            <a:ext cx="2376360" cy="647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BL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009880" y="2060640"/>
            <a:ext cx="2376360" cy="647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GANIZ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009880" y="3156120"/>
            <a:ext cx="2376360" cy="647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TOR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009880" y="4149720"/>
            <a:ext cx="2376360" cy="647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N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009880" y="5157720"/>
            <a:ext cx="2376360" cy="647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PI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57880" y="981000"/>
            <a:ext cx="4248000" cy="647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TAMAÑO, DENSIDAD, COMPOSICIÓN, DINAM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EOGRÁFICA, ETC.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57880" y="2060640"/>
            <a:ext cx="4248000" cy="647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ESTRATIFICACIÓN SOCIAL, PATRONES DE PRODUCCIÓ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PATRONES DE RESOLUCIÓN DE CONFLICTOS, ET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57880" y="3156120"/>
            <a:ext cx="4248000" cy="647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MEDIO AMBIENTE FÍSICO Y CONSTRUIDO, PROCES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AMBIENTALES, RECURSOS NATURALES, ET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457880" y="4149720"/>
            <a:ext cx="4248000" cy="647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INNOVACIÓN, PROGRESO TÉCNICO, UTILIZACIÓ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DE ENERGÍA, ET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457880" y="5157720"/>
            <a:ext cx="4248000" cy="647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VALORES, CULTURA, PATRONES DE CONSUMO, ET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9880" y="5950080"/>
            <a:ext cx="4248360" cy="647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OTIS DUNCAN “FROM SOCIAL SYSTEM T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COSYSTEM”. Sociological Inquiry 31, 1961. USA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80880" y="4428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49000" y="664200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189920" y="662472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99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250920" y="90792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UESTRO COMPROMISO COMO PROFES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8360" y="162864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COMPROMISO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DELEG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303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8360" y="2205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ANTICIPAR  Y  COMPRENDER  LOS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FE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OCIVOS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ESPECÍFICOS DE CADA IND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Y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68360" y="3479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RESPONDER CON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EORÍAS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Y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IONES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USTENTABLES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EN EL TIEM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8360" y="447840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OTORGARLE A LA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USTENTABILIDAD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SENTIDO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ORAL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ÉTICO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Y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OS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2760" y="544500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DEBE CONSTITUIR  PARTE  DE  NUEST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ENCIA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COMO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PROFESIONALES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DE 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IENCIAS ECONÓM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0" dur="indefinite" restart="never" nodeType="tmRoot">
          <p:childTnLst>
            <p:seq>
              <p:cTn id="1971" dur="indefinite" nodeType="mainSeq">
                <p:childTnLst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484360" y="3068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80880" y="1159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1662120" y="69228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INSTITUCIÓN E INDIVIDU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80880" y="1159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89080" y="3860640"/>
            <a:ext cx="82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PROMISO   PÚBLICO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 CON   LA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LIMÁTICA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Y LA NECESIDAD DE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URG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DE  SU  TRATAMIENTO  Y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SIDERA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060640"/>
            <a:ext cx="1800000" cy="157320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979640" y="206064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ISIÓN DE EDUCACIÓ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IENC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ÉCNIC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36600" y="5448240"/>
            <a:ext cx="86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- INVITAR A SUS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RICULADOS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Y A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OCIEDAD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A UNIRSE EN ESA CRUZ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7812000" y="2492280"/>
          <a:ext cx="93672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0" y="2492280"/>
                    <a:ext cx="9367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9" dur="indefinite" restart="never" nodeType="tmRoot">
          <p:childTnLst>
            <p:seq>
              <p:cTn id="2010" dur="indefinite" nodeType="mainSeq">
                <p:childTnLst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1677960" y="71280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INSTITUCIÓN E INDIVIDU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159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8000" y="386064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- GENERACIÓN DEL PROYECTO 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                 “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NO AL TRABAJO INFANTI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1800000" cy="15732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1979640" y="206064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ISIÓN DE EDUCACIÓ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IENC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ÉCNICA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08000" y="4724280"/>
            <a:ext cx="88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- CADA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GRADUADO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DE CIENCIAS ECONÓM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EN CUALQUIER INSTITUCIÓN SE CONSTITUI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EN EL PALADÍN DE ESTA CRUZADA, BUSCA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ADHESIÓN Y ACCIONANDO EN LA REA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6178320" y="2565360"/>
            <a:ext cx="2387880" cy="1364400"/>
            <a:chOff x="6178320" y="2565360"/>
            <a:chExt cx="2387880" cy="1364400"/>
          </a:xfrm>
        </p:grpSpPr>
        <p:pic>
          <p:nvPicPr>
            <p:cNvPr id="725" name="" descr=""/>
            <p:cNvPicPr/>
            <p:nvPr/>
          </p:nvPicPr>
          <p:blipFill>
            <a:blip r:embed="rId2"/>
            <a:stretch/>
          </p:blipFill>
          <p:spPr>
            <a:xfrm>
              <a:off x="6178320" y="2565360"/>
              <a:ext cx="149580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6267240" y="3683520"/>
              <a:ext cx="229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Verdana"/>
                </a:rPr>
                <a:t>POBREZA Y DESIGUALDAD SOCI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1" dur="indefinite" restart="never" nodeType="tmRoot">
          <p:childTnLst>
            <p:seq>
              <p:cTn id="2042" dur="indefinite" nodeType="mainSeq">
                <p:childTnLst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2484360" y="3068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MENSAJE F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80880" y="1159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3" dur="indefinite" restart="never" nodeType="tmRoot">
          <p:childTnLst>
            <p:seq>
              <p:cTn id="2074" dur="indefinite" nodeType="mainSeq">
                <p:childTnLst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80880" y="1159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3363840" y="1308240"/>
            <a:ext cx="3008520" cy="1257120"/>
            <a:chOff x="3363840" y="1308240"/>
            <a:chExt cx="3008520" cy="1257120"/>
          </a:xfrm>
        </p:grpSpPr>
        <p:graphicFrame>
          <p:nvGraphicFramePr>
            <p:cNvPr id="735" name=""/>
            <p:cNvGraphicFramePr/>
            <p:nvPr/>
          </p:nvGraphicFramePr>
          <p:xfrm>
            <a:off x="3363840" y="1308240"/>
            <a:ext cx="2992680" cy="1257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63840" y="1308240"/>
                      <a:ext cx="2992680" cy="12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7" name=""/>
            <p:cNvGraphicFramePr/>
            <p:nvPr/>
          </p:nvGraphicFramePr>
          <p:xfrm>
            <a:off x="3546360" y="1316160"/>
            <a:ext cx="2826000" cy="981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46360" y="1316160"/>
                      <a:ext cx="2826000" cy="98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39" name=""/>
          <p:cNvGraphicFramePr/>
          <p:nvPr/>
        </p:nvGraphicFramePr>
        <p:xfrm>
          <a:off x="324000" y="4292640"/>
          <a:ext cx="2992320" cy="12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4292640"/>
                    <a:ext cx="299232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395280" y="3024360"/>
          <a:ext cx="2825640" cy="981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3024360"/>
                    <a:ext cx="282564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"/>
          <p:cNvGraphicFramePr/>
          <p:nvPr/>
        </p:nvGraphicFramePr>
        <p:xfrm>
          <a:off x="4356000" y="4475160"/>
          <a:ext cx="1513080" cy="96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56000" y="4475160"/>
                    <a:ext cx="151308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5" name="" descr=""/>
          <p:cNvPicPr/>
          <p:nvPr/>
        </p:nvPicPr>
        <p:blipFill>
          <a:blip r:embed="rId11"/>
          <a:stretch/>
        </p:blipFill>
        <p:spPr>
          <a:xfrm>
            <a:off x="4643280" y="2852640"/>
            <a:ext cx="944640" cy="135576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6156360" y="470052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OMPROMISO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16000" y="62064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COMPROMISO O PARTICIPACIÓN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156360" y="333216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PARTICIPACIÓN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0" dur="indefinite" restart="never" nodeType="tmRoot">
          <p:childTnLst>
            <p:seq>
              <p:cTn id="2081" dur="indefinite" nodeType="mainSeq">
                <p:childTnLst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2484360" y="1413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USTEDES SON EL CAMB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80880" y="1159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484360" y="4292640"/>
            <a:ext cx="46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Verdana"/>
              </a:rPr>
              <a:t>GRAC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908000" y="544500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66"/>
                </a:solidFill>
                <a:latin typeface="Verdana"/>
              </a:rPr>
              <a:t>pbasualdo@fibertel.com.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484360" y="27558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COMPROMÉTA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042920" y="4076640"/>
            <a:ext cx="71294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2" dur="indefinite" restart="never" nodeType="tmRoot">
          <p:childTnLst>
            <p:seq>
              <p:cTn id="2123" dur="indefinite" nodeType="mainSeq">
                <p:childTnLst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484360" y="3068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SÓLO DETON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159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1159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3357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TENS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9974000">
            <a:off x="2626920" y="3068640"/>
            <a:ext cx="1081080" cy="576360"/>
          </a:xfrm>
          <a:prstGeom prst="rightArrow">
            <a:avLst>
              <a:gd name="adj1" fmla="val 50000"/>
              <a:gd name="adj2" fmla="val 4689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026000">
            <a:off x="2685960" y="3745080"/>
            <a:ext cx="1081080" cy="576000"/>
          </a:xfrm>
          <a:prstGeom prst="rightArrow">
            <a:avLst>
              <a:gd name="adj1" fmla="val 50000"/>
              <a:gd name="adj2" fmla="val 4692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1557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MODERNIDAD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47640" y="4797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MEDIO AMBIENT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0" y="547560"/>
          <a:ext cx="4181400" cy="28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47560"/>
                    <a:ext cx="418140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932360" y="3500280"/>
          <a:ext cx="3686040" cy="28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3500280"/>
                    <a:ext cx="368604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66920" y="620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ARROLLO SUSTE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10160" y="6524640"/>
            <a:ext cx="16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35280" y="1773360"/>
            <a:ext cx="59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PARADIGMA DE DESARROLL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versus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PARADIGMA DE CRECIMIENTO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3716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ALOR EN LA G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87560" y="462744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SUSTE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87560" y="520380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MENSU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87560" y="578016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PERCIB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159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68360" y="12430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LERTA POR LA FALTA DE SUSTENTATIBILIDAD DEL PLANETA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54080" y="5068800"/>
            <a:ext cx="1152720" cy="1085760"/>
          </a:xfrm>
          <a:prstGeom prst="ellipse">
            <a:avLst/>
          </a:prstGeom>
          <a:gradFill rotWithShape="0">
            <a:gsLst>
              <a:gs pos="0">
                <a:srgbClr val="e8f816">
                  <a:alpha val="22352"/>
                </a:srgbClr>
              </a:gs>
              <a:gs pos="100000">
                <a:srgbClr val="99ff33">
                  <a:alpha val="2235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075120" y="5518080"/>
            <a:ext cx="3408120" cy="724320"/>
            <a:chOff x="3075120" y="5518080"/>
            <a:chExt cx="3408120" cy="724320"/>
          </a:xfrm>
        </p:grpSpPr>
        <p:sp>
          <p:nvSpPr>
            <p:cNvPr id="211" name=""/>
            <p:cNvSpPr/>
            <p:nvPr/>
          </p:nvSpPr>
          <p:spPr>
            <a:xfrm>
              <a:off x="3127320" y="551808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Verdana"/>
                </a:rPr>
                <a:t>ERA 1</a:t>
              </a: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05800" y="5719320"/>
              <a:ext cx="160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Verdana"/>
                </a:rPr>
                <a:t>FÍSICA &amp; QUÍMICA</a:t>
              </a: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75120" y="5965920"/>
              <a:ext cx="340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Verdana"/>
                </a:rPr>
                <a:t>Información en estructuras atómicas</a:t>
              </a: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503440" y="4367160"/>
            <a:ext cx="1152720" cy="1084320"/>
          </a:xfrm>
          <a:prstGeom prst="ellipse">
            <a:avLst/>
          </a:prstGeom>
          <a:gradFill rotWithShape="0">
            <a:gsLst>
              <a:gs pos="0">
                <a:srgbClr val="e8f816">
                  <a:alpha val="22352"/>
                </a:srgbClr>
              </a:gs>
              <a:gs pos="100000">
                <a:srgbClr val="99ff33">
                  <a:alpha val="2235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52800" y="5451480"/>
            <a:ext cx="4005360" cy="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0200" y="3651120"/>
            <a:ext cx="1153800" cy="1086120"/>
          </a:xfrm>
          <a:prstGeom prst="ellipse">
            <a:avLst/>
          </a:prstGeom>
          <a:gradFill rotWithShape="0">
            <a:gsLst>
              <a:gs pos="0">
                <a:srgbClr val="e8f816">
                  <a:alpha val="22352"/>
                </a:srgbClr>
              </a:gs>
              <a:gs pos="100000">
                <a:srgbClr val="99ff33">
                  <a:alpha val="2235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13320" y="4749840"/>
            <a:ext cx="344484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68680" y="2949480"/>
            <a:ext cx="1152720" cy="1086120"/>
          </a:xfrm>
          <a:prstGeom prst="ellipse">
            <a:avLst/>
          </a:prstGeom>
          <a:gradFill rotWithShape="0">
            <a:gsLst>
              <a:gs pos="0">
                <a:srgbClr val="e8f816">
                  <a:alpha val="22352"/>
                </a:srgbClr>
              </a:gs>
              <a:gs pos="100000">
                <a:srgbClr val="99ff33">
                  <a:alpha val="2235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94280" y="2259000"/>
            <a:ext cx="1154160" cy="1085760"/>
          </a:xfrm>
          <a:prstGeom prst="ellipse">
            <a:avLst/>
          </a:prstGeom>
          <a:gradFill rotWithShape="0">
            <a:gsLst>
              <a:gs pos="0">
                <a:srgbClr val="e8f816">
                  <a:alpha val="22352"/>
                </a:srgbClr>
              </a:gs>
              <a:gs pos="100000">
                <a:srgbClr val="99ff33">
                  <a:alpha val="2235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87840" y="1557360"/>
            <a:ext cx="1152720" cy="1085760"/>
          </a:xfrm>
          <a:prstGeom prst="ellipse">
            <a:avLst/>
          </a:prstGeom>
          <a:gradFill rotWithShape="0">
            <a:gsLst>
              <a:gs pos="0">
                <a:srgbClr val="e8f816">
                  <a:alpha val="22352"/>
                </a:srgbClr>
              </a:gs>
              <a:gs pos="100000">
                <a:srgbClr val="99ff33">
                  <a:alpha val="2235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724200" y="4732200"/>
            <a:ext cx="1824840" cy="719640"/>
            <a:chOff x="3724200" y="4732200"/>
            <a:chExt cx="1824840" cy="719640"/>
          </a:xfrm>
        </p:grpSpPr>
        <p:sp>
          <p:nvSpPr>
            <p:cNvPr id="222" name=""/>
            <p:cNvSpPr/>
            <p:nvPr/>
          </p:nvSpPr>
          <p:spPr>
            <a:xfrm>
              <a:off x="3724200" y="4732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ff33"/>
                  </a:solidFill>
                  <a:latin typeface="Verdana"/>
                </a:rPr>
                <a:t>ERA 2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32480" y="4933080"/>
              <a:ext cx="94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ff33"/>
                  </a:solidFill>
                  <a:latin typeface="Verdana"/>
                </a:rPr>
                <a:t>BIOLOGÍ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74240" y="5175360"/>
              <a:ext cx="177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ff33"/>
                  </a:solidFill>
                  <a:latin typeface="Verdana"/>
                </a:rPr>
                <a:t>Información en ADN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160880" y="4048200"/>
            <a:ext cx="2897280" cy="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265280" y="4029120"/>
            <a:ext cx="2889720" cy="693720"/>
            <a:chOff x="4265280" y="4029120"/>
            <a:chExt cx="2889720" cy="693720"/>
          </a:xfrm>
        </p:grpSpPr>
        <p:sp>
          <p:nvSpPr>
            <p:cNvPr id="227" name=""/>
            <p:cNvSpPr/>
            <p:nvPr/>
          </p:nvSpPr>
          <p:spPr>
            <a:xfrm>
              <a:off x="4265280" y="40291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8f816"/>
                  </a:solidFill>
                  <a:latin typeface="Verdana"/>
                </a:rPr>
                <a:t>ERA</a:t>
              </a:r>
              <a:r>
                <a:rPr b="1" lang="en-US" sz="1200" spc="-1" strike="noStrike">
                  <a:solidFill>
                    <a:srgbClr val="99ff33"/>
                  </a:solidFill>
                  <a:latin typeface="Verdana"/>
                </a:rPr>
                <a:t> </a:t>
              </a:r>
              <a:r>
                <a:rPr b="1" lang="en-US" sz="1200" spc="-1" strike="noStrike">
                  <a:solidFill>
                    <a:srgbClr val="e8f816"/>
                  </a:solidFill>
                  <a:latin typeface="Verdana"/>
                </a:rPr>
                <a:t>3</a:t>
              </a:r>
              <a:r>
                <a:rPr b="1" lang="en-US" sz="1200" spc="-1" strike="noStrike">
                  <a:solidFill>
                    <a:srgbClr val="99ff33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82920" y="4233240"/>
              <a:ext cx="95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8f816"/>
                  </a:solidFill>
                  <a:latin typeface="Verdana"/>
                </a:rPr>
                <a:t>CEREBR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74360" y="4446360"/>
              <a:ext cx="278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e8f816"/>
                  </a:solidFill>
                  <a:latin typeface="Verdana"/>
                </a:rPr>
                <a:t>Información en patrones neura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676760" y="3344760"/>
            <a:ext cx="2381400" cy="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770360" y="3341520"/>
            <a:ext cx="3301560" cy="694080"/>
            <a:chOff x="4770360" y="3341520"/>
            <a:chExt cx="3301560" cy="694080"/>
          </a:xfrm>
        </p:grpSpPr>
        <p:sp>
          <p:nvSpPr>
            <p:cNvPr id="232" name=""/>
            <p:cNvSpPr/>
            <p:nvPr/>
          </p:nvSpPr>
          <p:spPr>
            <a:xfrm>
              <a:off x="4770360" y="33415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ff"/>
                  </a:solidFill>
                  <a:latin typeface="Verdana"/>
                </a:rPr>
                <a:t>ERA 4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85120" y="3544200"/>
              <a:ext cx="118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ff"/>
                  </a:solidFill>
                  <a:latin typeface="Verdana"/>
                </a:rPr>
                <a:t>TECNOLOGÍ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28400" y="3759120"/>
              <a:ext cx="31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ff"/>
                  </a:solidFill>
                  <a:latin typeface="Verdana"/>
                </a:rPr>
                <a:t>Información en diseño de HARD y SO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202360" y="2643120"/>
            <a:ext cx="1855800" cy="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71480" y="2639880"/>
            <a:ext cx="3368160" cy="690480"/>
            <a:chOff x="5271480" y="2639880"/>
            <a:chExt cx="3368160" cy="690480"/>
          </a:xfrm>
        </p:grpSpPr>
        <p:sp>
          <p:nvSpPr>
            <p:cNvPr id="237" name=""/>
            <p:cNvSpPr/>
            <p:nvPr/>
          </p:nvSpPr>
          <p:spPr>
            <a:xfrm>
              <a:off x="5271480" y="263988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Verdana"/>
                </a:rPr>
                <a:t>ERA 5</a:t>
              </a:r>
              <a:r>
                <a:rPr b="1" lang="en-US" sz="1200" spc="-1" strike="noStrike">
                  <a:solidFill>
                    <a:srgbClr val="3366ff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32400" y="2841120"/>
              <a:ext cx="320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Verdana"/>
                </a:rPr>
                <a:t>TECNOLOGÍA &amp; INTELIGENCIA HUMA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02160" y="3053880"/>
              <a:ext cx="31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Verdana"/>
                </a:rPr>
                <a:t>Métodos biológicos integrados en ba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792400" y="1766880"/>
            <a:ext cx="2868120" cy="874800"/>
            <a:chOff x="5792400" y="1766880"/>
            <a:chExt cx="2868120" cy="874800"/>
          </a:xfrm>
        </p:grpSpPr>
        <p:sp>
          <p:nvSpPr>
            <p:cNvPr id="241" name=""/>
            <p:cNvSpPr/>
            <p:nvPr/>
          </p:nvSpPr>
          <p:spPr>
            <a:xfrm>
              <a:off x="5792400" y="176688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ff"/>
                  </a:solidFill>
                  <a:latin typeface="Verdana"/>
                </a:rPr>
                <a:t>ERA 6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2880" y="1969200"/>
              <a:ext cx="224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ff"/>
                  </a:solidFill>
                  <a:latin typeface="Verdana"/>
                </a:rPr>
                <a:t>EL UNIVERSO SE DESPIER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93560" y="2182680"/>
              <a:ext cx="2766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ff"/>
                  </a:solidFill>
                  <a:latin typeface="Verdana"/>
                </a:rPr>
                <a:t>Patrones de materia y energía  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ff"/>
                  </a:solidFill>
                  <a:latin typeface="Verdana"/>
                </a:rPr>
                <a:t>integran con inteligencia huma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282760" y="1812960"/>
            <a:ext cx="3073320" cy="3959280"/>
          </a:xfrm>
          <a:custGeom>
            <a:avLst/>
            <a:gdLst/>
            <a:ahLst/>
            <a:rect l="l" t="t" r="r" b="b"/>
            <a:pathLst>
              <a:path w="2540" h="2812">
                <a:moveTo>
                  <a:pt x="0" y="2812"/>
                </a:moveTo>
                <a:cubicBezTo>
                  <a:pt x="7" y="2759"/>
                  <a:pt x="15" y="2706"/>
                  <a:pt x="45" y="2676"/>
                </a:cubicBezTo>
                <a:cubicBezTo>
                  <a:pt x="75" y="2646"/>
                  <a:pt x="128" y="2638"/>
                  <a:pt x="181" y="2630"/>
                </a:cubicBezTo>
                <a:cubicBezTo>
                  <a:pt x="234" y="2622"/>
                  <a:pt x="318" y="2668"/>
                  <a:pt x="363" y="2630"/>
                </a:cubicBezTo>
                <a:cubicBezTo>
                  <a:pt x="408" y="2592"/>
                  <a:pt x="430" y="2465"/>
                  <a:pt x="453" y="2404"/>
                </a:cubicBezTo>
                <a:cubicBezTo>
                  <a:pt x="476" y="2343"/>
                  <a:pt x="461" y="2297"/>
                  <a:pt x="499" y="2267"/>
                </a:cubicBezTo>
                <a:cubicBezTo>
                  <a:pt x="537" y="2237"/>
                  <a:pt x="612" y="2245"/>
                  <a:pt x="680" y="2222"/>
                </a:cubicBezTo>
                <a:cubicBezTo>
                  <a:pt x="748" y="2199"/>
                  <a:pt x="869" y="2184"/>
                  <a:pt x="907" y="2131"/>
                </a:cubicBezTo>
                <a:cubicBezTo>
                  <a:pt x="945" y="2078"/>
                  <a:pt x="892" y="1965"/>
                  <a:pt x="907" y="1905"/>
                </a:cubicBezTo>
                <a:cubicBezTo>
                  <a:pt x="922" y="1845"/>
                  <a:pt x="938" y="1807"/>
                  <a:pt x="998" y="1769"/>
                </a:cubicBezTo>
                <a:cubicBezTo>
                  <a:pt x="1058" y="1731"/>
                  <a:pt x="1217" y="1731"/>
                  <a:pt x="1270" y="1678"/>
                </a:cubicBezTo>
                <a:cubicBezTo>
                  <a:pt x="1323" y="1625"/>
                  <a:pt x="1270" y="1519"/>
                  <a:pt x="1315" y="1451"/>
                </a:cubicBezTo>
                <a:cubicBezTo>
                  <a:pt x="1360" y="1383"/>
                  <a:pt x="1489" y="1300"/>
                  <a:pt x="1542" y="1270"/>
                </a:cubicBezTo>
                <a:cubicBezTo>
                  <a:pt x="1595" y="1240"/>
                  <a:pt x="1603" y="1323"/>
                  <a:pt x="1633" y="1270"/>
                </a:cubicBezTo>
                <a:cubicBezTo>
                  <a:pt x="1663" y="1217"/>
                  <a:pt x="1717" y="1035"/>
                  <a:pt x="1724" y="952"/>
                </a:cubicBezTo>
                <a:cubicBezTo>
                  <a:pt x="1731" y="869"/>
                  <a:pt x="1640" y="816"/>
                  <a:pt x="1678" y="771"/>
                </a:cubicBezTo>
                <a:cubicBezTo>
                  <a:pt x="1716" y="726"/>
                  <a:pt x="1882" y="710"/>
                  <a:pt x="1950" y="680"/>
                </a:cubicBezTo>
                <a:cubicBezTo>
                  <a:pt x="2018" y="650"/>
                  <a:pt x="2056" y="642"/>
                  <a:pt x="2086" y="589"/>
                </a:cubicBezTo>
                <a:cubicBezTo>
                  <a:pt x="2116" y="536"/>
                  <a:pt x="2102" y="415"/>
                  <a:pt x="2132" y="362"/>
                </a:cubicBezTo>
                <a:cubicBezTo>
                  <a:pt x="2162" y="309"/>
                  <a:pt x="2215" y="295"/>
                  <a:pt x="2268" y="272"/>
                </a:cubicBezTo>
                <a:cubicBezTo>
                  <a:pt x="2321" y="249"/>
                  <a:pt x="2404" y="271"/>
                  <a:pt x="2449" y="226"/>
                </a:cubicBezTo>
                <a:cubicBezTo>
                  <a:pt x="2494" y="181"/>
                  <a:pt x="2517" y="90"/>
                  <a:pt x="2540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00" y="4794120"/>
            <a:ext cx="177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Evolución del AD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8040" y="41482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f816"/>
                </a:solidFill>
                <a:latin typeface="Arial"/>
              </a:rPr>
              <a:t>Evolución del Cereb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6600" y="350028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ff"/>
                </a:solidFill>
                <a:latin typeface="Arial"/>
              </a:rPr>
              <a:t>Evolución de la Tecnolo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3560" y="2577960"/>
            <a:ext cx="313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Evolución de  la  Tecnología y  lo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Métodos Biológicos, incluidos   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inteligencia huma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00" y="1800360"/>
            <a:ext cx="325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Arial"/>
              </a:rPr>
              <a:t>Evolución de la Inteligencia huma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Arial"/>
              </a:rPr>
              <a:t>predominantemente    no   biológ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Arial"/>
              </a:rPr>
              <a:t>propagado a todo el Univers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1159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8800" y="589284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Evolución F/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56000" y="6195960"/>
            <a:ext cx="4464000" cy="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00" y="1268280"/>
            <a:ext cx="8964720" cy="2521080"/>
          </a:xfrm>
          <a:prstGeom prst="rect">
            <a:avLst/>
          </a:prstGeom>
          <a:gradFill rotWithShape="0">
            <a:gsLst>
              <a:gs pos="0">
                <a:srgbClr val="ffff00">
                  <a:alpha val="84313"/>
                </a:srgbClr>
              </a:gs>
              <a:gs pos="100000">
                <a:srgbClr val="ff3300">
                  <a:alpha val="22352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635280" y="549360"/>
          <a:ext cx="194328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549360"/>
                    <a:ext cx="194328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132000" y="765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LSA DICOTOM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356000" y="5229360"/>
            <a:ext cx="480960" cy="1419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246480" y="3948120"/>
            <a:ext cx="2665440" cy="900000"/>
          </a:xfrm>
          <a:custGeom>
            <a:avLst/>
            <a:gdLst/>
            <a:ahLst/>
            <a:rect l="l" t="t" r="r" b="b"/>
            <a:pathLst>
              <a:path w="1679" h="567">
                <a:moveTo>
                  <a:pt x="0" y="567"/>
                </a:moveTo>
                <a:cubicBezTo>
                  <a:pt x="162" y="381"/>
                  <a:pt x="325" y="196"/>
                  <a:pt x="499" y="113"/>
                </a:cubicBezTo>
                <a:cubicBezTo>
                  <a:pt x="673" y="30"/>
                  <a:pt x="846" y="0"/>
                  <a:pt x="1043" y="68"/>
                </a:cubicBezTo>
                <a:cubicBezTo>
                  <a:pt x="1240" y="136"/>
                  <a:pt x="1566" y="446"/>
                  <a:pt x="1679" y="521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9137000">
            <a:off x="898560" y="2939760"/>
            <a:ext cx="1655640" cy="28083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2727000">
            <a:off x="6644880" y="2995560"/>
            <a:ext cx="1655640" cy="28083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2722200">
            <a:off x="2783520" y="5504400"/>
            <a:ext cx="461880" cy="48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7986600">
            <a:off x="5941080" y="5518800"/>
            <a:ext cx="462240" cy="48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6720" y="20638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EGO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55640" y="3357720"/>
          <a:ext cx="1660680" cy="157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3357720"/>
                    <a:ext cx="166068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6845400" y="3473280"/>
          <a:ext cx="1547640" cy="154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5400" y="3473280"/>
                    <a:ext cx="154764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2361240" y="163440"/>
            <a:ext cx="45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84720" y="206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L PLAN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68440" y="126828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 CONCIENCIA ECONSISTÉM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1640" y="2276640"/>
            <a:ext cx="79200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40000" y="303840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OPORTUNIDAD DE NEGOCIOS Y RE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403280" y="314172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UN EJEMP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</a:rPr>
              <a:t>LA CRISIS CLIM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(EL CALENTAMIENTO GLOB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1159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 SUSTENTABLE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5960" y="65246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 de Julio d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05840" y="6524640"/>
            <a:ext cx="159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Verdana"/>
              </a:rPr>
              <a:t>Dr. Pedro Alejandro Basual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5:59:29Z</dcterms:created>
  <dc:creator>sonny</dc:creator>
  <dc:description/>
  <dc:language>en-US</dc:language>
  <cp:lastModifiedBy>CPCECABA</cp:lastModifiedBy>
  <dcterms:modified xsi:type="dcterms:W3CDTF">2008-07-04T17:10:03Z</dcterms:modified>
  <cp:revision>12</cp:revision>
  <dc:subject/>
  <dc:title>Diapositiva 1</dc:title>
</cp:coreProperties>
</file>