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2E3-2BC6-4A51-ABE1-E3C31B5B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4B7-1C28-4BAB-881D-9A35450D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D06-34E8-45A3-9E10-69992CBF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FCE-6E64-459E-A823-BDF5C341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F79-86E6-4A95-B7D3-B929AFD5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8E6-9878-4124-B1EE-2AD99FF3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7A9-F784-4F53-84AD-82E134F1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DDF-C372-4B6E-A714-10CA1B7C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989-DC01-4894-A07E-2BB9F82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154-722D-447B-B531-EB9E6DA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7DC-CC7C-4EA5-8D47-254007F6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317-9C1E-4EA7-B6D8-426CD32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6FF2-2A78-4869-9ECF-7B92960467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6699"/>
                </a:solidFill>
                <a:latin typeface="Tahoma"/>
              </a:rPr>
              <a:t>PyMEs</a:t>
            </a:r>
            <a:r>
              <a:rPr b="1" lang="es-ES_tradnl" sz="4500" spc="-1" strike="noStrike">
                <a:solidFill>
                  <a:srgbClr val="006699"/>
                </a:solidFill>
                <a:latin typeface="Tahoma"/>
              </a:rPr>
              <a:t>, </a:t>
            </a:r>
            <a:r>
              <a:rPr b="1" lang="es-ES" sz="4500" spc="-1" strike="noStrike">
                <a:solidFill>
                  <a:srgbClr val="006699"/>
                </a:solidFill>
                <a:latin typeface="Tahoma"/>
              </a:rPr>
              <a:t>Desarrollo Local</a:t>
            </a:r>
            <a:r>
              <a:rPr b="1" lang="es-ES_tradnl" sz="4500" spc="-1" strike="noStrike">
                <a:solidFill>
                  <a:srgbClr val="006699"/>
                </a:solidFill>
                <a:latin typeface="Tahoma"/>
              </a:rPr>
              <a:t> y Exportacion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2412720"/>
            <a:ext cx="8001000" cy="1320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Simposio Sobre Comercio Ex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e Integ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6680" y="5986440"/>
            <a:ext cx="7488000" cy="109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90680" y="4937040"/>
            <a:ext cx="4562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Tahoma"/>
                <a:ea typeface="Times New Roman"/>
              </a:rPr>
              <a:t>Lic. Gustavo Svarz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Tahoma"/>
                <a:ea typeface="Times New Roman"/>
              </a:rPr>
              <a:t>noviembre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73360" y="4159080"/>
            <a:ext cx="739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ahoma"/>
              </a:rPr>
              <a:t>Consejo Profesional de Ciencias Económ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Tahoma"/>
              </a:rPr>
              <a:t>Revalorización creciente del rol de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las PyMEs como actores importantes en el proceso de desarrollo económico y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los ámbitos locales como espacios de generación de ventajas competitivas y de entornos pro compet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El conocimiento específico y la capacidad de interactuar con los usuarios o demandantes directos de los bienes y servicios a ofr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746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Tahoma"/>
              </a:rPr>
              <a:t>Relación entre Desarrollo Local y P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f6e8b"/>
                </a:solidFill>
                <a:latin typeface="Tahoma"/>
              </a:rPr>
              <a:t>En los ámbitos locales, la gran mayoría de las empresas son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f6e8b"/>
                </a:solidFill>
                <a:latin typeface="Tahoma"/>
              </a:rPr>
              <a:t>Aún en los casos en que existen grandes empresas, las PyMEs son las que pueden dinamizar la economía local con los encadenamientos hacia delante y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f6e8b"/>
                </a:solidFill>
                <a:latin typeface="Tahoma"/>
              </a:rPr>
              <a:t>Las PyMEs juegan un papel clave en los procesos de generación de aprendizaje e innovación </a:t>
            </a:r>
            <a:r>
              <a:rPr b="0" lang="es-ES_tradnl" sz="2400" spc="-1" strike="noStrike">
                <a:solidFill>
                  <a:srgbClr val="3f6e8b"/>
                </a:solidFill>
                <a:latin typeface="Tahoma"/>
              </a:rPr>
              <a:t>en temas de interés regional (ej. INTA, Centro de Desarrollo, Universidad Local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f6e8b"/>
                </a:solidFill>
                <a:latin typeface="Tahoma"/>
              </a:rPr>
              <a:t>Los pequeños y medianos empresarios s</a:t>
            </a:r>
            <a:r>
              <a:rPr b="0" lang="es-ES_tradnl" sz="2400" spc="-1" strike="noStrike">
                <a:solidFill>
                  <a:srgbClr val="3f6e8b"/>
                </a:solidFill>
                <a:latin typeface="Tahoma"/>
              </a:rPr>
              <a:t>uelen ser </a:t>
            </a:r>
            <a:r>
              <a:rPr b="0" lang="es-ES" sz="2400" spc="-1" strike="noStrike">
                <a:solidFill>
                  <a:srgbClr val="3f6e8b"/>
                </a:solidFill>
                <a:latin typeface="Tahoma"/>
              </a:rPr>
              <a:t> actores destacados de la base social y de la dirigencia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Tahoma"/>
              </a:rPr>
              <a:t>Las áreas </a:t>
            </a:r>
            <a:r>
              <a:rPr b="1" lang="es-ES_tradnl" sz="4000" spc="-1" strike="noStrike">
                <a:solidFill>
                  <a:srgbClr val="000066"/>
                </a:solidFill>
                <a:latin typeface="Tahoma"/>
              </a:rPr>
              <a:t>territoriales</a:t>
            </a:r>
            <a:r>
              <a:rPr b="1" lang="es-ES" sz="4000" spc="-1" strike="noStrike">
                <a:solidFill>
                  <a:srgbClr val="000066"/>
                </a:solidFill>
                <a:latin typeface="Tahoma"/>
              </a:rPr>
              <a:t>:</a:t>
            </a:r>
            <a:br>
              <a:rPr sz="4000"/>
            </a:br>
            <a:r>
              <a:rPr b="1" lang="es-ES" sz="4000" spc="-1" strike="noStrike">
                <a:solidFill>
                  <a:srgbClr val="000066"/>
                </a:solidFill>
                <a:latin typeface="Tahoma"/>
              </a:rPr>
              <a:t>Limi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e8b"/>
                </a:solidFill>
                <a:latin typeface="Tahoma"/>
              </a:rPr>
              <a:t>Escaso o nulo manejo sobre las variables macro, comerciales y mone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e8b"/>
                </a:solidFill>
                <a:latin typeface="Tahoma"/>
              </a:rPr>
              <a:t>Una problemática económico-social y distintas jurisdicciones p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e8b"/>
                </a:solidFill>
                <a:latin typeface="Tahoma"/>
              </a:rPr>
              <a:t>Identidad local frecuentemente dif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e8b"/>
                </a:solidFill>
                <a:latin typeface="Tahoma"/>
              </a:rPr>
              <a:t>Problemas sociales, ambientales y de localización (“convivenci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600200"/>
            <a:ext cx="845820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f6e8b"/>
                </a:solidFill>
                <a:latin typeface="Tahoma"/>
              </a:rPr>
              <a:t>Dada la heterogeneidad de regiones e intereses, el desarrollo podrá ser mejor “pensado” desde lo loc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f6e8b"/>
                </a:solidFill>
                <a:latin typeface="Tahoma"/>
              </a:rPr>
              <a:t>La responsabilidad recae especialmente en los municipios y enlos agentes loc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f6e8b"/>
                </a:solidFill>
                <a:latin typeface="Tahoma"/>
              </a:rPr>
              <a:t>La Acción Municipal debe exceder la gestión de ABL, la recoleccion de la basura y los cementer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f6e8b"/>
                </a:solidFill>
                <a:latin typeface="Tahoma"/>
              </a:rPr>
              <a:t>La función de la dirigencia local es la elaboración y puesta en práctica de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3f6e8b"/>
                </a:solidFill>
                <a:latin typeface="Tahoma"/>
              </a:rPr>
              <a:t>ESTRATEGIA PROPIA de DESARROL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6440" y="365040"/>
            <a:ext cx="61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Tahoma"/>
              </a:rPr>
              <a:t>El papel de lo terri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24680" y="2649600"/>
            <a:ext cx="6188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66"/>
                </a:solidFill>
                <a:latin typeface="Tahoma"/>
              </a:rPr>
              <a:t>El comercio exterior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66"/>
                </a:solidFill>
                <a:latin typeface="Tahoma"/>
              </a:rPr>
              <a:t>de donde venimo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368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volución Exportaciones 1950-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riación porcentual, sobre valores en dólares constantes de 2001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Las exportaciones argentinas han exhibido una performance poco favorable en último medio si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5680" y="2187720"/>
            <a:ext cx="8434440" cy="434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6840" y="6350040"/>
            <a:ext cx="6705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Elab. pr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33320" y="6149880"/>
            <a:ext cx="6705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Elab. propia en base a datos de OMC e IN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8280" y="4957920"/>
            <a:ext cx="7169400" cy="28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8280" y="4359240"/>
            <a:ext cx="7169400" cy="180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8280" y="3773520"/>
            <a:ext cx="7169400" cy="14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68280" y="3171960"/>
            <a:ext cx="7169400" cy="28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68280" y="2571840"/>
            <a:ext cx="7169400" cy="14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68280" y="2571840"/>
            <a:ext cx="1800" cy="29876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8840" y="2571840"/>
            <a:ext cx="1800" cy="29876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68120" y="2571840"/>
            <a:ext cx="17640" cy="29876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571840"/>
            <a:ext cx="1440" cy="29876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49600" y="2571840"/>
            <a:ext cx="1800" cy="29876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2571840"/>
            <a:ext cx="1440" cy="29876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049440" y="2571840"/>
            <a:ext cx="17640" cy="29876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37480" y="2571840"/>
            <a:ext cx="2880" cy="29876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43880" y="2573280"/>
            <a:ext cx="4680" cy="298620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37680" y="2571840"/>
            <a:ext cx="1440" cy="29876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32080" y="3249720"/>
            <a:ext cx="463320" cy="2309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4559400"/>
            <a:ext cx="479160" cy="1000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30480" y="4883040"/>
            <a:ext cx="461880" cy="67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22840" y="5157720"/>
            <a:ext cx="460080" cy="401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13400" y="5079960"/>
            <a:ext cx="477720" cy="479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9800" y="5035680"/>
            <a:ext cx="461880" cy="52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11800" y="5127480"/>
            <a:ext cx="46188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02360" y="5051520"/>
            <a:ext cx="479520" cy="507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10560" y="5021280"/>
            <a:ext cx="461880" cy="538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68280" y="5559480"/>
            <a:ext cx="7169400" cy="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68280" y="5559120"/>
            <a:ext cx="180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58840" y="5559120"/>
            <a:ext cx="180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67040" y="5559120"/>
            <a:ext cx="144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57600" y="5559120"/>
            <a:ext cx="144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449600" y="5559120"/>
            <a:ext cx="180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57800" y="5559120"/>
            <a:ext cx="144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048360" y="5559120"/>
            <a:ext cx="144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837480" y="5559120"/>
            <a:ext cx="288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645320" y="5559120"/>
            <a:ext cx="324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8437680" y="5559120"/>
            <a:ext cx="1440" cy="442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15160" y="28368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.9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20120" y="404352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8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27960" y="45054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5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23560" y="46260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3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10880" y="46512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4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06120" y="462456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4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93440" y="462924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3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00200" y="465768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4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08040" y="464328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4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9600" y="545148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00" y="484992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00" y="424980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.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9600" y="366876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9600" y="306396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.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00" y="246528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9148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9788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8844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080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720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7776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6832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7616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6672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s-MX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0" y="16606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Participación Argentina en Comercio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en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0" y="158760"/>
            <a:ext cx="918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hecho que se refleja en la fuerte declinación de la participación del país en el comercio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477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4335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Cadenas Productivas y Empresas Exportad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Cantidad empresas Exportadoras*, por Tramos de la 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23800" y="2230560"/>
            <a:ext cx="7977240" cy="4376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76120" y="179280"/>
            <a:ext cx="89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Un importante número de exportadores (pymes) se concentra en torno del último eslabó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" y="6367320"/>
            <a:ext cx="6705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Elab. pr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4335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Cadenas Productivas y Valor Aña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lores promedio expo según tramo Cadena – dólares por tone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76200" y="2033640"/>
            <a:ext cx="8391600" cy="4591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8240"/>
            <a:ext cx="892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pero nuestro perfil exportador implica menores oportunidades de generación de valor agre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200" y="6367320"/>
            <a:ext cx="6705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Elab. pr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76120" y="1665360"/>
            <a:ext cx="85359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Debilidad de la “cultura” y tradición exportadora en buena parte del empresar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Estructura comercial de los mercados de destino (escalonamiento arancelario,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Estrategias corporativas que se definen a escala glob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Inestabilidad de regímenes regulatorios nacionales, precios de factores y/o sistemas de incent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Existencia de conductas no cooperativas en algunos eslabones de las cad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0" y="217440"/>
            <a:ext cx="9144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Este patrón comercial es pues resultado de una conjunción de factores, endógenos y exógen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3840" y="1676520"/>
            <a:ext cx="684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006699"/>
                </a:solidFill>
                <a:latin typeface="Tahoma"/>
              </a:rPr>
              <a:t>¿Por qué nos interesan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006699"/>
                </a:solidFill>
                <a:latin typeface="Tahoma"/>
              </a:rPr>
              <a:t>las pymes (I)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8040" y="4251240"/>
            <a:ext cx="715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006699"/>
                </a:solidFill>
                <a:latin typeface="Tahoma"/>
              </a:rPr>
              <a:t>la dimensión conceptua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363680"/>
            <a:ext cx="91440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5000"/>
              </a:lnSpc>
              <a:spcBef>
                <a:spcPts val="22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Sus escasos vínculos con el resto de la economía - con poco impacto sobre demanda de trabajo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22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Un reducido número de pymes con operaciones regulares de expor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22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Un perfil comercial de tipo “clásico”, con ventas externas concentradas en productos con bajo grado de elaboración, e importaciones de bienes más sofisticados-diferenc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22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Numerosas cadenas productivas “truncas” e incomplet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22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Términos del intercambio secularmente desfavorables (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5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Tahoma"/>
              </a:rPr>
              <a:t>Oportunidades desaprovech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20" y="190440"/>
            <a:ext cx="90093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De este modo, el sector exportador argentino se caracteriza p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1944720"/>
            <a:ext cx="2737080" cy="99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...exportar una menor proporción d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3840" y="-399960"/>
            <a:ext cx="9144000" cy="910800"/>
            <a:chOff x="123840" y="-399960"/>
            <a:chExt cx="9144000" cy="910800"/>
          </a:xfrm>
        </p:grpSpPr>
        <p:sp>
          <p:nvSpPr>
            <p:cNvPr id="180" name=""/>
            <p:cNvSpPr/>
            <p:nvPr/>
          </p:nvSpPr>
          <p:spPr>
            <a:xfrm>
              <a:off x="123840" y="-399960"/>
              <a:ext cx="9144000" cy="9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0" bIns="360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000066"/>
                  </a:solidFill>
                  <a:latin typeface="Tahoma"/>
                </a:rPr>
                <a:t>Si Argentina tuviera un más amplio segmento de pymes operando en condiciones de competitividad internacional, sería posible...</a:t>
              </a:r>
              <a:r>
                <a:rPr b="1" lang="es-AR" sz="2800" spc="-1" strike="noStrike">
                  <a:solidFill>
                    <a:srgbClr val="3f6e8b"/>
                  </a:solidFill>
                  <a:latin typeface="Tahoma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3840" y="456480"/>
              <a:ext cx="9144000" cy="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90720" y="330660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Cereales en bru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3352680" y="2103480"/>
            <a:ext cx="1828800" cy="685800"/>
          </a:xfrm>
          <a:prstGeom prst="rightArrow">
            <a:avLst>
              <a:gd name="adj1" fmla="val 72463"/>
              <a:gd name="adj2" fmla="val 3749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9800" y="391644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cero/Alu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56552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Madera Aser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211720"/>
            <a:ext cx="30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Polímeros/Plás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589752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Cu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64280" y="1951200"/>
            <a:ext cx="2736720" cy="99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...para ganar participación en exportaciones d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105000"/>
            <a:ext cx="32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Productos de Panadería/Galletita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1440" y="3922560"/>
            <a:ext cx="39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utopartes /Maq. Agríc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4603680"/>
            <a:ext cx="329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Muebles y sus pa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51768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Manufacturas de Plás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5821200"/>
            <a:ext cx="358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Calzado/Marroquiner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5440" y="327672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000" y="388620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1000" y="457200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5440" y="51814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5440" y="58672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1874880"/>
            <a:ext cx="0" cy="44956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23840" y="-236520"/>
            <a:ext cx="9144000" cy="888840"/>
            <a:chOff x="123840" y="-236520"/>
            <a:chExt cx="9144000" cy="888840"/>
          </a:xfrm>
        </p:grpSpPr>
        <p:sp>
          <p:nvSpPr>
            <p:cNvPr id="202" name=""/>
            <p:cNvSpPr/>
            <p:nvPr/>
          </p:nvSpPr>
          <p:spPr>
            <a:xfrm>
              <a:off x="123840" y="-236520"/>
              <a:ext cx="9144000" cy="8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0" bIns="360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000066"/>
                  </a:solidFill>
                  <a:latin typeface="Tahoma"/>
                </a:rPr>
                <a:t>En ese caso, podríamos tener un país c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840" y="599040"/>
              <a:ext cx="9144000" cy="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150920" y="5283360"/>
            <a:ext cx="6764400" cy="1479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marL="7920" indent="-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... un mejor entorno  para los negocios,                                        el crecimiento y la competi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65120" y="5359320"/>
            <a:ext cx="885960" cy="914400"/>
          </a:xfrm>
          <a:prstGeom prst="rightArrow">
            <a:avLst>
              <a:gd name="adj1" fmla="val 62574"/>
              <a:gd name="adj2" fmla="val 4032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76480" y="2550960"/>
            <a:ext cx="752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más y mejores fuentes de emp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76480" y="3294000"/>
            <a:ext cx="752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un mercado interno más dinámico y e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76480" y="3968640"/>
            <a:ext cx="752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menores tasas impos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76480" y="4730760"/>
            <a:ext cx="752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menos desequilibrios sociales y reg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94040" y="250992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86120" y="32464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86120" y="38908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6120" y="468324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4400" y="1733400"/>
            <a:ext cx="752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Fundamentals macroeconómicos más sólidos,  estables y “amig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1960" y="17128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3302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29720" y="2641680"/>
            <a:ext cx="4521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66"/>
                </a:solidFill>
                <a:latin typeface="Tahoma"/>
              </a:rPr>
              <a:t>Lo que viene...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11040" y="1711440"/>
            <a:ext cx="8407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n algunos de los principales sectores industriales pareciera haber sido posible una cierta expansión de la producción de transables a través del mejor aprovechamiento de su capacidad instalada y/o de mejoras en la productividad de los factor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Así, en la mayor parte de las grandes actividades industriales con aptitud exportadora, Argentina no parece contar con capacidad instalada como para producir/exportar más que lo que ya exporta, cualquiera sea el tipo de cambio real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Las Exportaciones Industriales Post Convertibilidad: restricciones de oferta ??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11040" y="1711440"/>
            <a:ext cx="840744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ara alcanzar incrementos relevantes y sustentables en el volúmen de las exportaciones de bienes es condición necesaria e indispensable el aumento de la capacidad de producción de los sectores productores de transables-exportables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los “saltos” exportadores sustentables en el tiempo han sido siempre precedidos -o al menos acompañados- por procesos de fuerte dinamismo en el gasto neto en inversión en maquinaria y equipo (y/o en tecnología). Algo de esto ya esta sucediendo..... Es sufic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Las Exportaciones Industriales en la Era Post Convertibilidad: restricciones de oferta ??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320" y="1371600"/>
            <a:ext cx="88326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Baja inversión-desinversión del quinquenio (1999-200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ncarecimiento absoluto y relativo de los bienes vinculados con la inversión y la tecnología luego de la crisis de fin de siglo (especialmente en el sectore servicios)</a:t>
            </a: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Recuperación de la demanda interna (oferta inelástic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Cuellos de botella en sectores de uso difu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La cuestión de los servicios privat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Limitantes estructurales para el dinamismo exportador en sectores industrial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320" y="1371600"/>
            <a:ext cx="88326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5000"/>
              </a:lnSpc>
              <a:spcBef>
                <a:spcPts val="195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Consolidación de la actual fase de crecimiento económico (efecto credibilidad vs “veranit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5000"/>
              </a:lnSpc>
              <a:spcBef>
                <a:spcPts val="195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Mantenimiento de fundamentals que favorecen el proceso exportador (ej. tipo de camb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5000"/>
              </a:lnSpc>
              <a:spcBef>
                <a:spcPts val="195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Buenas condiciones externas (“viento de col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5000"/>
              </a:lnSpc>
              <a:spcBef>
                <a:spcPts val="195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Drástico cambio en las expectativas de los actores (“el futuro será mejor”- inversión pym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5000"/>
              </a:lnSpc>
              <a:spcBef>
                <a:spcPts val="195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Efecto derrame de las actividades dinámicas (ej. campo, construcción, industria, etc.)</a:t>
            </a: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5000"/>
              </a:lnSpc>
              <a:spcBef>
                <a:spcPts val="195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Tendencia a ruptura del tradicional comportamiento anticíclico de las exportaciones industriale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1760" y="282600"/>
            <a:ext cx="88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... Y algunos importantes elementos favorable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52440" y="2746440"/>
            <a:ext cx="846756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Mejorar la capacidad de generación de empl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Aminorar desequilibrios regionales y propender a una distribución más equitativa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Mejorar la eficiencia de la economía en su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Favorecer desarrollo de actividades en las que las ventajas competitivas no tienen que ver con la escala sino con la flexibilidad (“small is beautiful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0520" y="165240"/>
            <a:ext cx="950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¿Por qué impulsar la exportación de las py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3040" y="1425600"/>
            <a:ext cx="88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En países con “buenas” prácticas en materia de políticas publicas hay instrumentos orientados a favorecer el desarrollo exportador pyme, a efect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06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66640" y="3062160"/>
            <a:ext cx="6595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66"/>
                </a:solidFill>
                <a:latin typeface="Tahoma"/>
              </a:rPr>
              <a:t>Mirando la micro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66"/>
                </a:solidFill>
                <a:latin typeface="Tahoma"/>
              </a:rPr>
              <a:t>algunas conclusion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66"/>
                </a:solidFill>
                <a:latin typeface="Tahoma"/>
              </a:rPr>
              <a:t>... y algo de estrategi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2760" y="212760"/>
            <a:ext cx="844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Las Pymes en la economía argentin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51316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f6e8b"/>
                </a:solidFill>
                <a:latin typeface="Tahoma"/>
              </a:rPr>
              <a:t>Representa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0200" y="1815840"/>
            <a:ext cx="4975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Empleo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Valor Agregado  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          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Cantidad Empresas        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440" y="6165720"/>
            <a:ext cx="9144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atos Censales 19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39276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6600ff"/>
                </a:solidFill>
                <a:latin typeface="Tahoma"/>
              </a:rPr>
              <a:t>890.000 MIP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65200" y="1614600"/>
            <a:ext cx="827388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Verdana"/>
              </a:rPr>
              <a:t>Desde las comunidades sectoriales de negocios que se generan en torno de las grandes empresas </a:t>
            </a:r>
            <a:r>
              <a:rPr b="1" i="1" lang="es-ES_tradnl" sz="2400" spc="-1" strike="noStrike">
                <a:solidFill>
                  <a:srgbClr val="3f6e8b"/>
                </a:solidFill>
                <a:latin typeface="Verdana"/>
              </a:rPr>
              <a:t>(relaciones proveedores-clien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Verdana"/>
              </a:rPr>
              <a:t>Desde el territorio de localización de las PyMIs </a:t>
            </a:r>
            <a:r>
              <a:rPr b="1" i="1" lang="es-ES_tradnl" sz="2400" spc="-1" strike="noStrike">
                <a:solidFill>
                  <a:srgbClr val="3f6e8b"/>
                </a:solidFill>
                <a:latin typeface="Verdana"/>
              </a:rPr>
              <a:t>(tejidos regiona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080" y="160200"/>
            <a:ext cx="9009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¿Desde dónde se estructura la política pública en los países exito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6160" y="48466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Tahoma"/>
              </a:rPr>
              <a:t>Mas allá de peculiaridades, el éxito de las Pymis en esos países fue resultado de la eficaz articulación de esfuerzos privados y acciones de política púb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18960" y="1712880"/>
            <a:ext cx="863928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Una de las bases de los favorables resultados alcanzados ha sido la fuerte articulación entre clientes y proveedores, y el desarrollo de redes reg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El diferencial de productividad entre PyMEs y grandes empresas es de 15-20%: en Argentina de un 50-6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La gran mayoría de las PyMEs tienen en sus proveedores y clientes la principal fuente de información técnic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0" y="181080"/>
            <a:ext cx="9009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España e Italia: Dos Puntos de Referencia para la política p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206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3320" y="1785960"/>
            <a:ext cx="884376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0000"/>
              </a:lnSpc>
              <a:spcBef>
                <a:spcPts val="284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ahoma"/>
              </a:rPr>
              <a:t>Alargar</a:t>
            </a: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  las principales cadenas de valor en que el país es productor-exportador de bienes ubicados en los primeros tramos de las mis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284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ahoma"/>
              </a:rPr>
              <a:t>Ensanchar</a:t>
            </a: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 los eslabonamientos productivos sectoriales y regionales, aprovechando ventajas de localización y oportunidades de sub-contr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284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ahoma"/>
              </a:rPr>
              <a:t>Profundizar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las relaciones hacia adentro de las redes de clientes y proveedores de grandes empresas, incorporando más pyme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60" y="139680"/>
            <a:ext cx="900900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Buena parte de la agenda de política pyme Argentina de los próximos años puede girar entonces en torno de la necesidad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5159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56760" y="1868400"/>
            <a:ext cx="8425080" cy="39434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lvl="1" marL="1904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95000"/>
              </a:lnSpc>
              <a:spcBef>
                <a:spcPts val="1049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El crecimiento sustentable de una economía no depende de su capacidad de autosuficiencia ni de la competitividad de las empresas en forma</a:t>
            </a:r>
            <a:r>
              <a:rPr b="1" lang="es-AR" sz="2400" spc="-1" strike="noStrike">
                <a:solidFill>
                  <a:srgbClr val="006699"/>
                </a:solidFill>
                <a:latin typeface="Tahoma"/>
                <a:ea typeface="Times New Roman"/>
              </a:rPr>
              <a:t> 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aislada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…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.sino de la conformación de una amplia trama de redes de negocios, que propicie y facilite una interacción eficaz entre los diferentes tramos eficientes de sus cadenas productivas estratégicas y de sus diferentes regiones geo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0480" y="1206360"/>
            <a:ext cx="312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En definitiv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33160" y="1905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Tahoma"/>
              </a:rPr>
              <a:t>Gracias!!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3505320"/>
            <a:ext cx="6095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Tahoma"/>
                <a:ea typeface="Times New Roman"/>
              </a:rPr>
              <a:t>Lic. Gustavo Svarz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Tahoma"/>
                <a:ea typeface="Times New Roman"/>
              </a:rPr>
              <a:t>gusvarzman@fibertel.com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Tahoma"/>
                <a:ea typeface="Times New Roman"/>
              </a:rPr>
              <a:t>noviembr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1040" y="1711440"/>
            <a:ext cx="840744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cceso al financiamient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Generación de emple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Crecimiento de la economí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Competitividad y cadenas productiv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Desarrollo region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Política comercial / integración regional;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4560" y="5619600"/>
            <a:ext cx="844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... se está hablando de P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De este modo, cuando en el debate público se tratan temas tan diversos, como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080" y="1447920"/>
            <a:ext cx="8575560" cy="48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849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Frecuentes fallas de Mercado (ej. financia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849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Agentes con “diferentes” capacidades de 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849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Asimetrías en el acceso a l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849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Jugadores que operan con criterios no siempre compatibles con la “racionalidad” microeconómica global (ej. proveedores monopól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849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Problemas de escala y dificultades para “pensar” y/o actuar mas allá del cort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4200" y="29196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Las PyMEs no operan en una campana de cristal, sino en un “mundo real” caracterizado p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2440" y="2362320"/>
            <a:ext cx="8467560" cy="4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25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6e8b"/>
                </a:solidFill>
                <a:latin typeface="Tahoma"/>
              </a:rPr>
              <a:t>Mejorar la capacidad de generación de empl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25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6e8b"/>
                </a:solidFill>
                <a:latin typeface="Tahoma"/>
              </a:rPr>
              <a:t>Aminorar desequilibrios regionales y propender a una distribución más equitativa del ingr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25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6e8b"/>
                </a:solidFill>
                <a:latin typeface="Tahoma"/>
              </a:rPr>
              <a:t>Mejorar la eficiencia de la economía en su conj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25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6e8b"/>
                </a:solidFill>
                <a:latin typeface="Tahoma"/>
              </a:rPr>
              <a:t>Favorecer desarrollo de actividades en las que las ventajas competitivas no tienen que ver con la escala, sino con la 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225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6e8b"/>
                </a:solidFill>
                <a:latin typeface="Tahoma"/>
              </a:rPr>
              <a:t>“</a:t>
            </a:r>
            <a:r>
              <a:rPr b="1" lang="es-ES_tradnl" sz="2000" spc="-1" strike="noStrike">
                <a:solidFill>
                  <a:srgbClr val="3f6e8b"/>
                </a:solidFill>
                <a:latin typeface="Tahoma"/>
              </a:rPr>
              <a:t>oxigenar” y retroalimentar el tejido productivo y la base empresa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0520" y="165240"/>
            <a:ext cx="950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¿Por qué existen políticas específicas para Py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3040" y="1447920"/>
            <a:ext cx="885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6e8b"/>
                </a:solidFill>
                <a:latin typeface="Tahoma"/>
              </a:rPr>
              <a:t>En países con “buenas” políticas públicas existen instrumentos orientados a favorecer el desarrollo pyme, a efecto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06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62400" y="3184560"/>
            <a:ext cx="63345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006699"/>
                </a:solidFill>
                <a:latin typeface="Tahoma"/>
              </a:rPr>
              <a:t>la dimensión general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006699"/>
                </a:solidFill>
                <a:latin typeface="Tahoma"/>
              </a:rPr>
              <a:t>y territoria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3840" y="838080"/>
            <a:ext cx="684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006699"/>
                </a:solidFill>
                <a:latin typeface="Tahoma"/>
              </a:rPr>
              <a:t>¿Por qué nos interesan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006699"/>
                </a:solidFill>
                <a:latin typeface="Tahoma"/>
              </a:rPr>
              <a:t>las pymes (II)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0066"/>
                </a:solidFill>
                <a:latin typeface="Tahoma"/>
              </a:rPr>
              <a:t>Contexto </a:t>
            </a:r>
            <a:r>
              <a:rPr b="1" lang="es-ES_tradnl" sz="4600" spc="-1" strike="noStrike">
                <a:solidFill>
                  <a:srgbClr val="000066"/>
                </a:solidFill>
                <a:latin typeface="Tahoma"/>
              </a:rPr>
              <a:t>Global </a:t>
            </a:r>
            <a:r>
              <a:rPr b="1" lang="es-ES" sz="4600" spc="-1" strike="noStrike">
                <a:solidFill>
                  <a:srgbClr val="000066"/>
                </a:solidFill>
                <a:latin typeface="Tahoma"/>
              </a:rPr>
              <a:t>(I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22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Nuevo paradigma tecno-productivo post fordista (desde fines de los 70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Flexibilidad y adaptabilidad son ventajas crecientemente valoradas para el desarroll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Redefinición de la relevancia de las economías de escala en muchas ramas productivas (vgr. </a:t>
            </a:r>
            <a:r>
              <a:rPr b="0" i="1" lang="es-ES" sz="2800" spc="-1" strike="noStrike">
                <a:solidFill>
                  <a:srgbClr val="3f6e8b"/>
                </a:solidFill>
                <a:latin typeface="Tahoma"/>
              </a:rPr>
              <a:t>small is  beautiful</a:t>
            </a: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Creciente importancia de las redes horizontales y verticales en la </a:t>
            </a:r>
            <a:r>
              <a:rPr b="0" lang="es-ES_tradnl" sz="2800" spc="-1" strike="noStrike">
                <a:solidFill>
                  <a:srgbClr val="3f6e8b"/>
                </a:solidFill>
                <a:latin typeface="Tahoma"/>
              </a:rPr>
              <a:t>“construcción”de la </a:t>
            </a: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competi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0066"/>
                </a:solidFill>
                <a:latin typeface="Tahoma"/>
              </a:rPr>
              <a:t>Contexto </a:t>
            </a:r>
            <a:r>
              <a:rPr b="1" lang="es-ES_tradnl" sz="4600" spc="-1" strike="noStrike">
                <a:solidFill>
                  <a:srgbClr val="000066"/>
                </a:solidFill>
                <a:latin typeface="Tahoma"/>
              </a:rPr>
              <a:t>global </a:t>
            </a:r>
            <a:r>
              <a:rPr b="1" lang="es-ES" sz="4600" spc="-1" strike="noStrike">
                <a:solidFill>
                  <a:srgbClr val="000066"/>
                </a:solidFill>
                <a:latin typeface="Tahoma"/>
              </a:rPr>
              <a:t>(II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Nuevas instancias de regulación supra-nacional-estatal (vgr. comercio intra e inter fi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Restricción a la actuación de los Estados Nacionales en distintas áreas (vgr. Trims, AMSyS, política comercial, precios de transferencia, imposición fiscal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Limitaciones técnicas y conceptuales para el desarrollo </a:t>
            </a:r>
            <a:r>
              <a:rPr b="0" lang="es-ES_tradnl" sz="2800" spc="-1" strike="noStrike">
                <a:solidFill>
                  <a:srgbClr val="3f6e8b"/>
                </a:solidFill>
                <a:latin typeface="Tahoma"/>
              </a:rPr>
              <a:t>e implementación </a:t>
            </a:r>
            <a:r>
              <a:rPr b="0" lang="es-ES" sz="2800" spc="-1" strike="noStrike">
                <a:solidFill>
                  <a:srgbClr val="3f6e8b"/>
                </a:solidFill>
                <a:latin typeface="Tahoma"/>
              </a:rPr>
              <a:t>de políticas públicas (de fomento o de regulación)</a:t>
            </a:r>
            <a:r>
              <a:rPr b="0" lang="es-ES_tradnl" sz="2800" spc="-1" strike="noStrike">
                <a:solidFill>
                  <a:srgbClr val="3f6e8b"/>
                </a:solidFill>
                <a:latin typeface="Tahoma"/>
              </a:rPr>
              <a:t> desde la dimensión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20:26:57Z</dcterms:created>
  <dc:creator>Daniel</dc:creator>
  <dc:description/>
  <dc:language>en-US</dc:language>
  <cp:lastModifiedBy>CPCECABA</cp:lastModifiedBy>
  <cp:lastPrinted>2006-11-24T14:04:20Z</cp:lastPrinted>
  <dcterms:modified xsi:type="dcterms:W3CDTF">2006-11-28T15:25:55Z</dcterms:modified>
  <cp:revision>23</cp:revision>
  <dc:subject/>
  <dc:title>PyMEs y Desarrollo Local</dc:title>
</cp:coreProperties>
</file>