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72B-6C61-4486-BABF-DE7EFD76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A9A-8331-4CBD-9F97-2F0B68E5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355-72F7-469D-93BF-20944CBC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350-3E40-4F6F-97D3-579D2171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ABC-63A0-4099-B9A0-2270E410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33F-671F-412F-A49E-A6944386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E82-BBA8-4BC7-8913-84556882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840-E54F-4FF9-88FC-470926F5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D9F-4B38-49C0-A4D1-97569D56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610-5871-4262-9063-458BC32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052-8EAC-422A-A147-B7A3462A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597-9736-4BDB-B3F6-A76342B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C236-831D-4ADB-A9A1-A2944DD695D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ción sobre el Reconocimiento y Ejecu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e las Sentencias Arbitrales Extranje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Convención de Nueva York 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ahoma"/>
              </a:rPr>
              <a:t>Sentencia del Tribunal Inferior</a:t>
            </a:r>
            <a:br>
              <a:rPr sz="20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l Juez resuelve aceptar la competencia de los Tribunales Argentinos, rechazando la excepción de incompetencia plantead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295280"/>
          </a:xfrm>
          <a:prstGeom prst="rect">
            <a:avLst/>
          </a:prstGeom>
          <a:noFill/>
          <a:ln w="38160">
            <a:solidFill>
              <a:srgbClr val="cc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 demandada apela el fallo y lo eleva a la Cámara Comercial quien revoca la sentencia y admite la competencia de la C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28440">
            <a:solidFill>
              <a:srgbClr val="cc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a actora presenta recurso extraordinario ante la Corte Suprema de la Nación contra el fallo de la Cám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22320">
            <a:solidFill>
              <a:srgbClr val="ffff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 Corte dicta sentencia desestimando el recurso y por ello se mantuvo la competencia del Tribunal Arbi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 u="sng">
                <a:solidFill>
                  <a:srgbClr val="000000"/>
                </a:solidFill>
                <a:uFillTx/>
                <a:latin typeface="Tahoma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cc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El fallo ratifica el carácter jurisdiccional del arbitraje y de su propia competencia basado en el Derecho Internacional expresado en la Ley Modelo de UNCI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Ratifica el criterio jurídico sobre la preeminencia de los Tribunales Arbitrales por sobre el fuero de atracción de los concursos preven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3333cc"/>
                </a:solidFill>
                <a:uFillTx/>
                <a:latin typeface="Times New Roman"/>
              </a:rPr>
              <a:t>e-mail: navitrans@arnet.com.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ahoma"/>
              </a:rPr>
              <a:t>Ley 60/2003 Modificatoria de la Ley 36/1989</a:t>
            </a:r>
            <a:br>
              <a:rPr sz="4000"/>
            </a:br>
            <a:br>
              <a:rPr sz="18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Ley de Arbitraje De Españ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Para obtener el reconocimiento y la ejecución de la sentencia arbitral: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riginal debidamente autenticado de la sentencia o copia autenti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riginal del acuerdo o copia autenti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a sentencia y el acuerdo deben estar en idioma oficial del país en que se invoca la sentenc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Tahoma"/>
              </a:rPr>
              <a:t>Conversión en título ejecutorio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Que el laudo emane de un Tribunal competente según las normas Argentinas de jurisdicción interna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Que la demandada haya tenido garantizada su defens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Que la sentencia tenga los requisitos para ser tal en el lugar donde haya sido dict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Que no afecte el orden público del derecho argent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Que no sea incompatible con otra sentencia anterior o simultanea dictada por un tribunal argent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Que haya admitido prórroga en los términos del Art.1 del CPCC de la N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Que el objeto del compromiso no se encuentre excluido del arbitraje (según Art. 737 CPCC de la Nación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990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28600"/>
            <a:ext cx="3352680" cy="220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914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idad Mercantil Franc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28600"/>
            <a:ext cx="3429000" cy="220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914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idad Mercantil Españ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895480"/>
            <a:ext cx="3352680" cy="977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rmula solicitud de exequátur del laud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rbitr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Cámara Arbitral del Parí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0292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343400"/>
            <a:ext cx="3352680" cy="182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Times New Roman"/>
              </a:rPr>
              <a:t>Se aportó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opia de la confirmación de venta según Contrato de París N</a:t>
            </a:r>
            <a:r>
              <a:rPr b="1" lang="es-ES" sz="1400" spc="-1" strike="noStrike">
                <a:solidFill>
                  <a:srgbClr val="000000"/>
                </a:solidFill>
                <a:latin typeface="Romantic"/>
                <a:ea typeface="Romantic"/>
              </a:rPr>
              <a:t>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2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opia del Contrato, en cuya cláusula XIX contiene el compromiso arbitr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creditada la sentencia fir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8954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2971800"/>
            <a:ext cx="3733920" cy="183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000000"/>
                </a:solidFill>
                <a:uFillTx/>
                <a:latin typeface="Times New Roman"/>
              </a:rPr>
              <a:t>Se opone a la ejecución aduciendo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alta de sumisión de la cuestión litigiosa a                 arbitraj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Que la sentencia arbitral fue dictada en rebeld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ahoma"/>
              </a:rPr>
              <a:t>Fundamentos Jurídicos</a:t>
            </a: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 acuerdo a las normas de la Convención de Nueva York firmada por España en 1977 fueron aportados por el solicit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7612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Contrato de París N</a:t>
            </a:r>
            <a:r>
              <a:rPr b="1" lang="pt-BR" sz="1900" spc="-1" strike="noStrike">
                <a:solidFill>
                  <a:srgbClr val="000000"/>
                </a:solidFill>
                <a:latin typeface="Romantic"/>
                <a:ea typeface="Romantic"/>
              </a:rPr>
              <a:t>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que contiene cláusula arbitral sometiendo al arbitraje las controversias surgidas del contrat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7612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Acreditada la sentencia fir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7612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El objeto que daba lugar al arbitraje es susceptible de ser sometido en España a Juicio de Árbitr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7612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La sentencia no es contraria al orden público españo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Fallo dictado en abril de 2005 emanado de la Corte Suprema de Justicia de la Nació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380880"/>
            <a:ext cx="3810240" cy="1828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685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76212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ontrato de Importación, Sublicencia y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533520"/>
            <a:ext cx="3429000" cy="1600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1295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762120"/>
            <a:ext cx="2438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Las partes se comprometen a traves de la Cláusula Modelo de CCI a someter al arbitraje cualquier controversia relacionada con el contrato y sus anex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743200"/>
            <a:ext cx="365760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819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819520"/>
            <a:ext cx="3200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de del Arbitraje Mé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ÁRBITRO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666880"/>
            <a:ext cx="358128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743200"/>
            <a:ext cx="33530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a controversia se origina por la rescisión del contra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648320"/>
            <a:ext cx="80773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724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na de las partes presenta demanda de daños y perjuicios derivado del incumplimiento contractual ante la justicia ordinaria de la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09680" y="457200"/>
            <a:ext cx="441972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5335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l demandado interpuso excepción de incompetencia del Tribunal Judicial argent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2819520"/>
            <a:ext cx="4419720" cy="2819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0481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 actora se presenta a concurso preventivo ante la Justicia  Argentina y peticiona el desplazamiento de la competencia de la  CCI a favor del Juez del Con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6:20:10Z</dcterms:created>
  <dc:creator>8224</dc:creator>
  <dc:description/>
  <dc:language>en-US</dc:language>
  <cp:lastModifiedBy>CPCECABA</cp:lastModifiedBy>
  <dcterms:modified xsi:type="dcterms:W3CDTF">2006-11-28T17:00:52Z</dcterms:modified>
  <cp:revision>29</cp:revision>
  <dc:subject/>
  <dc:title>Convención sobre el Reconocimiento y Ejecución  de las Sentencias Arbitrales Extranjeras</dc:title>
</cp:coreProperties>
</file>