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8F5E-34CD-4356-AF9D-F1FEC694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E2EE-C6E7-44AE-B436-5CA455C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4BB1-BCAA-4457-AE76-93E3D9A2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21A6-ACFF-49BF-83C0-89B5F457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328-CF50-4E6A-A913-56F977F2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BDD-2E16-4024-9C77-892F557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935-237B-49DB-AF0E-5134133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2238-6202-4029-A46F-D31D34D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7835-5112-4EEF-A012-9C21DF1D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D132-A32C-46AF-8140-EC9FFE1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556-4C8D-464E-A0C9-CAE01D93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2DBA-FFCC-478F-99E0-14AADA1E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9867-0215-479A-90DB-1B8D7D3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D69A-1463-42E5-9BC4-29B16CE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F5B4-8A99-43E5-8143-10CBDBA2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8CA9-4352-42B2-BAB9-4614D668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AE51-A8A6-47FB-AF4B-7D5FF3F6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CDBE-9E1E-40D4-9ACB-C2D2D8A5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2E08-0077-4F7D-AC3E-E830EA2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5570-D5B0-4245-B809-2A7CD9E6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7409-2D1E-4615-B329-2FBB586A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5A72-BA0B-4EE8-8BD3-15B9CA1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4105-05B2-4544-A27A-FE60D54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6D82-E58B-40E2-B534-523F6F3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8CE9-61B2-4BF7-907E-825BFF208E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EF4F-AFAA-402D-9F3E-19D6F29B26E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219320" y="1600200"/>
            <a:ext cx="669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 SIMPOSIO SOB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RCIO EX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INTEGR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42670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DORES DE LAS EXPORTACIONES DESARROLL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60958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ra. Laura E Sarafog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838080" y="2514600"/>
            <a:ext cx="74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LOCAL ES PROMOTOR DE LAS EXPOR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EXPORTACIONES SON APORTANTES DEL DESARROLL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684360" y="260280"/>
          <a:ext cx="77752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7775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1258920" y="14842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ES EL DESARROLLO LOCAL…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4360" y="2708280"/>
            <a:ext cx="7775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fdef6"/>
                </a:solidFill>
                <a:latin typeface="Arial"/>
              </a:rPr>
              <a:t>Es un conjunto de actividades que tiene al territorio como espacio organizador, en el cual se genera impacto social a través del crecimiento económico, mejorando las condiciones de vida de la població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0" y="3284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EL DESARROLLO LOCAL SE LOGRA A TRAVÉ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059280" y="2060280"/>
            <a:ext cx="1008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88000" y="1773360"/>
            <a:ext cx="43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67280" y="342900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</a:rPr>
              <a:t>TRABAJO SOLIDARI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059280" y="2997360"/>
            <a:ext cx="100800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67280" y="393228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</a:rPr>
              <a:t>ACCIONES INTERDISCIPLINARIAS E INTERJURISDICCION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059280" y="3645000"/>
            <a:ext cx="1008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67280" y="1844640"/>
            <a:ext cx="47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</a:rPr>
              <a:t>COMPROMISO DE LA SOCIE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59280" y="400536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67280" y="530064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</a:rPr>
              <a:t>PLANEAMIE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53160" y="4085640"/>
            <a:ext cx="1021320" cy="84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67280" y="472428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</a:rPr>
              <a:t>BUSQUEDA DE CONSEN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2492280"/>
            <a:ext cx="48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</a:rPr>
              <a:t>RELACIONES Y VINCULACIONES INTEGRADO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11760" y="4165200"/>
            <a:ext cx="1074240" cy="136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50920" y="1484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DESARROLLO LOCAL, SUS NIVELES Y ACT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132000" y="2708280"/>
            <a:ext cx="2880000" cy="2919960"/>
            <a:chOff x="3132000" y="2708280"/>
            <a:chExt cx="2880000" cy="2919960"/>
          </a:xfrm>
        </p:grpSpPr>
        <p:sp>
          <p:nvSpPr>
            <p:cNvPr id="539" name=""/>
            <p:cNvSpPr/>
            <p:nvPr/>
          </p:nvSpPr>
          <p:spPr>
            <a:xfrm>
              <a:off x="3132000" y="2708280"/>
              <a:ext cx="2880000" cy="28796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92360" y="3068640"/>
              <a:ext cx="2159280" cy="2158920"/>
            </a:xfrm>
            <a:prstGeom prst="ellipse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51280" y="3429000"/>
              <a:ext cx="1440000" cy="1440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11640" y="4005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b89"/>
                  </a:solidFill>
                  <a:latin typeface="Arial"/>
                </a:rPr>
                <a:t>D.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11640" y="3068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.R</a:t>
              </a:r>
              <a:r>
                <a:rPr b="1" lang="en-US" sz="2000" spc="-1" strike="noStrike">
                  <a:solidFill>
                    <a:srgbClr val="5b5b89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1640" y="5229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D.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619280" y="580536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MENTO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2436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G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00720" y="321300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ITUCIONES PROFES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16720" y="4724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DADES ACADEM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321300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ITUCIONES GREMIALES Y EMPRES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8728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92720" y="587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RE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1280" y="472428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DADES CIENTI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35280" y="21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R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11280" y="1484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PARTICULARIDADES DE CADA LOCALIDAD SURGEN LAS BASES PARA LA PLANIFICACION DE ACCIONES DE DESARRO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4360" y="314172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ESARROLLO DE DISTINTAS INDUST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4360" y="3645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ESARROLLO DE ENCADENAMIENTOS PRODU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00000" y="414972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ESARROLLO DE SECTORES 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6920" y="4724280"/>
            <a:ext cx="75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ESARROLLO DE EXPOR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5229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ESARROLLO DE PROVEE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580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TROS DESARRO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755640" y="1413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ENES COORDINAN LAS ACCIONES DE DESARROLLO LOCAL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2637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RGANIZACIONES MIX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285264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16360" y="263700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S DE PROMO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4000" y="4076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GENCIAS DE DESARR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780000" y="357156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41482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OCIACIONES CIV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16360" y="3213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S GUBERNAMENTALES DESCENTRAL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16360" y="472428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S CENTRALIZADAS GUBERNAM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80000" y="4292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80000" y="4508640"/>
            <a:ext cx="792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4000" y="5661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MESAS DE CONSEN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35280" y="5877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16360" y="5661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UPACIONES INFORM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55640" y="1341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QUE RECURSOS CUENTAN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2276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278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OGRAMAS ESTA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35280" y="198900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4360" y="19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SPyMEy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24360" y="242100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CIA NACIONAL DE PROMOCION CIENTIFICA Y TECNOLO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95640" y="3068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ERIO DE DESARROLL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95640" y="3500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GPyA - PRO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9640" y="4437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CONSEJO FEDERAL DE 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35280" y="4076640"/>
            <a:ext cx="216000" cy="12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429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IDIOS PARA ASISTENCIA TEC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95640" y="4797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OS PARA PROYECTOS PRODU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5877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PORTES PROVI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95640" y="587700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IDIOS A PROYECTOS PRODU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08360" y="5589720"/>
            <a:ext cx="144360" cy="890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3040 h 890280"/>
              <a:gd name="textAreaBottom" fmla="*/ 867240 h 89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755640" y="1341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QUE RECURSOS CUENTAN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4360" y="2276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2708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CONTRIBUCIONES MUNICIP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6920" y="429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PORTES PRIV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35280" y="378936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1280" y="378936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DES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64000" y="2637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ECTACION DE CREDITOS PRESUPUEST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51280" y="429264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D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51280" y="4724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IZACIONES INTERN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635280" y="2349360"/>
            <a:ext cx="216000" cy="12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7621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116000" y="134136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24000" y="2205000"/>
          <a:ext cx="8569080" cy="4132440"/>
        </p:xfrm>
        <a:graphic>
          <a:graphicData uri="http://schemas.openxmlformats.org/drawingml/2006/table">
            <a:tbl>
              <a:tblPr/>
              <a:tblGrid>
                <a:gridCol w="2376360"/>
                <a:gridCol w="61927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AG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DESARROLLO EXPOR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.D. 9 DE JULI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RUPO ASOCIATIVO DE PROD.MAQ.AGRICOL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.D.SAN MART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NSORCIO EXPORTADOR DEL MUEBLE Y LA MADER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.P. MISION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ECTOR TURISM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 MENDOZ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USTER DE AGROALIMENT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.D. MERCED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PLOTACION DE ARANDAN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.D. OLAVARR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IEDRAS PARA ORNAMENTACION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0:24:45Z</dcterms:created>
  <dc:creator>Guillermo</dc:creator>
  <dc:description/>
  <dc:language>en-US</dc:language>
  <cp:lastModifiedBy>CPCECABA</cp:lastModifiedBy>
  <dcterms:modified xsi:type="dcterms:W3CDTF">2006-11-28T16:34:36Z</dcterms:modified>
  <cp:revision>32</cp:revision>
  <dc:subject/>
  <dc:title>Diapositiva 1</dc:title>
</cp:coreProperties>
</file>