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468-8485-42BB-BF33-2239B97C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6FF-9FAA-4E59-830F-4170C469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BD7-1234-4D65-92E2-38407501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A19-3615-4A6F-B33C-C453B5CB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3D9-F001-4FF0-A8DF-D3FE6062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BB2-9E48-404E-93A1-C94CA3EE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6D7-4172-48A1-A256-B5CB21A8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363-B329-4282-9910-095BD751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360-5BF9-41CE-98FD-7D002B92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95D-14B0-4D68-A93E-22150F98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F35-90B8-48FE-89C7-F5B3A26D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77B-68A6-4C0F-A49B-27C1CAE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4B35-F575-44D8-9881-52BFE60A1B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53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cc"/>
                </a:solidFill>
                <a:latin typeface="Arial"/>
              </a:rPr>
              <a:t>IV Simposio sobre Comercio Exterior e Integración</a:t>
            </a:r>
            <a:r>
              <a:rPr b="1" lang="es-AR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AR" sz="2000" spc="-1" strike="noStrike">
                <a:solidFill>
                  <a:srgbClr val="0000cc"/>
                </a:solidFill>
                <a:latin typeface="Arial"/>
              </a:rPr>
              <a:t>“Protagonismo privado ante los escenarios que devienen”</a:t>
            </a:r>
            <a:br>
              <a:rPr sz="2000"/>
            </a:br>
            <a:r>
              <a:rPr b="1" lang="es-AR" sz="1400" spc="-1" strike="noStrike">
                <a:solidFill>
                  <a:srgbClr val="0000cc"/>
                </a:solidFill>
                <a:latin typeface="Arial"/>
              </a:rPr>
              <a:t>Consejo Profesional de Ciencias Económicas de la Ciudad Autónoma de Buenos 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2852280"/>
            <a:ext cx="74170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000000"/>
                </a:solidFill>
                <a:latin typeface="Arial"/>
              </a:rPr>
              <a:t>Políticas y Tendencias en el Comercio Regional y Glob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>
                <a:solidFill>
                  <a:srgbClr val="000000"/>
                </a:solidFill>
                <a:latin typeface="Arial"/>
              </a:rPr>
              <a:t>Presentación de Dr. Juan Carlos Sánchez Arna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>
                <a:solidFill>
                  <a:srgbClr val="000000"/>
                </a:solidFill>
                <a:latin typeface="Arial"/>
              </a:rPr>
              <a:t>Agencia Digital de Noticias -  www.adnmundo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B69-D23A-4349-AD4E-7743B569F4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ecio del crudo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4360" y="1046160"/>
            <a:ext cx="7775280" cy="5313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877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uente: WTRG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656-BD29-4574-A329-6DB6311E53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ariación del Dólar versus Monedas Europeas y Asiáticas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eríodo 2001-2006</a:t>
            </a:r>
            <a:br>
              <a:rPr sz="16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Índice Base 2001=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728720"/>
            <a:ext cx="7921440" cy="3861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2920" y="566100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Organización Mundial del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952-C640-4E38-952D-35E8B36CAC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recimiento del volumen de producción y comercio de mercancías a nivel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7993080" cy="4608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7280" y="623736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Organización Mundial del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300-25B3-4254-91D6-5C7DD1A7A1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rtaciones Mundiales de Mercancías y Servicios Comerciales 2000-2005</a:t>
            </a:r>
            <a:br>
              <a:rPr sz="2400"/>
            </a:b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(en billones de dólares y  en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453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2320" y="618984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Fuente: Organización Mundial del Comer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243-F18F-4EA7-94BF-15DDEAA054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recimiento del valor unitario de las exportaciones por sector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ño 2004-2005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 Cambio % anual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77080" cy="460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32000" y="6858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557360"/>
            <a:ext cx="7848720" cy="45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6237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Organización Mundial del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92F-243E-42F3-BF11-F0655E0A1D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portaciones Mundiales de Mercancías por Grupo de Productos </a:t>
            </a:r>
            <a:br>
              <a:rPr sz="24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ño 2005</a:t>
            </a:r>
            <a:br>
              <a:rPr sz="2000"/>
            </a:b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Cambio % An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5230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4200" y="649116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Organización Mundial del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785-B994-4256-9FA0-9E1FB0C4E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oductividad de la Mano de O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1341360"/>
            <a:ext cx="7931160" cy="4608720"/>
            <a:chOff x="457200" y="1341360"/>
            <a:chExt cx="7931160" cy="46087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57200" y="1341360"/>
              <a:ext cx="7931160" cy="46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57200" y="1341360"/>
              <a:ext cx="7931160" cy="460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84360" y="6093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602136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Fondo Monetar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7A1-FE97-4F6F-A4CD-9E64583251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gentina y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40000" y="5013000"/>
            <a:ext cx="27464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65880" y="1222920"/>
            <a:ext cx="6283080" cy="4407120"/>
            <a:chOff x="965880" y="1222920"/>
            <a:chExt cx="6283080" cy="4407120"/>
          </a:xfrm>
        </p:grpSpPr>
        <p:sp>
          <p:nvSpPr>
            <p:cNvPr id="105" name=""/>
            <p:cNvSpPr/>
            <p:nvPr/>
          </p:nvSpPr>
          <p:spPr>
            <a:xfrm>
              <a:off x="3060360" y="2790000"/>
              <a:ext cx="1954800" cy="88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65880" y="2202120"/>
              <a:ext cx="1256760" cy="39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05560" y="3573360"/>
              <a:ext cx="1117080" cy="39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45960" y="1419120"/>
              <a:ext cx="1255680" cy="39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79760" y="1222920"/>
              <a:ext cx="1255680" cy="39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52880" y="1321200"/>
              <a:ext cx="1116360" cy="39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2560" y="2300760"/>
              <a:ext cx="1117080" cy="39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31880" y="3671640"/>
              <a:ext cx="111708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040" y="4650840"/>
              <a:ext cx="1954440" cy="9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98080" y="1614600"/>
              <a:ext cx="720" cy="11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58760" y="3671640"/>
              <a:ext cx="0" cy="97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02000" y="1614600"/>
              <a:ext cx="2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81720" y="1614600"/>
              <a:ext cx="0" cy="30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720" y="4650840"/>
              <a:ext cx="41796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154480" y="4063320"/>
              <a:ext cx="1256760" cy="88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015520" y="2692440"/>
              <a:ext cx="1255680" cy="586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595760" y="1516680"/>
              <a:ext cx="1256760" cy="12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23000" y="239832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39360" y="239832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3000" y="3867120"/>
              <a:ext cx="83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060360" y="3671640"/>
              <a:ext cx="13932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39360" y="2986200"/>
              <a:ext cx="1256760" cy="48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19080" y="4846320"/>
              <a:ext cx="111636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39360" y="3084120"/>
              <a:ext cx="153576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RCOS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71200" y="3769560"/>
              <a:ext cx="837360" cy="19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1880" y="2398320"/>
              <a:ext cx="83736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1880" y="1419120"/>
              <a:ext cx="69804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19080" y="1321200"/>
              <a:ext cx="976680" cy="19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F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45960" y="1516680"/>
              <a:ext cx="9766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05560" y="2300760"/>
              <a:ext cx="1117080" cy="19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45960" y="3671640"/>
              <a:ext cx="837360" cy="19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54840" y="2006640"/>
              <a:ext cx="13932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15520" y="2104560"/>
              <a:ext cx="13896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58760" y="1908360"/>
              <a:ext cx="27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8760" y="2006640"/>
              <a:ext cx="27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084-13F7-48F9-8734-D804D57D7D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99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os Resultados del MERCOS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aldos del comercio bilateral  Argentina y Brasil por grandes rub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-en millones de US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47640" y="1844640"/>
          <a:ext cx="5977080" cy="4073400"/>
        </p:xfrm>
        <a:graphic>
          <a:graphicData uri="http://schemas.openxmlformats.org/drawingml/2006/table">
            <a:tbl>
              <a:tblPr/>
              <a:tblGrid>
                <a:gridCol w="2273400"/>
                <a:gridCol w="1233360"/>
                <a:gridCol w="1236600"/>
                <a:gridCol w="1233720"/>
              </a:tblGrid>
              <a:tr h="106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Comercial Acumulado 1995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Comercial Acumulado 2002- Julio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Comercial Acumulado 1995- Julio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Agrícolas, sus manufacturas y ali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7,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4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40,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e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9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1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facturas Indust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748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-397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725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quinas, aparatos y material eléct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68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48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51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ículos y sus pa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38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0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-605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84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403280" y="6093000"/>
            <a:ext cx="590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Fuente: En base a datos del INDEC – INDEC Informa. Cuadro 7.2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4005360"/>
            <a:ext cx="144360" cy="1439640"/>
          </a:xfrm>
          <a:custGeom>
            <a:avLst/>
            <a:gdLst>
              <a:gd name="textAreaLeft" fmla="*/ 0 w 144360"/>
              <a:gd name="textAreaRight" fmla="*/ 52200 w 144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0" y="44370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- 20654,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4CA-B115-450A-87CB-121EB76145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4000" y="0"/>
          <a:ext cx="8135640" cy="6645240"/>
        </p:xfrm>
        <a:graphic>
          <a:graphicData uri="http://schemas.openxmlformats.org/drawingml/2006/table">
            <a:tbl>
              <a:tblPr/>
              <a:tblGrid>
                <a:gridCol w="3374640"/>
                <a:gridCol w="1587600"/>
                <a:gridCol w="1587600"/>
                <a:gridCol w="158580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ercio Bilateral Argentina y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Comercial Acumulado 1995-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Comercial Acumulado 2002- Julio 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do Comercial Acumulado 1995- Julio 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ones de U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Agrícolas, sus manufacturas y alimen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7,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3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40,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imales vivos y productos del reino anim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del reino vege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2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6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0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s y acei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8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Alimenticios ,bebidas y taba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,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er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9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2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miner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6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2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5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les Comunes y sus manufactur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175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4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02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facturas Industr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748,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97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725,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de industrias químicas  y conex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05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33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39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ástico, caucho y sus manufactura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317,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7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588,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eles, cueros y sus manufacturas (excepto calzad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ta madera,papel y cart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4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7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s textiles y sus manufactur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36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1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facturas de piedra, yeso y cemento,amianto, mica, cerámica y vid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7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77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4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5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5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70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quinas, aparatos y material eléctr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68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8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51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áquinas, aparatos y material eléctrico, sus par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68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8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51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hículos y sus par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828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 de transpor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828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0,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05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84,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ec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95280" y="658332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n base a datos del INDEC – INDEC Informa. Cuadro 7.2.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0E2-6B03-4F21-B76C-0069F47942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recimiento del PBI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1557000"/>
            <a:ext cx="6400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59500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Fondo Monetar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52B-0511-4874-9960-1423D24835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ipo de cambio nominal Peso -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00000" y="1724040"/>
            <a:ext cx="7559640" cy="422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293-9CBC-4DA1-A37A-83467359CC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Tipo de Cambio Real Bilateral</a:t>
            </a:r>
            <a:br>
              <a:rPr sz="24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Índice Base 2001=100   </a:t>
            </a: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omedio Anual – Deflactado por precios minorist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848720" cy="453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16000" y="5805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BC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C81-2546-44D2-90C0-C4D342D3A7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mercio Bilateral Argentina-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488360" cy="506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3F9-0559-49B9-A513-0147C112C2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hile y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12320" y="620640"/>
            <a:ext cx="6296040" cy="5475600"/>
            <a:chOff x="1012320" y="620640"/>
            <a:chExt cx="6296040" cy="5475600"/>
          </a:xfrm>
        </p:grpSpPr>
        <p:sp>
          <p:nvSpPr>
            <p:cNvPr id="159" name=""/>
            <p:cNvSpPr/>
            <p:nvPr/>
          </p:nvSpPr>
          <p:spPr>
            <a:xfrm>
              <a:off x="3364920" y="3731760"/>
              <a:ext cx="1848600" cy="60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2880" y="4746240"/>
              <a:ext cx="135540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9840" y="3731760"/>
              <a:ext cx="135468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52960" y="2649240"/>
              <a:ext cx="1354680" cy="4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25480" y="2311200"/>
              <a:ext cx="1353600" cy="40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17960" y="620640"/>
              <a:ext cx="1353600" cy="40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5960" y="1364400"/>
              <a:ext cx="135360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23120" y="2311200"/>
              <a:ext cx="1353600" cy="40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01640" y="2987280"/>
              <a:ext cx="135360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25480" y="4746240"/>
              <a:ext cx="135540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23120" y="3123000"/>
              <a:ext cx="986040" cy="3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23120" y="3528720"/>
              <a:ext cx="986040" cy="27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3120" y="4002120"/>
              <a:ext cx="98604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23120" y="4407840"/>
              <a:ext cx="98604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23120" y="5152320"/>
              <a:ext cx="98604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23120" y="5287320"/>
              <a:ext cx="986040" cy="33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23120" y="2784960"/>
              <a:ext cx="986040" cy="27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23120" y="4881240"/>
              <a:ext cx="986040" cy="3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934800"/>
              <a:ext cx="97956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52960" y="3799440"/>
              <a:ext cx="123228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RCOS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76080" y="2716920"/>
              <a:ext cx="9860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8600" y="2378880"/>
              <a:ext cx="12322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85320" y="1972800"/>
              <a:ext cx="123228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15960" y="1432080"/>
              <a:ext cx="12322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7960" y="687960"/>
              <a:ext cx="12322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52960" y="1161360"/>
              <a:ext cx="135396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76080" y="1229040"/>
              <a:ext cx="123228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STADOS UNI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52960" y="2040480"/>
              <a:ext cx="1353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76080" y="2040480"/>
              <a:ext cx="11102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F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5880" y="2378880"/>
              <a:ext cx="1233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82880" y="4813920"/>
              <a:ext cx="12322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LAD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5480" y="4813920"/>
              <a:ext cx="123228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E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81240" y="1296360"/>
              <a:ext cx="135468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81240" y="1296360"/>
              <a:ext cx="160092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04360" y="1364400"/>
              <a:ext cx="135540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MERICA CENTR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5480" y="3055320"/>
              <a:ext cx="86292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23120" y="2852280"/>
              <a:ext cx="12337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23120" y="3528720"/>
              <a:ext cx="12337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23120" y="4069800"/>
              <a:ext cx="8629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AP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23120" y="4543200"/>
              <a:ext cx="110916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INGAP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23120" y="4948920"/>
              <a:ext cx="110916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AILAND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23120" y="5354640"/>
              <a:ext cx="86220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13880" y="3934440"/>
              <a:ext cx="6159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97560" y="4340160"/>
              <a:ext cx="720" cy="54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97560" y="4881240"/>
              <a:ext cx="862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7480" y="4407840"/>
              <a:ext cx="720" cy="473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981240" y="4881240"/>
              <a:ext cx="2462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78520" y="2919960"/>
              <a:ext cx="0" cy="3111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378160" y="4002120"/>
              <a:ext cx="986040" cy="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008800" y="2919960"/>
              <a:ext cx="36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008800" y="3258000"/>
              <a:ext cx="367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008800" y="3663720"/>
              <a:ext cx="367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009160" y="4137480"/>
              <a:ext cx="365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009160" y="4678200"/>
              <a:ext cx="365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009160" y="5287320"/>
              <a:ext cx="365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09160" y="5084280"/>
              <a:ext cx="363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2009160" y="5490360"/>
              <a:ext cx="362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009160" y="6031440"/>
              <a:ext cx="362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843440" y="3054960"/>
              <a:ext cx="1232280" cy="744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473000" y="1702440"/>
              <a:ext cx="369720" cy="2029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3920" y="1026000"/>
              <a:ext cx="720" cy="114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3920" y="2175840"/>
              <a:ext cx="615960" cy="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50240" y="2175840"/>
              <a:ext cx="720" cy="155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50240" y="3799440"/>
              <a:ext cx="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04360" y="2040480"/>
              <a:ext cx="720" cy="1691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597560" y="1567440"/>
              <a:ext cx="1479600" cy="2164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94840" y="3393360"/>
              <a:ext cx="0" cy="405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94840" y="3799440"/>
              <a:ext cx="615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81240" y="2852280"/>
              <a:ext cx="720" cy="879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720320" y="2446200"/>
              <a:ext cx="1232280" cy="1352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2378520" y="2513520"/>
              <a:ext cx="246960" cy="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55400" y="2716920"/>
              <a:ext cx="0" cy="67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55400" y="2784960"/>
              <a:ext cx="493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8600" y="2784960"/>
              <a:ext cx="0" cy="202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009160" y="1769760"/>
              <a:ext cx="720" cy="27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09160" y="2040480"/>
              <a:ext cx="2094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1800" y="2716920"/>
              <a:ext cx="0" cy="135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41800" y="2852280"/>
              <a:ext cx="739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12320" y="5687280"/>
              <a:ext cx="985320" cy="4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12320" y="5754600"/>
              <a:ext cx="9853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LAS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971640" y="314172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A73-A288-42B6-9816-2623817B2C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nálisis FODA para Exportadores P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78598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8135640" cy="551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BBF-0EBC-458F-B9A6-35750FB472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rgentina: Composición de la Inver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23160" cy="36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C1E-0507-401B-BE55-64F672FB38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rgentina: Inversión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68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55640" y="1108080"/>
            <a:ext cx="7561440" cy="526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E8C-FBB7-4A27-AC4E-B15EB964CF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cios Relativos </a:t>
            </a:r>
            <a:br>
              <a:rPr sz="2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Índice Base 1993=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3120" y="1600200"/>
          <a:ext cx="79977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600200"/>
                    <a:ext cx="7997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5564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ente: CE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A9D-D854-4CE6-9C32-D13A01FC90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631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recimiento porcentual PBI (volumen)</a:t>
            </a:r>
            <a:br>
              <a:rPr sz="2400"/>
            </a:b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ariación Porcentual Trimestral Inter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04000" cy="388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79480" y="618480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6093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uente: 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638-0090-40BC-8F09-95BC669D38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CDE Composite Leading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6840" y="1557360"/>
            <a:ext cx="8412120" cy="431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609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0FA-51F1-4E5A-97FE-F59EEE9968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Composite Leading Indicator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– Cambio Porcentual -  Tasa anualizada semestral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uente: OC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69080" cy="39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5734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OE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1BE-B60A-4EA2-B2F3-EF3A4BAFBB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CDE Composite Leading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7760" y="1557360"/>
            <a:ext cx="845028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62C-4C6E-44D3-AD80-A09911FD28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volución de Mercados de 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056360" cy="3743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1640" y="5373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Fondo Monetar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6BB-C24C-4351-9863-A9ECA7968B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iferenciales de riesgo sober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147160" cy="4200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6165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: Fondo Monetar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7AF-7AD2-4FB0-8BCA-A84275AC28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ecios del Petró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5218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2920" y="6093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uente: OC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3A9-BB6A-4368-9A6F-C50B53A34E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2:33:36Z</dcterms:created>
  <dc:creator>Fernanda_2</dc:creator>
  <dc:description/>
  <dc:language>en-US</dc:language>
  <cp:lastModifiedBy>CPCECABA</cp:lastModifiedBy>
  <dcterms:modified xsi:type="dcterms:W3CDTF">2006-11-28T16:56:29Z</dcterms:modified>
  <cp:revision>35</cp:revision>
  <dc:subject/>
  <dc:title>Fundación Garantizar / www.adnmundo.com</dc:title>
</cp:coreProperties>
</file>