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5E9-10CB-4061-BF76-6A105CC4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B0E-3E84-4AEE-8BB9-D88A2B45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840-C7A5-4849-9158-8391B3FE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37A-F87A-4340-9A2E-7212809D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201-7B25-4600-8B12-D60FBBB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EA0-259F-4C52-A2C4-3FDFE9F3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2D4-10F8-47B8-81F3-6CD23E05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D85-9038-41B6-BE93-18CEBFE8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AAC-D69C-448C-8BE4-A857E8C4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303-1BC5-4E97-84C1-056985A1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BDB-35E2-4E4A-9476-95C8B0DE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E5B-16AF-4D8C-B6AB-17C819D2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30D-4537-4074-85A0-2E7FE4F54E46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9640" y="233280"/>
            <a:ext cx="900360" cy="3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72640" cy="366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49760" y="4365720"/>
            <a:ext cx="35942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0480" y="1239840"/>
            <a:ext cx="344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NUESTRA ESTRUCTURA BÁ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DE GESTIÓN EXCELENTE (P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5640" y="1722600"/>
          <a:ext cx="7543800" cy="444312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115128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DEST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LIDERAZ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GEST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CL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PROVEE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465"/>
                          </a:solidFill>
                          <a:latin typeface="Arial"/>
                          <a:ea typeface="ＭＳ Ｐゴシック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7020000" y="2924280"/>
            <a:ext cx="533160" cy="507960"/>
          </a:xfrm>
          <a:prstGeom prst="flowChartSummingJunction">
            <a:avLst/>
          </a:prstGeom>
          <a:solidFill>
            <a:srgbClr val="faa63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3573360"/>
            <a:ext cx="533160" cy="507960"/>
          </a:xfrm>
          <a:prstGeom prst="flowChartSummingJunction">
            <a:avLst/>
          </a:prstGeom>
          <a:solidFill>
            <a:srgbClr val="faa63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221000"/>
            <a:ext cx="533160" cy="508320"/>
          </a:xfrm>
          <a:prstGeom prst="flowChartSummingJunction">
            <a:avLst/>
          </a:prstGeom>
          <a:solidFill>
            <a:srgbClr val="faa63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869000"/>
            <a:ext cx="533160" cy="507960"/>
          </a:xfrm>
          <a:prstGeom prst="flowChartSummingJunction">
            <a:avLst/>
          </a:prstGeom>
          <a:solidFill>
            <a:srgbClr val="faa63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589720"/>
            <a:ext cx="533160" cy="507960"/>
          </a:xfrm>
          <a:prstGeom prst="flowChartSummingJunction">
            <a:avLst/>
          </a:prstGeom>
          <a:solidFill>
            <a:srgbClr val="faa63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995280" y="3644640"/>
            <a:ext cx="792360" cy="863640"/>
          </a:xfrm>
          <a:prstGeom prst="flowChartDelay">
            <a:avLst/>
          </a:prstGeom>
          <a:solidFill>
            <a:srgbClr val="009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354560" y="3789360"/>
            <a:ext cx="1224000" cy="503280"/>
          </a:xfrm>
          <a:prstGeom prst="flowChartExtract">
            <a:avLst/>
          </a:prstGeom>
          <a:solidFill>
            <a:srgbClr val="009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67280" y="3787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483080" y="449568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ON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508464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6aa95"/>
                </a:solidFill>
                <a:latin typeface="Arial"/>
              </a:rPr>
              <a:t>ORGANIZACIÓN 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6aa95"/>
                </a:solidFill>
                <a:latin typeface="Arial"/>
              </a:rPr>
              <a:t>NACIONES UNIDA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6aa95"/>
                </a:solidFill>
                <a:latin typeface="Arial"/>
              </a:rPr>
              <a:t>EL DESARROLLO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941720"/>
            <a:ext cx="359424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1520" y="5518080"/>
            <a:ext cx="40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726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54080" y="139716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INICIATIVAS PARA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DE LA CAPACIDAD EXPOR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2637000"/>
            <a:ext cx="7162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6aa95"/>
                </a:solidFill>
                <a:latin typeface="Arial"/>
                <a:ea typeface="ＭＳ Ｐゴシック"/>
              </a:rPr>
              <a:t>PRE – REQUISITOS PARA ACCEDER A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2924280"/>
            <a:ext cx="763272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96d6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96d6"/>
                </a:solidFill>
                <a:latin typeface="Arial"/>
              </a:rPr>
              <a:t>Incrementar la competitividad de la oferta exportable.</a:t>
            </a:r>
            <a:r>
              <a:rPr b="0" lang="es-AR" sz="1800" spc="-1" strike="noStrike">
                <a:solidFill>
                  <a:srgbClr val="0096d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6465"/>
                </a:solidFill>
                <a:latin typeface="Arial"/>
              </a:rPr>
              <a:t>Los países deben tener una oferta adaptada al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96d6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96d6"/>
                </a:solidFill>
                <a:latin typeface="Arial"/>
              </a:rPr>
              <a:t>Ajuste a los estándares inter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6465"/>
                </a:solidFill>
                <a:latin typeface="Arial"/>
              </a:rPr>
              <a:t>Los productos deben satisfacer requerimientos del mercado y  necesidades del c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96d6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96d6"/>
                </a:solidFill>
                <a:latin typeface="Arial"/>
              </a:rPr>
              <a:t>Conectividad eficiente con los mer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6465"/>
                </a:solidFill>
                <a:latin typeface="Arial"/>
              </a:rPr>
              <a:t>Normativas aduaneras y comerciales armoniz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3165480"/>
            <a:ext cx="7724520" cy="177840"/>
          </a:xfrm>
          <a:prstGeom prst="rightArrow">
            <a:avLst>
              <a:gd name="adj1" fmla="val 50000"/>
              <a:gd name="adj2" fmla="val 1085881"/>
            </a:avLst>
          </a:prstGeom>
          <a:solidFill>
            <a:srgbClr val="faa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98640" y="2924280"/>
            <a:ext cx="1160640" cy="649080"/>
          </a:xfrm>
          <a:prstGeom prst="rightArrow">
            <a:avLst>
              <a:gd name="adj1" fmla="val 50000"/>
              <a:gd name="adj2" fmla="val 44703"/>
            </a:avLst>
          </a:prstGeom>
          <a:solidFill>
            <a:srgbClr val="ffffff"/>
          </a:solidFill>
          <a:ln w="381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2924280"/>
            <a:ext cx="1084320" cy="649080"/>
          </a:xfrm>
          <a:prstGeom prst="rightArrow">
            <a:avLst>
              <a:gd name="adj1" fmla="val 50000"/>
              <a:gd name="adj2" fmla="val 41764"/>
            </a:avLst>
          </a:prstGeom>
          <a:solidFill>
            <a:srgbClr val="ffffff"/>
          </a:solidFill>
          <a:ln w="381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4800" y="2924280"/>
            <a:ext cx="1068120" cy="649080"/>
          </a:xfrm>
          <a:prstGeom prst="rightArrow">
            <a:avLst>
              <a:gd name="adj1" fmla="val 50000"/>
              <a:gd name="adj2" fmla="val 41140"/>
            </a:avLst>
          </a:prstGeom>
          <a:solidFill>
            <a:srgbClr val="ffffff"/>
          </a:solidFill>
          <a:ln w="381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63720" y="307656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</a:rPr>
              <a:t>Compe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73640" y="306864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</a:rPr>
              <a:t>Adecu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06864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</a:rPr>
              <a:t>Conec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038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55640" y="3789360"/>
            <a:ext cx="1981080" cy="1871640"/>
            <a:chOff x="755640" y="3789360"/>
            <a:chExt cx="1981080" cy="1871640"/>
          </a:xfrm>
        </p:grpSpPr>
        <p:sp>
          <p:nvSpPr>
            <p:cNvPr id="115" name=""/>
            <p:cNvSpPr/>
            <p:nvPr/>
          </p:nvSpPr>
          <p:spPr>
            <a:xfrm>
              <a:off x="755640" y="3789360"/>
              <a:ext cx="1942920" cy="1871640"/>
            </a:xfrm>
            <a:prstGeom prst="rect">
              <a:avLst/>
            </a:prstGeom>
            <a:solidFill>
              <a:srgbClr val="666465"/>
            </a:solidFill>
            <a:ln w="9360">
              <a:solidFill>
                <a:srgbClr val="66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5640" y="4076640"/>
              <a:ext cx="198108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PROMOCIÓN DE EXPORTACIO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"/>
                </a:rPr>
                <a:t>(Oportunidades de mercad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55640" y="907920"/>
            <a:ext cx="1800360" cy="1859040"/>
          </a:xfrm>
          <a:prstGeom prst="rect">
            <a:avLst/>
          </a:prstGeom>
          <a:solidFill>
            <a:srgbClr val="666465"/>
          </a:solidFill>
          <a:ln w="93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SARROLLO DE LA OFERTA EXPOR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Capacidad Y competitiv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789360"/>
            <a:ext cx="2087280" cy="1871640"/>
          </a:xfrm>
          <a:prstGeom prst="rect">
            <a:avLst/>
          </a:prstGeom>
          <a:solidFill>
            <a:srgbClr val="666465"/>
          </a:solidFill>
          <a:ln w="93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ACILIDA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PARA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3789360"/>
            <a:ext cx="2160360" cy="1871640"/>
          </a:xfrm>
          <a:prstGeom prst="rect">
            <a:avLst/>
          </a:prstGeom>
          <a:solidFill>
            <a:srgbClr val="666465"/>
          </a:solidFill>
          <a:ln w="93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CUER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NTERNACIO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 COMERCI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MER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907920"/>
            <a:ext cx="2664000" cy="1873440"/>
          </a:xfrm>
          <a:prstGeom prst="rect">
            <a:avLst/>
          </a:prstGeom>
          <a:solidFill>
            <a:srgbClr val="666465"/>
          </a:solidFill>
          <a:ln w="93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907920"/>
            <a:ext cx="2016000" cy="1873440"/>
          </a:xfrm>
          <a:prstGeom prst="rect">
            <a:avLst/>
          </a:prstGeom>
          <a:solidFill>
            <a:srgbClr val="666465"/>
          </a:solidFill>
          <a:ln w="93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RÉGIM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DUA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1268280"/>
            <a:ext cx="3240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STÁNDARES Y SIST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 EVALUACIÓN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ERT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2060640"/>
            <a:ext cx="45720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17733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Productos hacia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1916280"/>
            <a:ext cx="6120000" cy="3241440"/>
          </a:xfrm>
          <a:custGeom>
            <a:avLst/>
            <a:gdLst>
              <a:gd name="textAreaLeft" fmla="*/ 956160 w 6120000"/>
              <a:gd name="textAreaRight" fmla="*/ 5355000 w 6120000"/>
              <a:gd name="textAreaTop" fmla="*/ 810360 h 3241440"/>
              <a:gd name="textAreaBottom" fmla="*/ 2431080 h 3241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3141720"/>
            <a:ext cx="1728720" cy="1079280"/>
          </a:xfrm>
          <a:prstGeom prst="rect">
            <a:avLst/>
          </a:prstGeom>
          <a:solidFill>
            <a:srgbClr val="666465"/>
          </a:solidFill>
          <a:ln w="93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19280" y="3141720"/>
            <a:ext cx="1585800" cy="824040"/>
          </a:xfrm>
          <a:prstGeom prst="rect">
            <a:avLst/>
          </a:prstGeom>
          <a:solidFill>
            <a:srgbClr val="666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esarrollo de manufactura competi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1080" y="3141720"/>
            <a:ext cx="1727280" cy="1067400"/>
          </a:xfrm>
          <a:prstGeom prst="rect">
            <a:avLst/>
          </a:prstGeom>
          <a:solidFill>
            <a:srgbClr val="666465"/>
          </a:solidFill>
          <a:ln w="93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juste a los estándares requeridos por el Mer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3141720"/>
            <a:ext cx="1981440" cy="106668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465"/>
          </a:solidFill>
          <a:ln w="93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0" y="31417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nexión con el Mer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486900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solidFill>
            <a:srgbClr val="ffffff"/>
          </a:solidFill>
          <a:ln w="381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50133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</a:rPr>
              <a:t>Compe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869000"/>
            <a:ext cx="1224000" cy="685800"/>
          </a:xfrm>
          <a:prstGeom prst="rightArrow">
            <a:avLst>
              <a:gd name="adj1" fmla="val 50000"/>
              <a:gd name="adj2" fmla="val 44619"/>
            </a:avLst>
          </a:prstGeom>
          <a:solidFill>
            <a:srgbClr val="ffffff"/>
          </a:solidFill>
          <a:ln w="381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50133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</a:rPr>
              <a:t>Adecu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4869000"/>
            <a:ext cx="1224000" cy="685800"/>
          </a:xfrm>
          <a:prstGeom prst="rightArrow">
            <a:avLst>
              <a:gd name="adj1" fmla="val 50000"/>
              <a:gd name="adj2" fmla="val 44619"/>
            </a:avLst>
          </a:prstGeom>
          <a:solidFill>
            <a:srgbClr val="ffffff"/>
          </a:solidFill>
          <a:ln w="381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501336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</a:rPr>
              <a:t>Conec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97880" y="1773360"/>
            <a:ext cx="761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55897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</a:rPr>
              <a:t>...aumentando capacidad de oferta e infraestructura para alcanz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</a:rPr>
              <a:t>y sostener estánd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112536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INICIATIVAS PARA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DE LA CAPACIDAD EXPOR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54080" y="134136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BARRERAS TÉCNICAS Y FITOSANI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TEORÍA Y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2276640"/>
            <a:ext cx="716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6aa95"/>
                </a:solidFill>
                <a:latin typeface="Arial"/>
                <a:ea typeface="ＭＳ Ｐゴシック"/>
              </a:rPr>
              <a:t>ACUERDOS SOBRE APLICACIÓN DE BARRERAS 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6aa95"/>
                </a:solidFill>
                <a:latin typeface="Arial"/>
                <a:ea typeface="ＭＳ Ｐゴシック"/>
              </a:rPr>
              <a:t>                                                                   </a:t>
            </a:r>
            <a:r>
              <a:rPr b="0" lang="es-ES_tradnl" sz="16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2781360"/>
            <a:ext cx="784872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96d6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96d6"/>
                </a:solidFill>
                <a:latin typeface="Arial"/>
              </a:rPr>
              <a:t>.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96d6"/>
                </a:solidFill>
                <a:latin typeface="Arial"/>
              </a:rPr>
              <a:t>Reconocer la importancia de los estándares y certificados de conformidad en el comercio inter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</a:rPr>
              <a:t>2. Promover el desarrollo de estándares y sistemas de evalu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</a:rPr>
              <a:t>3. Reconocer el derecho de los países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-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Exigir Calidad y seguridad en los produ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- Proteger la salud y el medio amb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</a:rPr>
              <a:t>4. Evitar que los estándares y regulaciones técnicas se conviertan en obstáculo para el comer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</a:rPr>
              <a:t>5. Reconocer las dificultades de los países en desarrollo en estos asp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54080" y="134136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INFRAESTRUCTURA NECES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773360"/>
            <a:ext cx="792000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6d6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666465"/>
                </a:solidFill>
                <a:latin typeface="Arial"/>
              </a:rPr>
              <a:t>. </a:t>
            </a:r>
            <a:r>
              <a:rPr b="0" lang="es-ES_tradnl" sz="1800" spc="-1" strike="noStrike">
                <a:solidFill>
                  <a:srgbClr val="0096d6"/>
                </a:solidFill>
                <a:latin typeface="Arial"/>
              </a:rPr>
              <a:t>Instituciones para el desarrollo de política comercial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6d6"/>
                </a:solidFill>
                <a:latin typeface="Arial"/>
              </a:rPr>
              <a:t>2. Fortalecimiento de capacidad exportadora: Política acorde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6d6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0096d6"/>
                </a:solidFill>
                <a:latin typeface="Arial"/>
              </a:rPr>
              <a:t>competitividad empresaria, financi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6d6"/>
                </a:solidFill>
                <a:latin typeface="Arial"/>
              </a:rPr>
              <a:t>3. Fortalecimiento de los servicios de apoyo al comercio exteri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Tecnología, información comercial y normativa aplicable, control de calidad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    </a:t>
            </a: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packaging, promo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6d6"/>
                </a:solidFill>
                <a:latin typeface="Arial"/>
              </a:rPr>
              <a:t>4. Simplificación de procedimientos aduaneros y fis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6d6"/>
                </a:solidFill>
                <a:latin typeface="Arial"/>
              </a:rPr>
              <a:t>5. Formación de profesionales con las habilidades requer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6d6"/>
                </a:solidFill>
                <a:latin typeface="Arial"/>
              </a:rPr>
              <a:t>6. Marco regulatorio adecuado.</a:t>
            </a:r>
            <a:r>
              <a:rPr b="0" lang="es-ES_tradnl" sz="1600" spc="-1" strike="noStrike">
                <a:solidFill>
                  <a:srgbClr val="0096d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54080" y="134136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SE REQUIERE AÚN MÁ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2133720"/>
            <a:ext cx="7417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1) DESARROLLAR  CAPACIDADES  COMPETITIVAS</a:t>
            </a:r>
            <a:r>
              <a:rPr b="1" lang="es-MX" sz="1600" spc="-1" strike="noStrike">
                <a:solidFill>
                  <a:srgbClr val="b6aa9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Política y Marco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Promoción de inver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Transferencia de Tecn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Desarrollo de S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Soporte tecnológico secto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Calidad, Estándares, Metr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Producción más limp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54080" y="134136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SE REQUIERE AÚN MÁ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133720"/>
            <a:ext cx="756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2) PRUEBA DE CONFORMIDAD CON LOS REQUERIMIENTOS DEL MERCADO</a:t>
            </a:r>
            <a:r>
              <a:rPr b="1" lang="es-MX" sz="1600" spc="-1" strike="noStrike">
                <a:solidFill>
                  <a:srgbClr val="0096d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12600">
              <a:buClr>
                <a:srgbClr val="6664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Cumplimiento de Estánd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12600">
              <a:buClr>
                <a:srgbClr val="6664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Cumplimiento Metrológico (trazabilidad de las medicion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12600">
              <a:buClr>
                <a:srgbClr val="6664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Cumplimiento con las Especificaciones del Produ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12600">
              <a:buClr>
                <a:srgbClr val="6664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Cumplimiento con los requerimientos de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12600">
              <a:buClr>
                <a:srgbClr val="6664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Cumplimiento con los requerimientos de seguridad en product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y ali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734080"/>
            <a:ext cx="79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1dc"/>
                </a:solidFill>
                <a:latin typeface="Arial"/>
              </a:rPr>
              <a:t>EVIDENCIA CREÍBLE DE CONFORMIDAD - RECONOCIMIENT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54080" y="134136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INICIATIVAS PARA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DE LA CAPACIDAD EXPOR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2320920"/>
            <a:ext cx="7162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6aa95"/>
                </a:solidFill>
                <a:latin typeface="Arial"/>
                <a:ea typeface="ＭＳ Ｐゴシック"/>
              </a:rPr>
              <a:t>PRE-REQUISITOS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96d6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96d6"/>
                </a:solidFill>
                <a:latin typeface="Arial"/>
              </a:rPr>
              <a:t>Normativa de producto  (ISO/IEC). Existencia de Organismo Nacional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6d6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96d6"/>
                </a:solidFill>
                <a:latin typeface="Arial"/>
              </a:rPr>
              <a:t>Normaliz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- 100.000 estándares internacionales vig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- 1000 estándares nuevos cada 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96d6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96d6"/>
                </a:solidFill>
                <a:latin typeface="Arial"/>
              </a:rPr>
              <a:t>Estándares voluntarios se están convirtiendo en mandatari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- ISO 9.000 QMS, ISO 14.000 EMS, SA 8.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- HACCP, Sello CE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6d6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96d6"/>
                </a:solidFill>
                <a:latin typeface="Arial"/>
              </a:rPr>
              <a:t>Credibilidad en el Sistema Nacional de Certificación y Metrolog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- Trazabilidad de las mediciones; ca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96d6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96d6"/>
                </a:solidFill>
                <a:latin typeface="Arial"/>
              </a:rPr>
              <a:t>Laboratorios de ensayos: brindan seguridad de cumplimiento al merc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96d6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96d6"/>
                </a:solidFill>
                <a:latin typeface="Arial"/>
              </a:rPr>
              <a:t>Aceptación de Certificaciones – Acredit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</a:rPr>
              <a:t>- (Sistema de Evaluación y Certificación, ISO 17.02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2920" y="141300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¿QUÉ ES LA CA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106720"/>
            <a:ext cx="7416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La palabra </a:t>
            </a:r>
            <a:r>
              <a:rPr b="1" lang="es-ES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calidad</a:t>
            </a:r>
            <a:r>
              <a:rPr b="0" lang="es-ES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 tiene múltiples signific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666465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Conjunto de condiciones que contribuyen a hacer agradable y valiosa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666465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De un producto o servicio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es la </a:t>
            </a: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PERCEPCIÓN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que el cliente tiene del mism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16000" y="5229360"/>
            <a:ext cx="6985080" cy="863640"/>
          </a:xfrm>
          <a:prstGeom prst="rect">
            <a:avLst/>
          </a:prstGeom>
          <a:solidFill>
            <a:srgbClr val="b6a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2060640"/>
            <a:ext cx="6985080" cy="3024000"/>
          </a:xfrm>
          <a:prstGeom prst="rect">
            <a:avLst/>
          </a:prstGeom>
          <a:solidFill>
            <a:srgbClr val="666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1916280"/>
            <a:ext cx="3585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1341360"/>
            <a:ext cx="1224000" cy="574920"/>
          </a:xfrm>
          <a:prstGeom prst="rightArrow">
            <a:avLst>
              <a:gd name="adj1" fmla="val 50000"/>
              <a:gd name="adj2" fmla="val 53225"/>
            </a:avLst>
          </a:prstGeom>
          <a:solidFill>
            <a:srgbClr val="ffffff"/>
          </a:solidFill>
          <a:ln w="38160">
            <a:solidFill>
              <a:srgbClr val="66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92360" y="145584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</a:rPr>
              <a:t>Compe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52720" y="1341360"/>
            <a:ext cx="1224000" cy="612720"/>
            <a:chOff x="3852720" y="1341360"/>
            <a:chExt cx="1224000" cy="612720"/>
          </a:xfrm>
        </p:grpSpPr>
        <p:sp>
          <p:nvSpPr>
            <p:cNvPr id="158" name=""/>
            <p:cNvSpPr/>
            <p:nvPr/>
          </p:nvSpPr>
          <p:spPr>
            <a:xfrm>
              <a:off x="3852720" y="1341360"/>
              <a:ext cx="1224000" cy="612720"/>
            </a:xfrm>
            <a:prstGeom prst="rightArrow">
              <a:avLst>
                <a:gd name="adj1" fmla="val 50000"/>
                <a:gd name="adj2" fmla="val 49941"/>
              </a:avLst>
            </a:prstGeom>
            <a:solidFill>
              <a:srgbClr val="ffffff"/>
            </a:solidFill>
            <a:ln w="38160">
              <a:solidFill>
                <a:srgbClr val="66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52720" y="1470240"/>
              <a:ext cx="100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666465"/>
                  </a:solidFill>
                  <a:latin typeface="Arial"/>
                </a:rPr>
                <a:t>Adecu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12000" y="1341360"/>
            <a:ext cx="1368000" cy="612720"/>
            <a:chOff x="6012000" y="1341360"/>
            <a:chExt cx="1368000" cy="612720"/>
          </a:xfrm>
        </p:grpSpPr>
        <p:sp>
          <p:nvSpPr>
            <p:cNvPr id="161" name=""/>
            <p:cNvSpPr/>
            <p:nvPr/>
          </p:nvSpPr>
          <p:spPr>
            <a:xfrm>
              <a:off x="6012000" y="1341360"/>
              <a:ext cx="1368000" cy="612720"/>
            </a:xfrm>
            <a:prstGeom prst="rightArrow">
              <a:avLst>
                <a:gd name="adj1" fmla="val 50000"/>
                <a:gd name="adj2" fmla="val 55817"/>
              </a:avLst>
            </a:prstGeom>
            <a:solidFill>
              <a:srgbClr val="ffffff"/>
            </a:solidFill>
            <a:ln w="38160">
              <a:solidFill>
                <a:srgbClr val="66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2000" y="1470240"/>
              <a:ext cx="11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666465"/>
                  </a:solidFill>
                  <a:latin typeface="Arial"/>
                </a:rPr>
                <a:t>Conect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8131320" y="1628640"/>
            <a:ext cx="25704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6d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12536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PASOS PARA ACCEDER A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2060640"/>
            <a:ext cx="1676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sarrollar la competitividad de las capacidades produc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7080" y="2060640"/>
            <a:ext cx="1871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umplir con estándares y requerimientos de otros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16000" y="350028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esarrollar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apacid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du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422100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Incrementar la habilidad  de alcanzar  los estánd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37080" y="3500280"/>
            <a:ext cx="208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Elevar el nivel de los certificados de Conform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7080" y="4221000"/>
            <a:ext cx="17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Fortalecer la promoción  de expor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9080" y="350028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ratados 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9080" y="422100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implifi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normativa adua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8000" y="5176800"/>
            <a:ext cx="20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06064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umentar el diálogo con el Mer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483080" y="449568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ts val="5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O•A•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508464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6aa95"/>
                </a:solidFill>
                <a:latin typeface="Arial"/>
              </a:rPr>
              <a:t>ORGANIS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b6aa95"/>
                </a:solidFill>
                <a:latin typeface="Arial"/>
              </a:rPr>
              <a:t>ARGENTIN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b6aa95"/>
                </a:solidFill>
                <a:latin typeface="Arial"/>
              </a:rPr>
              <a:t>ACRED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4941720"/>
            <a:ext cx="359424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1520" y="5518080"/>
            <a:ext cx="40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726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54080" y="139716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¿QUÉ ES EL </a:t>
            </a:r>
            <a:r>
              <a:rPr b="1" lang="es-MX" sz="2400" spc="-1" strike="noStrike">
                <a:solidFill>
                  <a:srgbClr val="666465"/>
                </a:solidFill>
                <a:latin typeface="Arial"/>
              </a:rPr>
              <a:t>O•A•A?</a:t>
            </a: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2448000" cy="1643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2448000" cy="1606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419640" y="2421000"/>
            <a:ext cx="47527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4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Una organización sin fines de lu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4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Con una composición plural y un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conducción compartida entre los sector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empresarios, estatales, organis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científicos – técnicos, universitari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defensa al consumi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4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Creada dentro del marco del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Nacional de Normas, Calidad, Certificación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para desarrollar las funciones establecid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en el Decreto 1474/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90480" y="123984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PIRÁMIDE DE LA CONFI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35280" y="2523600"/>
            <a:ext cx="2360880" cy="299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96160" y="2523960"/>
            <a:ext cx="2392200" cy="299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96160" y="2523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96160" y="2523960"/>
            <a:ext cx="0" cy="335304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34040" y="3438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5516640"/>
            <a:ext cx="2376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34040" y="3438360"/>
            <a:ext cx="7621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00520" y="4124160"/>
            <a:ext cx="1295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96160" y="5038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996160" y="412380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011640" y="5516640"/>
            <a:ext cx="23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996160" y="343836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67360" y="4809960"/>
            <a:ext cx="1828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996160" y="480996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57520" y="5495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00520" y="3895200"/>
            <a:ext cx="129564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96160" y="3895560"/>
            <a:ext cx="129528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167360" y="4505400"/>
            <a:ext cx="182880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96160" y="4505400"/>
            <a:ext cx="182880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234040" y="3285720"/>
            <a:ext cx="7621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96160" y="3286080"/>
            <a:ext cx="76176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633840" y="5038560"/>
            <a:ext cx="236232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96160" y="5038560"/>
            <a:ext cx="236196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389556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252396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465768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5648400"/>
            <a:ext cx="280836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2920" y="31338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183996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Acuerdos de re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multilate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14920" y="2905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</a:rPr>
              <a:t>O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400536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Ensayos, calibració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análisis clí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79736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Normas, especifica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técnicas, regu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3213000"/>
            <a:ext cx="489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Productos, sistemas de calidad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gestión  ambiental, HACCP,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27082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6465"/>
                </a:solidFill>
                <a:latin typeface="Arial"/>
              </a:rPr>
              <a:t>Acred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05440" y="2143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465"/>
                </a:solidFill>
                <a:latin typeface="Arial"/>
              </a:rPr>
              <a:t>IAF / ILAC / IA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4365720"/>
            <a:ext cx="33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465"/>
                </a:solidFill>
                <a:latin typeface="Arial"/>
              </a:rPr>
              <a:t>LABORATORIOS DE ENSAY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465"/>
                </a:solidFill>
                <a:latin typeface="Arial"/>
              </a:rPr>
              <a:t>DE CALIBRACIÓN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465"/>
                </a:solidFill>
                <a:latin typeface="Arial"/>
              </a:rPr>
              <a:t>DE ANÁLISIS CLÍ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81760" y="37162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465"/>
                </a:solidFill>
                <a:latin typeface="Arial"/>
              </a:rPr>
              <a:t>ORGANISMOS DE CERT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508464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465"/>
                </a:solidFill>
                <a:latin typeface="Arial"/>
              </a:rPr>
              <a:t>REGUL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465"/>
                </a:solidFill>
                <a:latin typeface="Arial"/>
              </a:rPr>
              <a:t>ENTIDADES NORMALIZ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465"/>
                </a:solidFill>
                <a:latin typeface="Arial"/>
              </a:rPr>
              <a:t>NACIONALES E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465"/>
                </a:solidFill>
                <a:latin typeface="Arial"/>
              </a:rPr>
              <a:t>(EJ: ISO, IRA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28000" y="2349360"/>
            <a:ext cx="0" cy="360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54080" y="139716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¿CUÁLES SON SUS FUNCION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1822320"/>
            <a:ext cx="7704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6d6"/>
                </a:solidFill>
                <a:latin typeface="Arial"/>
              </a:rPr>
              <a:t>Acreditar las entidades definidas por el decreto de creación y las establecidas por la evolución de las prácticas internacionales en la ma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46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Laboratorios de Ensay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46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Laboratorios de Calibr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46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Laboratorios Clín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46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Organismos de Certificación de Sistemas de Gestión (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Calidad, Ambiental, Salud y Seguridad Ocupaciona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46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Organismos de Certificación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46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Organismos de Certificación de Person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46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666465"/>
                </a:solidFill>
                <a:latin typeface="Arial"/>
              </a:rPr>
              <a:t>Organismos de Inspe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54080" y="139716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¿QUÉ ES LA ACRED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98560" y="2565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1dc"/>
                </a:solidFill>
                <a:latin typeface="Arial"/>
              </a:rPr>
              <a:t>Es el procedimiento que hace una entidad independiente por el cual se reconoce que una organización cumple con requisitos específicos y es competente para desarrollar tareas de evaluación de conform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054080" y="139716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¿QUÉ SE ACRED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2471760"/>
            <a:ext cx="763272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1dc"/>
                </a:solidFill>
                <a:latin typeface="Arial"/>
              </a:rPr>
              <a:t>Los servicios de Evaluación de la Conformida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4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Los ensay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4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Las calibr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4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Los análisis clín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4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Las inspec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4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La certificación de sistemas de gest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4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666465"/>
                </a:solidFill>
                <a:latin typeface="Arial"/>
              </a:rPr>
              <a:t>La certificación de productos y la certificación de personas, entr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54080" y="139716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¿QUÉ ES LA EVALUACIÓN DE CONFORM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34560" y="2637000"/>
            <a:ext cx="70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1dc"/>
                </a:solidFill>
                <a:latin typeface="Arial"/>
              </a:rPr>
              <a:t>Es la demostración de que se cumplen los requisitos especific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1dc"/>
                </a:solidFill>
                <a:latin typeface="Arial"/>
              </a:rPr>
              <a:t>relativos a un producto, proceso, sistema, persona u organismo.</a:t>
            </a:r>
            <a:r>
              <a:rPr b="1" lang="es-ES" sz="1800" spc="-1" strike="noStrike">
                <a:solidFill>
                  <a:srgbClr val="0091d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54080" y="139716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¿PARA QUE SIRVE LA EVALU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DE LA CONFORM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2637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1dc"/>
                </a:solidFill>
                <a:latin typeface="Arial"/>
              </a:rPr>
              <a:t>Para demostrar la conformidad con requisitos específicos de produ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1dc"/>
                </a:solidFill>
                <a:latin typeface="Arial"/>
              </a:rPr>
              <a:t>y servicios, en base a normas inter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54080" y="139716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¿QUÉ DIFERENCIA EXISTE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LA ACREDITACIÓN Y LA CERTIFIC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2421000"/>
            <a:ext cx="741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1dc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91dc"/>
                </a:solidFill>
                <a:latin typeface="Arial"/>
              </a:rPr>
              <a:t>acreditación</a:t>
            </a:r>
            <a:r>
              <a:rPr b="0" lang="en-US" sz="1800" spc="-1" strike="noStrike">
                <a:solidFill>
                  <a:srgbClr val="0091dc"/>
                </a:solidFill>
                <a:latin typeface="Arial"/>
              </a:rPr>
              <a:t> es el reconocimiento formal que hace un organismo independiente de que una entidad cumple con requisitos especificados y es competente para desarrollar las tareas de </a:t>
            </a:r>
            <a:r>
              <a:rPr b="1" lang="en-US" sz="1800" spc="-1" strike="noStrike">
                <a:solidFill>
                  <a:srgbClr val="0091dc"/>
                </a:solidFill>
                <a:latin typeface="Arial"/>
              </a:rPr>
              <a:t>evaluación de la conformidad</a:t>
            </a:r>
            <a:r>
              <a:rPr b="0" lang="en-US" sz="1800" spc="-1" strike="noStrike">
                <a:solidFill>
                  <a:srgbClr val="0091dc"/>
                </a:solidFill>
                <a:latin typeface="Arial"/>
              </a:rPr>
              <a:t> para las que está acredi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41300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¿QUÉ ES LA PERCEP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7921440" cy="279072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838080" y="2133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</a:rPr>
              <a:t>Es la sensación interior que resulta de una impresión material hecha en nuestros sent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60199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8080"/>
                </a:solidFill>
                <a:latin typeface="Arial"/>
              </a:rPr>
              <a:t>Qu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54080" y="139716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¿QUÉ HACEN LOS ORGANISMO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EVALUACIÓN DE CONFORM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56536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1dc"/>
                </a:solidFill>
                <a:latin typeface="Arial"/>
              </a:rPr>
              <a:t>Encargados de demostrar dicho cumplimiento, desarrollan actividades que incluyen la certificación, la inspección, los ensayos y la calib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54080" y="139716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¿PARA QUÉ SIRVE LA ACRED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2421000"/>
            <a:ext cx="777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1dc"/>
                </a:solidFill>
                <a:latin typeface="Arial"/>
              </a:rPr>
              <a:t>Está destinada a generar </a:t>
            </a:r>
            <a:r>
              <a:rPr b="1" lang="es-MX" sz="1800" spc="-1" strike="noStrike">
                <a:solidFill>
                  <a:srgbClr val="0091dc"/>
                </a:solidFill>
                <a:latin typeface="Arial"/>
              </a:rPr>
              <a:t>confianza</a:t>
            </a:r>
            <a:r>
              <a:rPr b="0" lang="es-MX" sz="1800" spc="-1" strike="noStrike">
                <a:solidFill>
                  <a:srgbClr val="0091dc"/>
                </a:solidFill>
                <a:latin typeface="Arial"/>
              </a:rPr>
              <a:t> en los resultados de las certificaciones, inspecciones, ensayos y calibraciones, dando respal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1dc"/>
                </a:solidFill>
                <a:latin typeface="Arial"/>
              </a:rPr>
              <a:t>de </a:t>
            </a:r>
            <a:r>
              <a:rPr b="0" i="1" lang="es-MX" sz="1800" spc="-1" strike="noStrike">
                <a:solidFill>
                  <a:srgbClr val="0091dc"/>
                </a:solidFill>
                <a:latin typeface="Arial"/>
              </a:rPr>
              <a:t>confiabilidad</a:t>
            </a:r>
            <a:r>
              <a:rPr b="0" lang="es-MX" sz="1800" spc="-1" strike="noStrike">
                <a:solidFill>
                  <a:srgbClr val="0091dc"/>
                </a:solidFill>
                <a:latin typeface="Arial"/>
              </a:rPr>
              <a:t> a los organismos de evaluación de la conform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1dc"/>
                </a:solidFill>
                <a:latin typeface="Arial"/>
              </a:rPr>
              <a:t>Cuando la acreditación está reconocida internacionalmente otorga credibilidad y transparencia al mercado, y facilita el comer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rcRect l="0" t="9053" r="0" b="0"/>
          <a:stretch/>
        </p:blipFill>
        <p:spPr>
          <a:xfrm>
            <a:off x="2268360" y="549360"/>
            <a:ext cx="42768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483080" y="449568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ts val="5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GRACIA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SU A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24000" y="4941720"/>
            <a:ext cx="359424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1520" y="5518080"/>
            <a:ext cx="40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72640" cy="3670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00720" y="508464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6aa95"/>
                </a:solidFill>
                <a:latin typeface="Arial"/>
              </a:rPr>
              <a:t>WWW.MICRO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12536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HORIZONTE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1413000"/>
            <a:ext cx="7488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CORPO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GBS CODEX: STANDARD DE CLASE MU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HARV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SARBANES – OXL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EEUU – ACTA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GRANDES EMPRESAS: CODIGO DE CONDU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TECH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             </a:t>
            </a:r>
            <a:r>
              <a:rPr b="1" lang="es-MX" sz="16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GESTIÓN EXCELENTE         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CAMINO A LA GESTIÓN EXCE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	</a:t>
            </a:r>
            <a:r>
              <a:rPr b="0" lang="es-MX" sz="12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	</a:t>
            </a:r>
            <a:r>
              <a:rPr b="0" lang="es-MX" sz="12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                                                                          </a:t>
            </a:r>
            <a:r>
              <a:rPr b="0" lang="es-MX" sz="1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SIX SIG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                                                     </a:t>
            </a:r>
            <a:r>
              <a:rPr b="0" lang="es-MX" sz="1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INNOVACIÓN        B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	</a:t>
            </a:r>
            <a:r>
              <a:rPr b="0" lang="es-MX" sz="1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	</a:t>
            </a:r>
            <a:r>
              <a:rPr b="0" lang="es-MX" sz="1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	</a:t>
            </a:r>
            <a:r>
              <a:rPr b="0" lang="es-MX" sz="1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                 </a:t>
            </a:r>
            <a:r>
              <a:rPr b="0" lang="es-MX" sz="1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MEJORES PRÁC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2781360"/>
            <a:ext cx="647640" cy="216000"/>
          </a:xfrm>
          <a:prstGeom prst="flowChartExtract">
            <a:avLst/>
          </a:prstGeom>
          <a:solidFill>
            <a:srgbClr val="faa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1844640"/>
            <a:ext cx="144360" cy="424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560160" y="3481200"/>
            <a:ext cx="3430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465"/>
                </a:solidFill>
                <a:latin typeface="Arial"/>
              </a:rPr>
              <a:t>PERCEPCIÓN HU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3924000" y="3932280"/>
            <a:ext cx="718920" cy="144360"/>
          </a:xfrm>
          <a:prstGeom prst="flowChartExtract">
            <a:avLst/>
          </a:prstGeom>
          <a:solidFill>
            <a:srgbClr val="faa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3573360"/>
            <a:ext cx="647640" cy="216000"/>
          </a:xfrm>
          <a:prstGeom prst="flowChartExtract">
            <a:avLst/>
          </a:prstGeom>
          <a:solidFill>
            <a:srgbClr val="faa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4221000"/>
            <a:ext cx="647640" cy="216000"/>
          </a:xfrm>
          <a:prstGeom prst="flowChartExtract">
            <a:avLst/>
          </a:prstGeom>
          <a:solidFill>
            <a:srgbClr val="faa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5589720"/>
            <a:ext cx="24480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666465"/>
                </a:solidFill>
                <a:latin typeface="Arial"/>
              </a:rPr>
              <a:t>GESTIÓN EXCELENTE (PN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666465"/>
                </a:solidFill>
                <a:latin typeface="Arial"/>
              </a:rPr>
              <a:t>NORMAS IS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666465"/>
                </a:solidFill>
                <a:latin typeface="Arial"/>
              </a:rPr>
              <a:t>TRADIC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472428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42920" y="141300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CODEX GBS: GLOBAL BUSSINES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2637000"/>
            <a:ext cx="7417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Principios </a:t>
            </a:r>
            <a:r>
              <a:rPr b="1" lang="es-ES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fiduci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Principio de </a:t>
            </a:r>
            <a:r>
              <a:rPr b="1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prop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Principio de </a:t>
            </a:r>
            <a:r>
              <a:rPr b="1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confi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Principio de </a:t>
            </a:r>
            <a:r>
              <a:rPr b="1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transpar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Principio de </a:t>
            </a:r>
            <a:r>
              <a:rPr b="1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dig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Principio de </a:t>
            </a:r>
            <a:r>
              <a:rPr b="1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equ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Principio de </a:t>
            </a:r>
            <a:r>
              <a:rPr b="1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ciudadan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42920" y="1413000"/>
            <a:ext cx="359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SARBANES – OXLEY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897200"/>
            <a:ext cx="78483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“</a:t>
            </a:r>
            <a:r>
              <a:rPr b="0" lang="es-ES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Board” de vigilancia con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Independencia de la audi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Responsabilidad corpor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Absoluta claridad financi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Análisis de los conflictos de inter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Delegación del manejo de los recursos y de l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Estudios y repor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Contabilidad corporativa y fraude crim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Mayor penalidad a los “cuellos blanc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Responsabilidad de los CEOS frente a los reembolsos de impue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6d6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42920" y="119700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CÓDIGO DE CONDUCTA: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557360"/>
            <a:ext cx="7201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IMPLEMENTACIÓN DEL CÓDIGO DE CONDU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CUMPLIMIENTO DEL CÓDIGO DE CONDU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VIOLACIÓN AL CÓDIGO DE CONDU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96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96d6"/>
                </a:solidFill>
                <a:latin typeface="Arial"/>
                <a:ea typeface="Arial Unicode MS"/>
              </a:rPr>
              <a:t>PAUTAS DE CONDUC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Cumplimiento de las le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Gestión transpar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Conflicto de inter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Obsequios y aten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Uso de ac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Seguridad de la in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Confidencialidad de la in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Uso de “Información Price Sensiti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Uso de recursos tecnológ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Derechos de propiedad intele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Ambiente de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Incentivos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Ambiente de tra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        </a:t>
            </a:r>
            <a:r>
              <a:rPr b="0" lang="es-MX" sz="1600" spc="-1" strike="noStrike">
                <a:solidFill>
                  <a:srgbClr val="666465"/>
                </a:solidFill>
                <a:latin typeface="Arial"/>
                <a:ea typeface="Arial Unicode MS"/>
              </a:rPr>
              <a:t>- Relaciones con la comun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971800" y="25146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1413000"/>
            <a:ext cx="59770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6465"/>
                </a:solidFill>
                <a:latin typeface="Arial"/>
              </a:rPr>
              <a:t>     </a:t>
            </a:r>
            <a:r>
              <a:rPr b="1" lang="es-MX" sz="2400" spc="-1" strike="noStrike">
                <a:solidFill>
                  <a:srgbClr val="666465"/>
                </a:solidFill>
                <a:latin typeface="Arial"/>
              </a:rPr>
              <a:t>ORGANIZACIÓN INTELI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2133720"/>
            <a:ext cx="7929360" cy="580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6d6"/>
                </a:solidFill>
                <a:latin typeface="Arial"/>
                <a:ea typeface="Times New Roman"/>
              </a:rPr>
              <a:t>Organización “que entiende”, que posee discernimiento suficiente para enfrentar confiadamente el camb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2421000"/>
            <a:ext cx="0" cy="1008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63700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6465"/>
                </a:solidFill>
                <a:latin typeface="Arial"/>
              </a:rPr>
              <a:t>Disciplinas que caracterizan a una organización intelig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213000"/>
            <a:ext cx="72741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32130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267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3429000"/>
            <a:ext cx="1523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465"/>
                </a:solidFill>
                <a:latin typeface="Arial"/>
                <a:ea typeface="Arial"/>
              </a:rPr>
              <a:t>Dominio Personal </a:t>
            </a:r>
            <a:r>
              <a:rPr b="0" i="1" lang="en-US" sz="1600" spc="-1" strike="noStrike">
                <a:solidFill>
                  <a:srgbClr val="666465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6465"/>
                </a:solidFill>
                <a:latin typeface="Arial"/>
                <a:ea typeface="Times New Roman"/>
              </a:rPr>
              <a:t>Aprender a expandir nuestra capacidad personal para cr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6465"/>
                </a:solidFill>
                <a:latin typeface="Arial"/>
                <a:ea typeface="Times New Roman"/>
              </a:rPr>
              <a:t>los resultados que deseamos.</a:t>
            </a:r>
            <a:r>
              <a:rPr b="0" i="1" lang="es-ES" sz="1600" spc="-1" strike="noStrike">
                <a:solidFill>
                  <a:srgbClr val="666465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3429000"/>
            <a:ext cx="1657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465"/>
                </a:solidFill>
                <a:latin typeface="Arial"/>
                <a:ea typeface="Arial"/>
              </a:rPr>
              <a:t>Modelos Mentales</a:t>
            </a:r>
            <a:r>
              <a:rPr b="1" lang="en-US" sz="1600" spc="-1" strike="noStrike" u="sng">
                <a:solidFill>
                  <a:srgbClr val="666465"/>
                </a:solidFill>
                <a:uFillTx/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465"/>
                </a:solidFill>
                <a:latin typeface="Arial"/>
                <a:ea typeface="Arial"/>
              </a:rPr>
              <a:t>Supuestos arraigados que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465"/>
                </a:solidFill>
                <a:latin typeface="Arial"/>
                <a:ea typeface="Arial"/>
              </a:rPr>
              <a:t>influyen en nuestro modo de percibir y sentir el mu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3429000"/>
            <a:ext cx="1544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465"/>
                </a:solidFill>
                <a:latin typeface="Arial"/>
                <a:ea typeface="Arial"/>
              </a:rPr>
              <a:t>Visión Com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6465"/>
                </a:solidFill>
                <a:latin typeface="Arial"/>
                <a:ea typeface="Times New Roman"/>
              </a:rPr>
              <a:t>Elaboración de un sentido de compromiso grupal acerca del futuro que procuramos cr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3429000"/>
            <a:ext cx="167652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666465"/>
                </a:solidFill>
                <a:latin typeface="Arial"/>
                <a:ea typeface="Times New Roman"/>
              </a:rPr>
              <a:t>Trabajo en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6465"/>
                </a:solidFill>
                <a:latin typeface="Arial"/>
                <a:ea typeface="Times New Roman"/>
              </a:rPr>
              <a:t>Desarrollo de una inteligencia y una capacidad mayor que la equivalente a la suma del talento individual de sus miembros</a:t>
            </a:r>
            <a:r>
              <a:rPr b="0" lang="es-AR" sz="1200" spc="-1" strike="noStrike">
                <a:solidFill>
                  <a:srgbClr val="666465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7080" y="3429000"/>
            <a:ext cx="1663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6d6"/>
                </a:solidFill>
                <a:latin typeface="Arial"/>
              </a:rPr>
              <a:t>Pensamiento Sisté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96d6"/>
                </a:solidFill>
                <a:latin typeface="Arial"/>
                <a:ea typeface="Times New Roman"/>
              </a:rPr>
              <a:t>Modo de analizar las fuerzas e interrelaciones que modelan el comportamiento de los siste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91628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844640"/>
            <a:ext cx="0" cy="360360"/>
          </a:xfrm>
          <a:prstGeom prst="line">
            <a:avLst/>
          </a:prstGeom>
          <a:ln w="9360">
            <a:solidFill>
              <a:srgbClr val="faa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32130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32130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01080" y="32130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90480" y="1239840"/>
            <a:ext cx="359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465"/>
                </a:solidFill>
                <a:latin typeface="Arial"/>
                <a:ea typeface="ＭＳ Ｐゴシック"/>
              </a:rPr>
              <a:t>GESTIÓN EXCEL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916280"/>
            <a:ext cx="7162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5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6aa95"/>
                </a:solidFill>
                <a:latin typeface="Arial"/>
                <a:ea typeface="ＭＳ Ｐゴシック"/>
              </a:rPr>
              <a:t>VISIÓN GENERAL DE LA GESTIÓN EXCEL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26920" y="2205000"/>
          <a:ext cx="7560000" cy="3672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205000"/>
                    <a:ext cx="7560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9:26:17Z</dcterms:created>
  <dc:creator>ROSANA RIDOLFI</dc:creator>
  <dc:description/>
  <dc:language>en-US</dc:language>
  <cp:lastModifiedBy>CPCECABA</cp:lastModifiedBy>
  <dcterms:modified xsi:type="dcterms:W3CDTF">2006-11-28T16:53:00Z</dcterms:modified>
  <cp:revision>123</cp:revision>
  <dc:subject/>
  <dc:title>Diapositiva 1</dc:title>
</cp:coreProperties>
</file>