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23A5-EE00-4A15-A53D-A56BAE5DB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95C7-815B-45CF-82F7-B6DB45B96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4D4F-5AE5-4530-A219-39C3D4BF0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06A9-8890-4290-A575-A82DED5EB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50A0-A1E2-4A12-B31F-5400500F0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09B8-69A7-49CF-88B8-68496EB6C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1579-6F9A-4B1D-852C-E8093EE55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B756-9864-48E6-9B52-2C4FA22A5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D666-DC39-4AC3-BAD9-E1E1AFF62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3DC1-AEDB-4E26-A5E1-95D29D7D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8014-DBBE-4F99-B69D-08643928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5816-6B01-4B08-9521-D27FACA2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A8572-E833-45C5-8CA0-E78B272DD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800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388360" y="6675480"/>
            <a:ext cx="541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EE9F5-07AD-4DC8-B963-3666E25588AB}" type="slidenum">
              <a:rPr b="1" lang="es-A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187280" y="3499200"/>
            <a:ext cx="72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Políticas y Tendencias en el Comercio Regional y Globa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219640" y="5445000"/>
            <a:ext cx="39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. Diego Petreco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or del CEU-U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516720" y="260280"/>
            <a:ext cx="226836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EU-UIA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Centro de Estudios de la Unión Industrial Argent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2491200"/>
            <a:ext cx="87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IV Simposio sobre Comercio Exterior e Integración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800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1916280"/>
            <a:ext cx="8209080" cy="0"/>
          </a:xfrm>
          <a:prstGeom prst="line">
            <a:avLst/>
          </a:prstGeom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5013360"/>
            <a:ext cx="8064360" cy="0"/>
          </a:xfrm>
          <a:prstGeom prst="line">
            <a:avLst/>
          </a:prstGeom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2346120" cy="167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Estructura exportadora argentina con sus principales socios comer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491160"/>
            <a:ext cx="50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ente: CEU-UIA en base a IND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8496360" cy="528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900000" y="5734080"/>
            <a:ext cx="727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Estructura importadora argentina con sus principales socios comer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6491160"/>
            <a:ext cx="50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ente: CEU-UIA en base a IND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8381880" cy="52801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971640" y="5734080"/>
            <a:ext cx="705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0" y="549000"/>
            <a:ext cx="86868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268280"/>
            <a:ext cx="745164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1773360"/>
            <a:ext cx="7848360" cy="36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xto actual del comercio exterior argent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ructura exportadora argentina y brasileñ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ructura bilateral argentina con sus principales socios comerciales: Brasil-UE-U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ructura comercial bilateral Argentina-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4149720"/>
            <a:ext cx="7993080" cy="64944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56360" y="1197000"/>
            <a:ext cx="2736720" cy="5111640"/>
          </a:xfrm>
          <a:custGeom>
            <a:avLst/>
            <a:gdLst>
              <a:gd name="textAreaLeft" fmla="*/ 133560 w 2736720"/>
              <a:gd name="textAreaRight" fmla="*/ 2603160 w 2736720"/>
              <a:gd name="textAreaTop" fmla="*/ 133560 h 5111640"/>
              <a:gd name="textAreaBottom" fmla="*/ 4978080 h 5111640"/>
            </a:gdLst>
            <a:ahLst/>
            <a:rect l="textAreaLeft" t="textAreaTop" r="textAreaRight" b="textAreaBottom"/>
            <a:pathLst>
              <a:path w="21600" h="40342">
                <a:moveTo>
                  <a:pt x="3600" y="0"/>
                </a:moveTo>
                <a:arcTo wR="3600" hR="3600" stAng="16200000" swAng="-5400000"/>
                <a:lnTo>
                  <a:pt x="0" y="36742"/>
                </a:lnTo>
                <a:arcTo wR="3600" hR="3600" stAng="10800000" swAng="-5400000"/>
                <a:lnTo>
                  <a:pt x="18000" y="403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800080"/>
            </a:solidFill>
            <a:miter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marL="177840" indent="-324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 comercio bilateral creció en los últimos año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324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s exportaciones crecieron 181% (2001-2005) mientras que las importaciones lo hicieron 110% en el mismo perío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324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324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 balanza comercial bilateral es positiva para nuestro país. Sin embargo el saldo comienza a contraerse y en los primeros 7 meses del año las exportaciones cayeron 11% y las importaciones crecieron 44% respecto a igual período de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80000" y="2133720"/>
            <a:ext cx="539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a50021"/>
                </a:solidFill>
                <a:latin typeface="Arial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580000" y="4365720"/>
            <a:ext cx="539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a50021"/>
                </a:solidFill>
                <a:latin typeface="Arial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5400000">
            <a:off x="4104360" y="3464640"/>
            <a:ext cx="2592360" cy="21600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698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800080"/>
                </a:solidFill>
                <a:latin typeface="Arial"/>
              </a:rPr>
              <a:t>Comercio bilateral  Argentina - China.</a:t>
            </a: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491160"/>
            <a:ext cx="50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ente: CEU-UIA en base a IND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5003640" cy="2997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50920" y="3933720"/>
            <a:ext cx="478764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156360" y="1557360"/>
            <a:ext cx="2736720" cy="4535640"/>
          </a:xfrm>
          <a:custGeom>
            <a:avLst/>
            <a:gdLst>
              <a:gd name="textAreaLeft" fmla="*/ 133560 w 2736720"/>
              <a:gd name="textAreaRight" fmla="*/ 2603160 w 2736720"/>
              <a:gd name="textAreaTop" fmla="*/ 133560 h 4535640"/>
              <a:gd name="textAreaBottom" fmla="*/ 4402080 h 4535640"/>
            </a:gdLst>
            <a:ahLst/>
            <a:rect l="textAreaLeft" t="textAreaTop" r="textAreaRight" b="textAreaBottom"/>
            <a:pathLst>
              <a:path w="21600" h="35796">
                <a:moveTo>
                  <a:pt x="3600" y="0"/>
                </a:moveTo>
                <a:arcTo wR="3600" hR="3600" stAng="16200000" swAng="-5400000"/>
                <a:lnTo>
                  <a:pt x="0" y="32196"/>
                </a:lnTo>
                <a:arcTo wR="3600" hR="3600" stAng="10800000" swAng="-5400000"/>
                <a:lnTo>
                  <a:pt x="18000" y="357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800080"/>
            </a:solidFill>
            <a:miter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marL="177840" indent="-324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s exportaciones argentinas a China se concentran en Productos Primarios (76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324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324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s importaciones argentinas desde China se concentran en productos con contenido tecnológico (83%), en particular los de alto contenido tecnológico (35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80000" y="2133720"/>
            <a:ext cx="539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a50021"/>
                </a:solidFill>
                <a:latin typeface="Arial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80000" y="4365720"/>
            <a:ext cx="539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a50021"/>
                </a:solidFill>
                <a:latin typeface="Arial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5400000">
            <a:off x="4104360" y="3464640"/>
            <a:ext cx="2592360" cy="21600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6491160"/>
            <a:ext cx="50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ente: CEU-UIA en base a IND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800080"/>
                </a:solidFill>
                <a:latin typeface="Arial"/>
              </a:rPr>
              <a:t>Estructura comercial bilateral de Argentina con China.</a:t>
            </a: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3716280"/>
            <a:ext cx="4427640" cy="2754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4427640" cy="27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549000"/>
            <a:ext cx="86868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1268280"/>
            <a:ext cx="745164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1773360"/>
            <a:ext cx="7848360" cy="36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xto actual del comercio exterior argent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ructura exportadora argentina y brasileñ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ructura bilateral argentina con sus principales socios comerciales: Brasil-UE-U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ructura comercial bilateral Argentina-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4797360"/>
            <a:ext cx="7993080" cy="64944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800080"/>
                </a:solidFill>
                <a:latin typeface="Arial"/>
              </a:rPr>
              <a:t>Conclu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1925"/>
              </a:spcBef>
              <a:buClr>
                <a:srgbClr val="cc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uego de la salida de la convertibilidad el desempeño de las exportaciones argentinas está siendo dinámic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1925"/>
              </a:spcBef>
              <a:buClr>
                <a:srgbClr val="cc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l escenario internacional de los próximos años es favorable para que esta tendencia continú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1925"/>
              </a:spcBef>
              <a:buClr>
                <a:srgbClr val="cc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Un análisis detallado del contenido de valor agregado de nuestras exportaciones revela que el mismo todavía es escaso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1925"/>
              </a:spcBef>
              <a:buClr>
                <a:srgbClr val="cc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os productos con mayor valor agregado deben desempeñar un papel creciente en nuestras exportacion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1925"/>
              </a:spcBef>
              <a:buClr>
                <a:srgbClr val="cc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ara revertir esta situación, como lo han hecho otros países, se necesitan políticas activas que promuevan la agregación de valor y una nueva estrategia de inserción en los mercados internaciona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1268280"/>
            <a:ext cx="745164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549000"/>
            <a:ext cx="86868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268280"/>
            <a:ext cx="745164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1773360"/>
            <a:ext cx="7848360" cy="36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xto actual del comercio exterior argent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ructura exportadora argentina y brasileñ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ructura bilateral argentina con sus principales socios comerciales: Brasil-UE-U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ructura comercial bilateral Argentina-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549000"/>
            <a:ext cx="86868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268280"/>
            <a:ext cx="745164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1773360"/>
            <a:ext cx="7848360" cy="36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exto actual del comercio exterior argent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ructura exportadora argentina y brasileñ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ructura bilateral argentina con sus principales socios comerciales: Brasil-UE-U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ructura comercial bilateral Argentina-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1700280"/>
            <a:ext cx="7993080" cy="6490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1280" y="0"/>
            <a:ext cx="907272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60000" tIns="180000" bIns="28800" anchor="t">
            <a:noAutofit/>
          </a:bodyPr>
          <a:p>
            <a:pPr algn="ctr">
              <a:lnSpc>
                <a:spcPct val="11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800080"/>
                </a:solidFill>
                <a:latin typeface="Arial"/>
              </a:rPr>
              <a:t>Con un fuerte crecimiento de las exportaciones industriales y un saldo comercial superavita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0" y="1268280"/>
          <a:ext cx="5869080" cy="474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8280"/>
                    <a:ext cx="5869080" cy="474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6118200" y="1484280"/>
            <a:ext cx="3025800" cy="3889440"/>
            <a:chOff x="6118200" y="1484280"/>
            <a:chExt cx="3025800" cy="3889440"/>
          </a:xfrm>
        </p:grpSpPr>
        <p:sp>
          <p:nvSpPr>
            <p:cNvPr id="63" name=""/>
            <p:cNvSpPr/>
            <p:nvPr/>
          </p:nvSpPr>
          <p:spPr>
            <a:xfrm>
              <a:off x="6407280" y="1484280"/>
              <a:ext cx="2736720" cy="3889440"/>
            </a:xfrm>
            <a:custGeom>
              <a:avLst/>
              <a:gdLst>
                <a:gd name="textAreaLeft" fmla="*/ 133560 w 2736720"/>
                <a:gd name="textAreaRight" fmla="*/ 2603160 w 2736720"/>
                <a:gd name="textAreaTop" fmla="*/ 133560 h 3889440"/>
                <a:gd name="textAreaBottom" fmla="*/ 3755880 h 3889440"/>
              </a:gdLst>
              <a:ahLst/>
              <a:rect l="textAreaLeft" t="textAreaTop" r="textAreaRight" b="textAreaBottom"/>
              <a:pathLst>
                <a:path w="21600" h="30697">
                  <a:moveTo>
                    <a:pt x="3600" y="0"/>
                  </a:moveTo>
                  <a:arcTo wR="3600" hR="3600" stAng="16200000" swAng="-5400000"/>
                  <a:lnTo>
                    <a:pt x="0" y="27097"/>
                  </a:lnTo>
                  <a:arcTo wR="3600" hR="3600" stAng="10800000" swAng="-5400000"/>
                  <a:lnTo>
                    <a:pt x="18000" y="306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800080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marL="177840" indent="-177840" algn="just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 balanza comercial se revierte en 2001 fundamentalmente por la fuerte disminución de las importaciones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 algn="just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sta tendencia se fortalece con un aumento de las exportaciones: crecieron 45% desde 1998 y 71% desde la salida de la convertibilidad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335640" y="2347920"/>
              <a:ext cx="540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a50021"/>
                  </a:solidFill>
                  <a:latin typeface="Arial"/>
                </a:rPr>
                <a:t>1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335640" y="3860640"/>
              <a:ext cx="540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a50021"/>
                  </a:solidFill>
                  <a:latin typeface="Arial"/>
                </a:rPr>
                <a:t>2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5400000">
              <a:off x="4929840" y="3464280"/>
              <a:ext cx="2592360" cy="216000"/>
            </a:xfrm>
            <a:prstGeom prst="triangle">
              <a:avLst>
                <a:gd name="adj" fmla="val 50000"/>
              </a:avLst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0" y="6491160"/>
            <a:ext cx="50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ente: CEU-UIA en base a IND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341360"/>
            <a:ext cx="59403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9640" y="1341360"/>
            <a:ext cx="489600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volución del Comercio exterior argent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 millones de U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800080"/>
                </a:solidFill>
                <a:latin typeface="Arial"/>
              </a:rPr>
              <a:t>Evolución de las exportaciones industriales y del tipo de cambio real multilat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0" y="1700280"/>
          <a:ext cx="5940360" cy="4232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00280"/>
                    <a:ext cx="5940360" cy="42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118200" y="1916280"/>
            <a:ext cx="3025800" cy="3889080"/>
            <a:chOff x="6118200" y="1916280"/>
            <a:chExt cx="3025800" cy="3889080"/>
          </a:xfrm>
        </p:grpSpPr>
        <p:sp>
          <p:nvSpPr>
            <p:cNvPr id="75" name=""/>
            <p:cNvSpPr/>
            <p:nvPr/>
          </p:nvSpPr>
          <p:spPr>
            <a:xfrm>
              <a:off x="6407280" y="1916280"/>
              <a:ext cx="2736720" cy="3889080"/>
            </a:xfrm>
            <a:custGeom>
              <a:avLst/>
              <a:gdLst>
                <a:gd name="textAreaLeft" fmla="*/ 133560 w 2736720"/>
                <a:gd name="textAreaRight" fmla="*/ 2603160 w 2736720"/>
                <a:gd name="textAreaTop" fmla="*/ 133560 h 3889080"/>
                <a:gd name="textAreaBottom" fmla="*/ 3755520 h 3889080"/>
              </a:gdLst>
              <a:ahLst/>
              <a:rect l="textAreaLeft" t="textAreaTop" r="textAreaRight" b="textAreaBottom"/>
              <a:pathLst>
                <a:path w="21600" h="30694">
                  <a:moveTo>
                    <a:pt x="3600" y="0"/>
                  </a:moveTo>
                  <a:arcTo wR="3600" hR="3600" stAng="16200000" swAng="-5400000"/>
                  <a:lnTo>
                    <a:pt x="0" y="27094"/>
                  </a:lnTo>
                  <a:arcTo wR="3600" hR="3600" stAng="10800000" swAng="-5400000"/>
                  <a:lnTo>
                    <a:pt x="18000" y="306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800080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marL="177840" indent="-177840" algn="just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s exportaciones de MOA crecieron 38% desde 1998 y 113% desde la salida de la convertibilidad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 algn="just"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s exportaciones de MOI crecieron 57% desde 1998 y 80% desde la salida de la convertibilidad.</a:t>
              </a:r>
              <a:br>
                <a:rPr sz="17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335640" y="2779560"/>
              <a:ext cx="54000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a50021"/>
                  </a:solidFill>
                  <a:latin typeface="Arial"/>
                </a:rPr>
                <a:t>1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335640" y="4292280"/>
              <a:ext cx="54000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a50021"/>
                  </a:solidFill>
                  <a:latin typeface="Arial"/>
                </a:rPr>
                <a:t>2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5400000">
              <a:off x="4930200" y="3895920"/>
              <a:ext cx="2592000" cy="216000"/>
            </a:xfrm>
            <a:prstGeom prst="triangle">
              <a:avLst>
                <a:gd name="adj" fmla="val 50000"/>
              </a:avLst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0" y="6491160"/>
            <a:ext cx="50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ente: CEU-UIA en base a IND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1413000"/>
            <a:ext cx="4608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volución de las exportaciones MOA y MO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 millones de U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0" y="549000"/>
            <a:ext cx="86868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268280"/>
            <a:ext cx="745164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0920" y="1773360"/>
            <a:ext cx="7848360" cy="36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xto actual del comercio exterior argent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ructura exportadora argentina y brasileñ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ructura bilateral argentina con sus principales socios comerciales: Brasil-UE-U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ructura comercial bilateral Argentina-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920" y="2421000"/>
            <a:ext cx="7993080" cy="6490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Clasificación por Contenido Tecnoló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052640"/>
            <a:ext cx="745164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39640" y="1197000"/>
            <a:ext cx="8353440" cy="5040360"/>
            <a:chOff x="539640" y="1197000"/>
            <a:chExt cx="8353440" cy="5040360"/>
          </a:xfrm>
        </p:grpSpPr>
        <p:sp>
          <p:nvSpPr>
            <p:cNvPr id="88" name=""/>
            <p:cNvSpPr/>
            <p:nvPr/>
          </p:nvSpPr>
          <p:spPr>
            <a:xfrm>
              <a:off x="539640" y="1197000"/>
              <a:ext cx="1728720" cy="158436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584360"/>
                <a:gd name="textAreaBottom" fmla="*/ 1584720 h 158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tenid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cnológ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aj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39640" y="2924280"/>
              <a:ext cx="1728720" cy="158436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584360"/>
                <a:gd name="textAreaBottom" fmla="*/ 1584720 h 158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tenid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cnológ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39640" y="4653000"/>
              <a:ext cx="1728720" cy="158436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584360"/>
                <a:gd name="textAreaBottom" fmla="*/ 1584720 h 158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tenid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cnológ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l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987640" y="2997360"/>
              <a:ext cx="5905440" cy="1295280"/>
            </a:xfrm>
            <a:prstGeom prst="roundRect">
              <a:avLst>
                <a:gd name="adj" fmla="val 16667"/>
              </a:avLst>
            </a:prstGeom>
            <a:solidFill>
              <a:srgbClr val="3366ff">
                <a:alpha val="1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ehículos de pasajeros y sus partes, vehículos comerciales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otocicletas y sus partes. Fibras sintéticas, químicos y pinturas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ertilizantes, plásticos, hierro y acero, cañerías y tubos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quinaria y motores, máquinas industriales, bombas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arcos y reloje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987640" y="4724640"/>
              <a:ext cx="5905440" cy="1295280"/>
            </a:xfrm>
            <a:prstGeom prst="roundRect">
              <a:avLst>
                <a:gd name="adj" fmla="val 16667"/>
              </a:avLst>
            </a:prstGeom>
            <a:solidFill>
              <a:srgbClr val="000080">
                <a:alpha val="1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quinas para procesamiento de datos,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lecomunicaciones, equipos de televisión, y transistores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urbinas, equipos generadores de energía. Artícul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armacéuticos, aviones, instrumentos ópticos y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ecisión, cámaras fotográfica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916360" y="1413000"/>
              <a:ext cx="5903640" cy="1295280"/>
            </a:xfrm>
            <a:prstGeom prst="roundRect">
              <a:avLst>
                <a:gd name="adj" fmla="val 16667"/>
              </a:avLst>
            </a:prstGeom>
            <a:solidFill>
              <a:srgbClr val="99ccff">
                <a:alpha val="1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xtiles, ropa, calzado, manufacturas de cuero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olsos de viaje. Cerámica, estructuras simples de metal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uebles, joyería, juguetes, productos plástico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0" y="646128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Fuente: CEU-UIA en base Sanjaya Lall: “Desempeño de las exportaciones, modernización tecnológica y estrategias en materia de IED en las economías de reciente industrialización de Asia, con especial referencia a Singapur”. CEPAL, Serie de Desarrollo Productivo N°88, Santiago de Chile, octubre de 200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800080"/>
                </a:solidFill>
                <a:latin typeface="Arial"/>
              </a:rPr>
              <a:t>La estructura exportadora de Argentina y de Brasil son similar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56360" y="1557360"/>
            <a:ext cx="2736720" cy="4535640"/>
          </a:xfrm>
          <a:custGeom>
            <a:avLst/>
            <a:gdLst>
              <a:gd name="textAreaLeft" fmla="*/ 133560 w 2736720"/>
              <a:gd name="textAreaRight" fmla="*/ 2603160 w 2736720"/>
              <a:gd name="textAreaTop" fmla="*/ 133560 h 4535640"/>
              <a:gd name="textAreaBottom" fmla="*/ 4402080 h 4535640"/>
            </a:gdLst>
            <a:ahLst/>
            <a:rect l="textAreaLeft" t="textAreaTop" r="textAreaRight" b="textAreaBottom"/>
            <a:pathLst>
              <a:path w="21600" h="35796">
                <a:moveTo>
                  <a:pt x="3600" y="0"/>
                </a:moveTo>
                <a:arcTo wR="3600" hR="3600" stAng="16200000" swAng="-5400000"/>
                <a:lnTo>
                  <a:pt x="0" y="32196"/>
                </a:lnTo>
                <a:arcTo wR="3600" hR="3600" stAng="10800000" swAng="-5400000"/>
                <a:lnTo>
                  <a:pt x="18000" y="357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800080"/>
            </a:solidFill>
            <a:miter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marL="177840" indent="-324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 ambos casos se exportan fundamentalmente productos primarios. Sin embargo la concentración de estos es superior en argenti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324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n bien Brasil exporta más productos con tecnología incorporada que Argentina, en ambos casos el porcentaje es baj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580000" y="2133720"/>
            <a:ext cx="539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a50021"/>
                </a:solidFill>
                <a:latin typeface="Arial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80000" y="4365720"/>
            <a:ext cx="539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a50021"/>
                </a:solidFill>
                <a:latin typeface="Arial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4104360" y="3464640"/>
            <a:ext cx="2592360" cy="21600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91160"/>
            <a:ext cx="50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ente: CEU-UIA en base a INDEC y SEC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4646520" cy="2887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3716280"/>
            <a:ext cx="4646520" cy="2889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68360" y="414972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1628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549000"/>
            <a:ext cx="86868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268280"/>
            <a:ext cx="745164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773360"/>
            <a:ext cx="7848360" cy="36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xto actual del comercio exterior argent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ructura exportadora argentina y brasileñ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ructura bilateral argentina con sus principales socios comerciales: Brasil-UE-U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ructura comercial bilateral Argentina-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3213000"/>
            <a:ext cx="7993080" cy="86364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18:44:51Z</dcterms:created>
  <dc:creator>ceciliam</dc:creator>
  <dc:description/>
  <dc:language>en-US</dc:language>
  <cp:lastModifiedBy>Congresos y Eventos</cp:lastModifiedBy>
  <dcterms:modified xsi:type="dcterms:W3CDTF">2006-11-21T15:08:46Z</dcterms:modified>
  <cp:revision>12</cp:revision>
  <dc:subject/>
  <dc:title>Diapositiva 1</dc:title>
</cp:coreProperties>
</file>