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36520" y="690480"/>
            <a:ext cx="4586400" cy="34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E73D-9552-4626-BAA5-055A1E211A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549F-BEA3-4422-8B10-68F0D55C37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23B9-9569-47E7-B2CD-2B8EC37DD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EFB6-8C4D-4071-AC0D-64B508F6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B2F9-1AC3-43CE-9718-A570E845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249B-DD96-4B03-BC26-9CF5C1649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346D-4005-437D-A580-D4B4853BF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4436-FCCA-4424-ADF0-D785BCC8F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083D-F949-4533-92FF-B75130D13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7EB0-7E74-4649-A51A-5F8B3E2C0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0F9D-FCBD-47A3-876C-445B59255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A038-07CE-40D2-80F2-601F2FCC0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A385-D7F1-4ECB-812A-061F79FC4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1264-F248-4F66-B554-721F37E03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7640" y="6237360"/>
            <a:ext cx="16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FEC-11C1-4C2A-AEF5-A587E7983B1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57560" y="1658880"/>
            <a:ext cx="626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4655"/>
                </a:solidFill>
                <a:latin typeface="Verdana"/>
              </a:rPr>
              <a:t>Levin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Verdana"/>
              </a:rPr>
              <a:t>Claves del Futuro </a:t>
            </a:r>
            <a:br>
              <a:rPr sz="2400"/>
            </a:br>
            <a:r>
              <a:rPr b="1" lang="es-AR" sz="2400" spc="-1" strike="noStrike">
                <a:solidFill>
                  <a:srgbClr val="ff9900"/>
                </a:solidFill>
                <a:latin typeface="Verdana"/>
              </a:rPr>
              <a:t>Sector Servicios</a:t>
            </a:r>
            <a:r>
              <a:rPr b="1" lang="es-AR" sz="2400" spc="-1" strike="noStrike">
                <a:solidFill>
                  <a:srgbClr val="ef9b4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6080040"/>
            <a:ext cx="662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f9b49"/>
                </a:solidFill>
                <a:latin typeface="Verdana"/>
              </a:rPr>
              <a:t>Administración de Bienes, Valuaciones, Abastecimientos y C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51280" y="4581360"/>
          <a:ext cx="2838600" cy="3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81360"/>
                    <a:ext cx="2838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4EC6-F529-4989-86B9-6A99439C1F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Estructura Fun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9800" y="1592280"/>
            <a:ext cx="24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Verdana"/>
              </a:rPr>
              <a:t>Consultoría des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4216320"/>
            <a:ext cx="24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Verdana"/>
              </a:rPr>
              <a:t>Soporte centr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1208160"/>
            <a:ext cx="45370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Administración de Activos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Administración de Almac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Valu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Abaste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670200"/>
            <a:ext cx="45370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RRH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Generación de Doc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Administración In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2920" y="119700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5880" y="3716280"/>
            <a:ext cx="288720" cy="1657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E7E1-0234-4617-BD6C-799823491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¿Cómo Ent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9800" y="1197000"/>
            <a:ext cx="453708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2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anales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3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4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Socio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5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6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r las n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218592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Mayori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Minori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84720" y="2369880"/>
            <a:ext cx="504720" cy="142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13160"/>
            <a:ext cx="504720" cy="217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002B-AC9F-4438-A64D-0C09D8A61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Estrategia Come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276640"/>
            <a:ext cx="59407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2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ld </a:t>
            </a: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3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Revistas especi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4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gentes de pren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5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resentaciones púb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6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7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Expo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7EFC-F0CA-461F-B269-2C65DAB2C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Estrategia Come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26305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2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4b55"/>
                </a:solidFill>
                <a:latin typeface="Verdana"/>
              </a:rPr>
              <a:t>Cross-s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436840"/>
            <a:ext cx="331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mismo paí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funcional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funcional corpo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422440"/>
            <a:ext cx="289080" cy="935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9FB6-A073-4447-8D5E-957D022FA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¿Quién Ven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1640" y="1844640"/>
            <a:ext cx="5437080" cy="30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2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Vendedores capaci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3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Gerent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4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anales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5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6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7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SzPct val="123510"/>
              <a:buBlip>
                <a:blip r:embed="rId8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4b55"/>
                </a:solidFill>
                <a:latin typeface="Verdana"/>
              </a:rPr>
              <a:t>Socios de la 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EE4A-EBB3-4277-8A2D-C77C898F72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14560" y="3284640"/>
            <a:ext cx="489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9900"/>
                </a:solidFill>
                <a:latin typeface="Verdana"/>
              </a:rPr>
              <a:t>norberto.levin@levinglobal.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F295-B684-47BF-94C8-EC6BC6B47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240" y="1120680"/>
            <a:ext cx="6551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00"/>
                </a:solidFill>
                <a:latin typeface="Verdana"/>
              </a:rPr>
              <a:t>ADMINISTRACIÓN DE 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ormas, Procedimientos e Inventar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propiar Valores Histó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oftware Levin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utsour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00"/>
                </a:solidFill>
                <a:latin typeface="Verdana"/>
              </a:rPr>
              <a:t>ADMINISTRACIÓN DE ALMAC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ormas, Procedimientos e Inv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talogar y Dep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utsour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00"/>
                </a:solidFill>
                <a:latin typeface="Verdana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timizar 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oftware LevinB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utsour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00"/>
                </a:solidFill>
                <a:latin typeface="Verdana"/>
              </a:rPr>
              <a:t>VALU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Bienes de 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00"/>
                </a:solidFill>
                <a:latin typeface="Verdana"/>
              </a:rPr>
              <a:t>CRM (CUSTOMER RELATIONSHIP MANAG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LevinLinks: 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dministra relaciones empres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4B37-A8FD-4A0D-A7D7-A5E28A1EB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Evol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125360"/>
            <a:ext cx="6551640" cy="44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Verdana"/>
              </a:rPr>
              <a:t>1952-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Estudio argentino, 20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Verdana"/>
              </a:rPr>
              <a:t>1994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Ecu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7 millones 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180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Crecimiento 25% 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3460-1D98-4C68-83B3-C00E9FDEE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80000" y="122400"/>
            <a:ext cx="466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f9b49"/>
                </a:solidFill>
                <a:latin typeface="Verdana"/>
              </a:rPr>
              <a:t>Presencia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5373720"/>
            <a:ext cx="73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Argentina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Buenos Aire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Brasil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S</a:t>
            </a: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ã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o Paulo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Bolivia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La Paz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Ecuador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Quito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México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808080"/>
                </a:solidFill>
                <a:latin typeface="Verdana"/>
              </a:rPr>
              <a:t>México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 DF, Monterrey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China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Beijing, Zhaoqing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9900"/>
                </a:solidFill>
                <a:latin typeface="Verdana"/>
              </a:rPr>
              <a:t>Europa: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Verdana"/>
              </a:rPr>
              <a:t>Barcelona, Mad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35280" y="1125360"/>
            <a:ext cx="7167600" cy="4208760"/>
            <a:chOff x="1835280" y="1125360"/>
            <a:chExt cx="7167600" cy="42087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835280" y="1125360"/>
              <a:ext cx="7167600" cy="42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684520" y="297648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32320" y="389412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2040" y="4594320"/>
              <a:ext cx="9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55960" y="28130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República Dominica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49360" y="325440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El Salva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84400" y="3336840"/>
              <a:ext cx="762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Panamá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9440" y="33955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Venezue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3533760"/>
              <a:ext cx="83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Colomb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3718080"/>
              <a:ext cx="53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67000" y="4037040"/>
              <a:ext cx="838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Paragu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02160" y="4181400"/>
              <a:ext cx="68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82920" y="43657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Urugu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3890880" y="3341520"/>
              <a:ext cx="7164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3662280" y="3317760"/>
              <a:ext cx="7164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3381480" y="317484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3867120" y="4289400"/>
              <a:ext cx="71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349800" y="30290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Hond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3459240" y="313200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4008600" y="3282840"/>
              <a:ext cx="712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14800" y="3184560"/>
              <a:ext cx="95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Aru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Bon A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2519280"/>
              <a:ext cx="68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Alba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9"/>
            <a:stretch/>
          </p:blipFill>
          <p:spPr>
            <a:xfrm>
              <a:off x="5853240" y="252576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3533760" y="3211560"/>
              <a:ext cx="712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228760" y="317340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Guatema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1"/>
            <a:stretch/>
          </p:blipFill>
          <p:spPr>
            <a:xfrm>
              <a:off x="3454560" y="322272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2"/>
            <a:stretch/>
          </p:blipFill>
          <p:spPr>
            <a:xfrm>
              <a:off x="5938920" y="2395440"/>
              <a:ext cx="712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35760" y="2362320"/>
              <a:ext cx="806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Ruma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3"/>
            <a:stretch/>
          </p:blipFill>
          <p:spPr>
            <a:xfrm>
              <a:off x="3097080" y="288612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4"/>
            <a:stretch/>
          </p:blipFill>
          <p:spPr>
            <a:xfrm>
              <a:off x="3184560" y="3078000"/>
              <a:ext cx="1080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5"/>
            <a:stretch/>
          </p:blipFill>
          <p:spPr>
            <a:xfrm>
              <a:off x="4322880" y="403704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6"/>
            <a:stretch/>
          </p:blipFill>
          <p:spPr>
            <a:xfrm>
              <a:off x="4064040" y="445788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7"/>
            <a:stretch/>
          </p:blipFill>
          <p:spPr>
            <a:xfrm>
              <a:off x="4211640" y="436572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8"/>
            <a:stretch/>
          </p:blipFill>
          <p:spPr>
            <a:xfrm>
              <a:off x="4105440" y="411012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9"/>
            <a:stretch/>
          </p:blipFill>
          <p:spPr>
            <a:xfrm>
              <a:off x="3921120" y="393876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0"/>
            <a:stretch/>
          </p:blipFill>
          <p:spPr>
            <a:xfrm>
              <a:off x="3625920" y="3546360"/>
              <a:ext cx="10800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49560" y="347508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84680" y="378936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1"/>
            <a:stretch/>
          </p:blipFill>
          <p:spPr>
            <a:xfrm>
              <a:off x="7886880" y="2925720"/>
              <a:ext cx="10764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67520" y="256536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Ch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2"/>
            <a:stretch/>
          </p:blipFill>
          <p:spPr>
            <a:xfrm>
              <a:off x="5295960" y="2558880"/>
              <a:ext cx="10800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57800" y="264168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Españ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3"/>
            <a:stretch/>
          </p:blipFill>
          <p:spPr>
            <a:xfrm>
              <a:off x="3843360" y="303516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4"/>
            <a:stretch/>
          </p:blipFill>
          <p:spPr>
            <a:xfrm>
              <a:off x="3746520" y="3862440"/>
              <a:ext cx="7128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5"/>
            <a:stretch/>
          </p:blipFill>
          <p:spPr>
            <a:xfrm>
              <a:off x="5365800" y="2446200"/>
              <a:ext cx="1080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6"/>
            <a:stretch/>
          </p:blipFill>
          <p:spPr>
            <a:xfrm>
              <a:off x="7923240" y="242100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7"/>
            <a:stretch/>
          </p:blipFill>
          <p:spPr>
            <a:xfrm>
              <a:off x="3273480" y="2509920"/>
              <a:ext cx="108000" cy="1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427560" y="248616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Verdana"/>
                </a:rPr>
                <a:t>U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8"/>
            <a:stretch/>
          </p:blipFill>
          <p:spPr>
            <a:xfrm>
              <a:off x="6083280" y="2852640"/>
              <a:ext cx="712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189840" y="2801880"/>
              <a:ext cx="68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Egip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7732800" y="3460680"/>
              <a:ext cx="71280" cy="69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</p:pic>
        <p:sp>
          <p:nvSpPr>
            <p:cNvPr id="109" name=""/>
            <p:cNvSpPr/>
            <p:nvPr/>
          </p:nvSpPr>
          <p:spPr>
            <a:xfrm>
              <a:off x="7269120" y="3522600"/>
              <a:ext cx="685800" cy="122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Malas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30"/>
            <a:stretch/>
          </p:blipFill>
          <p:spPr>
            <a:xfrm>
              <a:off x="5664240" y="3618000"/>
              <a:ext cx="712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70440" y="3567240"/>
              <a:ext cx="68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Gab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1"/>
            <a:stretch/>
          </p:blipFill>
          <p:spPr>
            <a:xfrm>
              <a:off x="4135320" y="3137040"/>
              <a:ext cx="71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203720" y="3105000"/>
              <a:ext cx="68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Puerto R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56080" y="31114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800" spc="-1" strike="noStrike">
                  <a:solidFill>
                    <a:srgbClr val="000000"/>
                  </a:solidFill>
                  <a:latin typeface="Verdana"/>
                </a:rPr>
                <a:t>Nicaragu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0DC3-0198-4AD4-8434-A27BBC27D1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92360" y="314172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4655"/>
                </a:solidFill>
                <a:latin typeface="Verdana"/>
              </a:rPr>
              <a:t>Motivación: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7389-3F3E-4F85-B5C1-A651DA905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92360" y="314172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4655"/>
                </a:solidFill>
                <a:latin typeface="Verdana"/>
              </a:rPr>
              <a:t>Mercado Nacional/Interna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4A76-8C0D-4A97-9BCD-0A8842301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Mercado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2349360"/>
            <a:ext cx="45370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Medio O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(As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9800" y="17002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4b55"/>
              </a:buClr>
              <a:buSzPct val="120000"/>
              <a:buFont typeface="Wingdings" charset="2"/>
              <a:buChar char="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Latino A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3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Verdana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1589040"/>
            <a:ext cx="24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600" spc="-1" strike="noStrike">
                <a:solidFill>
                  <a:srgbClr val="004b55"/>
                </a:solidFill>
                <a:latin typeface="Verdana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580000" y="1773000"/>
            <a:ext cx="504720" cy="142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1916280"/>
            <a:ext cx="504720" cy="217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F0BC-A37E-4008-B443-FBBA9B2D8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Estructura 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6560" y="1773360"/>
            <a:ext cx="655308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3333cc"/>
              </a:buClr>
              <a:buSzPct val="120000"/>
              <a:buFont typeface="Verdana"/>
              <a:buAutoNum type="arabicPeriod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Exportación desde Sociedad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468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3333cc"/>
              </a:buClr>
              <a:buSzPct val="120000"/>
              <a:buFont typeface="Verdana"/>
              <a:buAutoNum type="arabicPeriod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Sucur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468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3333cc"/>
              </a:buClr>
              <a:buSzPct val="120000"/>
              <a:buFont typeface="Verdana"/>
              <a:buAutoNum type="arabicPeriod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Sociedade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468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4b55"/>
              </a:buClr>
              <a:buSzPct val="120000"/>
              <a:buFont typeface="Verdana"/>
              <a:buAutoNum type="arabicPeriod"/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4b55"/>
                </a:solidFill>
                <a:latin typeface="Verdana"/>
              </a:rPr>
              <a:t>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7D8B-F1D7-4FF3-9E77-9D4CDDA23B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38600" y="133200"/>
            <a:ext cx="47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9b49"/>
                </a:solidFill>
                <a:latin typeface="Verdana"/>
              </a:rPr>
              <a:t>Standards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9800" y="2846520"/>
            <a:ext cx="4537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2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4b55"/>
                </a:solidFill>
                <a:latin typeface="Verdana"/>
              </a:rPr>
              <a:t>ISO 9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SzPct val="123510"/>
              <a:buBlip>
                <a:blip r:embed="rId3"/>
              </a:buBlip>
              <a:tabLst>
                <a:tab algn="l" pos="1795320"/>
                <a:tab algn="l" pos="3591000"/>
                <a:tab algn="l" pos="5386320"/>
                <a:tab algn="l" pos="7182000"/>
                <a:tab algn="l" pos="8977320"/>
                <a:tab algn="l" pos="10772640"/>
              </a:tabLst>
            </a:pPr>
            <a:r>
              <a:rPr b="1" lang="es-ES_tradnl" sz="1800" spc="-1" strike="noStrike">
                <a:solidFill>
                  <a:srgbClr val="004b55"/>
                </a:solidFill>
                <a:latin typeface="Verdana"/>
              </a:rPr>
              <a:t>CM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8F7B-E166-4D11-A71B-EC99AF2AF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7:40:19Z</dcterms:created>
  <dc:creator>MARIO MINTZ</dc:creator>
  <dc:description/>
  <dc:language>en-US</dc:language>
  <cp:lastModifiedBy>Congresos y Eventos</cp:lastModifiedBy>
  <dcterms:modified xsi:type="dcterms:W3CDTF">2006-11-21T20:43:57Z</dcterms:modified>
  <cp:revision>42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