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A60-807C-404B-9614-0F103BDD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AD2-B2EC-4511-B3E9-B75C0983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FFD-2D22-4E19-B384-3B01F0D2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4F7-C880-48F1-9BEB-1B8CCF3B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073-61C1-426A-ACDF-E77AD1F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1A0-0623-4BFD-9533-E4494F4F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C0C-60AB-4F8B-A7C2-CFBA4250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B7C-AE5E-4ABF-9768-F48B59F5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41B-F50A-413D-8761-EE8D7EE8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827-37BA-42D1-A14E-5E4B8A0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7B2-DA9B-4429-97B3-8CCD21C9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9FB-3A1E-4B1B-9466-FF6A7793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B291-65AE-41EA-AF09-9151B340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859960" y="6470640"/>
            <a:ext cx="104616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mailto:cepa@aviculturaargentina.com.ar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249"/>
              </a:spcBef>
              <a:spcAft>
                <a:spcPts val="4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V Simposio sobre Comercio Exterior e Integración</a:t>
            </a:r>
            <a:br>
              <a:rPr sz="2800"/>
            </a:b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“Protagonismo privado ante los escenarios que devienen”</a:t>
            </a:r>
            <a:br>
              <a:rPr sz="4000"/>
            </a:br>
            <a:br>
              <a:rPr sz="4000"/>
            </a:br>
            <a:r>
              <a:rPr b="1" i="1" lang="es-ES" sz="4000" spc="-1" strike="noStrike">
                <a:solidFill>
                  <a:srgbClr val="ff3300"/>
                </a:solidFill>
                <a:latin typeface="Arial"/>
                <a:ea typeface="Arial"/>
              </a:rPr>
              <a:t>“Desarrollo del Comercio Exterior, Ventas y Oportunidades en la</a:t>
            </a:r>
            <a:br>
              <a:rPr sz="4000"/>
            </a:br>
            <a:r>
              <a:rPr b="1" i="1" lang="es-ES" sz="4000" spc="-1" strike="noStrike">
                <a:solidFill>
                  <a:srgbClr val="ff3300"/>
                </a:solidFill>
                <a:latin typeface="Arial"/>
                <a:ea typeface="Arial"/>
              </a:rPr>
              <a:t>Avicultura Argentina de Carne”</a:t>
            </a:r>
            <a:br>
              <a:rPr sz="40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udad Autónoma de Buenos Aires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pública Argenti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3 y 24 de noviembre d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63868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cc33"/>
                </a:solidFill>
                <a:latin typeface="Tahoma"/>
              </a:rPr>
              <a:t>Centro de Empresas Procesadoras Avícolas -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5880"/>
            <a:ext cx="9372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Roberto Domen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Presi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040520" y="260280"/>
            <a:ext cx="2665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rticipación en las Exportaciones por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en toneladas)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nero-Septiembre 2006 (104,857 tonel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0080" y="1440"/>
          <a:ext cx="7315200" cy="30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80" y="1440"/>
                    <a:ext cx="731520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603520" y="2763720"/>
          <a:ext cx="7194600" cy="3915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3520" y="2763720"/>
                    <a:ext cx="71946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72880" y="4005360"/>
            <a:ext cx="309564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rticipación en las Exportaciones por Destino (en u$sF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nero-Septiembre 2006 (97,8 millones de u$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33920" y="2971800"/>
            <a:ext cx="3352680" cy="1295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Avicul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443880"/>
            <a:ext cx="3422520" cy="2603880"/>
            <a:chOff x="2819520" y="443880"/>
            <a:chExt cx="3422520" cy="2603880"/>
          </a:xfrm>
        </p:grpSpPr>
        <p:sp>
          <p:nvSpPr>
            <p:cNvPr id="108" name=""/>
            <p:cNvSpPr/>
            <p:nvPr/>
          </p:nvSpPr>
          <p:spPr>
            <a:xfrm>
              <a:off x="2819520" y="443880"/>
              <a:ext cx="3422520" cy="99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Status Sanitario Opti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4800240" y="1447560"/>
              <a:ext cx="304920" cy="1600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2832120"/>
            <a:ext cx="3809880" cy="1854360"/>
            <a:chOff x="0" y="2832120"/>
            <a:chExt cx="3809880" cy="1854360"/>
          </a:xfrm>
        </p:grpSpPr>
        <p:sp>
          <p:nvSpPr>
            <p:cNvPr id="111" name=""/>
            <p:cNvSpPr/>
            <p:nvPr/>
          </p:nvSpPr>
          <p:spPr>
            <a:xfrm>
              <a:off x="0" y="2832120"/>
              <a:ext cx="3505320" cy="1854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Poseemos reservas de petróleo, gas y agu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429000" y="3809880"/>
              <a:ext cx="38088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80880" y="1405440"/>
            <a:ext cx="4114080" cy="1566000"/>
            <a:chOff x="380880" y="1405440"/>
            <a:chExt cx="4114080" cy="1566000"/>
          </a:xfrm>
        </p:grpSpPr>
        <p:sp>
          <p:nvSpPr>
            <p:cNvPr id="114" name=""/>
            <p:cNvSpPr/>
            <p:nvPr/>
          </p:nvSpPr>
          <p:spPr>
            <a:xfrm>
              <a:off x="380880" y="1405440"/>
              <a:ext cx="3516120" cy="142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Convertidor más eficiente de Proteína Veg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3672360" y="2394720"/>
              <a:ext cx="822600" cy="576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867280" y="291600"/>
            <a:ext cx="3046680" cy="2680200"/>
            <a:chOff x="5867280" y="291600"/>
            <a:chExt cx="3046680" cy="2680200"/>
          </a:xfrm>
        </p:grpSpPr>
        <p:sp>
          <p:nvSpPr>
            <p:cNvPr id="117" name=""/>
            <p:cNvSpPr/>
            <p:nvPr/>
          </p:nvSpPr>
          <p:spPr>
            <a:xfrm>
              <a:off x="6402240" y="291600"/>
              <a:ext cx="2511720" cy="99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Tenemos Maíz y So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867280" y="1127160"/>
              <a:ext cx="933480" cy="1844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105520" y="4267080"/>
            <a:ext cx="3733560" cy="1359720"/>
            <a:chOff x="5105520" y="4267080"/>
            <a:chExt cx="3733560" cy="1359720"/>
          </a:xfrm>
        </p:grpSpPr>
        <p:sp>
          <p:nvSpPr>
            <p:cNvPr id="120" name=""/>
            <p:cNvSpPr/>
            <p:nvPr/>
          </p:nvSpPr>
          <p:spPr>
            <a:xfrm>
              <a:off x="5105520" y="4635000"/>
              <a:ext cx="3733560" cy="99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Calidad es cumplir requeri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714640" y="4267080"/>
              <a:ext cx="30456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920" y="4038120"/>
            <a:ext cx="3886200" cy="1664640"/>
            <a:chOff x="304920" y="4038120"/>
            <a:chExt cx="3886200" cy="1664640"/>
          </a:xfrm>
        </p:grpSpPr>
        <p:sp>
          <p:nvSpPr>
            <p:cNvPr id="123" name=""/>
            <p:cNvSpPr/>
            <p:nvPr/>
          </p:nvSpPr>
          <p:spPr>
            <a:xfrm>
              <a:off x="304920" y="4710960"/>
              <a:ext cx="3656160" cy="99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Tenemos mano de obra calific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353040" y="4038120"/>
              <a:ext cx="838080" cy="7621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24080" y="4393800"/>
            <a:ext cx="3581640" cy="2477160"/>
            <a:chOff x="3124080" y="4393800"/>
            <a:chExt cx="3581640" cy="2477160"/>
          </a:xfrm>
        </p:grpSpPr>
        <p:sp>
          <p:nvSpPr>
            <p:cNvPr id="126" name=""/>
            <p:cNvSpPr/>
            <p:nvPr/>
          </p:nvSpPr>
          <p:spPr>
            <a:xfrm>
              <a:off x="3124080" y="5448240"/>
              <a:ext cx="3581640" cy="142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Estamos en un Proceso de Inversión Continu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4419360" y="4393800"/>
              <a:ext cx="228600" cy="10666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629400" y="1434960"/>
            <a:ext cx="3276720" cy="1689120"/>
            <a:chOff x="6629400" y="1434960"/>
            <a:chExt cx="3276720" cy="1689120"/>
          </a:xfrm>
        </p:grpSpPr>
        <p:sp>
          <p:nvSpPr>
            <p:cNvPr id="129" name=""/>
            <p:cNvSpPr/>
            <p:nvPr/>
          </p:nvSpPr>
          <p:spPr>
            <a:xfrm>
              <a:off x="6937200" y="1434960"/>
              <a:ext cx="2968920" cy="1422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Tenemos Territorios Ap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29400" y="2666880"/>
              <a:ext cx="533520" cy="457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58000" y="2886120"/>
            <a:ext cx="3046320" cy="1854360"/>
            <a:chOff x="6858000" y="2886120"/>
            <a:chExt cx="3046320" cy="1854360"/>
          </a:xfrm>
        </p:grpSpPr>
        <p:sp>
          <p:nvSpPr>
            <p:cNvPr id="132" name=""/>
            <p:cNvSpPr/>
            <p:nvPr/>
          </p:nvSpPr>
          <p:spPr>
            <a:xfrm>
              <a:off x="7238880" y="2886120"/>
              <a:ext cx="2665440" cy="1854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000" spc="-1" strike="noStrike">
                  <a:solidFill>
                    <a:srgbClr val="000000"/>
                  </a:solidFill>
                  <a:latin typeface="Arial"/>
                </a:rPr>
                <a:t>La Carne de Aves es la más export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58000" y="4038480"/>
              <a:ext cx="3808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495680" y="60480"/>
            <a:ext cx="4711680" cy="3730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7800" y="990720"/>
            <a:ext cx="3549600" cy="761760"/>
          </a:xfrm>
          <a:prstGeom prst="wedgeEllipseCallout">
            <a:avLst>
              <a:gd name="adj1" fmla="val 104652"/>
              <a:gd name="adj2" fmla="val 50208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U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0" y="2133720"/>
            <a:ext cx="3632040" cy="761760"/>
          </a:xfrm>
          <a:prstGeom prst="wedgeEllipseCallout">
            <a:avLst>
              <a:gd name="adj1" fmla="val 140768"/>
              <a:gd name="adj2" fmla="val -65208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895480" y="3733920"/>
            <a:ext cx="4254120" cy="1385640"/>
            <a:chOff x="2895480" y="3733920"/>
            <a:chExt cx="4254120" cy="138564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2895480" y="3733920"/>
              <a:ext cx="901080" cy="13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3775680" y="4010040"/>
              <a:ext cx="3373920" cy="109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103320" y="5486400"/>
            <a:ext cx="9802800" cy="965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Tahoma"/>
              </a:rPr>
              <a:t>Corrientes 119 Piso 5º Oficina 515/516 – Ciudad de Buenos 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Tahoma"/>
              </a:rPr>
              <a:t>4314-0380 / 1506 / 4311-73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s-ES_tradnl" sz="19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cepa@aviculturaargentina.com.ar</a:t>
            </a:r>
            <a:r>
              <a:rPr b="1" i="1" lang="es-ES_tradnl" sz="1900" spc="-1" strike="noStrike">
                <a:solidFill>
                  <a:srgbClr val="000000"/>
                </a:solidFill>
                <a:latin typeface="Tahoma"/>
              </a:rPr>
              <a:t> url: www.aviculturaargentina.com.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181480"/>
            <a:ext cx="9080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s-ES_tradnl" sz="1900" spc="-1" strike="noStrike">
                <a:solidFill>
                  <a:srgbClr val="66ff33"/>
                </a:solidFill>
                <a:latin typeface="Tahoma"/>
              </a:rPr>
              <a:t>Centro de Empresas Procesadoras Avícolas - Argenti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9372600" cy="86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e3b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666ff"/>
                </a:solidFill>
                <a:latin typeface="Arial"/>
              </a:rPr>
              <a:t>Incapacidad para administrar los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590920"/>
            <a:ext cx="190512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3300"/>
                </a:solidFill>
                <a:latin typeface="Arial"/>
              </a:rPr>
              <a:t>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800"/>
            <a:ext cx="9372600" cy="868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e3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666ff"/>
                </a:solidFill>
                <a:latin typeface="Arial"/>
              </a:rPr>
              <a:t>Irregularidad compulsiva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4840" y="12952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295280"/>
            <a:ext cx="0" cy="121932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0" cy="121896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638680" y="1294920"/>
            <a:ext cx="0" cy="121932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62720" y="3733920"/>
            <a:ext cx="0" cy="121896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2590920"/>
            <a:ext cx="30481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3300"/>
                </a:solidFill>
                <a:latin typeface="Arial"/>
              </a:rPr>
              <a:t>Coyun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680" y="2590920"/>
            <a:ext cx="28065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3300"/>
                </a:solidFill>
                <a:latin typeface="Arial"/>
              </a:rPr>
              <a:t>Urg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04812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9192960" cy="586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3300"/>
                </a:solidFill>
                <a:latin typeface="Arial"/>
              </a:rPr>
              <a:t>Una Avicultura previsible, competitiva y sustentable debe tener </a:t>
            </a:r>
            <a:r>
              <a:rPr b="1" i="1" lang="es-ES_tradnl" sz="5400" spc="-1" strike="noStrike" u="sng">
                <a:solidFill>
                  <a:srgbClr val="ff3300"/>
                </a:solidFill>
                <a:uFillTx/>
                <a:latin typeface="Arial"/>
              </a:rPr>
              <a:t>una participación constante en la exportación</a:t>
            </a:r>
            <a:r>
              <a:rPr b="1" i="1" lang="es-ES_tradnl" sz="5400" spc="-1" strike="noStrike">
                <a:solidFill>
                  <a:srgbClr val="ff3300"/>
                </a:solidFill>
                <a:latin typeface="Arial"/>
              </a:rPr>
              <a:t> y </a:t>
            </a:r>
            <a:r>
              <a:rPr b="1" i="1" lang="es-ES_tradnl" sz="5400" spc="-1" strike="noStrike" u="sng">
                <a:solidFill>
                  <a:srgbClr val="ff3300"/>
                </a:solidFill>
                <a:uFillTx/>
                <a:latin typeface="Arial"/>
              </a:rPr>
              <a:t>significativa en relación a su producc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49600" y="2590920"/>
            <a:ext cx="2724120" cy="12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680" y="5257800"/>
            <a:ext cx="937260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e3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666ff"/>
                </a:solidFill>
                <a:latin typeface="Arial"/>
              </a:rPr>
              <a:t>Irregularidad compulsiva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666ff"/>
                </a:solidFill>
                <a:latin typeface="Arial"/>
              </a:rPr>
              <a:t>CRECIMIENTO SUSTE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4840" y="12952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9200" y="2590920"/>
            <a:ext cx="2806920" cy="121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Coyun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PLAN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590920"/>
            <a:ext cx="2641680" cy="1218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Urg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MONITO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24120" y="3200400"/>
            <a:ext cx="6858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73720" y="3200400"/>
            <a:ext cx="68436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486400"/>
            <a:ext cx="701676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64440" y="2819520"/>
            <a:ext cx="2311200" cy="0"/>
          </a:xfrm>
          <a:prstGeom prst="line">
            <a:avLst/>
          </a:prstGeom>
          <a:ln w="88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7680" y="2819520"/>
            <a:ext cx="2311200" cy="0"/>
          </a:xfrm>
          <a:prstGeom prst="line">
            <a:avLst/>
          </a:prstGeom>
          <a:ln w="88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22760" y="1523880"/>
            <a:ext cx="0" cy="8384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83360" y="1523520"/>
            <a:ext cx="0" cy="8384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5200" y="3886200"/>
            <a:ext cx="0" cy="838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365800" y="3886200"/>
            <a:ext cx="0" cy="8380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4960" y="2819520"/>
            <a:ext cx="1816200" cy="0"/>
          </a:xfrm>
          <a:prstGeom prst="line">
            <a:avLst/>
          </a:prstGeom>
          <a:ln w="889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304920"/>
            <a:ext cx="93726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e3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6666ff"/>
                </a:solidFill>
                <a:latin typeface="Arial"/>
              </a:rPr>
              <a:t>Incapacidad para administrar los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666ff"/>
                </a:solidFill>
                <a:latin typeface="Arial"/>
              </a:rPr>
              <a:t>EXPOR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50960" y="609480"/>
            <a:ext cx="701676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9800" y="260280"/>
            <a:ext cx="9705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"/>
              </a:rPr>
              <a:t>ARGENTINA - PROYECTO DE CRECIMIENTO </a:t>
            </a:r>
            <a:br>
              <a:rPr sz="3600"/>
            </a:b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(en miles de Tonel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836640"/>
          <a:ext cx="9906120" cy="57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99061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925720" y="1557360"/>
            <a:ext cx="10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8760" y="6521400"/>
            <a:ext cx="444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elaborado por CEPA con datos pro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1000" y="838080"/>
            <a:ext cx="9250200" cy="5791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Aprender, Aceptar y Adapt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Promover a un único standard de calidad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Intensificar el aseguramiento de Calidad y completar 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os Proyectos de Trazabilidad total por segmentos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Capacitación y Formación de Recurs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Articular entre Autoridades Nacionales, Provinciales y el SENASA los Programas de Sanidad para mantener el actual estatus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Inversión para el 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Crecimiento 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en</a:t>
            </a: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 Infraestructura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 y Fina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Apertura de Mercados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Zonificación Sanitaria Nacional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Arial"/>
              </a:rPr>
              <a:t>Zonificación Industrial Provincial – Municipal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Comunicación – Inserción Pol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Capacidad de reacción para tomar la oportunidad</a:t>
            </a:r>
            <a:r>
              <a:rPr b="1" i="1" lang="es-ES_tradnl" sz="2400" spc="-1" strike="noStrike" u="sng">
                <a:solidFill>
                  <a:srgbClr val="66ff33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372600" cy="533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e3b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6666ff"/>
                </a:solidFill>
                <a:latin typeface="Arial"/>
              </a:rPr>
              <a:t>Objetivos Estratégicos definidos y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9800" y="260280"/>
            <a:ext cx="9705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"/>
              </a:rPr>
              <a:t>Evolución de las Exportaciones </a:t>
            </a:r>
            <a:br>
              <a:rPr sz="3600"/>
            </a:b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(en miles de Tonel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9680" y="981000"/>
          <a:ext cx="960120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680" y="981000"/>
                    <a:ext cx="96012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925720" y="1557360"/>
            <a:ext cx="10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6521400"/>
            <a:ext cx="444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elaborado por CEPA con datos pro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632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XPORTACIONES/MERCAD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2005/2008/2010 (en tonel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094280" y="2425680"/>
          <a:ext cx="5811840" cy="24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94280" y="2425680"/>
                    <a:ext cx="581184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4653000"/>
          <a:ext cx="6461280" cy="1984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653000"/>
                    <a:ext cx="64612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0" y="476280"/>
          <a:ext cx="5600880" cy="25909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76280"/>
                    <a:ext cx="56008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280840" y="888840"/>
            <a:ext cx="2001960" cy="39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ño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2840" y="6002280"/>
            <a:ext cx="2001960" cy="39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4120" y="3697200"/>
            <a:ext cx="2001960" cy="39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ñ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0160" y="274680"/>
            <a:ext cx="943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Exportaciones Comparadas</a:t>
            </a:r>
            <a:br>
              <a:rPr sz="36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Enero-Octubre 2006 vs Enero-Octubre 2005</a:t>
            </a:r>
            <a:br>
              <a:rPr sz="2000"/>
            </a:b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en u$s FOB y tonel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3320" y="1212840"/>
          <a:ext cx="9731160" cy="564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320" y="1212840"/>
                    <a:ext cx="973116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19:59:26Z</dcterms:created>
  <dc:creator>Cepa</dc:creator>
  <dc:description/>
  <dc:language>en-US</dc:language>
  <cp:lastModifiedBy>Congresos y Eventos</cp:lastModifiedBy>
  <dcterms:modified xsi:type="dcterms:W3CDTF">2006-11-21T20:43:28Z</dcterms:modified>
  <cp:revision>37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1782426</vt:r8>
  </property>
  <property fmtid="{D5CDD505-2E9C-101B-9397-08002B2CF9AE}" pid="3" name="_AuthorEmail">
    <vt:lpwstr>cepa@aviculturaargentina.com.ar</vt:lpwstr>
  </property>
  <property fmtid="{D5CDD505-2E9C-101B-9397-08002B2CF9AE}" pid="4" name="_AuthorEmailDisplayName">
    <vt:lpwstr>Centro de Empresas Procesadoras Avícolas</vt:lpwstr>
  </property>
  <property fmtid="{D5CDD505-2E9C-101B-9397-08002B2CF9AE}" pid="5" name="_EmailSubject">
    <vt:lpwstr>IV Simposio de Comercio exterior - Cpcecaba</vt:lpwstr>
  </property>
</Properties>
</file>