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804204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50680" y="3929400"/>
            <a:ext cx="804204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9294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1600" y="39294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760" y="15048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8480" y="15048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50680" y="39294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9760" y="39294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8480" y="39294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105C-F5D7-480C-B5B7-6696D61B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0680" y="1504800"/>
            <a:ext cx="80420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3515-982D-4316-869D-A1D7ECE5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80420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CC92-0DAD-4811-96BE-56571D6D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8E8E-7412-425A-8C8B-07C33F78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F8A7-1F03-4B6F-AFAA-E8188D54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63640" y="301320"/>
            <a:ext cx="8029440" cy="42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Tele-GroteskNo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3D2D-9BA4-421E-8632-EF81F146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50680" y="39294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F1DC-E593-4331-BD69-2039D1B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50680" y="1504800"/>
            <a:ext cx="80420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Tele-GroteskNo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1600" y="39294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11D6-681E-48FE-B9C0-260583E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50680" y="3929400"/>
            <a:ext cx="804204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6017-ECAE-4264-94B7-0D29F40C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804204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50680" y="3929400"/>
            <a:ext cx="804204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6E9F-BB5E-4B50-B582-571F7E0E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0680" y="39294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1600" y="39294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C792-F1D8-4714-980E-14DAF03B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760" y="15048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8480" y="15048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50680" y="39294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760" y="39294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88480" y="3929400"/>
            <a:ext cx="258912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DA57-2970-49C4-AA98-F6AF4CD2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80420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63640" y="301320"/>
            <a:ext cx="8029440" cy="42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Tele-GroteskNo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50680" y="39294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1600" y="39294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1600" y="1504800"/>
            <a:ext cx="392436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50680" y="3929400"/>
            <a:ext cx="8042040" cy="221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51452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Click to edit the title text format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0680" y="1504800"/>
            <a:ext cx="80420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1" marL="806400" indent="-26676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2" marL="13446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3" marL="1882800" indent="-26676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4" marL="24210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5" marL="24210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6" marL="24210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589" t="0" r="0" b="0"/>
          <a:stretch/>
        </p:blipFill>
        <p:spPr>
          <a:xfrm>
            <a:off x="0" y="6392880"/>
            <a:ext cx="481968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>
            <a:lum contrast="6000"/>
          </a:blip>
          <a:srcRect l="0" t="0" r="0" b="10434"/>
          <a:stretch/>
        </p:blipFill>
        <p:spPr>
          <a:xfrm>
            <a:off x="0" y="-1440"/>
            <a:ext cx="9144000" cy="61466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>
            <a:lum bright="-24000"/>
          </a:blip>
          <a:srcRect l="3137" t="10886" r="0" b="0"/>
          <a:stretch/>
        </p:blipFill>
        <p:spPr>
          <a:xfrm>
            <a:off x="4403880" y="2093760"/>
            <a:ext cx="4248000" cy="3700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ldNum" idx="1"/>
          </p:nvPr>
        </p:nvSpPr>
        <p:spPr>
          <a:xfrm>
            <a:off x="6306840" y="6618240"/>
            <a:ext cx="2087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666666"/>
                </a:solidFill>
                <a:latin typeface="Tele-GroteskHal"/>
              </a:defRPr>
            </a:lvl1pPr>
          </a:lstStyle>
          <a:p>
            <a:pPr indent="0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Seite </a:t>
            </a:r>
            <a:fld id="{0FAEA851-8AAD-419A-8993-34BFDBB1BFF5}" type="slidenum"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308280" y="6392880"/>
            <a:ext cx="2087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666666"/>
                </a:solidFill>
                <a:latin typeface="Tele-GroteskHal"/>
              </a:defRPr>
            </a:lvl1pPr>
          </a:lstStyle>
          <a:p>
            <a:pPr indent="0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ele-GroteskH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306840" y="6505560"/>
            <a:ext cx="208764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666666"/>
                </a:solidFill>
                <a:latin typeface="Tele-GroteskHal"/>
              </a:defRPr>
            </a:lvl1pPr>
          </a:lstStyle>
          <a:p>
            <a:pPr indent="0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61480" y="2918880"/>
            <a:ext cx="7526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20074"/>
                </a:solidFill>
                <a:latin typeface="Tele-Antiqua"/>
              </a:rPr>
              <a:t>Click to edit the title text format</a:t>
            </a:r>
            <a:endParaRPr b="0" lang="en-US" sz="34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rcRect l="589" t="0" r="0" b="0"/>
          <a:stretch/>
        </p:blipFill>
        <p:spPr>
          <a:xfrm>
            <a:off x="0" y="6392880"/>
            <a:ext cx="4819680" cy="395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ele-GroteskNor"/>
              </a:rPr>
              <a:t>Click to edit the outline text format</a:t>
            </a:r>
            <a:endParaRPr b="0" lang="en-US" sz="1800" spc="-1" strike="noStrike">
              <a:solidFill>
                <a:srgbClr val="666666"/>
              </a:solidFill>
              <a:latin typeface="Tele-GroteskNor"/>
            </a:endParaRPr>
          </a:p>
          <a:p>
            <a:pPr lvl="1" indent="0" algn="ctr">
              <a:lnSpc>
                <a:spcPct val="9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2" algn="ctr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3" algn="ctr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4" algn="ctr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5">
              <a:spcBef>
                <a:spcPts val="55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6">
              <a:spcBef>
                <a:spcPts val="55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52480" y="4167360"/>
            <a:ext cx="75358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ele-GroteskNor"/>
              </a:rPr>
              <a:t>Martin Den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ele-GroteskNor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1480" y="2855520"/>
            <a:ext cx="7526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e20074"/>
                </a:solidFill>
                <a:latin typeface="Tele-Antiqua"/>
              </a:rPr>
              <a:t>T-Systems</a:t>
            </a:r>
            <a:r>
              <a:rPr b="0" lang="de-DE" sz="3000" spc="-1" strike="noStrike">
                <a:solidFill>
                  <a:srgbClr val="e20074"/>
                </a:solidFill>
                <a:latin typeface="Tele-Antiqua"/>
              </a:rPr>
              <a:t>.</a:t>
            </a:r>
            <a:br>
              <a:rPr sz="3000"/>
            </a:br>
            <a:r>
              <a:rPr b="0" lang="de-DE" sz="2800" spc="-1" strike="noStrike">
                <a:solidFill>
                  <a:srgbClr val="e20074"/>
                </a:solidFill>
                <a:latin typeface="Tele-Antiqua"/>
              </a:rPr>
              <a:t>Consejo Profesional de Ciencias Económicas</a:t>
            </a:r>
            <a:br>
              <a:rPr sz="2800"/>
            </a:br>
            <a:r>
              <a:rPr b="0" lang="de-DE" sz="2800" spc="-1" strike="noStrike">
                <a:solidFill>
                  <a:srgbClr val="e20074"/>
                </a:solidFill>
                <a:latin typeface="Tele-Antiqua"/>
              </a:rPr>
              <a:t>IV Simposio de Comercio exterior e integración</a:t>
            </a:r>
            <a:endParaRPr b="0" lang="en-US" sz="28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6313320" y="6402240"/>
            <a:ext cx="25797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Consejo Profesional de Ccias Económicas Nov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Pa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Exportaciones de T-Systems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80420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ele-GroteskNor"/>
              </a:rPr>
              <a:t>Programación</a:t>
            </a: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: Europa y Paises Hispanoparlantes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2" marL="13446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800K Euros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marL="2682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Mesa de Ayuda: America Latina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2" marL="13446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ele-GroteskNor"/>
              </a:rPr>
              <a:t>200K Euros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marL="2682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ele-GroteskNor"/>
              </a:rPr>
              <a:t>Mesa de Ayuda España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2" marL="13446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ele-GroteskNor"/>
              </a:rPr>
              <a:t>200K Euros*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marL="2682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Mantenimiento de Aplicaciones Paises Hispanoparlantes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marL="268200"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Exportaciones T-Systems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50680" y="1504800"/>
            <a:ext cx="80420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Porque Argentina?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1" marL="806400" indent="-26676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Indicadores de estabilidad y crecimiento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1" marL="806400" indent="-26676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Recursos Capacitados y con Conocimiento de Procesos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1" marL="806400" indent="-26676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ele-GroteskNor"/>
              </a:rPr>
              <a:t>Factor Precio</a:t>
            </a: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  <a:p>
            <a:pPr lvl="1" marL="806400"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024760" y="2556000"/>
            <a:ext cx="978120" cy="3462120"/>
          </a:xfrm>
          <a:prstGeom prst="rect">
            <a:avLst/>
          </a:prstGeom>
          <a:gradFill rotWithShape="0">
            <a:gsLst>
              <a:gs pos="0">
                <a:srgbClr val="005258"/>
              </a:gs>
              <a:gs pos="100000">
                <a:srgbClr val="3576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03840" y="2556000"/>
            <a:ext cx="978120" cy="3462120"/>
          </a:xfrm>
          <a:prstGeom prst="rect">
            <a:avLst/>
          </a:prstGeom>
          <a:gradFill rotWithShape="0">
            <a:gsLst>
              <a:gs pos="0">
                <a:srgbClr val="005258"/>
              </a:gs>
              <a:gs pos="100000">
                <a:srgbClr val="3576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4600" y="2573280"/>
            <a:ext cx="978120" cy="3462480"/>
          </a:xfrm>
          <a:prstGeom prst="rect">
            <a:avLst/>
          </a:prstGeom>
          <a:gradFill rotWithShape="0">
            <a:gsLst>
              <a:gs pos="0">
                <a:srgbClr val="005258"/>
              </a:gs>
              <a:gs pos="100000">
                <a:srgbClr val="3576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4600" y="323064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8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63640" y="473040"/>
            <a:ext cx="8029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e20074"/>
                </a:solidFill>
                <a:latin typeface="Tele-Antiqua"/>
              </a:rPr>
              <a:t>Human development index trends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56000"/>
            <a:ext cx="94140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32080"/>
            <a:ext cx="121428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59200"/>
            <a:ext cx="121428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le-GroteskNor"/>
              </a:rPr>
              <a:t>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35080" y="2556000"/>
            <a:ext cx="977760" cy="3462120"/>
          </a:xfrm>
          <a:prstGeom prst="rect">
            <a:avLst/>
          </a:prstGeom>
          <a:gradFill rotWithShape="0">
            <a:gsLst>
              <a:gs pos="0">
                <a:srgbClr val="005258"/>
              </a:gs>
              <a:gs pos="100000">
                <a:srgbClr val="3576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853160"/>
            <a:ext cx="1135080" cy="46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Braz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50040"/>
            <a:ext cx="1135080" cy="46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35080" y="155736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2125800"/>
            <a:ext cx="7963200" cy="347400"/>
          </a:xfrm>
          <a:prstGeom prst="rect">
            <a:avLst/>
          </a:prstGeom>
          <a:solidFill>
            <a:srgbClr val="849b9c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Fet"/>
              </a:rPr>
              <a:t>High hum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70160" y="155736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4600" y="155736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2640" y="155268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05640" y="155268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61240" y="155268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3320" y="155268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257328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8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71600" y="257328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8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6400" y="257328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9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64080" y="256860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07080" y="256860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9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62680" y="256860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9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24760" y="256860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35080" y="323064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ele-GroteskFet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0160" y="323064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8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62640" y="322596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8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05640" y="322596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9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61240" y="322596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ele-GroteskFet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23320" y="322596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9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6520" y="386388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Fet"/>
              </a:rPr>
              <a:t>0.7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71600" y="386388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Fet"/>
              </a:rPr>
              <a:t>0.8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6400" y="386388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Fet"/>
              </a:rPr>
              <a:t>0.8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64080" y="385920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Fet"/>
              </a:rPr>
              <a:t>0.8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7080" y="385920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Fet"/>
              </a:rPr>
              <a:t>0.8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62680" y="385920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Fet"/>
              </a:rPr>
              <a:t>0.8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24760" y="385920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Fet"/>
              </a:rPr>
              <a:t>0.8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5080" y="485784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6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70160" y="485784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6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14600" y="485784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6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62640" y="485316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7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05640" y="485316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7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61240" y="485316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7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23320" y="4853160"/>
            <a:ext cx="976320" cy="49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7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35080" y="546084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4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70160" y="546084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4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4600" y="546084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4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62640" y="545616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05640" y="545616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5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61240" y="545616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5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3320" y="5456160"/>
            <a:ext cx="976320" cy="49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Fet"/>
              </a:rPr>
              <a:t>0.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6520" y="4433760"/>
            <a:ext cx="7963200" cy="347760"/>
          </a:xfrm>
          <a:prstGeom prst="rect">
            <a:avLst/>
          </a:prstGeom>
          <a:solidFill>
            <a:srgbClr val="849b9c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Fet"/>
              </a:rPr>
              <a:t>Medium hum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6402240"/>
            <a:ext cx="25797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Consejo Profesional de Ccias Económicas Nov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Pa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Human development index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7" name=""/>
          <p:cNvSpPr/>
          <p:nvPr/>
        </p:nvSpPr>
        <p:spPr>
          <a:xfrm>
            <a:off x="2192400" y="1557360"/>
            <a:ext cx="1214280" cy="75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Fet"/>
              </a:rPr>
              <a:t>Cou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35480" y="1562040"/>
            <a:ext cx="1214280" cy="757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Fet"/>
              </a:rPr>
              <a:t>Hu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Fet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Fet"/>
              </a:rPr>
              <a:t>Index (HDI)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Fet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78200" y="1562040"/>
            <a:ext cx="1224000" cy="757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le-GroteskFet"/>
              </a:rPr>
              <a:t>Adult Lite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le-GroteskFet"/>
              </a:rPr>
              <a:t>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le-GroteskFet"/>
              </a:rPr>
              <a:t>(%  ages 15 and ol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le-GroteskFet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01760" y="274788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44840" y="276228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0.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7920" y="2762280"/>
            <a:ext cx="121428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Nor"/>
              </a:rPr>
              <a:t>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1760" y="331956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44840" y="331956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0.9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7920" y="3319560"/>
            <a:ext cx="121428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Nor"/>
              </a:rPr>
              <a:t>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01760" y="381960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le-GroteskNor"/>
              </a:rPr>
              <a:t>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44840" y="381960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le-GroteskNor"/>
              </a:rPr>
              <a:t>0.8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7920" y="3819600"/>
            <a:ext cx="121428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Nor"/>
              </a:rPr>
              <a:t>97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1760" y="481968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Braz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44840" y="481968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Nor"/>
              </a:rPr>
              <a:t>0.7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7920" y="4819680"/>
            <a:ext cx="121428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Nor"/>
              </a:rPr>
              <a:t>88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1760" y="531972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4840" y="531972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Nor"/>
              </a:rPr>
              <a:t>0.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7920" y="5319720"/>
            <a:ext cx="121428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Nor"/>
              </a:rPr>
              <a:t>6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3320" y="6402240"/>
            <a:ext cx="25797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Consejo Profesional de Ccias Económicas Nov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Pa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23080" y="1563840"/>
            <a:ext cx="1214280" cy="75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le-GroteskFet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le-GroteskFet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32440" y="276372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0.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32440" y="332100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0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32440" y="382104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le-GroteskNor"/>
              </a:rPr>
              <a:t>0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32440" y="482112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0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32440" y="5321160"/>
            <a:ext cx="1214640" cy="4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0.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85920" y="4362480"/>
            <a:ext cx="4926240" cy="347760"/>
          </a:xfrm>
          <a:prstGeom prst="rect">
            <a:avLst/>
          </a:prstGeom>
          <a:solidFill>
            <a:srgbClr val="849b9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Fet"/>
              </a:rPr>
              <a:t>Medium hum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85920" y="2300400"/>
            <a:ext cx="4926240" cy="347400"/>
          </a:xfrm>
          <a:prstGeom prst="rect">
            <a:avLst/>
          </a:prstGeom>
          <a:solidFill>
            <a:srgbClr val="849b9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Fet"/>
              </a:rPr>
              <a:t>High hum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80294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e20074"/>
                </a:solidFill>
                <a:latin typeface="Tele-Antiqua"/>
              </a:rPr>
              <a:t>Technology: diffusion and creation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75" name=""/>
          <p:cNvSpPr/>
          <p:nvPr/>
        </p:nvSpPr>
        <p:spPr>
          <a:xfrm>
            <a:off x="773280" y="1582560"/>
            <a:ext cx="1998360" cy="1032120"/>
          </a:xfrm>
          <a:custGeom>
            <a:avLst/>
            <a:gdLst>
              <a:gd name="textAreaLeft" fmla="*/ 0 w 1998360"/>
              <a:gd name="textAreaRight" fmla="*/ 1998720 w 199836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4" y="0"/>
                </a:lnTo>
                <a:lnTo>
                  <a:pt x="21600" y="10800"/>
                </a:lnTo>
                <a:lnTo>
                  <a:pt x="20134" y="21600"/>
                </a:lnTo>
                <a:lnTo>
                  <a:pt x="0" y="21600"/>
                </a:lnTo>
                <a:lnTo>
                  <a:pt x="1466" y="10800"/>
                </a:lnTo>
                <a:close/>
              </a:path>
            </a:pathLst>
          </a:custGeom>
          <a:solidFill>
            <a:srgbClr val="005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33560" y="1576440"/>
            <a:ext cx="1998720" cy="103176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4" y="0"/>
                </a:lnTo>
                <a:lnTo>
                  <a:pt x="21600" y="10800"/>
                </a:lnTo>
                <a:lnTo>
                  <a:pt x="20134" y="21600"/>
                </a:lnTo>
                <a:lnTo>
                  <a:pt x="0" y="21600"/>
                </a:lnTo>
                <a:lnTo>
                  <a:pt x="1466" y="10800"/>
                </a:lnTo>
                <a:close/>
              </a:path>
            </a:pathLst>
          </a:custGeom>
          <a:solidFill>
            <a:srgbClr val="005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7800" y="1576440"/>
            <a:ext cx="1998720" cy="103176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4" y="0"/>
                </a:lnTo>
                <a:lnTo>
                  <a:pt x="21600" y="10800"/>
                </a:lnTo>
                <a:lnTo>
                  <a:pt x="20134" y="21600"/>
                </a:lnTo>
                <a:lnTo>
                  <a:pt x="0" y="21600"/>
                </a:lnTo>
                <a:lnTo>
                  <a:pt x="1466" y="10800"/>
                </a:lnTo>
                <a:close/>
              </a:path>
            </a:pathLst>
          </a:custGeom>
          <a:solidFill>
            <a:srgbClr val="005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3116880" y="446760"/>
            <a:ext cx="3560760" cy="7968960"/>
          </a:xfrm>
          <a:prstGeom prst="flowChartManualOperation">
            <a:avLst/>
          </a:prstGeom>
          <a:solidFill>
            <a:srgbClr val="e20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65000"/>
              <a:buFont typeface="Tele-GroteskF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38560" y="2894040"/>
            <a:ext cx="1837080" cy="29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42040" y="1576440"/>
            <a:ext cx="1998720" cy="103176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4" y="0"/>
                </a:lnTo>
                <a:lnTo>
                  <a:pt x="21600" y="10800"/>
                </a:lnTo>
                <a:lnTo>
                  <a:pt x="20134" y="21600"/>
                </a:lnTo>
                <a:lnTo>
                  <a:pt x="0" y="21600"/>
                </a:lnTo>
                <a:lnTo>
                  <a:pt x="1466" y="10800"/>
                </a:lnTo>
                <a:close/>
              </a:path>
            </a:pathLst>
          </a:custGeom>
          <a:solidFill>
            <a:srgbClr val="005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3640" y="2894040"/>
            <a:ext cx="1836720" cy="29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83440" y="2894040"/>
            <a:ext cx="1859040" cy="29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75520" y="3240000"/>
            <a:ext cx="216000" cy="1501920"/>
          </a:xfrm>
          <a:custGeom>
            <a:avLst/>
            <a:gdLst>
              <a:gd name="textAreaLeft" fmla="*/ 0 w 216000"/>
              <a:gd name="textAreaRight" fmla="*/ 78120 w 216000"/>
              <a:gd name="textAreaTop" fmla="*/ 38880 h 1501920"/>
              <a:gd name="textAreaBottom" fmla="*/ 1463040 h 15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4"/>
                  <a:pt x="10800" y="1787"/>
                </a:cubicBezTo>
                <a:lnTo>
                  <a:pt x="10800" y="9013"/>
                </a:lnTo>
                <a:cubicBezTo>
                  <a:pt x="10800" y="9907"/>
                  <a:pt x="16200" y="10800"/>
                  <a:pt x="21600" y="10800"/>
                </a:cubicBezTo>
                <a:cubicBezTo>
                  <a:pt x="16200" y="10800"/>
                  <a:pt x="10800" y="11694"/>
                  <a:pt x="10800" y="12587"/>
                </a:cubicBezTo>
                <a:lnTo>
                  <a:pt x="10800" y="19813"/>
                </a:lnTo>
                <a:cubicBezTo>
                  <a:pt x="10800" y="20707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466120" y="2952720"/>
            <a:ext cx="596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00520" y="2894040"/>
            <a:ext cx="1836720" cy="29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2960" y="1728720"/>
            <a:ext cx="16682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main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ele-GroteskNor"/>
              </a:rPr>
              <a:t>(per 1000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9720" y="1720800"/>
            <a:ext cx="1668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Cellular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ele-GroteskNor"/>
              </a:rPr>
              <a:t>(per 1000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8120" y="1720800"/>
            <a:ext cx="1668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Internet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ele-GroteskNor"/>
              </a:rPr>
              <a:t>(per 1000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81720" y="1628640"/>
            <a:ext cx="16686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Research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In R&amp;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ele-GroteskNor"/>
              </a:rPr>
              <a:t>(per MI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2960" y="29527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1990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2600" y="297036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1990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64120" y="295272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1990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18360" y="295272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1990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498840"/>
            <a:ext cx="773280" cy="368280"/>
          </a:xfrm>
          <a:prstGeom prst="rect">
            <a:avLst/>
          </a:prstGeom>
          <a:solidFill>
            <a:srgbClr val="e20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897360"/>
            <a:ext cx="773280" cy="368280"/>
          </a:xfrm>
          <a:prstGeom prst="rect">
            <a:avLst/>
          </a:prstGeom>
          <a:solidFill>
            <a:srgbClr val="e20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289400"/>
            <a:ext cx="773280" cy="368280"/>
          </a:xfrm>
          <a:prstGeom prst="rect">
            <a:avLst/>
          </a:prstGeom>
          <a:solidFill>
            <a:srgbClr val="e20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ele-GroteskNor"/>
              </a:rPr>
              <a:t>A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684680"/>
            <a:ext cx="773280" cy="368280"/>
          </a:xfrm>
          <a:prstGeom prst="rect">
            <a:avLst/>
          </a:prstGeom>
          <a:solidFill>
            <a:srgbClr val="e20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83200"/>
            <a:ext cx="773280" cy="368280"/>
          </a:xfrm>
          <a:prstGeom prst="rect">
            <a:avLst/>
          </a:prstGeom>
          <a:solidFill>
            <a:srgbClr val="e20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ele-GroteskNor"/>
              </a:rPr>
              <a:t>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7600" y="349884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5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78200" y="351000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6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7600" y="389088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4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78200" y="390852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6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272120"/>
            <a:ext cx="3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77120" y="428292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6160" y="4692600"/>
            <a:ext cx="3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468144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8400" y="5094360"/>
            <a:ext cx="3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92240" y="5111640"/>
            <a:ext cx="3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38760" y="3500280"/>
            <a:ext cx="4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79800" y="351144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6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35160" y="389268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79800" y="390996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70800" y="4273560"/>
            <a:ext cx="1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9080" y="428472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3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70800" y="4694400"/>
            <a:ext cx="1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81600" y="468324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3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60360" y="5095800"/>
            <a:ext cx="3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01400" y="51134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71480" y="3486240"/>
            <a:ext cx="3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08560" y="349740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6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71480" y="3878280"/>
            <a:ext cx="3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11800" y="389556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73280" y="4259160"/>
            <a:ext cx="3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7840" y="427032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73280" y="4680000"/>
            <a:ext cx="3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10360" y="466884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89120" y="5081760"/>
            <a:ext cx="3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30160" y="50990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2880" y="348624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43000" y="3497400"/>
            <a:ext cx="3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82880" y="38782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43000" y="3895560"/>
            <a:ext cx="3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79640" y="4259160"/>
            <a:ext cx="3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08080" y="427032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ele-GroteskNor"/>
              </a:rPr>
              <a:t>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84320" y="46800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10600" y="466884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3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77840" y="50817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26440" y="509904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Nor"/>
              </a:rPr>
              <a:t>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13320" y="6402240"/>
            <a:ext cx="25797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Consejo Profesional de Ccias Económicas Nov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Pa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63640" y="301680"/>
            <a:ext cx="802944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e20074"/>
                </a:solidFill>
                <a:latin typeface="Tele-Antiqua"/>
              </a:rPr>
              <a:t>The structure of trade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41" name=""/>
          <p:cNvSpPr/>
          <p:nvPr/>
        </p:nvSpPr>
        <p:spPr>
          <a:xfrm>
            <a:off x="887400" y="1757520"/>
            <a:ext cx="8001000" cy="4400280"/>
          </a:xfrm>
          <a:prstGeom prst="rect">
            <a:avLst/>
          </a:prstGeom>
          <a:solidFill>
            <a:srgbClr val="849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87400" y="1986120"/>
            <a:ext cx="2127240" cy="695160"/>
          </a:xfrm>
          <a:prstGeom prst="rect">
            <a:avLst/>
          </a:prstGeom>
          <a:solidFill>
            <a:srgbClr val="005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le-GroteskNor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7400" y="2728800"/>
            <a:ext cx="2127240" cy="695520"/>
          </a:xfrm>
          <a:prstGeom prst="rect">
            <a:avLst/>
          </a:prstGeom>
          <a:solidFill>
            <a:srgbClr val="0052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le-GroteskNor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87400" y="4486320"/>
            <a:ext cx="2127240" cy="695160"/>
          </a:xfrm>
          <a:prstGeom prst="rect">
            <a:avLst/>
          </a:prstGeom>
          <a:solidFill>
            <a:srgbClr val="00525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le-GroteskNor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62160" y="1986120"/>
            <a:ext cx="5826240" cy="6951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ele-GroteskNor"/>
              </a:rPr>
              <a:t>34</a:t>
            </a:r>
            <a:r>
              <a:rPr b="0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ele-GroteskNor"/>
              </a:rPr>
              <a:t>32</a:t>
            </a:r>
            <a:r>
              <a:rPr b="0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62160" y="2728800"/>
            <a:ext cx="5826240" cy="695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62160" y="4486320"/>
            <a:ext cx="5826240" cy="6951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457200" indent="-457200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87400" y="3471840"/>
            <a:ext cx="2127240" cy="695520"/>
          </a:xfrm>
          <a:prstGeom prst="rect">
            <a:avLst/>
          </a:prstGeom>
          <a:solidFill>
            <a:srgbClr val="00525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le-GroteskNor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62160" y="3471840"/>
            <a:ext cx="5826240" cy="695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ele-GroteskNor"/>
              </a:rPr>
              <a:t>--</a:t>
            </a:r>
            <a:r>
              <a:rPr b="1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ele-GroteskNor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7400" y="5219640"/>
            <a:ext cx="2127240" cy="695520"/>
          </a:xfrm>
          <a:prstGeom prst="rect">
            <a:avLst/>
          </a:prstGeom>
          <a:solidFill>
            <a:srgbClr val="00525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le-GroteskNor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62160" y="5219640"/>
            <a:ext cx="5826240" cy="695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68200" indent="-268200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82720" y="1542960"/>
            <a:ext cx="7991280" cy="347760"/>
          </a:xfrm>
          <a:prstGeom prst="rect">
            <a:avLst/>
          </a:prstGeom>
          <a:solidFill>
            <a:srgbClr val="849b9c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Fet"/>
              </a:rPr>
              <a:t>High hum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78040" y="4138560"/>
            <a:ext cx="8010360" cy="347760"/>
          </a:xfrm>
          <a:prstGeom prst="rect">
            <a:avLst/>
          </a:prstGeom>
          <a:solidFill>
            <a:srgbClr val="849b9c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Fet"/>
              </a:rPr>
              <a:t>Medium hum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19320" y="1251000"/>
            <a:ext cx="5854680" cy="291960"/>
          </a:xfrm>
          <a:prstGeom prst="rect">
            <a:avLst/>
          </a:prstGeom>
          <a:solidFill>
            <a:srgbClr val="e20074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le-GroteskFe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ele-GroteskFe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ele-GroteskFe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ele-GroteskFet"/>
              </a:rPr>
              <a:t>1990</a:t>
            </a:r>
            <a:r>
              <a:rPr b="0" lang="en-US" sz="1800" spc="-1" strike="noStrike">
                <a:solidFill>
                  <a:srgbClr val="ffffff"/>
                </a:solidFill>
                <a:latin typeface="Tele-GroteskFe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ele-GroteskFe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ele-GroteskFe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ele-GroteskFet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14640" y="652320"/>
            <a:ext cx="5873760" cy="598680"/>
          </a:xfrm>
          <a:prstGeom prst="rect">
            <a:avLst/>
          </a:prstGeom>
          <a:solidFill>
            <a:srgbClr val="005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8200" indent="-268200"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le-GroteskFet"/>
              </a:rPr>
              <a:t>High Technology Ex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le-GroteskFet"/>
              </a:rPr>
              <a:t>(%of manufactured ex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6402240"/>
            <a:ext cx="25797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Consejo Profesional de Ccias Económicas Nov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Pag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25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19120" y="4105440"/>
            <a:ext cx="6378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20074"/>
                </a:solidFill>
                <a:latin typeface="Tele-Antiqua"/>
              </a:rPr>
              <a:t>Our commitment and teamwork </a:t>
            </a:r>
            <a:br>
              <a:rPr sz="3200"/>
            </a:br>
            <a:r>
              <a:rPr b="0" lang="en-US" sz="3200" spc="-1" strike="noStrike">
                <a:solidFill>
                  <a:srgbClr val="e20074"/>
                </a:solidFill>
                <a:latin typeface="Tele-Antiqua"/>
              </a:rPr>
              <a:t>ensures our succes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13320" y="6402240"/>
            <a:ext cx="24037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13320" y="6402240"/>
            <a:ext cx="25797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Consejo Profesional de Ccias Económicas Nov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Pag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0:51:00Z</dcterms:created>
  <dc:creator/>
  <dc:description/>
  <dc:language>en-US</dc:language>
  <cp:lastModifiedBy>ppalacios</cp:lastModifiedBy>
  <cp:lastPrinted>2004-07-26T11:50:29Z</cp:lastPrinted>
  <dcterms:modified xsi:type="dcterms:W3CDTF">2006-11-22T12:58:36Z</dcterms:modified>
  <cp:revision>558</cp:revision>
  <dc:subject/>
  <dc:title>PowerPoint Designvorl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Name">
    <vt:lpwstr>&lt;&lt;filename&gt;&gt;</vt:lpwstr>
  </property>
  <property fmtid="{D5CDD505-2E9C-101B-9397-08002B2CF9AE}" pid="3" name="FilenameSize">
    <vt:r8>7</vt:r8>
  </property>
</Properties>
</file>