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E6BB-166E-4787-A66B-1DC9F38D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F48-8D91-4665-A8A1-99B9D570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0F87-CD2E-426A-865A-EFD2271C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ACF-B447-4DF3-8AD7-7091B8EF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295A-C76C-47F6-8298-5B70A376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0EFB-ED46-4582-9F78-764D1340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862A-4390-4E26-9E48-8701EA59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3D0D-E8E5-41A1-84C4-EAF35FF0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F203-B2AD-4CE2-9603-4B02E6FE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459A-A9D3-41AC-A637-A8CF82D3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8B63-26EA-40B8-B95C-772A024F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5DC-44FE-4F0F-8594-3519DC1B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B275-4ADD-4206-B381-7596F550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808D-24F5-432E-83DB-5151F4D9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FDDC-5A55-444A-9537-6D164761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4A65-8530-4925-8D0A-A717FE04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935A-F243-4E16-A3D0-88491D64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FB48-B988-45F6-8EFD-6E90A00A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CC3-5028-42DB-A4BD-F188C6FD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C3A-7507-40AC-A11A-1FDEBE28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3940-4952-4E12-AB2D-C64157EF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39F2-D0EB-4AED-A8F6-8AE3D3B1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66E-F11A-4C73-AB71-45301B1F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1A6D-29C9-4945-8869-175691CE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278F-3D45-4C68-81CA-5E2955D7C522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D5E5-3F93-4084-BBAA-EF8A4EA4603A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692360" y="2997360"/>
            <a:ext cx="64767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Verdana"/>
              </a:rPr>
              <a:t>IV SIMPOSIO SOBRE COMERCIO EXTERIOR E INTEGRACIÓ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Verdana"/>
              </a:rPr>
              <a:t>CONSEJO PROFESIONAL DE CIENCIAS ECONÓMICAS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Verdana"/>
              </a:rPr>
              <a:t>DE LA CIUDAD AUTÓNOMA DE BUENOS AIRE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3366"/>
                </a:solidFill>
                <a:latin typeface="Verdana"/>
              </a:rPr>
              <a:t>Capital Federal, 24 de noviembre de 200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Verdana"/>
              </a:rPr>
              <a:t>COMERCIO EXTERIOR Y GOBIERNO LOCAL</a:t>
            </a:r>
            <a:br>
              <a:rPr sz="1900"/>
            </a:br>
            <a:r>
              <a:rPr b="0" i="1" lang="es-ES_tradnl" sz="1900" spc="-1" strike="noStrike">
                <a:solidFill>
                  <a:srgbClr val="003366"/>
                </a:solidFill>
                <a:latin typeface="Verdana"/>
              </a:rPr>
              <a:t>La visión de la Federación Argentina de Municipios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551664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5300640"/>
            <a:ext cx="3384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3366"/>
                </a:solidFill>
                <a:latin typeface="Verdana"/>
              </a:rPr>
              <a:t>DANIEL CRAVACUOR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003366"/>
                </a:solidFill>
                <a:latin typeface="Verdana"/>
              </a:rPr>
              <a:t>Asesor del Presidente de la Federación Argentina de Municipios (FAM) y Presidente de la Federación Latinoamericana de Ciudades, Municipios y Asociaciones (FLACMA), Intendente Julio César Pereyra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66"/>
                </a:solidFill>
                <a:latin typeface="Verdana"/>
              </a:rPr>
              <a:t>APOYO A LA INVESTIGACIÓN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560" y="2362320"/>
            <a:ext cx="777708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250000"/>
              </a:lnSpc>
              <a:spcBef>
                <a:spcPts val="3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25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Verdana"/>
              </a:rPr>
              <a:t>Participación en el proyecto de investigación 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“</a:t>
            </a:r>
            <a:r>
              <a:rPr b="0" lang="es-MX" sz="1400" spc="-1" strike="noStrike">
                <a:solidFill>
                  <a:srgbClr val="003366"/>
                </a:solidFill>
                <a:latin typeface="Verdana"/>
              </a:rPr>
              <a:t>Las políticas municipales de competitividad y comercio exterior en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Argentina” desarrollado en la Unidad de Fortalecimiento de los Gobiernos Locales de la Universidad Nacional de Quilm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250000"/>
              </a:lnSpc>
              <a:spcBef>
                <a:spcPts val="3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66"/>
                </a:solidFill>
                <a:latin typeface="Verdana"/>
              </a:rPr>
              <a:t>ALGUNAS CLAVES DEL COMERCIO EXTERIOR</a:t>
            </a:r>
            <a:br>
              <a:rPr sz="1800"/>
            </a:br>
            <a:r>
              <a:rPr b="0" lang="es-ES_tradnl" sz="1800" spc="-1" strike="noStrike">
                <a:solidFill>
                  <a:srgbClr val="006666"/>
                </a:solidFill>
                <a:latin typeface="Verdana"/>
              </a:rPr>
              <a:t>EN LOS GOBIERNOS LOCALES ARGENTINOS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2362320"/>
            <a:ext cx="828036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5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Verdana"/>
              </a:rPr>
              <a:t>Existencia de 55 oficinas de ExportAr en los municipios argentino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150000"/>
              </a:lnSpc>
              <a:spcBef>
                <a:spcPts val="3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15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Verdana"/>
              </a:rPr>
              <a:t>Apertura de oficinas municipales de comercio exterio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150000"/>
              </a:lnSpc>
              <a:spcBef>
                <a:spcPts val="3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15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Verdana"/>
              </a:rPr>
              <a:t>Experiencias originadas en: a) las estrategias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de marketing político; b) la tendencia descentralizadora; c) la aparición de organismos extra municipales que ofrecieron know how, financiamiento y contactos internacionales para participar en ferias comerciales y abrir oficinas promotoras, entre otra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150000"/>
              </a:lnSpc>
              <a:spcBef>
                <a:spcPts val="3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15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Verdana"/>
              </a:rPr>
              <a:t>Fuerte orientación a la promoción de exportaciones, dejando las tareas del comercio en manos del sector privado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AR" sz="1600" spc="-1" strike="noStrike">
                <a:solidFill>
                  <a:srgbClr val="006666"/>
                </a:solidFill>
                <a:latin typeface="Verdana"/>
                <a:ea typeface="Tahoma"/>
              </a:rPr>
              <a:t>MUCHAS GRACIAS POR SU ATENCIÓN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5640" y="4149720"/>
            <a:ext cx="4572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3366"/>
                </a:solidFill>
                <a:latin typeface="Verdana"/>
              </a:rPr>
              <a:t>DANIEL CRAVACUOR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3366"/>
                </a:solidFill>
                <a:latin typeface="Verdana"/>
              </a:rPr>
              <a:t>Asesor de Presidenci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Verdana"/>
              </a:rPr>
              <a:t>daniel.cravacuore@fam-mail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3366"/>
                </a:solidFill>
                <a:latin typeface="Verdana"/>
              </a:rPr>
              <a:t>Cerrito 832 – (C1010AAR) Capital Federal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66"/>
                </a:solidFill>
                <a:latin typeface="Verdana"/>
              </a:rPr>
              <a:t>QUÉ ES LA FAM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3366"/>
                </a:solidFill>
                <a:latin typeface="Verdana"/>
              </a:rPr>
              <a:t>La Federación Argentina de Municipios es una institución creada 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en 1991 para representar a los 2.203 gobiernos locales del país, sin distinciones de ningún tipo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 algn="just">
              <a:lnSpc>
                <a:spcPct val="12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La ley 24.807, sancionada por el Congreso Nacional el 23 de abril de 1997 y promulgada el 14 de mayo de ese mismo año, dio el definitivo reconocimiento jurídico a la misma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 algn="just">
              <a:lnSpc>
                <a:spcPct val="12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Entre sus funciones se cuentan: la representación de los intereses municipales; la promoción de mejoras en la gestión local; la formación y capacitación de recursos humanos, entre otra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28600"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 algn="just">
              <a:lnSpc>
                <a:spcPct val="12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Su autoridad máxima es la Mesa Ejecutiva integrada por veinticuatro intendentes de todo el país. Actualmente es presidida por Julio Pereyra (Florencio Varela - BA)</a:t>
            </a:r>
            <a:r>
              <a:rPr b="0" lang="es-ES_tradnl" sz="1400" spc="-1" strike="noStrike">
                <a:solidFill>
                  <a:srgbClr val="003366"/>
                </a:solidFill>
                <a:latin typeface="Verdana"/>
              </a:rPr>
              <a:t>, siendo Daniel Peretti (Porteña - CBA) vicepresidente 1° y José Luis Mazzone (Villa El Chocón - NQ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66"/>
                </a:solidFill>
                <a:latin typeface="Verdana"/>
              </a:rPr>
              <a:t>LA VISIÓN DEL PRESIDENTE DE LA FAM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just">
              <a:lnSpc>
                <a:spcPct val="260000"/>
              </a:lnSpc>
              <a:spcBef>
                <a:spcPts val="3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28600" indent="0" algn="just">
              <a:lnSpc>
                <a:spcPct val="260000"/>
              </a:lnSpc>
              <a:spcBef>
                <a:spcPts val="349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i="1" lang="es-ES_tradnl" sz="1400" spc="-1" strike="noStrike">
                <a:solidFill>
                  <a:srgbClr val="003366"/>
                </a:solidFill>
                <a:latin typeface="Verdana"/>
              </a:rPr>
              <a:t>“</a:t>
            </a:r>
            <a:r>
              <a:rPr b="0" i="1" lang="es-ES_tradnl" sz="1400" spc="-1" strike="noStrike">
                <a:solidFill>
                  <a:srgbClr val="003366"/>
                </a:solidFill>
                <a:latin typeface="Verdana"/>
              </a:rPr>
              <a:t>Es nuestra responsabilidad, junto al sector empresario, asegurar la competitividad de nuestros productos, tan solicitados en los mercados internacionales a los que con tanta desidia hemos considerado en el pasado”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28600" indent="0" algn="just">
              <a:lnSpc>
                <a:spcPct val="260000"/>
              </a:lnSpc>
              <a:spcBef>
                <a:spcPts val="349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28600" indent="0" algn="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3366"/>
                </a:solidFill>
                <a:latin typeface="Verdana"/>
              </a:rPr>
              <a:t>JULIO PEREYR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28600" indent="0" algn="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28600" indent="0" algn="r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3366"/>
                </a:solidFill>
                <a:latin typeface="Verdana"/>
              </a:rPr>
              <a:t>14 de julio de 2006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228600" indent="0" algn="r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3366"/>
                </a:solidFill>
                <a:latin typeface="Verdana"/>
              </a:rPr>
              <a:t>Acto de firma del convenio entre la FAM y la Cancillería argentina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66"/>
                </a:solidFill>
                <a:latin typeface="Verdana"/>
              </a:rPr>
              <a:t>CONTEXTO DE LA POLÍTICA DE LA FAM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just">
              <a:lnSpc>
                <a:spcPct val="250000"/>
              </a:lnSpc>
              <a:spcBef>
                <a:spcPts val="3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 algn="just">
              <a:lnSpc>
                <a:spcPct val="25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3366"/>
                </a:solidFill>
                <a:latin typeface="Verdana"/>
              </a:rPr>
              <a:t>Proceso de globalización a escala mundial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28600" indent="0" algn="just">
              <a:lnSpc>
                <a:spcPct val="250000"/>
              </a:lnSpc>
              <a:spcBef>
                <a:spcPts val="3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28600" indent="0" algn="just">
              <a:lnSpc>
                <a:spcPct val="250000"/>
              </a:lnSpc>
              <a:spcBef>
                <a:spcPts val="3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 algn="just">
              <a:lnSpc>
                <a:spcPct val="25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3366"/>
                </a:solidFill>
                <a:latin typeface="Verdana"/>
              </a:rPr>
              <a:t>Enfoque del desarrollo local, que valoriza la promoción de la competitividad territorial específica a partir de la articulación local – regional - nacional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66"/>
                </a:solidFill>
                <a:latin typeface="Verdana"/>
              </a:rPr>
              <a:t>LA FAM Y EL COMERCIO EXTERIOR 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2362320"/>
            <a:ext cx="828036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 algn="just">
              <a:lnSpc>
                <a:spcPct val="13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Verdana"/>
              </a:rPr>
              <a:t>Articulación con los organismos promotores del comercio exterior: la </a:t>
            </a:r>
            <a:r>
              <a:rPr b="0" i="1" lang="es-ES_tradnl" sz="1400" spc="-1" strike="noStrike">
                <a:solidFill>
                  <a:srgbClr val="003366"/>
                </a:solidFill>
                <a:latin typeface="Verdana"/>
              </a:rPr>
              <a:t>Fundación ExportAr</a:t>
            </a:r>
            <a:r>
              <a:rPr b="0" lang="es-ES_tradnl" sz="1400" spc="-1" strike="noStrike">
                <a:solidFill>
                  <a:srgbClr val="003366"/>
                </a:solidFill>
                <a:latin typeface="Verdana"/>
              </a:rPr>
              <a:t> y el </a:t>
            </a:r>
            <a:r>
              <a:rPr b="0" i="1" lang="es-ES_tradnl" sz="1400" spc="-1" strike="noStrike">
                <a:solidFill>
                  <a:srgbClr val="003366"/>
                </a:solidFill>
                <a:latin typeface="Verdana"/>
              </a:rPr>
              <a:t>Ministerio de Relaciones Exteriores, Comercio Internacional y Culto</a:t>
            </a:r>
            <a:r>
              <a:rPr b="0" lang="es-ES_tradnl" sz="14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6676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 algn="just">
              <a:lnSpc>
                <a:spcPct val="13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Verdana"/>
              </a:rPr>
              <a:t>Participación en el proyecto 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PROMOCION.AR,</a:t>
            </a:r>
            <a:r>
              <a:rPr b="1" lang="es-ES" sz="1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iniciativa de la Cancillería argentina para promocionar en el mundo la presencia institucional de los gobiernos local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6676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 algn="just">
              <a:lnSpc>
                <a:spcPct val="13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3366"/>
                </a:solidFill>
                <a:latin typeface="Verdana"/>
              </a:rPr>
              <a:t>Organizaciones de misiones comerciales al exterior, integradas por intendentes y empresario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6676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 algn="just">
              <a:lnSpc>
                <a:spcPct val="13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3366"/>
                </a:solidFill>
                <a:latin typeface="Verdana"/>
              </a:rPr>
              <a:t>Capacitación a funcionarios municipales en la temática del comercio exterio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6676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 algn="just">
              <a:lnSpc>
                <a:spcPct val="13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3366"/>
                </a:solidFill>
                <a:latin typeface="Verdana"/>
              </a:rPr>
              <a:t>Apoyo a la investigación sobre las políticas municipales de comercio exterio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66"/>
                </a:solidFill>
                <a:latin typeface="Verdana"/>
              </a:rPr>
              <a:t>FIRMA DE CONVENIOS 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2362320"/>
            <a:ext cx="828036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24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Convenio con la </a:t>
            </a: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Fundación ExportAr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para darles herramientas a los municipios para facilitar la exportación a nuevos mercados (abril de 2005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240000"/>
              </a:lnSpc>
              <a:spcBef>
                <a:spcPts val="3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24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3366"/>
                </a:solidFill>
                <a:latin typeface="Verdana"/>
              </a:rPr>
              <a:t>Convenio con el </a:t>
            </a:r>
            <a:r>
              <a:rPr b="0" i="1" lang="es-ES_tradnl" sz="1400" spc="-1" strike="noStrike">
                <a:solidFill>
                  <a:srgbClr val="003366"/>
                </a:solidFill>
                <a:latin typeface="Verdana"/>
              </a:rPr>
              <a:t>Ministerio de Relaciones Exteriores, Comercio Internacional y Culto </a:t>
            </a:r>
            <a:r>
              <a:rPr b="0" lang="es-ES_tradnl" sz="1400" spc="-1" strike="noStrike">
                <a:solidFill>
                  <a:srgbClr val="003366"/>
                </a:solidFill>
                <a:latin typeface="Verdana"/>
              </a:rPr>
              <a:t>para 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fortalecimiento de las acciones con proyección internacional de los municipios argentinos, tanto en las áreas productivas, sociales, culturales o turísticas (julio de 2006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66"/>
                </a:solidFill>
                <a:latin typeface="Verdana"/>
              </a:rPr>
              <a:t>PORTAL PROMOCION.AR 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280" y="2362320"/>
            <a:ext cx="828036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24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Iniciativa de la Subsecretaría de Relaciones Institucionales del Ministerio de Relaciones Exteriores, Comercio Internacional y Culto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240000"/>
              </a:lnSpc>
              <a:spcBef>
                <a:spcPts val="3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24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Portal que busca vehiculizar la información desde los municipios, entre los municipios, y entre éstos y las reparticiones nacionales públicas y las representaciones argentinas en el mundo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66"/>
                </a:solidFill>
                <a:latin typeface="Verdana"/>
              </a:rPr>
              <a:t>ORGANIZACIÓN DE MISIONES COMERCIALES 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2362320"/>
            <a:ext cx="828036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2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Verdana"/>
              </a:rPr>
              <a:t>Desarrollo del </a:t>
            </a: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Programa de Apoyo a las Iniciativas de los Gobiernos locales en Medio Oriente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290000"/>
              </a:lnSpc>
              <a:spcBef>
                <a:spcPts val="3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2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3366"/>
                </a:solidFill>
                <a:latin typeface="Verdana"/>
              </a:rPr>
              <a:t>Organización de misiones comerciales y rondas de negocios con distintos países de América Latina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66"/>
                </a:solidFill>
                <a:latin typeface="Verdana"/>
              </a:rPr>
              <a:t>CAPACITACIÓN DE FUNCIONARIOS MUNICIPALES 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2362320"/>
            <a:ext cx="828036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25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Verdana"/>
              </a:rPr>
              <a:t>Desarrollo desde 2002 del </a:t>
            </a:r>
            <a:r>
              <a:rPr b="0" i="1" lang="es-ES_tradnl" sz="1400" spc="-1" strike="noStrike">
                <a:solidFill>
                  <a:srgbClr val="003366"/>
                </a:solidFill>
                <a:latin typeface="Verdana"/>
              </a:rPr>
              <a:t>Programa de Actualización en Gestión Local</a:t>
            </a:r>
            <a:r>
              <a:rPr b="0" lang="es-ES_tradnl" sz="1400" spc="-1" strike="noStrike">
                <a:solidFill>
                  <a:srgbClr val="003366"/>
                </a:solidFill>
                <a:latin typeface="Verdana"/>
              </a:rPr>
              <a:t> en conjunto con la Universidad Nacional de Quilmes, bajo la modalidad virtual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250000"/>
              </a:lnSpc>
              <a:spcBef>
                <a:spcPts val="3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25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Verdana"/>
              </a:rPr>
              <a:t>A la fecha más de 1.400 funcionarios municipales del país han participado del mismo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250000"/>
              </a:lnSpc>
              <a:spcBef>
                <a:spcPts val="3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25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Verdan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Verdana"/>
              </a:rPr>
              <a:t>Desarrollo del curso “Comercio Exterior para Municipios” (Mg. Germán Dabat”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1T19:01:59Z</dcterms:created>
  <dc:creator>Mónica</dc:creator>
  <dc:description/>
  <dc:language>en-US</dc:language>
  <cp:lastModifiedBy>CPCECABA</cp:lastModifiedBy>
  <dcterms:modified xsi:type="dcterms:W3CDTF">2006-11-28T15:31:59Z</dcterms:modified>
  <cp:revision>139</cp:revision>
  <dc:subject/>
  <dc:title>Proyecto de Investigación Aplicada:  Desarrollo de herramientas de gestión y de comunicación con la comunidad a través del uso de Internet en la Municipalidad de Olavarría</dc:title>
</cp:coreProperties>
</file>