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17F-2350-40A0-8BC1-A394DCBD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A77-CE0D-4397-82D3-1E9E87CC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83E-5B65-49C8-8F71-E7C69315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8CA-D303-46B2-8F01-2796CD5A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B40-FA9F-4F88-ABCA-E676A224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AED-FA12-4BAA-95E4-2300A9EB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921-0EBC-47BE-9D38-99602D7E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11B-253E-4DFB-BB99-BCD05270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E51-19A0-48D5-8043-DDA0D378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67C-7C97-42A1-A7D3-05BA6E98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688-15F9-4A50-87B6-411FCA4B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21F-0B0D-4FAE-92E0-56855E89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B6F4-FF2C-4668-924A-1C4A15E8C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3° CONGRESO INTERNACIONAL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LA SEGUR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ORTES PARA UN MÁS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STEMA PREVI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R. CP JOSE PABLO ZABLACK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762120" y="228600"/>
            <a:ext cx="7893000" cy="892080"/>
            <a:chOff x="762120" y="228600"/>
            <a:chExt cx="7893000" cy="892080"/>
          </a:xfrm>
        </p:grpSpPr>
        <p:grpSp>
          <p:nvGrpSpPr>
            <p:cNvPr id="244" name=""/>
            <p:cNvGrpSpPr/>
            <p:nvPr/>
          </p:nvGrpSpPr>
          <p:grpSpPr>
            <a:xfrm>
              <a:off x="766800" y="233280"/>
              <a:ext cx="7883640" cy="882720"/>
              <a:chOff x="766800" y="233280"/>
              <a:chExt cx="7883640" cy="88272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766800" y="233280"/>
                <a:ext cx="3436920" cy="882720"/>
                <a:chOff x="766800" y="233280"/>
                <a:chExt cx="3436920" cy="882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811080" y="233280"/>
                  <a:ext cx="334836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</a:t>
                  </a:r>
                  <a:r>
                    <a:rPr b="1" lang="es-MX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QUISITOS PREVIOS PARA LA REFORMA PREVISION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66800" y="233280"/>
                  <a:ext cx="343692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203720" y="233280"/>
                <a:ext cx="2154240" cy="882720"/>
                <a:chOff x="4203720" y="233280"/>
                <a:chExt cx="2154240" cy="8827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248360" y="233280"/>
                  <a:ext cx="206532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SENCIALES P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MEN PUBLIC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203720" y="233280"/>
                  <a:ext cx="215424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357960" y="233280"/>
                <a:ext cx="2292480" cy="882720"/>
                <a:chOff x="6357960" y="233280"/>
                <a:chExt cx="2292480" cy="8827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402600" y="233280"/>
                  <a:ext cx="2203200" cy="8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SENCIALES P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MEN PRIVA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357960" y="233280"/>
                  <a:ext cx="2292480" cy="8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4" name=""/>
            <p:cNvSpPr/>
            <p:nvPr/>
          </p:nvSpPr>
          <p:spPr>
            <a:xfrm>
              <a:off x="762120" y="228600"/>
              <a:ext cx="7893000" cy="892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6858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57200" y="1219320"/>
            <a:ext cx="8457840" cy="5638680"/>
            <a:chOff x="457200" y="1219320"/>
            <a:chExt cx="8457840" cy="5638680"/>
          </a:xfrm>
        </p:grpSpPr>
        <p:grpSp>
          <p:nvGrpSpPr>
            <p:cNvPr id="257" name=""/>
            <p:cNvGrpSpPr/>
            <p:nvPr/>
          </p:nvGrpSpPr>
          <p:grpSpPr>
            <a:xfrm>
              <a:off x="461880" y="1223640"/>
              <a:ext cx="8447040" cy="5628960"/>
              <a:chOff x="461880" y="1223640"/>
              <a:chExt cx="8447040" cy="56289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461880" y="1223640"/>
                <a:ext cx="3682440" cy="630360"/>
                <a:chOff x="461880" y="1223640"/>
                <a:chExt cx="3682440" cy="6303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09040" y="1223640"/>
                  <a:ext cx="358776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stentabilidad fiscal del Esta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1880" y="1223640"/>
                  <a:ext cx="368244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144680" y="1223640"/>
                <a:ext cx="2307960" cy="630360"/>
                <a:chOff x="4144680" y="1223640"/>
                <a:chExt cx="2307960" cy="6303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192200" y="1223640"/>
                  <a:ext cx="22129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144680" y="1223640"/>
                  <a:ext cx="23079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453000" y="1223640"/>
                <a:ext cx="2455920" cy="630360"/>
                <a:chOff x="6453000" y="1223640"/>
                <a:chExt cx="2455920" cy="6303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00520" y="1223640"/>
                  <a:ext cx="23605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          </a:t>
                  </a: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453000" y="1223640"/>
                  <a:ext cx="245592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61880" y="1854000"/>
                <a:ext cx="3682440" cy="630360"/>
                <a:chOff x="461880" y="1854000"/>
                <a:chExt cx="3682440" cy="6303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509040" y="1854000"/>
                  <a:ext cx="358776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stentabilidad política de la reform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61880" y="1854000"/>
                  <a:ext cx="368244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144680" y="1854000"/>
                <a:ext cx="2307960" cy="630360"/>
                <a:chOff x="4144680" y="1854000"/>
                <a:chExt cx="2307960" cy="6303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192200" y="1854000"/>
                  <a:ext cx="22129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4680" y="1854000"/>
                  <a:ext cx="23079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453000" y="1854000"/>
                <a:ext cx="2455920" cy="630360"/>
                <a:chOff x="6453000" y="1854000"/>
                <a:chExt cx="2455920" cy="6303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500520" y="1854000"/>
                  <a:ext cx="23605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453000" y="1854000"/>
                  <a:ext cx="245592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61880" y="2484360"/>
                <a:ext cx="3682440" cy="630360"/>
                <a:chOff x="461880" y="2484360"/>
                <a:chExt cx="3682440" cy="6303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9040" y="2484360"/>
                  <a:ext cx="358776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pacidad  para exigir ingresos</a:t>
                  </a: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1880" y="2484360"/>
                  <a:ext cx="368244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144680" y="2484360"/>
                <a:ext cx="2307960" cy="630360"/>
                <a:chOff x="4144680" y="2484360"/>
                <a:chExt cx="2307960" cy="6303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192200" y="2484360"/>
                  <a:ext cx="22129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44680" y="2484360"/>
                  <a:ext cx="23079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453000" y="2484360"/>
                <a:ext cx="2455920" cy="630360"/>
                <a:chOff x="6453000" y="2484360"/>
                <a:chExt cx="2455920" cy="6303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500520" y="2484360"/>
                  <a:ext cx="23605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453000" y="2484360"/>
                  <a:ext cx="245592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61880" y="3115080"/>
                <a:ext cx="3682440" cy="630360"/>
                <a:chOff x="461880" y="3115080"/>
                <a:chExt cx="3682440" cy="6303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09040" y="3115080"/>
                  <a:ext cx="358776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pacidad para mantener estabilida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61880" y="3115080"/>
                  <a:ext cx="368244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144680" y="3115080"/>
                <a:ext cx="2307960" cy="630360"/>
                <a:chOff x="4144680" y="3115080"/>
                <a:chExt cx="2307960" cy="6303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192200" y="3115080"/>
                  <a:ext cx="22129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144680" y="3115080"/>
                  <a:ext cx="23079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453000" y="3115080"/>
                <a:ext cx="2455920" cy="630360"/>
                <a:chOff x="6453000" y="3115080"/>
                <a:chExt cx="2455920" cy="6303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500520" y="3115080"/>
                  <a:ext cx="23605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453000" y="3115080"/>
                  <a:ext cx="245592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61880" y="3745440"/>
                <a:ext cx="3682440" cy="630720"/>
                <a:chOff x="461880" y="3745440"/>
                <a:chExt cx="3682440" cy="6307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09040" y="3745440"/>
                  <a:ext cx="358776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pacidad regulatoria efectiv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61880" y="3745440"/>
                  <a:ext cx="368244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144680" y="3745440"/>
                <a:ext cx="2307960" cy="630720"/>
                <a:chOff x="4144680" y="3745440"/>
                <a:chExt cx="2307960" cy="6307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192200" y="3745440"/>
                  <a:ext cx="221292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 Black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144680" y="3745440"/>
                  <a:ext cx="230796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453000" y="3745440"/>
                <a:ext cx="2455920" cy="630720"/>
                <a:chOff x="6453000" y="3745440"/>
                <a:chExt cx="2455920" cy="6307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500520" y="3745440"/>
                  <a:ext cx="236052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           </a:t>
                  </a: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453000" y="3745440"/>
                  <a:ext cx="2455920" cy="63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61880" y="4376160"/>
                <a:ext cx="3682440" cy="585000"/>
                <a:chOff x="461880" y="4376160"/>
                <a:chExt cx="3682440" cy="585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09040" y="4376160"/>
                  <a:ext cx="3587760" cy="58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blación adecuadamente inform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61880" y="4376160"/>
                  <a:ext cx="3682440" cy="58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144680" y="4376160"/>
                <a:ext cx="2307960" cy="585000"/>
                <a:chOff x="4144680" y="4376160"/>
                <a:chExt cx="2307960" cy="5850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192200" y="4376160"/>
                  <a:ext cx="2212920" cy="58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            </a:t>
                  </a: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144680" y="4376160"/>
                  <a:ext cx="2307960" cy="58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6453000" y="4376160"/>
                <a:ext cx="2455920" cy="585000"/>
                <a:chOff x="6453000" y="4376160"/>
                <a:chExt cx="2455920" cy="5850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500520" y="4376160"/>
                  <a:ext cx="2360520" cy="58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453000" y="4376160"/>
                  <a:ext cx="2455920" cy="58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61880" y="4961160"/>
                <a:ext cx="3682440" cy="630360"/>
                <a:chOff x="461880" y="4961160"/>
                <a:chExt cx="3682440" cy="6303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09040" y="4961160"/>
                  <a:ext cx="358776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 financieros  priv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61880" y="4961160"/>
                  <a:ext cx="368244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144680" y="4961160"/>
                <a:ext cx="2307960" cy="630360"/>
                <a:chOff x="4144680" y="4961160"/>
                <a:chExt cx="2307960" cy="6303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192200" y="4961160"/>
                  <a:ext cx="22129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144680" y="4961160"/>
                  <a:ext cx="23079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453000" y="4961160"/>
                <a:ext cx="2455920" cy="630360"/>
                <a:chOff x="6453000" y="4961160"/>
                <a:chExt cx="2455920" cy="6303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500520" y="4961160"/>
                  <a:ext cx="23605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453000" y="4961160"/>
                  <a:ext cx="245592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461880" y="5591880"/>
                <a:ext cx="3682440" cy="630360"/>
                <a:chOff x="461880" y="5591880"/>
                <a:chExt cx="3682440" cy="6303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09040" y="5591880"/>
                  <a:ext cx="358776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ercados financier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61880" y="5591880"/>
                  <a:ext cx="368244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144680" y="5591880"/>
                <a:ext cx="2307960" cy="630360"/>
                <a:chOff x="4144680" y="5591880"/>
                <a:chExt cx="2307960" cy="6303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2200" y="5591880"/>
                  <a:ext cx="22129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44680" y="5591880"/>
                  <a:ext cx="23079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6453000" y="5591880"/>
                <a:ext cx="2455920" cy="630360"/>
                <a:chOff x="6453000" y="5591880"/>
                <a:chExt cx="2455920" cy="6303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500520" y="5591880"/>
                  <a:ext cx="23605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453000" y="5591880"/>
                  <a:ext cx="245592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61880" y="6222240"/>
                <a:ext cx="3682440" cy="630360"/>
                <a:chOff x="461880" y="6222240"/>
                <a:chExt cx="3682440" cy="6303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09040" y="6222240"/>
                  <a:ext cx="358776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pacidad sector financier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61880" y="6222240"/>
                  <a:ext cx="368244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4144680" y="6222240"/>
                <a:ext cx="2307960" cy="630360"/>
                <a:chOff x="4144680" y="6222240"/>
                <a:chExt cx="2307960" cy="6303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192200" y="6222240"/>
                  <a:ext cx="22129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144680" y="6222240"/>
                  <a:ext cx="230796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453000" y="6222240"/>
                <a:ext cx="2455920" cy="630360"/>
                <a:chOff x="6453000" y="6222240"/>
                <a:chExt cx="2455920" cy="6303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00520" y="6222240"/>
                  <a:ext cx="236052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453000" y="6222240"/>
                  <a:ext cx="2455920" cy="63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1219320"/>
              <a:ext cx="8457840" cy="5638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SPECTOS PUNTU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RASPASO ENTRE CAPITALIZACION Y REPA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ODIFICAR LOS INDICES DE ACTUALIZ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IMINAR TOPES EN EL COMP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" y="36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ELDO PROMEDIO EJECUTIVO DE 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66680" y="1295280"/>
            <a:ext cx="5676840" cy="5127840"/>
            <a:chOff x="1066680" y="1295280"/>
            <a:chExt cx="5676840" cy="5127840"/>
          </a:xfrm>
        </p:grpSpPr>
        <p:grpSp>
          <p:nvGrpSpPr>
            <p:cNvPr id="48" name=""/>
            <p:cNvGrpSpPr/>
            <p:nvPr/>
          </p:nvGrpSpPr>
          <p:grpSpPr>
            <a:xfrm>
              <a:off x="1071360" y="1299960"/>
              <a:ext cx="5667480" cy="5118120"/>
              <a:chOff x="1071360" y="1299960"/>
              <a:chExt cx="5667480" cy="51181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071360" y="1299960"/>
                <a:ext cx="2833560" cy="639720"/>
                <a:chOff x="1071360" y="1299960"/>
                <a:chExt cx="2833560" cy="6397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115640" y="129996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071360" y="129996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904920" y="1299960"/>
                <a:ext cx="2833920" cy="639720"/>
                <a:chOff x="3904920" y="1299960"/>
                <a:chExt cx="2833920" cy="639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949560" y="129996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08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904920" y="129996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1071360" y="1939680"/>
                <a:ext cx="2833560" cy="640080"/>
                <a:chOff x="1071360" y="1939680"/>
                <a:chExt cx="2833560" cy="64008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115640" y="1939680"/>
                  <a:ext cx="2745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071360" y="1939680"/>
                  <a:ext cx="28335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904920" y="1939680"/>
                <a:ext cx="2833920" cy="640080"/>
                <a:chOff x="3904920" y="1939680"/>
                <a:chExt cx="2833920" cy="6400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949560" y="1939680"/>
                  <a:ext cx="2744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8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904920" y="1939680"/>
                  <a:ext cx="2833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071360" y="2579760"/>
                <a:ext cx="2833560" cy="639720"/>
                <a:chOff x="1071360" y="2579760"/>
                <a:chExt cx="2833560" cy="639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1115640" y="257976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71360" y="257976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3904920" y="2579760"/>
                <a:ext cx="2833920" cy="639720"/>
                <a:chOff x="3904920" y="2579760"/>
                <a:chExt cx="283392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949560" y="257976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.7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904920" y="257976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1071360" y="3219480"/>
                <a:ext cx="2833560" cy="639720"/>
                <a:chOff x="1071360" y="3219480"/>
                <a:chExt cx="283356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115640" y="321948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71360" y="321948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3904920" y="3219480"/>
                <a:ext cx="2833920" cy="639720"/>
                <a:chOff x="3904920" y="3219480"/>
                <a:chExt cx="283392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949560" y="321948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.83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904920" y="321948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071360" y="3859200"/>
                <a:ext cx="2833560" cy="639720"/>
                <a:chOff x="1071360" y="3859200"/>
                <a:chExt cx="283356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115640" y="385920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071360" y="385920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3904920" y="3859200"/>
                <a:ext cx="2833920" cy="639720"/>
                <a:chOff x="3904920" y="3859200"/>
                <a:chExt cx="283392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949560" y="385920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.4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04920" y="385920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1071360" y="4498920"/>
                <a:ext cx="2833560" cy="639720"/>
                <a:chOff x="1071360" y="4498920"/>
                <a:chExt cx="283356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1115640" y="449892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071360" y="449892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904920" y="4498920"/>
                <a:ext cx="2833920" cy="639720"/>
                <a:chOff x="3904920" y="4498920"/>
                <a:chExt cx="283392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3949560" y="449892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.2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04920" y="449892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071360" y="5138640"/>
                <a:ext cx="2833560" cy="639720"/>
                <a:chOff x="1071360" y="5138640"/>
                <a:chExt cx="283356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115640" y="513864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071360" y="513864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904920" y="5138640"/>
                <a:ext cx="2833920" cy="639720"/>
                <a:chOff x="3904920" y="5138640"/>
                <a:chExt cx="283392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949560" y="513864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.54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04920" y="513864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071360" y="5778360"/>
                <a:ext cx="2833560" cy="639720"/>
                <a:chOff x="1071360" y="5778360"/>
                <a:chExt cx="283356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115640" y="577836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071360" y="577836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904920" y="5778360"/>
                <a:ext cx="2833920" cy="639720"/>
                <a:chOff x="3904920" y="5778360"/>
                <a:chExt cx="283392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949560" y="577836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.7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904920" y="577836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1066680" y="1295280"/>
              <a:ext cx="5676840" cy="5127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OFER OMNIBUS LARGA DIST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05120" y="685800"/>
            <a:ext cx="5676840" cy="6406920"/>
            <a:chOff x="1905120" y="685800"/>
            <a:chExt cx="5676840" cy="6406920"/>
          </a:xfrm>
        </p:grpSpPr>
        <p:grpSp>
          <p:nvGrpSpPr>
            <p:cNvPr id="100" name=""/>
            <p:cNvGrpSpPr/>
            <p:nvPr/>
          </p:nvGrpSpPr>
          <p:grpSpPr>
            <a:xfrm>
              <a:off x="1909800" y="690480"/>
              <a:ext cx="5667480" cy="6397560"/>
              <a:chOff x="1909800" y="690480"/>
              <a:chExt cx="5667480" cy="63975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1909800" y="690480"/>
                <a:ext cx="2833560" cy="639720"/>
                <a:chOff x="1909800" y="690480"/>
                <a:chExt cx="2833560" cy="639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954080" y="69048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909800" y="69048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743360" y="690480"/>
                <a:ext cx="2833920" cy="639720"/>
                <a:chOff x="4743360" y="690480"/>
                <a:chExt cx="2833920" cy="639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788000" y="69048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743360" y="69048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909800" y="1330200"/>
                <a:ext cx="2833560" cy="639720"/>
                <a:chOff x="1909800" y="1330200"/>
                <a:chExt cx="2833560" cy="6397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954080" y="133020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909800" y="133020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743360" y="1330200"/>
                <a:ext cx="2833920" cy="639720"/>
                <a:chOff x="4743360" y="1330200"/>
                <a:chExt cx="2833920" cy="639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788000" y="133020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0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743360" y="133020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909800" y="1969920"/>
                <a:ext cx="2833560" cy="639720"/>
                <a:chOff x="1909800" y="1969920"/>
                <a:chExt cx="2833560" cy="6397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954080" y="196992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909800" y="196992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743360" y="1969920"/>
                <a:ext cx="2833920" cy="639720"/>
                <a:chOff x="4743360" y="1969920"/>
                <a:chExt cx="2833920" cy="6397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788000" y="196992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743360" y="196992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1909800" y="2609640"/>
                <a:ext cx="2833560" cy="639720"/>
                <a:chOff x="1909800" y="2609640"/>
                <a:chExt cx="2833560" cy="639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954080" y="260964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909800" y="260964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743360" y="2609640"/>
                <a:ext cx="2833920" cy="639720"/>
                <a:chOff x="4743360" y="2609640"/>
                <a:chExt cx="2833920" cy="6397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788000" y="260964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9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743360" y="260964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909800" y="3249360"/>
                <a:ext cx="2833560" cy="640080"/>
                <a:chOff x="1909800" y="3249360"/>
                <a:chExt cx="2833560" cy="6400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954080" y="3249360"/>
                  <a:ext cx="2745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09800" y="3249360"/>
                  <a:ext cx="28335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743360" y="3249360"/>
                <a:ext cx="2833920" cy="640080"/>
                <a:chOff x="4743360" y="3249360"/>
                <a:chExt cx="2833920" cy="6400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788000" y="3249360"/>
                  <a:ext cx="2744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0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43360" y="3249360"/>
                  <a:ext cx="2833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09800" y="3889440"/>
                <a:ext cx="2833560" cy="639720"/>
                <a:chOff x="1909800" y="3889440"/>
                <a:chExt cx="2833560" cy="639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954080" y="388944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909800" y="388944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743360" y="3889440"/>
                <a:ext cx="2833920" cy="639720"/>
                <a:chOff x="4743360" y="3889440"/>
                <a:chExt cx="2833920" cy="639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788000" y="388944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58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43360" y="388944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909800" y="4529160"/>
                <a:ext cx="2833560" cy="639720"/>
                <a:chOff x="1909800" y="4529160"/>
                <a:chExt cx="2833560" cy="639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954080" y="452916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09800" y="452916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743360" y="4529160"/>
                <a:ext cx="2833920" cy="639720"/>
                <a:chOff x="4743360" y="4529160"/>
                <a:chExt cx="2833920" cy="639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788000" y="452916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3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43360" y="452916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909800" y="5168880"/>
                <a:ext cx="2833560" cy="639720"/>
                <a:chOff x="1909800" y="5168880"/>
                <a:chExt cx="2833560" cy="639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954080" y="516888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09800" y="516888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743360" y="5168880"/>
                <a:ext cx="2833920" cy="639720"/>
                <a:chOff x="4743360" y="5168880"/>
                <a:chExt cx="2833920" cy="639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788000" y="516888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4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43360" y="516888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909800" y="5808600"/>
                <a:ext cx="2833560" cy="639720"/>
                <a:chOff x="1909800" y="5808600"/>
                <a:chExt cx="2833560" cy="639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954080" y="580860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09800" y="580860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743360" y="5808600"/>
                <a:ext cx="2833920" cy="639720"/>
                <a:chOff x="4743360" y="5808600"/>
                <a:chExt cx="2833920" cy="639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788000" y="580860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4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43360" y="580860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909800" y="6448320"/>
                <a:ext cx="2833560" cy="639720"/>
                <a:chOff x="1909800" y="6448320"/>
                <a:chExt cx="2833560" cy="6397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954080" y="6448320"/>
                  <a:ext cx="274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09800" y="6448320"/>
                  <a:ext cx="2833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743360" y="6448320"/>
                <a:ext cx="2833920" cy="639720"/>
                <a:chOff x="4743360" y="6448320"/>
                <a:chExt cx="2833920" cy="6397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788000" y="644832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3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43360" y="644832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1905120" y="685800"/>
              <a:ext cx="5676840" cy="6406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HOFER OMNIBUS ZONA S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636560" y="865080"/>
            <a:ext cx="5870520" cy="5127480"/>
            <a:chOff x="1636560" y="865080"/>
            <a:chExt cx="5870520" cy="5127480"/>
          </a:xfrm>
        </p:grpSpPr>
        <p:grpSp>
          <p:nvGrpSpPr>
            <p:cNvPr id="164" name=""/>
            <p:cNvGrpSpPr/>
            <p:nvPr/>
          </p:nvGrpSpPr>
          <p:grpSpPr>
            <a:xfrm>
              <a:off x="1641240" y="869760"/>
              <a:ext cx="5861160" cy="5118120"/>
              <a:chOff x="1641240" y="869760"/>
              <a:chExt cx="5861160" cy="51181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1641240" y="869760"/>
                <a:ext cx="3027240" cy="639720"/>
                <a:chOff x="1641240" y="869760"/>
                <a:chExt cx="3027240" cy="6397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685520" y="869760"/>
                  <a:ext cx="2938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8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641240" y="869760"/>
                  <a:ext cx="30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668480" y="869760"/>
                <a:ext cx="2833920" cy="639720"/>
                <a:chOff x="4668480" y="869760"/>
                <a:chExt cx="2833920" cy="639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713120" y="86976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668480" y="86976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641240" y="1509480"/>
                <a:ext cx="3027240" cy="639720"/>
                <a:chOff x="1641240" y="1509480"/>
                <a:chExt cx="3027240" cy="639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685520" y="1509480"/>
                  <a:ext cx="2938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8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41240" y="1509480"/>
                  <a:ext cx="30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668480" y="1509480"/>
                <a:ext cx="2833920" cy="639720"/>
                <a:chOff x="4668480" y="1509480"/>
                <a:chExt cx="2833920" cy="6397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713120" y="150948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668480" y="150948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41240" y="2149200"/>
                <a:ext cx="237960" cy="639720"/>
                <a:chOff x="1641240" y="2149200"/>
                <a:chExt cx="237960" cy="6397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641240" y="2149200"/>
                  <a:ext cx="2379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41240" y="2149200"/>
                  <a:ext cx="237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879200" y="2149200"/>
                <a:ext cx="2789280" cy="639720"/>
                <a:chOff x="1879200" y="2149200"/>
                <a:chExt cx="2789280" cy="6397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923840" y="2149200"/>
                  <a:ext cx="2700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879200" y="2149200"/>
                  <a:ext cx="2789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668480" y="2149200"/>
                <a:ext cx="2833920" cy="639720"/>
                <a:chOff x="4668480" y="2149200"/>
                <a:chExt cx="2833920" cy="639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713120" y="214920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668480" y="214920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41240" y="2788920"/>
                <a:ext cx="237960" cy="639720"/>
                <a:chOff x="1641240" y="2788920"/>
                <a:chExt cx="237960" cy="6397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641240" y="2788920"/>
                  <a:ext cx="2379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41240" y="2788920"/>
                  <a:ext cx="237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879200" y="2788920"/>
                <a:ext cx="2789280" cy="639720"/>
                <a:chOff x="1879200" y="2788920"/>
                <a:chExt cx="2789280" cy="6397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923840" y="2788920"/>
                  <a:ext cx="2700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879200" y="2788920"/>
                  <a:ext cx="2789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668480" y="2788920"/>
                <a:ext cx="2833920" cy="639720"/>
                <a:chOff x="4668480" y="2788920"/>
                <a:chExt cx="2833920" cy="6397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713120" y="278892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68480" y="278892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41240" y="3428640"/>
                <a:ext cx="237960" cy="640080"/>
                <a:chOff x="1641240" y="3428640"/>
                <a:chExt cx="237960" cy="640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641240" y="3428640"/>
                  <a:ext cx="2379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41240" y="3428640"/>
                  <a:ext cx="2379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879200" y="3428640"/>
                <a:ext cx="2789280" cy="640080"/>
                <a:chOff x="1879200" y="3428640"/>
                <a:chExt cx="2789280" cy="640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23840" y="3428640"/>
                  <a:ext cx="27003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8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879200" y="3428640"/>
                  <a:ext cx="27892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668480" y="3428640"/>
                <a:ext cx="2833920" cy="640080"/>
                <a:chOff x="4668480" y="3428640"/>
                <a:chExt cx="2833920" cy="6400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713120" y="3428640"/>
                  <a:ext cx="2744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68480" y="3428640"/>
                  <a:ext cx="2833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41240" y="4068720"/>
                <a:ext cx="237960" cy="639720"/>
                <a:chOff x="1641240" y="4068720"/>
                <a:chExt cx="237960" cy="639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641240" y="4068720"/>
                  <a:ext cx="2379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1240" y="4068720"/>
                  <a:ext cx="237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879200" y="4068720"/>
                <a:ext cx="2789280" cy="639720"/>
                <a:chOff x="1879200" y="4068720"/>
                <a:chExt cx="2789280" cy="639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23840" y="4068720"/>
                  <a:ext cx="2700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879200" y="4068720"/>
                  <a:ext cx="2789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4668480" y="4068720"/>
                <a:ext cx="2833920" cy="639720"/>
                <a:chOff x="4668480" y="4068720"/>
                <a:chExt cx="2833920" cy="639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713120" y="406872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9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668480" y="406872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1240" y="4708440"/>
                <a:ext cx="237960" cy="639720"/>
                <a:chOff x="1641240" y="4708440"/>
                <a:chExt cx="237960" cy="6397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641240" y="4708440"/>
                  <a:ext cx="2379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1240" y="4708440"/>
                  <a:ext cx="237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879200" y="4708440"/>
                <a:ext cx="2789280" cy="639720"/>
                <a:chOff x="1879200" y="4708440"/>
                <a:chExt cx="2789280" cy="639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23840" y="4708440"/>
                  <a:ext cx="2700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879200" y="4708440"/>
                  <a:ext cx="2789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668480" y="4708440"/>
                <a:ext cx="2833920" cy="639720"/>
                <a:chOff x="4668480" y="4708440"/>
                <a:chExt cx="2833920" cy="639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713120" y="470844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68480" y="470844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1240" y="5348160"/>
                <a:ext cx="237960" cy="639720"/>
                <a:chOff x="1641240" y="5348160"/>
                <a:chExt cx="237960" cy="639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641240" y="5348160"/>
                  <a:ext cx="2379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1240" y="5348160"/>
                  <a:ext cx="237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879200" y="5348160"/>
                <a:ext cx="2789280" cy="639720"/>
                <a:chOff x="1879200" y="5348160"/>
                <a:chExt cx="2789280" cy="6397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923840" y="5348160"/>
                  <a:ext cx="2700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879200" y="5348160"/>
                  <a:ext cx="2789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668480" y="5348160"/>
                <a:ext cx="2833920" cy="639720"/>
                <a:chOff x="4668480" y="5348160"/>
                <a:chExt cx="2833920" cy="639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713120" y="5348160"/>
                  <a:ext cx="274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5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68480" y="5348160"/>
                  <a:ext cx="2833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6560" y="865080"/>
              <a:ext cx="5870520" cy="5127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MUNERACIONES SECTOR PU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835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Haber de  $ 504,--  desde 1/4/92 al 15/10/94Actualizado  a $ 700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Haber de $ 680,--hasta16/10/94 al 14/12/94  Actualizado a $ 812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Haber de$ 750,--hasta 15/12/94 al15/12/96 Actualizado a $ 924.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Reencasillado cobrando importantes retroactivos en12/97 y 12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IMINAR TOPES AÑOS DE APO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ESTACION BASICA UNIVERSAL 45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BASICO $ 200 MAS $ 2 AÑO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 45  AÑOS =  TOTAL  $ 230,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ESTACION COMPENSATORIA   35 AÑOS 1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ELDO $ 1000,- PERCIBIRA $ 735,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ESTACION ADICIONAL PERMANENCIA 35 AÑOS   0,85 % POR AÑO HASTA 20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 35 AÑOS PERCIBE EL 29,75 % DEL HABER PROMEDIO MAS P.B.U   $  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ELDO $ 1.000 PERCIBIRA  $ 507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LCULO BENEFICIARIO CON 30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36376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9144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362320"/>
            <a:ext cx="91440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SUELDOS       500        1000         1500            2000           3000           4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BU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20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20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    20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20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  200            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150          300            450            600             900            14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AP                42,50          85         127,50          170             255              4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657600"/>
            <a:ext cx="914400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INGRESO      392,50      585         777,50          970           1355             20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% S/SUELDO 78,5%    58,5%      51,83%         48,5%     45,16%         42,6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QUISITOS ES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eparar presupuestos por sepa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jorar la recaudación previ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itigar la judicialización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centivos permanentes para aport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ayor equidad que igual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decuación del régimen de capi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0:49:56Z</dcterms:created>
  <dc:creator>Zablackas</dc:creator>
  <dc:description/>
  <dc:language>en-US</dc:language>
  <cp:lastModifiedBy>Zablackas</cp:lastModifiedBy>
  <dcterms:modified xsi:type="dcterms:W3CDTF">2005-10-20T01:06:57Z</dcterms:modified>
  <cp:revision>1</cp:revision>
  <dc:subject/>
  <dc:title>3° CONGRESO INTERNACIONAL  DE LA SEGURIDAD SOCIAL</dc:title>
</cp:coreProperties>
</file>