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268-943F-40D1-8840-CBD68E7B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F1E-C9AC-493F-960D-3C017EC6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E02-7FEA-4518-BFAF-7E431618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413-E4C7-4CE3-B7AB-52E4746B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8AA8-CA23-4EE6-8DAB-A65F5570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F24D-D4D1-4341-A4F1-5B17CB10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EB26-8589-4845-ADD3-8B250B9B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1626-98C3-4D32-8CDA-8E98A3FF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1191-5371-498E-A87D-304C245C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BFD3-6E1C-4619-A84A-3200F34C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669F-0F4B-4F73-AC82-F8B0BD5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AB5-9FF4-4901-B4FA-8E858AF5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584F-4C33-4AFC-B0E3-1A73E793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2924-9973-4D11-9E4C-1D42ADCE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4139-B3FC-4419-839C-30AAD21C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4C29-148F-442E-9CFA-C8C7306C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3E21-FFD7-46ED-B807-9A4BD275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3B8-CE18-464C-AE8E-F992D509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3B3-7781-4EB8-9550-3414E7A0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02D-E3F3-4EA2-A5E5-5E8B9D2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270-25FD-4982-9CF0-6C8A8FAD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C96-D5A3-4ACB-A128-449F8F7D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BBB-4F28-465B-B132-08ED2FA4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53E-8EDF-47F3-9E3E-621E097F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B05A-9145-4642-AF24-602EE2A834C0}" type="slidenum">
              <a:rPr b="0" lang="es-E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4CBA-3CDA-4777-A07C-A596937007E8}" type="slidenum">
              <a:rPr b="0" lang="es-E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Dr. Walter Schulthess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Director del Dto. de Economía y de la Maestría en Economía de la Universidad Empresarial Siglo 21.</a:t>
            </a:r>
            <a:br>
              <a:rPr sz="3600"/>
            </a:b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2005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REGÍMENES DE ACTUALIZACIÓN EN ARGENTINA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2057400"/>
            <a:ext cx="8533800" cy="3886200"/>
            <a:chOff x="304920" y="2057400"/>
            <a:chExt cx="8533800" cy="3886200"/>
          </a:xfrm>
        </p:grpSpPr>
        <p:grpSp>
          <p:nvGrpSpPr>
            <p:cNvPr id="91" name=""/>
            <p:cNvGrpSpPr/>
            <p:nvPr/>
          </p:nvGrpSpPr>
          <p:grpSpPr>
            <a:xfrm>
              <a:off x="311400" y="2061720"/>
              <a:ext cx="8519400" cy="3876120"/>
              <a:chOff x="311400" y="2061720"/>
              <a:chExt cx="8519400" cy="38761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311400" y="2061720"/>
                <a:ext cx="4259520" cy="1164240"/>
                <a:chOff x="311400" y="2061720"/>
                <a:chExt cx="4259520" cy="11642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75480" y="2061720"/>
                  <a:ext cx="4130640" cy="11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Leyes 18037 y 18038                                          </a:t>
                  </a: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11400" y="2061720"/>
                  <a:ext cx="4259520" cy="116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4571280" y="2061720"/>
                <a:ext cx="4259520" cy="1164240"/>
                <a:chOff x="4571280" y="2061720"/>
                <a:chExt cx="4259520" cy="11642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4635360" y="2061720"/>
                  <a:ext cx="4130640" cy="11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Fundamentalmente Índice salarial</a:t>
                  </a: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571280" y="2061720"/>
                  <a:ext cx="4259520" cy="116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11400" y="3225960"/>
                <a:ext cx="4259520" cy="780840"/>
                <a:chOff x="311400" y="3225960"/>
                <a:chExt cx="4259520" cy="7808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75480" y="3225960"/>
                  <a:ext cx="4130640" cy="78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Ley 24 241  (SIJP)                                               </a:t>
                  </a: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11400" y="3225960"/>
                  <a:ext cx="4259520" cy="78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571280" y="3225960"/>
                <a:ext cx="4259520" cy="780840"/>
                <a:chOff x="4571280" y="3225960"/>
                <a:chExt cx="4259520" cy="7808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635360" y="3225960"/>
                  <a:ext cx="4130640" cy="78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AMPO</a:t>
                  </a: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71280" y="3225960"/>
                  <a:ext cx="4259520" cy="78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11400" y="4006800"/>
                <a:ext cx="4259520" cy="1931040"/>
                <a:chOff x="311400" y="4006800"/>
                <a:chExt cx="4259520" cy="19310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75480" y="4006800"/>
                  <a:ext cx="4130640" cy="19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6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Ley 24463 (Solidaridad Prev</a:t>
                  </a:r>
                  <a:r>
                    <a:rPr b="1" lang="es-ES_tradnl" sz="26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i</a:t>
                  </a:r>
                  <a:r>
                    <a:rPr b="1" lang="es-ES" sz="26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sional , art. 32)        </a:t>
                  </a: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11400" y="4006800"/>
                  <a:ext cx="4259520" cy="193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571280" y="4006800"/>
                <a:ext cx="4259520" cy="1931040"/>
                <a:chOff x="4571280" y="4006800"/>
                <a:chExt cx="4259520" cy="19310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635360" y="4006800"/>
                  <a:ext cx="4130640" cy="19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6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Incluir en el presupuesto actual</a:t>
                  </a: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571280" y="4006800"/>
                  <a:ext cx="4259520" cy="193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04920" y="2057400"/>
              <a:ext cx="853380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83628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ÍNDICE SALARIAL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1.- </a:t>
            </a:r>
            <a:r>
              <a:rPr b="1" lang="es-E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Global es difícil su cálculo y puede ponerse en duda su representatividad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2.- Urbano (el mas generalizado) o por sectores económicos (pueden en el largo plazo criticarse por la dependencia del salario a la productividad)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3.- Podrán existir beneficiados y perjudicado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4.- Lentitud en su cálculo</a:t>
            </a:r>
            <a:r>
              <a:rPr b="1" lang="es-E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01880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ÍNDICE DE PRECIO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1.- Selección del índice de preci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2.- Criticas por el tipo de bienes que lo componen (canasta familiar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3.</a:t>
            </a:r>
            <a:r>
              <a:rPr b="0" lang="es-ES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- Rapidez en su cálcul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.- Mayor divulgación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232560"/>
            <a:ext cx="863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INDICE UTILIZADO PARA LA MOVILIDAD DE LAS JUBILACIONES - OECD</a:t>
            </a: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0880" y="1828800"/>
            <a:ext cx="8457480" cy="4473360"/>
            <a:chOff x="380880" y="1828800"/>
            <a:chExt cx="8457480" cy="4473360"/>
          </a:xfrm>
        </p:grpSpPr>
        <p:grpSp>
          <p:nvGrpSpPr>
            <p:cNvPr id="117" name=""/>
            <p:cNvGrpSpPr/>
            <p:nvPr/>
          </p:nvGrpSpPr>
          <p:grpSpPr>
            <a:xfrm>
              <a:off x="380880" y="1828800"/>
              <a:ext cx="1551960" cy="540720"/>
              <a:chOff x="380880" y="1828800"/>
              <a:chExt cx="1551960" cy="540720"/>
            </a:xfrm>
          </p:grpSpPr>
          <p:sp>
            <p:nvSpPr>
              <p:cNvPr id="118" name=""/>
              <p:cNvSpPr/>
              <p:nvPr/>
            </p:nvSpPr>
            <p:spPr>
              <a:xfrm>
                <a:off x="395280" y="1828800"/>
                <a:ext cx="152244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AIS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1828800"/>
                <a:ext cx="1551960" cy="540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933200" y="1828800"/>
              <a:ext cx="1380600" cy="532800"/>
              <a:chOff x="1933200" y="1828800"/>
              <a:chExt cx="1380600" cy="532800"/>
            </a:xfrm>
          </p:grpSpPr>
          <p:sp>
            <p:nvSpPr>
              <p:cNvPr id="121" name=""/>
              <p:cNvSpPr/>
              <p:nvPr/>
            </p:nvSpPr>
            <p:spPr>
              <a:xfrm>
                <a:off x="1947600" y="1836360"/>
                <a:ext cx="135108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1964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33200" y="182880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314520" y="1828800"/>
              <a:ext cx="1380600" cy="532800"/>
              <a:chOff x="3314520" y="1828800"/>
              <a:chExt cx="1380600" cy="532800"/>
            </a:xfrm>
          </p:grpSpPr>
          <p:sp>
            <p:nvSpPr>
              <p:cNvPr id="124" name=""/>
              <p:cNvSpPr/>
              <p:nvPr/>
            </p:nvSpPr>
            <p:spPr>
              <a:xfrm>
                <a:off x="3328920" y="1836360"/>
                <a:ext cx="135108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1971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14520" y="182880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695480" y="1828800"/>
              <a:ext cx="1380600" cy="532800"/>
              <a:chOff x="4695480" y="1828800"/>
              <a:chExt cx="1380600" cy="532800"/>
            </a:xfrm>
          </p:grpSpPr>
          <p:sp>
            <p:nvSpPr>
              <p:cNvPr id="127" name=""/>
              <p:cNvSpPr/>
              <p:nvPr/>
            </p:nvSpPr>
            <p:spPr>
              <a:xfrm>
                <a:off x="4709880" y="1836360"/>
                <a:ext cx="135180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1978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95480" y="182880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076440" y="1828800"/>
              <a:ext cx="1380600" cy="532800"/>
              <a:chOff x="6076440" y="1828800"/>
              <a:chExt cx="1380600" cy="532800"/>
            </a:xfrm>
          </p:grpSpPr>
          <p:sp>
            <p:nvSpPr>
              <p:cNvPr id="130" name=""/>
              <p:cNvSpPr/>
              <p:nvPr/>
            </p:nvSpPr>
            <p:spPr>
              <a:xfrm>
                <a:off x="6090840" y="1836360"/>
                <a:ext cx="135180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1986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76440" y="182880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7457760" y="1828800"/>
              <a:ext cx="1380600" cy="532800"/>
              <a:chOff x="7457760" y="1828800"/>
              <a:chExt cx="1380600" cy="532800"/>
            </a:xfrm>
          </p:grpSpPr>
          <p:sp>
            <p:nvSpPr>
              <p:cNvPr id="133" name=""/>
              <p:cNvSpPr/>
              <p:nvPr/>
            </p:nvSpPr>
            <p:spPr>
              <a:xfrm>
                <a:off x="7472520" y="1836360"/>
                <a:ext cx="135108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1993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57760" y="182880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80880" y="2369520"/>
              <a:ext cx="1551960" cy="532800"/>
              <a:chOff x="380880" y="2369520"/>
              <a:chExt cx="1551960" cy="532800"/>
            </a:xfrm>
          </p:grpSpPr>
          <p:sp>
            <p:nvSpPr>
              <p:cNvPr id="136" name=""/>
              <p:cNvSpPr/>
              <p:nvPr/>
            </p:nvSpPr>
            <p:spPr>
              <a:xfrm>
                <a:off x="395280" y="2377440"/>
                <a:ext cx="152244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Alemania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0880" y="2369520"/>
                <a:ext cx="155196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933200" y="2369520"/>
              <a:ext cx="1380600" cy="532800"/>
              <a:chOff x="1933200" y="2369520"/>
              <a:chExt cx="1380600" cy="532800"/>
            </a:xfrm>
          </p:grpSpPr>
          <p:sp>
            <p:nvSpPr>
              <p:cNvPr id="139" name=""/>
              <p:cNvSpPr/>
              <p:nvPr/>
            </p:nvSpPr>
            <p:spPr>
              <a:xfrm>
                <a:off x="1947600" y="237744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33200" y="236952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314520" y="2369520"/>
              <a:ext cx="1380600" cy="532800"/>
              <a:chOff x="3314520" y="2369520"/>
              <a:chExt cx="1380600" cy="532800"/>
            </a:xfrm>
          </p:grpSpPr>
          <p:sp>
            <p:nvSpPr>
              <p:cNvPr id="142" name=""/>
              <p:cNvSpPr/>
              <p:nvPr/>
            </p:nvSpPr>
            <p:spPr>
              <a:xfrm>
                <a:off x="3328920" y="237744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14520" y="236952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695480" y="2369520"/>
              <a:ext cx="1380600" cy="532800"/>
              <a:chOff x="4695480" y="2369520"/>
              <a:chExt cx="1380600" cy="532800"/>
            </a:xfrm>
          </p:grpSpPr>
          <p:sp>
            <p:nvSpPr>
              <p:cNvPr id="145" name=""/>
              <p:cNvSpPr/>
              <p:nvPr/>
            </p:nvSpPr>
            <p:spPr>
              <a:xfrm>
                <a:off x="4709880" y="2377440"/>
                <a:ext cx="135180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95480" y="236952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076440" y="2369520"/>
              <a:ext cx="1380600" cy="532800"/>
              <a:chOff x="6076440" y="2369520"/>
              <a:chExt cx="1380600" cy="532800"/>
            </a:xfrm>
          </p:grpSpPr>
          <p:sp>
            <p:nvSpPr>
              <p:cNvPr id="148" name=""/>
              <p:cNvSpPr/>
              <p:nvPr/>
            </p:nvSpPr>
            <p:spPr>
              <a:xfrm>
                <a:off x="6090840" y="2377440"/>
                <a:ext cx="135180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76440" y="236952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457760" y="2369520"/>
              <a:ext cx="1380600" cy="532800"/>
              <a:chOff x="7457760" y="2369520"/>
              <a:chExt cx="1380600" cy="532800"/>
            </a:xfrm>
          </p:grpSpPr>
          <p:sp>
            <p:nvSpPr>
              <p:cNvPr id="151" name=""/>
              <p:cNvSpPr/>
              <p:nvPr/>
            </p:nvSpPr>
            <p:spPr>
              <a:xfrm>
                <a:off x="7472520" y="237744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457760" y="236952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80880" y="2910240"/>
              <a:ext cx="1551960" cy="532800"/>
              <a:chOff x="380880" y="2910240"/>
              <a:chExt cx="1551960" cy="532800"/>
            </a:xfrm>
          </p:grpSpPr>
          <p:sp>
            <p:nvSpPr>
              <p:cNvPr id="154" name=""/>
              <p:cNvSpPr/>
              <p:nvPr/>
            </p:nvSpPr>
            <p:spPr>
              <a:xfrm>
                <a:off x="395280" y="2918160"/>
                <a:ext cx="152244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Austria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0880" y="2910240"/>
                <a:ext cx="155196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33200" y="2910240"/>
              <a:ext cx="1380600" cy="532800"/>
              <a:chOff x="1933200" y="2910240"/>
              <a:chExt cx="1380600" cy="532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947600" y="291816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33200" y="291024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314520" y="2910240"/>
              <a:ext cx="1380600" cy="532800"/>
              <a:chOff x="3314520" y="2910240"/>
              <a:chExt cx="1380600" cy="532800"/>
            </a:xfrm>
          </p:grpSpPr>
          <p:sp>
            <p:nvSpPr>
              <p:cNvPr id="160" name=""/>
              <p:cNvSpPr/>
              <p:nvPr/>
            </p:nvSpPr>
            <p:spPr>
              <a:xfrm>
                <a:off x="3328920" y="291816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14520" y="291024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695480" y="2910240"/>
              <a:ext cx="1380600" cy="532800"/>
              <a:chOff x="4695480" y="2910240"/>
              <a:chExt cx="1380600" cy="532800"/>
            </a:xfrm>
          </p:grpSpPr>
          <p:sp>
            <p:nvSpPr>
              <p:cNvPr id="163" name=""/>
              <p:cNvSpPr/>
              <p:nvPr/>
            </p:nvSpPr>
            <p:spPr>
              <a:xfrm>
                <a:off x="4709880" y="2918160"/>
                <a:ext cx="135180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95480" y="291024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076440" y="2910240"/>
              <a:ext cx="1380600" cy="532800"/>
              <a:chOff x="6076440" y="2910240"/>
              <a:chExt cx="1380600" cy="532800"/>
            </a:xfrm>
          </p:grpSpPr>
          <p:sp>
            <p:nvSpPr>
              <p:cNvPr id="166" name=""/>
              <p:cNvSpPr/>
              <p:nvPr/>
            </p:nvSpPr>
            <p:spPr>
              <a:xfrm>
                <a:off x="6090840" y="2918160"/>
                <a:ext cx="135180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76440" y="291024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457760" y="2910240"/>
              <a:ext cx="1380600" cy="532800"/>
              <a:chOff x="7457760" y="2910240"/>
              <a:chExt cx="1380600" cy="532800"/>
            </a:xfrm>
          </p:grpSpPr>
          <p:sp>
            <p:nvSpPr>
              <p:cNvPr id="169" name=""/>
              <p:cNvSpPr/>
              <p:nvPr/>
            </p:nvSpPr>
            <p:spPr>
              <a:xfrm>
                <a:off x="7472520" y="291816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57760" y="291024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80880" y="3451320"/>
              <a:ext cx="1551960" cy="532800"/>
              <a:chOff x="380880" y="3451320"/>
              <a:chExt cx="1551960" cy="532800"/>
            </a:xfrm>
          </p:grpSpPr>
          <p:sp>
            <p:nvSpPr>
              <p:cNvPr id="172" name=""/>
              <p:cNvSpPr/>
              <p:nvPr/>
            </p:nvSpPr>
            <p:spPr>
              <a:xfrm>
                <a:off x="395280" y="3459240"/>
                <a:ext cx="152244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Bélgica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0880" y="3451320"/>
                <a:ext cx="155196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933200" y="3451320"/>
              <a:ext cx="1380600" cy="532800"/>
              <a:chOff x="1933200" y="3451320"/>
              <a:chExt cx="1380600" cy="532800"/>
            </a:xfrm>
          </p:grpSpPr>
          <p:sp>
            <p:nvSpPr>
              <p:cNvPr id="175" name=""/>
              <p:cNvSpPr/>
              <p:nvPr/>
            </p:nvSpPr>
            <p:spPr>
              <a:xfrm>
                <a:off x="1947600" y="345924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33200" y="345132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3314520" y="3451320"/>
              <a:ext cx="1380600" cy="532800"/>
              <a:chOff x="3314520" y="3451320"/>
              <a:chExt cx="1380600" cy="532800"/>
            </a:xfrm>
          </p:grpSpPr>
          <p:sp>
            <p:nvSpPr>
              <p:cNvPr id="178" name=""/>
              <p:cNvSpPr/>
              <p:nvPr/>
            </p:nvSpPr>
            <p:spPr>
              <a:xfrm>
                <a:off x="3328920" y="345924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14520" y="345132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695480" y="3451320"/>
              <a:ext cx="1380600" cy="532800"/>
              <a:chOff x="4695480" y="3451320"/>
              <a:chExt cx="1380600" cy="532800"/>
            </a:xfrm>
          </p:grpSpPr>
          <p:sp>
            <p:nvSpPr>
              <p:cNvPr id="181" name=""/>
              <p:cNvSpPr/>
              <p:nvPr/>
            </p:nvSpPr>
            <p:spPr>
              <a:xfrm>
                <a:off x="4709880" y="3459240"/>
                <a:ext cx="135180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95480" y="345132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076440" y="3451320"/>
              <a:ext cx="1380600" cy="532800"/>
              <a:chOff x="6076440" y="3451320"/>
              <a:chExt cx="1380600" cy="532800"/>
            </a:xfrm>
          </p:grpSpPr>
          <p:sp>
            <p:nvSpPr>
              <p:cNvPr id="184" name=""/>
              <p:cNvSpPr/>
              <p:nvPr/>
            </p:nvSpPr>
            <p:spPr>
              <a:xfrm>
                <a:off x="6090840" y="3459240"/>
                <a:ext cx="135180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76440" y="345132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457760" y="3451320"/>
              <a:ext cx="1380600" cy="532800"/>
              <a:chOff x="7457760" y="3451320"/>
              <a:chExt cx="1380600" cy="532800"/>
            </a:xfrm>
          </p:grpSpPr>
          <p:sp>
            <p:nvSpPr>
              <p:cNvPr id="187" name=""/>
              <p:cNvSpPr/>
              <p:nvPr/>
            </p:nvSpPr>
            <p:spPr>
              <a:xfrm>
                <a:off x="7472520" y="345924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57760" y="345132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380880" y="3992040"/>
              <a:ext cx="1551960" cy="532800"/>
              <a:chOff x="380880" y="3992040"/>
              <a:chExt cx="1551960" cy="532800"/>
            </a:xfrm>
          </p:grpSpPr>
          <p:sp>
            <p:nvSpPr>
              <p:cNvPr id="190" name=""/>
              <p:cNvSpPr/>
              <p:nvPr/>
            </p:nvSpPr>
            <p:spPr>
              <a:xfrm>
                <a:off x="395280" y="3999960"/>
                <a:ext cx="152244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Canadá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0880" y="3992040"/>
                <a:ext cx="155196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933200" y="3992040"/>
              <a:ext cx="1380600" cy="532800"/>
              <a:chOff x="1933200" y="3992040"/>
              <a:chExt cx="1380600" cy="532800"/>
            </a:xfrm>
          </p:grpSpPr>
          <p:sp>
            <p:nvSpPr>
              <p:cNvPr id="193" name=""/>
              <p:cNvSpPr/>
              <p:nvPr/>
            </p:nvSpPr>
            <p:spPr>
              <a:xfrm>
                <a:off x="1947600" y="399996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33200" y="399204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314520" y="3992040"/>
              <a:ext cx="1380600" cy="532800"/>
              <a:chOff x="3314520" y="3992040"/>
              <a:chExt cx="1380600" cy="532800"/>
            </a:xfrm>
          </p:grpSpPr>
          <p:sp>
            <p:nvSpPr>
              <p:cNvPr id="196" name=""/>
              <p:cNvSpPr/>
              <p:nvPr/>
            </p:nvSpPr>
            <p:spPr>
              <a:xfrm>
                <a:off x="3328920" y="399996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14520" y="399204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4695480" y="3992040"/>
              <a:ext cx="1380600" cy="532800"/>
              <a:chOff x="4695480" y="3992040"/>
              <a:chExt cx="1380600" cy="532800"/>
            </a:xfrm>
          </p:grpSpPr>
          <p:sp>
            <p:nvSpPr>
              <p:cNvPr id="199" name=""/>
              <p:cNvSpPr/>
              <p:nvPr/>
            </p:nvSpPr>
            <p:spPr>
              <a:xfrm>
                <a:off x="4709880" y="3999960"/>
                <a:ext cx="135180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95480" y="399204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6076440" y="3992040"/>
              <a:ext cx="1380600" cy="532800"/>
              <a:chOff x="6076440" y="3992040"/>
              <a:chExt cx="1380600" cy="532800"/>
            </a:xfrm>
          </p:grpSpPr>
          <p:sp>
            <p:nvSpPr>
              <p:cNvPr id="202" name=""/>
              <p:cNvSpPr/>
              <p:nvPr/>
            </p:nvSpPr>
            <p:spPr>
              <a:xfrm>
                <a:off x="6090840" y="3999960"/>
                <a:ext cx="135180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76440" y="399204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457760" y="3992040"/>
              <a:ext cx="1380600" cy="532800"/>
              <a:chOff x="7457760" y="3992040"/>
              <a:chExt cx="1380600" cy="532800"/>
            </a:xfrm>
          </p:grpSpPr>
          <p:sp>
            <p:nvSpPr>
              <p:cNvPr id="205" name=""/>
              <p:cNvSpPr/>
              <p:nvPr/>
            </p:nvSpPr>
            <p:spPr>
              <a:xfrm>
                <a:off x="7472520" y="399996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57760" y="399204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80880" y="4533480"/>
              <a:ext cx="1551960" cy="686880"/>
              <a:chOff x="380880" y="4533480"/>
              <a:chExt cx="1551960" cy="686880"/>
            </a:xfrm>
          </p:grpSpPr>
          <p:sp>
            <p:nvSpPr>
              <p:cNvPr id="208" name=""/>
              <p:cNvSpPr/>
              <p:nvPr/>
            </p:nvSpPr>
            <p:spPr>
              <a:xfrm>
                <a:off x="395280" y="4541040"/>
                <a:ext cx="152244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Dinamarca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80880" y="4533480"/>
                <a:ext cx="1551960" cy="68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933200" y="4533480"/>
              <a:ext cx="1380600" cy="686880"/>
              <a:chOff x="1933200" y="4533480"/>
              <a:chExt cx="1380600" cy="686880"/>
            </a:xfrm>
          </p:grpSpPr>
          <p:sp>
            <p:nvSpPr>
              <p:cNvPr id="211" name=""/>
              <p:cNvSpPr/>
              <p:nvPr/>
            </p:nvSpPr>
            <p:spPr>
              <a:xfrm>
                <a:off x="1947600" y="4541040"/>
                <a:ext cx="135108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33200" y="4533480"/>
                <a:ext cx="1380600" cy="68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314520" y="4533480"/>
              <a:ext cx="1380600" cy="686880"/>
              <a:chOff x="3314520" y="4533480"/>
              <a:chExt cx="1380600" cy="686880"/>
            </a:xfrm>
          </p:grpSpPr>
          <p:sp>
            <p:nvSpPr>
              <p:cNvPr id="214" name=""/>
              <p:cNvSpPr/>
              <p:nvPr/>
            </p:nvSpPr>
            <p:spPr>
              <a:xfrm>
                <a:off x="3328920" y="4541040"/>
                <a:ext cx="135108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14520" y="4533480"/>
                <a:ext cx="1380600" cy="68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695480" y="4533480"/>
              <a:ext cx="1380600" cy="686880"/>
              <a:chOff x="4695480" y="4533480"/>
              <a:chExt cx="1380600" cy="686880"/>
            </a:xfrm>
          </p:grpSpPr>
          <p:sp>
            <p:nvSpPr>
              <p:cNvPr id="217" name=""/>
              <p:cNvSpPr/>
              <p:nvPr/>
            </p:nvSpPr>
            <p:spPr>
              <a:xfrm>
                <a:off x="4709880" y="4541040"/>
                <a:ext cx="135180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95480" y="4533480"/>
                <a:ext cx="1380600" cy="68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076440" y="4533480"/>
              <a:ext cx="1380600" cy="686880"/>
              <a:chOff x="6076440" y="4533480"/>
              <a:chExt cx="1380600" cy="686880"/>
            </a:xfrm>
          </p:grpSpPr>
          <p:sp>
            <p:nvSpPr>
              <p:cNvPr id="220" name=""/>
              <p:cNvSpPr/>
              <p:nvPr/>
            </p:nvSpPr>
            <p:spPr>
              <a:xfrm>
                <a:off x="6090840" y="4541040"/>
                <a:ext cx="135180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76440" y="4533480"/>
                <a:ext cx="1380600" cy="68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7457760" y="4533480"/>
              <a:ext cx="1380600" cy="686880"/>
              <a:chOff x="7457760" y="4533480"/>
              <a:chExt cx="1380600" cy="686880"/>
            </a:xfrm>
          </p:grpSpPr>
          <p:sp>
            <p:nvSpPr>
              <p:cNvPr id="223" name=""/>
              <p:cNvSpPr/>
              <p:nvPr/>
            </p:nvSpPr>
            <p:spPr>
              <a:xfrm>
                <a:off x="7472520" y="4541040"/>
                <a:ext cx="135108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57760" y="4533480"/>
                <a:ext cx="1380600" cy="68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80880" y="5228640"/>
              <a:ext cx="1551960" cy="532440"/>
              <a:chOff x="380880" y="5228640"/>
              <a:chExt cx="1551960" cy="532440"/>
            </a:xfrm>
          </p:grpSpPr>
          <p:sp>
            <p:nvSpPr>
              <p:cNvPr id="226" name=""/>
              <p:cNvSpPr/>
              <p:nvPr/>
            </p:nvSpPr>
            <p:spPr>
              <a:xfrm>
                <a:off x="395280" y="5236200"/>
                <a:ext cx="152244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España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0880" y="5228640"/>
                <a:ext cx="1551960" cy="53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933200" y="5228640"/>
              <a:ext cx="1380600" cy="532440"/>
              <a:chOff x="1933200" y="5228640"/>
              <a:chExt cx="1380600" cy="532440"/>
            </a:xfrm>
          </p:grpSpPr>
          <p:sp>
            <p:nvSpPr>
              <p:cNvPr id="229" name=""/>
              <p:cNvSpPr/>
              <p:nvPr/>
            </p:nvSpPr>
            <p:spPr>
              <a:xfrm>
                <a:off x="1947600" y="523620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33200" y="5228640"/>
                <a:ext cx="1380600" cy="53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314520" y="5228640"/>
              <a:ext cx="1380600" cy="532440"/>
              <a:chOff x="3314520" y="5228640"/>
              <a:chExt cx="1380600" cy="532440"/>
            </a:xfrm>
          </p:grpSpPr>
          <p:sp>
            <p:nvSpPr>
              <p:cNvPr id="232" name=""/>
              <p:cNvSpPr/>
              <p:nvPr/>
            </p:nvSpPr>
            <p:spPr>
              <a:xfrm>
                <a:off x="3328920" y="523620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14520" y="5228640"/>
                <a:ext cx="1380600" cy="53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695480" y="5228640"/>
              <a:ext cx="1380600" cy="532440"/>
              <a:chOff x="4695480" y="5228640"/>
              <a:chExt cx="1380600" cy="532440"/>
            </a:xfrm>
          </p:grpSpPr>
          <p:sp>
            <p:nvSpPr>
              <p:cNvPr id="235" name=""/>
              <p:cNvSpPr/>
              <p:nvPr/>
            </p:nvSpPr>
            <p:spPr>
              <a:xfrm>
                <a:off x="4709880" y="5236200"/>
                <a:ext cx="135180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95480" y="5228640"/>
                <a:ext cx="1380600" cy="53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076440" y="5228640"/>
              <a:ext cx="1380600" cy="532440"/>
              <a:chOff x="6076440" y="5228640"/>
              <a:chExt cx="1380600" cy="532440"/>
            </a:xfrm>
          </p:grpSpPr>
          <p:sp>
            <p:nvSpPr>
              <p:cNvPr id="238" name=""/>
              <p:cNvSpPr/>
              <p:nvPr/>
            </p:nvSpPr>
            <p:spPr>
              <a:xfrm>
                <a:off x="6090840" y="5236200"/>
                <a:ext cx="135180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76440" y="5228640"/>
                <a:ext cx="1380600" cy="53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457760" y="5228640"/>
              <a:ext cx="1380600" cy="532440"/>
              <a:chOff x="7457760" y="5228640"/>
              <a:chExt cx="1380600" cy="532440"/>
            </a:xfrm>
          </p:grpSpPr>
          <p:sp>
            <p:nvSpPr>
              <p:cNvPr id="241" name=""/>
              <p:cNvSpPr/>
              <p:nvPr/>
            </p:nvSpPr>
            <p:spPr>
              <a:xfrm>
                <a:off x="7472520" y="5236200"/>
                <a:ext cx="135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457760" y="5228640"/>
                <a:ext cx="1380600" cy="53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80880" y="5769360"/>
              <a:ext cx="1551960" cy="532800"/>
              <a:chOff x="380880" y="5769360"/>
              <a:chExt cx="1551960" cy="532800"/>
            </a:xfrm>
          </p:grpSpPr>
          <p:sp>
            <p:nvSpPr>
              <p:cNvPr id="244" name=""/>
              <p:cNvSpPr/>
              <p:nvPr/>
            </p:nvSpPr>
            <p:spPr>
              <a:xfrm>
                <a:off x="395280" y="5776920"/>
                <a:ext cx="152244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Finlandia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0880" y="5769360"/>
                <a:ext cx="155196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933200" y="5769360"/>
              <a:ext cx="1380600" cy="532800"/>
              <a:chOff x="1933200" y="5769360"/>
              <a:chExt cx="1380600" cy="532800"/>
            </a:xfrm>
          </p:grpSpPr>
          <p:sp>
            <p:nvSpPr>
              <p:cNvPr id="247" name=""/>
              <p:cNvSpPr/>
              <p:nvPr/>
            </p:nvSpPr>
            <p:spPr>
              <a:xfrm>
                <a:off x="1947600" y="5776920"/>
                <a:ext cx="135108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33200" y="576936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314520" y="5769360"/>
              <a:ext cx="1380600" cy="532800"/>
              <a:chOff x="3314520" y="5769360"/>
              <a:chExt cx="1380600" cy="532800"/>
            </a:xfrm>
          </p:grpSpPr>
          <p:sp>
            <p:nvSpPr>
              <p:cNvPr id="250" name=""/>
              <p:cNvSpPr/>
              <p:nvPr/>
            </p:nvSpPr>
            <p:spPr>
              <a:xfrm>
                <a:off x="3328920" y="5776920"/>
                <a:ext cx="135108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14520" y="576936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695480" y="5769360"/>
              <a:ext cx="1380600" cy="532800"/>
              <a:chOff x="4695480" y="5769360"/>
              <a:chExt cx="1380600" cy="532800"/>
            </a:xfrm>
          </p:grpSpPr>
          <p:sp>
            <p:nvSpPr>
              <p:cNvPr id="253" name=""/>
              <p:cNvSpPr/>
              <p:nvPr/>
            </p:nvSpPr>
            <p:spPr>
              <a:xfrm>
                <a:off x="4709880" y="5776920"/>
                <a:ext cx="135180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95480" y="576936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076440" y="5769360"/>
              <a:ext cx="1380600" cy="532800"/>
              <a:chOff x="6076440" y="5769360"/>
              <a:chExt cx="1380600" cy="532800"/>
            </a:xfrm>
          </p:grpSpPr>
          <p:sp>
            <p:nvSpPr>
              <p:cNvPr id="256" name=""/>
              <p:cNvSpPr/>
              <p:nvPr/>
            </p:nvSpPr>
            <p:spPr>
              <a:xfrm>
                <a:off x="6090840" y="5776920"/>
                <a:ext cx="135180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076440" y="576936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457760" y="5769360"/>
              <a:ext cx="1380600" cy="532800"/>
              <a:chOff x="7457760" y="5769360"/>
              <a:chExt cx="1380600" cy="532800"/>
            </a:xfrm>
          </p:grpSpPr>
          <p:sp>
            <p:nvSpPr>
              <p:cNvPr id="259" name=""/>
              <p:cNvSpPr/>
              <p:nvPr/>
            </p:nvSpPr>
            <p:spPr>
              <a:xfrm>
                <a:off x="7472520" y="5776920"/>
                <a:ext cx="135108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57760" y="5769360"/>
                <a:ext cx="1380600" cy="532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7160" y="232560"/>
            <a:ext cx="863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INDICE UTILIZADO PARA LA MOVILIDAD DE LAS JUBILACIONES - OECD</a:t>
            </a: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04920" y="1523880"/>
            <a:ext cx="8457480" cy="5029200"/>
            <a:chOff x="304920" y="1523880"/>
            <a:chExt cx="8457480" cy="5029200"/>
          </a:xfrm>
        </p:grpSpPr>
        <p:grpSp>
          <p:nvGrpSpPr>
            <p:cNvPr id="263" name=""/>
            <p:cNvGrpSpPr/>
            <p:nvPr/>
          </p:nvGrpSpPr>
          <p:grpSpPr>
            <a:xfrm>
              <a:off x="304920" y="1523880"/>
              <a:ext cx="1551960" cy="482400"/>
              <a:chOff x="304920" y="1523880"/>
              <a:chExt cx="1551960" cy="482400"/>
            </a:xfrm>
          </p:grpSpPr>
          <p:sp>
            <p:nvSpPr>
              <p:cNvPr id="264" name=""/>
              <p:cNvSpPr/>
              <p:nvPr/>
            </p:nvSpPr>
            <p:spPr>
              <a:xfrm>
                <a:off x="319320" y="1530720"/>
                <a:ext cx="152244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Francia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4920" y="1523880"/>
                <a:ext cx="155196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857240" y="1523880"/>
              <a:ext cx="1380600" cy="482400"/>
              <a:chOff x="1857240" y="1523880"/>
              <a:chExt cx="1380600" cy="482400"/>
            </a:xfrm>
          </p:grpSpPr>
          <p:sp>
            <p:nvSpPr>
              <p:cNvPr id="267" name=""/>
              <p:cNvSpPr/>
              <p:nvPr/>
            </p:nvSpPr>
            <p:spPr>
              <a:xfrm>
                <a:off x="1871640" y="1530720"/>
                <a:ext cx="1351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57240" y="15238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3238560" y="1523880"/>
              <a:ext cx="1380600" cy="482400"/>
              <a:chOff x="3238560" y="1523880"/>
              <a:chExt cx="1380600" cy="482400"/>
            </a:xfrm>
          </p:grpSpPr>
          <p:sp>
            <p:nvSpPr>
              <p:cNvPr id="270" name=""/>
              <p:cNvSpPr/>
              <p:nvPr/>
            </p:nvSpPr>
            <p:spPr>
              <a:xfrm>
                <a:off x="3252960" y="1530720"/>
                <a:ext cx="1351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38560" y="15238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619520" y="1523880"/>
              <a:ext cx="1380600" cy="482400"/>
              <a:chOff x="4619520" y="1523880"/>
              <a:chExt cx="1380600" cy="482400"/>
            </a:xfrm>
          </p:grpSpPr>
          <p:sp>
            <p:nvSpPr>
              <p:cNvPr id="273" name=""/>
              <p:cNvSpPr/>
              <p:nvPr/>
            </p:nvSpPr>
            <p:spPr>
              <a:xfrm>
                <a:off x="4633920" y="1530720"/>
                <a:ext cx="135180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19520" y="15238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000480" y="1523880"/>
              <a:ext cx="1380600" cy="482400"/>
              <a:chOff x="6000480" y="1523880"/>
              <a:chExt cx="1380600" cy="482400"/>
            </a:xfrm>
          </p:grpSpPr>
          <p:sp>
            <p:nvSpPr>
              <p:cNvPr id="276" name=""/>
              <p:cNvSpPr/>
              <p:nvPr/>
            </p:nvSpPr>
            <p:spPr>
              <a:xfrm>
                <a:off x="6014880" y="1530720"/>
                <a:ext cx="135180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00480" y="15238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381800" y="1523880"/>
              <a:ext cx="1380600" cy="482400"/>
              <a:chOff x="7381800" y="1523880"/>
              <a:chExt cx="1380600" cy="482400"/>
            </a:xfrm>
          </p:grpSpPr>
          <p:sp>
            <p:nvSpPr>
              <p:cNvPr id="279" name=""/>
              <p:cNvSpPr/>
              <p:nvPr/>
            </p:nvSpPr>
            <p:spPr>
              <a:xfrm>
                <a:off x="7396560" y="1530720"/>
                <a:ext cx="1351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81800" y="15238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304920" y="2013480"/>
              <a:ext cx="1551960" cy="482400"/>
              <a:chOff x="304920" y="2013480"/>
              <a:chExt cx="1551960" cy="482400"/>
            </a:xfrm>
          </p:grpSpPr>
          <p:sp>
            <p:nvSpPr>
              <p:cNvPr id="282" name=""/>
              <p:cNvSpPr/>
              <p:nvPr/>
            </p:nvSpPr>
            <p:spPr>
              <a:xfrm>
                <a:off x="319320" y="2020680"/>
                <a:ext cx="1522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Holanda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04920" y="2013480"/>
                <a:ext cx="155196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857240" y="2013480"/>
              <a:ext cx="1380600" cy="482400"/>
              <a:chOff x="1857240" y="2013480"/>
              <a:chExt cx="1380600" cy="482400"/>
            </a:xfrm>
          </p:grpSpPr>
          <p:sp>
            <p:nvSpPr>
              <p:cNvPr id="285" name=""/>
              <p:cNvSpPr/>
              <p:nvPr/>
            </p:nvSpPr>
            <p:spPr>
              <a:xfrm>
                <a:off x="1871640" y="20206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57240" y="20134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3238560" y="2013480"/>
              <a:ext cx="1380600" cy="482400"/>
              <a:chOff x="3238560" y="2013480"/>
              <a:chExt cx="1380600" cy="482400"/>
            </a:xfrm>
          </p:grpSpPr>
          <p:sp>
            <p:nvSpPr>
              <p:cNvPr id="288" name=""/>
              <p:cNvSpPr/>
              <p:nvPr/>
            </p:nvSpPr>
            <p:spPr>
              <a:xfrm>
                <a:off x="3252960" y="20206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38560" y="20134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619520" y="2013480"/>
              <a:ext cx="1380600" cy="482400"/>
              <a:chOff x="4619520" y="2013480"/>
              <a:chExt cx="1380600" cy="482400"/>
            </a:xfrm>
          </p:grpSpPr>
          <p:sp>
            <p:nvSpPr>
              <p:cNvPr id="291" name=""/>
              <p:cNvSpPr/>
              <p:nvPr/>
            </p:nvSpPr>
            <p:spPr>
              <a:xfrm>
                <a:off x="4633920" y="20206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19520" y="20134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000480" y="2013480"/>
              <a:ext cx="1380600" cy="482400"/>
              <a:chOff x="6000480" y="2013480"/>
              <a:chExt cx="1380600" cy="482400"/>
            </a:xfrm>
          </p:grpSpPr>
          <p:sp>
            <p:nvSpPr>
              <p:cNvPr id="294" name=""/>
              <p:cNvSpPr/>
              <p:nvPr/>
            </p:nvSpPr>
            <p:spPr>
              <a:xfrm>
                <a:off x="6014880" y="20206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000480" y="20134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381800" y="2013480"/>
              <a:ext cx="1380600" cy="482400"/>
              <a:chOff x="7381800" y="2013480"/>
              <a:chExt cx="1380600" cy="482400"/>
            </a:xfrm>
          </p:grpSpPr>
          <p:sp>
            <p:nvSpPr>
              <p:cNvPr id="297" name=""/>
              <p:cNvSpPr/>
              <p:nvPr/>
            </p:nvSpPr>
            <p:spPr>
              <a:xfrm>
                <a:off x="7396560" y="20206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381800" y="20134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304920" y="2503080"/>
              <a:ext cx="1551960" cy="482400"/>
              <a:chOff x="304920" y="2503080"/>
              <a:chExt cx="1551960" cy="482400"/>
            </a:xfrm>
          </p:grpSpPr>
          <p:sp>
            <p:nvSpPr>
              <p:cNvPr id="300" name=""/>
              <p:cNvSpPr/>
              <p:nvPr/>
            </p:nvSpPr>
            <p:spPr>
              <a:xfrm>
                <a:off x="319320" y="2510280"/>
                <a:ext cx="1522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Inglaterra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4920" y="2503080"/>
                <a:ext cx="155196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857240" y="2503080"/>
              <a:ext cx="1380600" cy="482400"/>
              <a:chOff x="1857240" y="2503080"/>
              <a:chExt cx="1380600" cy="482400"/>
            </a:xfrm>
          </p:grpSpPr>
          <p:sp>
            <p:nvSpPr>
              <p:cNvPr id="303" name=""/>
              <p:cNvSpPr/>
              <p:nvPr/>
            </p:nvSpPr>
            <p:spPr>
              <a:xfrm>
                <a:off x="1871640" y="25102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57240" y="25030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238560" y="2503080"/>
              <a:ext cx="1380600" cy="482400"/>
              <a:chOff x="3238560" y="2503080"/>
              <a:chExt cx="1380600" cy="482400"/>
            </a:xfrm>
          </p:grpSpPr>
          <p:sp>
            <p:nvSpPr>
              <p:cNvPr id="306" name=""/>
              <p:cNvSpPr/>
              <p:nvPr/>
            </p:nvSpPr>
            <p:spPr>
              <a:xfrm>
                <a:off x="3252960" y="25102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38560" y="25030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619520" y="2503080"/>
              <a:ext cx="1380600" cy="482400"/>
              <a:chOff x="4619520" y="2503080"/>
              <a:chExt cx="1380600" cy="482400"/>
            </a:xfrm>
          </p:grpSpPr>
          <p:sp>
            <p:nvSpPr>
              <p:cNvPr id="309" name=""/>
              <p:cNvSpPr/>
              <p:nvPr/>
            </p:nvSpPr>
            <p:spPr>
              <a:xfrm>
                <a:off x="4633920" y="25102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19520" y="25030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000480" y="2503080"/>
              <a:ext cx="1380600" cy="482400"/>
              <a:chOff x="6000480" y="2503080"/>
              <a:chExt cx="1380600" cy="48240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4880" y="25102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000480" y="25030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7381800" y="2503080"/>
              <a:ext cx="1380600" cy="482400"/>
              <a:chOff x="7381800" y="2503080"/>
              <a:chExt cx="1380600" cy="482400"/>
            </a:xfrm>
          </p:grpSpPr>
          <p:sp>
            <p:nvSpPr>
              <p:cNvPr id="315" name=""/>
              <p:cNvSpPr/>
              <p:nvPr/>
            </p:nvSpPr>
            <p:spPr>
              <a:xfrm>
                <a:off x="7396560" y="25102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81800" y="25030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04920" y="2992680"/>
              <a:ext cx="1551960" cy="482400"/>
              <a:chOff x="304920" y="2992680"/>
              <a:chExt cx="1551960" cy="482400"/>
            </a:xfrm>
          </p:grpSpPr>
          <p:sp>
            <p:nvSpPr>
              <p:cNvPr id="318" name=""/>
              <p:cNvSpPr/>
              <p:nvPr/>
            </p:nvSpPr>
            <p:spPr>
              <a:xfrm>
                <a:off x="319320" y="2999880"/>
                <a:ext cx="1522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Italia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4920" y="2992680"/>
                <a:ext cx="155196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857240" y="2992680"/>
              <a:ext cx="1380600" cy="482400"/>
              <a:chOff x="1857240" y="2992680"/>
              <a:chExt cx="1380600" cy="482400"/>
            </a:xfrm>
          </p:grpSpPr>
          <p:sp>
            <p:nvSpPr>
              <p:cNvPr id="321" name=""/>
              <p:cNvSpPr/>
              <p:nvPr/>
            </p:nvSpPr>
            <p:spPr>
              <a:xfrm>
                <a:off x="1871640" y="29998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57240" y="29926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238560" y="2992680"/>
              <a:ext cx="1380600" cy="482400"/>
              <a:chOff x="3238560" y="2992680"/>
              <a:chExt cx="1380600" cy="482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252960" y="29998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38560" y="29926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619520" y="2992680"/>
              <a:ext cx="1380600" cy="482400"/>
              <a:chOff x="4619520" y="2992680"/>
              <a:chExt cx="1380600" cy="482400"/>
            </a:xfrm>
          </p:grpSpPr>
          <p:sp>
            <p:nvSpPr>
              <p:cNvPr id="327" name=""/>
              <p:cNvSpPr/>
              <p:nvPr/>
            </p:nvSpPr>
            <p:spPr>
              <a:xfrm>
                <a:off x="4633920" y="29998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19520" y="29926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000480" y="2992680"/>
              <a:ext cx="1380600" cy="482400"/>
              <a:chOff x="6000480" y="2992680"/>
              <a:chExt cx="1380600" cy="482400"/>
            </a:xfrm>
          </p:grpSpPr>
          <p:sp>
            <p:nvSpPr>
              <p:cNvPr id="330" name=""/>
              <p:cNvSpPr/>
              <p:nvPr/>
            </p:nvSpPr>
            <p:spPr>
              <a:xfrm>
                <a:off x="6014880" y="29998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00480" y="29926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381800" y="2992680"/>
              <a:ext cx="1380600" cy="482400"/>
              <a:chOff x="7381800" y="2992680"/>
              <a:chExt cx="1380600" cy="482400"/>
            </a:xfrm>
          </p:grpSpPr>
          <p:sp>
            <p:nvSpPr>
              <p:cNvPr id="333" name=""/>
              <p:cNvSpPr/>
              <p:nvPr/>
            </p:nvSpPr>
            <p:spPr>
              <a:xfrm>
                <a:off x="7396560" y="29998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81800" y="29926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304920" y="3482280"/>
              <a:ext cx="1551960" cy="482400"/>
              <a:chOff x="304920" y="3482280"/>
              <a:chExt cx="1551960" cy="482400"/>
            </a:xfrm>
          </p:grpSpPr>
          <p:sp>
            <p:nvSpPr>
              <p:cNvPr id="336" name=""/>
              <p:cNvSpPr/>
              <p:nvPr/>
            </p:nvSpPr>
            <p:spPr>
              <a:xfrm>
                <a:off x="319320" y="3489480"/>
                <a:ext cx="1522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Japón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04920" y="3482280"/>
                <a:ext cx="155196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1857240" y="3482280"/>
              <a:ext cx="1380600" cy="482400"/>
              <a:chOff x="1857240" y="3482280"/>
              <a:chExt cx="1380600" cy="482400"/>
            </a:xfrm>
          </p:grpSpPr>
          <p:sp>
            <p:nvSpPr>
              <p:cNvPr id="339" name=""/>
              <p:cNvSpPr/>
              <p:nvPr/>
            </p:nvSpPr>
            <p:spPr>
              <a:xfrm>
                <a:off x="1871640" y="34894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57240" y="34822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3238560" y="3482280"/>
              <a:ext cx="1380600" cy="482400"/>
              <a:chOff x="3238560" y="3482280"/>
              <a:chExt cx="1380600" cy="482400"/>
            </a:xfrm>
          </p:grpSpPr>
          <p:sp>
            <p:nvSpPr>
              <p:cNvPr id="342" name=""/>
              <p:cNvSpPr/>
              <p:nvPr/>
            </p:nvSpPr>
            <p:spPr>
              <a:xfrm>
                <a:off x="3252960" y="34894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238560" y="34822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4619520" y="3482280"/>
              <a:ext cx="1380600" cy="482400"/>
              <a:chOff x="4619520" y="3482280"/>
              <a:chExt cx="1380600" cy="482400"/>
            </a:xfrm>
          </p:grpSpPr>
          <p:sp>
            <p:nvSpPr>
              <p:cNvPr id="345" name=""/>
              <p:cNvSpPr/>
              <p:nvPr/>
            </p:nvSpPr>
            <p:spPr>
              <a:xfrm>
                <a:off x="4633920" y="34894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619520" y="34822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6000480" y="3482280"/>
              <a:ext cx="1380600" cy="482400"/>
              <a:chOff x="6000480" y="3482280"/>
              <a:chExt cx="1380600" cy="482400"/>
            </a:xfrm>
          </p:grpSpPr>
          <p:sp>
            <p:nvSpPr>
              <p:cNvPr id="348" name=""/>
              <p:cNvSpPr/>
              <p:nvPr/>
            </p:nvSpPr>
            <p:spPr>
              <a:xfrm>
                <a:off x="6014880" y="34894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00480" y="34822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381800" y="3482280"/>
              <a:ext cx="1380600" cy="482400"/>
              <a:chOff x="7381800" y="3482280"/>
              <a:chExt cx="1380600" cy="482400"/>
            </a:xfrm>
          </p:grpSpPr>
          <p:sp>
            <p:nvSpPr>
              <p:cNvPr id="351" name=""/>
              <p:cNvSpPr/>
              <p:nvPr/>
            </p:nvSpPr>
            <p:spPr>
              <a:xfrm>
                <a:off x="7396560" y="34894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81800" y="34822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04920" y="3972240"/>
              <a:ext cx="1551960" cy="482040"/>
              <a:chOff x="304920" y="3972240"/>
              <a:chExt cx="1551960" cy="482040"/>
            </a:xfrm>
          </p:grpSpPr>
          <p:sp>
            <p:nvSpPr>
              <p:cNvPr id="354" name=""/>
              <p:cNvSpPr/>
              <p:nvPr/>
            </p:nvSpPr>
            <p:spPr>
              <a:xfrm>
                <a:off x="319320" y="3979080"/>
                <a:ext cx="1522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Noruega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972240"/>
                <a:ext cx="1551960" cy="482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1857240" y="3972240"/>
              <a:ext cx="1380600" cy="482040"/>
              <a:chOff x="1857240" y="3972240"/>
              <a:chExt cx="1380600" cy="482040"/>
            </a:xfrm>
          </p:grpSpPr>
          <p:sp>
            <p:nvSpPr>
              <p:cNvPr id="357" name=""/>
              <p:cNvSpPr/>
              <p:nvPr/>
            </p:nvSpPr>
            <p:spPr>
              <a:xfrm>
                <a:off x="1871640" y="39790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57240" y="3972240"/>
                <a:ext cx="1380600" cy="482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238560" y="3972240"/>
              <a:ext cx="1380600" cy="482040"/>
              <a:chOff x="3238560" y="3972240"/>
              <a:chExt cx="1380600" cy="482040"/>
            </a:xfrm>
          </p:grpSpPr>
          <p:sp>
            <p:nvSpPr>
              <p:cNvPr id="360" name=""/>
              <p:cNvSpPr/>
              <p:nvPr/>
            </p:nvSpPr>
            <p:spPr>
              <a:xfrm>
                <a:off x="3252960" y="39790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238560" y="3972240"/>
                <a:ext cx="1380600" cy="482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619520" y="3972240"/>
              <a:ext cx="1380600" cy="482040"/>
              <a:chOff x="4619520" y="3972240"/>
              <a:chExt cx="1380600" cy="482040"/>
            </a:xfrm>
          </p:grpSpPr>
          <p:sp>
            <p:nvSpPr>
              <p:cNvPr id="363" name=""/>
              <p:cNvSpPr/>
              <p:nvPr/>
            </p:nvSpPr>
            <p:spPr>
              <a:xfrm>
                <a:off x="4633920" y="39790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19520" y="3972240"/>
                <a:ext cx="1380600" cy="482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000480" y="3972240"/>
              <a:ext cx="1380600" cy="482040"/>
              <a:chOff x="6000480" y="3972240"/>
              <a:chExt cx="1380600" cy="482040"/>
            </a:xfrm>
          </p:grpSpPr>
          <p:sp>
            <p:nvSpPr>
              <p:cNvPr id="366" name=""/>
              <p:cNvSpPr/>
              <p:nvPr/>
            </p:nvSpPr>
            <p:spPr>
              <a:xfrm>
                <a:off x="6014880" y="39790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00480" y="3972240"/>
                <a:ext cx="1380600" cy="482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381800" y="3972240"/>
              <a:ext cx="1380600" cy="482040"/>
              <a:chOff x="7381800" y="3972240"/>
              <a:chExt cx="1380600" cy="482040"/>
            </a:xfrm>
          </p:grpSpPr>
          <p:sp>
            <p:nvSpPr>
              <p:cNvPr id="369" name=""/>
              <p:cNvSpPr/>
              <p:nvPr/>
            </p:nvSpPr>
            <p:spPr>
              <a:xfrm>
                <a:off x="7396560" y="39790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1800" y="3972240"/>
                <a:ext cx="1380600" cy="482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04920" y="4461840"/>
              <a:ext cx="1551960" cy="621720"/>
              <a:chOff x="304920" y="4461840"/>
              <a:chExt cx="1551960" cy="62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319320" y="4468680"/>
                <a:ext cx="15224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Nueva Zelanda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4920" y="4461840"/>
                <a:ext cx="1551960" cy="621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857240" y="4461840"/>
              <a:ext cx="1380600" cy="621720"/>
              <a:chOff x="1857240" y="4461840"/>
              <a:chExt cx="1380600" cy="621720"/>
            </a:xfrm>
          </p:grpSpPr>
          <p:sp>
            <p:nvSpPr>
              <p:cNvPr id="375" name=""/>
              <p:cNvSpPr/>
              <p:nvPr/>
            </p:nvSpPr>
            <p:spPr>
              <a:xfrm>
                <a:off x="1871640" y="4468680"/>
                <a:ext cx="135108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57240" y="4461840"/>
                <a:ext cx="1380600" cy="621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238560" y="4461840"/>
              <a:ext cx="1380600" cy="621720"/>
              <a:chOff x="3238560" y="4461840"/>
              <a:chExt cx="1380600" cy="621720"/>
            </a:xfrm>
          </p:grpSpPr>
          <p:sp>
            <p:nvSpPr>
              <p:cNvPr id="378" name=""/>
              <p:cNvSpPr/>
              <p:nvPr/>
            </p:nvSpPr>
            <p:spPr>
              <a:xfrm>
                <a:off x="3252960" y="4468680"/>
                <a:ext cx="135108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8560" y="4461840"/>
                <a:ext cx="1380600" cy="621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619520" y="4461840"/>
              <a:ext cx="1380600" cy="621720"/>
              <a:chOff x="4619520" y="4461840"/>
              <a:chExt cx="1380600" cy="621720"/>
            </a:xfrm>
          </p:grpSpPr>
          <p:sp>
            <p:nvSpPr>
              <p:cNvPr id="381" name=""/>
              <p:cNvSpPr/>
              <p:nvPr/>
            </p:nvSpPr>
            <p:spPr>
              <a:xfrm>
                <a:off x="4633920" y="4468680"/>
                <a:ext cx="135180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19520" y="4461840"/>
                <a:ext cx="1380600" cy="621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6000480" y="4461840"/>
              <a:ext cx="1380600" cy="621720"/>
              <a:chOff x="6000480" y="4461840"/>
              <a:chExt cx="1380600" cy="62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6014880" y="4468680"/>
                <a:ext cx="135180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000480" y="4461840"/>
                <a:ext cx="1380600" cy="621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381800" y="4461840"/>
              <a:ext cx="1380600" cy="621720"/>
              <a:chOff x="7381800" y="4461840"/>
              <a:chExt cx="1380600" cy="621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96560" y="4468680"/>
                <a:ext cx="135108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81800" y="4461840"/>
                <a:ext cx="1380600" cy="621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04920" y="5091120"/>
              <a:ext cx="1551960" cy="482400"/>
              <a:chOff x="304920" y="5091120"/>
              <a:chExt cx="1551960" cy="482400"/>
            </a:xfrm>
          </p:grpSpPr>
          <p:sp>
            <p:nvSpPr>
              <p:cNvPr id="390" name=""/>
              <p:cNvSpPr/>
              <p:nvPr/>
            </p:nvSpPr>
            <p:spPr>
              <a:xfrm>
                <a:off x="319320" y="5097960"/>
                <a:ext cx="152244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Suecia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5091120"/>
                <a:ext cx="155196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1857240" y="5091120"/>
              <a:ext cx="1380600" cy="482400"/>
              <a:chOff x="1857240" y="5091120"/>
              <a:chExt cx="1380600" cy="482400"/>
            </a:xfrm>
          </p:grpSpPr>
          <p:sp>
            <p:nvSpPr>
              <p:cNvPr id="393" name=""/>
              <p:cNvSpPr/>
              <p:nvPr/>
            </p:nvSpPr>
            <p:spPr>
              <a:xfrm>
                <a:off x="1871640" y="5097960"/>
                <a:ext cx="1351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57240" y="509112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3238560" y="5091120"/>
              <a:ext cx="1380600" cy="482400"/>
              <a:chOff x="3238560" y="5091120"/>
              <a:chExt cx="1380600" cy="482400"/>
            </a:xfrm>
          </p:grpSpPr>
          <p:sp>
            <p:nvSpPr>
              <p:cNvPr id="396" name=""/>
              <p:cNvSpPr/>
              <p:nvPr/>
            </p:nvSpPr>
            <p:spPr>
              <a:xfrm>
                <a:off x="3252960" y="5097960"/>
                <a:ext cx="1351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38560" y="509112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4619520" y="5091120"/>
              <a:ext cx="1380600" cy="482400"/>
              <a:chOff x="4619520" y="5091120"/>
              <a:chExt cx="1380600" cy="482400"/>
            </a:xfrm>
          </p:grpSpPr>
          <p:sp>
            <p:nvSpPr>
              <p:cNvPr id="399" name=""/>
              <p:cNvSpPr/>
              <p:nvPr/>
            </p:nvSpPr>
            <p:spPr>
              <a:xfrm>
                <a:off x="4633920" y="5097960"/>
                <a:ext cx="135180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619520" y="509112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000480" y="5091120"/>
              <a:ext cx="1380600" cy="482400"/>
              <a:chOff x="6000480" y="5091120"/>
              <a:chExt cx="1380600" cy="482400"/>
            </a:xfrm>
          </p:grpSpPr>
          <p:sp>
            <p:nvSpPr>
              <p:cNvPr id="402" name=""/>
              <p:cNvSpPr/>
              <p:nvPr/>
            </p:nvSpPr>
            <p:spPr>
              <a:xfrm>
                <a:off x="6014880" y="5097960"/>
                <a:ext cx="135180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00480" y="509112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381800" y="5091120"/>
              <a:ext cx="1380600" cy="482400"/>
              <a:chOff x="7381800" y="5091120"/>
              <a:chExt cx="1380600" cy="482400"/>
            </a:xfrm>
          </p:grpSpPr>
          <p:sp>
            <p:nvSpPr>
              <p:cNvPr id="405" name=""/>
              <p:cNvSpPr/>
              <p:nvPr/>
            </p:nvSpPr>
            <p:spPr>
              <a:xfrm>
                <a:off x="7396560" y="5097960"/>
                <a:ext cx="1351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381800" y="509112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04920" y="5580720"/>
              <a:ext cx="1551960" cy="482400"/>
              <a:chOff x="304920" y="5580720"/>
              <a:chExt cx="1551960" cy="482400"/>
            </a:xfrm>
          </p:grpSpPr>
          <p:sp>
            <p:nvSpPr>
              <p:cNvPr id="408" name=""/>
              <p:cNvSpPr/>
              <p:nvPr/>
            </p:nvSpPr>
            <p:spPr>
              <a:xfrm>
                <a:off x="319320" y="5587920"/>
                <a:ext cx="1522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Suiza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04920" y="5580720"/>
                <a:ext cx="155196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1857240" y="5580720"/>
              <a:ext cx="1380600" cy="482400"/>
              <a:chOff x="1857240" y="5580720"/>
              <a:chExt cx="1380600" cy="482400"/>
            </a:xfrm>
          </p:grpSpPr>
          <p:sp>
            <p:nvSpPr>
              <p:cNvPr id="411" name=""/>
              <p:cNvSpPr/>
              <p:nvPr/>
            </p:nvSpPr>
            <p:spPr>
              <a:xfrm>
                <a:off x="1871640" y="558792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57240" y="558072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238560" y="5580720"/>
              <a:ext cx="1380600" cy="482400"/>
              <a:chOff x="3238560" y="5580720"/>
              <a:chExt cx="1380600" cy="482400"/>
            </a:xfrm>
          </p:grpSpPr>
          <p:sp>
            <p:nvSpPr>
              <p:cNvPr id="414" name=""/>
              <p:cNvSpPr/>
              <p:nvPr/>
            </p:nvSpPr>
            <p:spPr>
              <a:xfrm>
                <a:off x="3252960" y="558792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238560" y="558072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19520" y="5580720"/>
              <a:ext cx="1380600" cy="482400"/>
              <a:chOff x="4619520" y="5580720"/>
              <a:chExt cx="1380600" cy="482400"/>
            </a:xfrm>
          </p:grpSpPr>
          <p:sp>
            <p:nvSpPr>
              <p:cNvPr id="417" name=""/>
              <p:cNvSpPr/>
              <p:nvPr/>
            </p:nvSpPr>
            <p:spPr>
              <a:xfrm>
                <a:off x="4633920" y="558792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19520" y="558072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000480" y="5580720"/>
              <a:ext cx="1380600" cy="482400"/>
              <a:chOff x="6000480" y="5580720"/>
              <a:chExt cx="1380600" cy="482400"/>
            </a:xfrm>
          </p:grpSpPr>
          <p:sp>
            <p:nvSpPr>
              <p:cNvPr id="420" name=""/>
              <p:cNvSpPr/>
              <p:nvPr/>
            </p:nvSpPr>
            <p:spPr>
              <a:xfrm>
                <a:off x="6014880" y="558792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00480" y="558072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381800" y="5580720"/>
              <a:ext cx="1380600" cy="482400"/>
              <a:chOff x="7381800" y="5580720"/>
              <a:chExt cx="1380600" cy="482400"/>
            </a:xfrm>
          </p:grpSpPr>
          <p:sp>
            <p:nvSpPr>
              <p:cNvPr id="423" name=""/>
              <p:cNvSpPr/>
              <p:nvPr/>
            </p:nvSpPr>
            <p:spPr>
              <a:xfrm>
                <a:off x="7396560" y="558792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W/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81800" y="558072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04920" y="6070680"/>
              <a:ext cx="1551960" cy="482400"/>
              <a:chOff x="304920" y="6070680"/>
              <a:chExt cx="1551960" cy="482400"/>
            </a:xfrm>
          </p:grpSpPr>
          <p:sp>
            <p:nvSpPr>
              <p:cNvPr id="426" name=""/>
              <p:cNvSpPr/>
              <p:nvPr/>
            </p:nvSpPr>
            <p:spPr>
              <a:xfrm>
                <a:off x="319320" y="6077880"/>
                <a:ext cx="1522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USA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6070680"/>
                <a:ext cx="155196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1857240" y="6070680"/>
              <a:ext cx="1380600" cy="482400"/>
              <a:chOff x="1857240" y="6070680"/>
              <a:chExt cx="1380600" cy="482400"/>
            </a:xfrm>
          </p:grpSpPr>
          <p:sp>
            <p:nvSpPr>
              <p:cNvPr id="429" name=""/>
              <p:cNvSpPr/>
              <p:nvPr/>
            </p:nvSpPr>
            <p:spPr>
              <a:xfrm>
                <a:off x="1871640" y="60778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57240" y="60706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3238560" y="6070680"/>
              <a:ext cx="1380600" cy="482400"/>
              <a:chOff x="3238560" y="6070680"/>
              <a:chExt cx="1380600" cy="482400"/>
            </a:xfrm>
          </p:grpSpPr>
          <p:sp>
            <p:nvSpPr>
              <p:cNvPr id="432" name=""/>
              <p:cNvSpPr/>
              <p:nvPr/>
            </p:nvSpPr>
            <p:spPr>
              <a:xfrm>
                <a:off x="3252960" y="60778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238560" y="60706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4619520" y="6070680"/>
              <a:ext cx="1380600" cy="482400"/>
              <a:chOff x="4619520" y="6070680"/>
              <a:chExt cx="1380600" cy="482400"/>
            </a:xfrm>
          </p:grpSpPr>
          <p:sp>
            <p:nvSpPr>
              <p:cNvPr id="435" name=""/>
              <p:cNvSpPr/>
              <p:nvPr/>
            </p:nvSpPr>
            <p:spPr>
              <a:xfrm>
                <a:off x="4633920" y="60778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19520" y="60706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6000480" y="6070680"/>
              <a:ext cx="1380600" cy="482400"/>
              <a:chOff x="6000480" y="6070680"/>
              <a:chExt cx="1380600" cy="482400"/>
            </a:xfrm>
          </p:grpSpPr>
          <p:sp>
            <p:nvSpPr>
              <p:cNvPr id="438" name=""/>
              <p:cNvSpPr/>
              <p:nvPr/>
            </p:nvSpPr>
            <p:spPr>
              <a:xfrm>
                <a:off x="6014880" y="6077880"/>
                <a:ext cx="135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000480" y="60706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7381800" y="6070680"/>
              <a:ext cx="1380600" cy="482400"/>
              <a:chOff x="7381800" y="6070680"/>
              <a:chExt cx="1380600" cy="482400"/>
            </a:xfrm>
          </p:grpSpPr>
          <p:sp>
            <p:nvSpPr>
              <p:cNvPr id="441" name=""/>
              <p:cNvSpPr/>
              <p:nvPr/>
            </p:nvSpPr>
            <p:spPr>
              <a:xfrm>
                <a:off x="7396560" y="6077880"/>
                <a:ext cx="1351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Verdana"/>
                    <a:ea typeface="Times New Roman"/>
                  </a:rPr>
                  <a:t>P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381800" y="6070680"/>
                <a:ext cx="1380600" cy="482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3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ente:Henk Vording and Kees Goudswaard “Legal indexation of social security benefits: an International comparison of systems and their effects”</a:t>
            </a:r>
            <a:r>
              <a:rPr b="0" lang="es-ES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21:37:27Z</dcterms:created>
  <dc:creator>LORENA</dc:creator>
  <dc:description/>
  <dc:language>en-US</dc:language>
  <cp:lastModifiedBy>C.P.C.E.C.A.B.A.</cp:lastModifiedBy>
  <dcterms:modified xsi:type="dcterms:W3CDTF">2005-10-24T13:39:38Z</dcterms:modified>
  <cp:revision>2</cp:revision>
  <dc:subject/>
  <dc:title>Dr. Walter Schulthess </dc:title>
</cp:coreProperties>
</file>