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5.wmf" ContentType="image/x-wmf"/>
  <Override PartName="/ppt/media/image6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927-F277-45D4-B156-3B26D705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6D9-E0B1-4D1C-82A8-87F8CB5D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30C-03FB-4EC6-827F-4B1F3451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1A6-EE0E-479C-8D10-3A20E64D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8B3C-4F3B-4DEC-A50D-F96F4EC1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A478-C2D0-42A6-8C79-0FDB69D2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B3A4-FB2B-4E8E-821E-D79CC8A0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501C-E0AD-469F-80CD-0F15DE82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3CD1-C117-4316-B4AD-36E90A59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D0C4-317F-444D-AB18-A22C56A2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D993-DDB9-4315-B7D2-CB1B39D0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7D4-6DAA-4618-9982-8C3634AC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F8AB-7998-4AB2-931C-C4DD0EBA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5C61-B283-47E7-8E34-08AAEF0B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CD79-8C37-4AC5-8352-A0C559E9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601B-F91C-4955-8FD5-2104EFA7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A711-A6EE-4540-B4E6-F6B21E57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5A9-B714-4AC8-9329-FEED42EB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E7F-7A94-4FB3-9356-9DA5D731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30F-1A70-4093-873F-12401C4C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008-2F8A-45D7-B16C-0CA86F48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138-E115-463A-8824-1823AF16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7FC-0A16-492E-B612-6B697FA2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72E-FE78-408F-80E6-5E0EB4AB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3330-9FAC-495E-8CF4-4ECAB563A79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4A81-808B-494B-A6FF-DE3F97248C2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5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76520" y="3429000"/>
            <a:ext cx="7238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Estrategias para la contención de costos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en la 3ª ed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4952880"/>
            <a:ext cx="640080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ra. Fanny Saro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edifé S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spec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vejecimiento de las poblac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vejecimiento de la cartera de afilia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asión de nuevas técnicas y tecn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bertura del deterioro cognitivo sev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bertura de  prestaciones relacionadas con calidad de vida (audífonos, lentes, prótesis dent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143000"/>
            <a:ext cx="6400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Contención de costos en la 3ª eda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038480" y="43434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Lucida Sans Unicode"/>
              </a:rPr>
              <a:t>Muchas Gracia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El problema de la edad &gt; 65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11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12% de la población de EEU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11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35% del presupuesto de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11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5.000 I/dia cumplen 6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11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2,7 millones  tienen más de 8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11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Crecerán 5 veces (a 16 millones) en 4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La evolución de los problemas de sal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11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Aumentan los problemas cardiovasc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11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Aumentan los problemas osteoartic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11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e duplica cada 5 años (a partir de los 60a) la prevalencia de Demenc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43000"/>
            <a:ext cx="6400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5029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blemas cardiovas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r encima de los 65 años aumenta 10 veces la prevalencia de arritmias cardíacas (F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triplica la prevalencia de H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80% de los ACVs se dan por encima de los 65 añ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181480" y="2209680"/>
          <a:ext cx="3733920" cy="22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209680"/>
                    <a:ext cx="37339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0" y="1143000"/>
            <a:ext cx="6400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343400"/>
            <a:ext cx="5181480" cy="25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blemas Osteo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blemas de la marc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i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ractu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steoartr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11760"/>
            <a:ext cx="7772400" cy="17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Demencia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terioro de las condiciones cognitivas que es capaz de afectar las actividades funcionales del paciente de forma suficientemente intensa como para interferir con su vida social o laboral normal</a:t>
            </a:r>
            <a:r>
              <a:rPr b="1" lang="es-ES" sz="2000" spc="-1" strike="noStrike">
                <a:solidFill>
                  <a:srgbClr val="ffffff"/>
                </a:solidFill>
                <a:latin typeface="Arial Black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val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&lt; 60a    menor de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65-69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70-74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75-79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80-84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85-89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&gt;90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64%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105520"/>
            <a:ext cx="8001000" cy="1313640"/>
          </a:xfrm>
          <a:prstGeom prst="rect">
            <a:avLst/>
          </a:prstGeom>
          <a:solidFill>
            <a:srgbClr val="000044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l tratamiento en estadios iniciales es de alto costo debido al precio de los medicamentos. En los estadios finales lleva aparejado la institucionalización con un incremento aún mayor de los co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752480"/>
            <a:ext cx="6400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El problema de la edad &gt; 65 años para una prepaga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ahoma"/>
              </a:rPr>
              <a:t>Medife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Son el 3,5 % de nuestros afili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Gastan el 7,8 % del total del D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El 14% de nuestra cartera tiene entre   50-65 a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Se internan 10 veces m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Gastan 3,5 veces más en medicam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Gastan 4 veces más en KT y rehabili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143000"/>
            <a:ext cx="6400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tratación de servi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Por pres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or módu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or cáp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Contención de costos en la 3ª eda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6400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cciones di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imitación acceso a las prest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ormularios, co-seguros, chequeras, autoriz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Médicos de atención pri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imitación de cober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opes máxi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ácticas excluidas (cirugías especiales, técnicas no cubiertas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Auditoria en terre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trategias de asistencia domicili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ternación domicili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Sostén domicili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Contención de costos en la 3ª eda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143000"/>
            <a:ext cx="6400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cciones directa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Auditoría pos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nálisis estadístico de consu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nálisis estadístico del perfil de prestado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enera acciones para corregir desví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enera tendencias de contra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enera selección de pres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aseguros de prácticas de alta complej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ecesitaremos un “APE” para las enfermedades crónicas-discapacitantes de la 3ª e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143000"/>
            <a:ext cx="6400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Contención de costos en la 3ª eda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tras estrateg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ciones de preven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lan de Crónic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dentificación del riesgo (absolu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yor cobertura en medicamentos crón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cance de las metas terapéu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nitoreo de la evolución del pac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ciones de rehabilitación efectiva de patologías discapacitantes y preval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racturas de cad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fartos y Cardiopat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143000"/>
            <a:ext cx="6400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Contención de costos en la 3ª eda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14:28:42Z</dcterms:created>
  <dc:creator>Gerardo</dc:creator>
  <dc:description/>
  <dc:language>en-US</dc:language>
  <cp:lastModifiedBy>C.P.C.E.C.A.B.A.</cp:lastModifiedBy>
  <dcterms:modified xsi:type="dcterms:W3CDTF">2005-10-24T13:52:39Z</dcterms:modified>
  <cp:revision>11</cp:revision>
  <dc:subject/>
  <dc:title>Estrategias para la contención de costos en la 3ª edad</dc:title>
</cp:coreProperties>
</file>