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22213D-04F5-4E5C-9A44-4454FF75F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DE: TGF 2.1 en 2070 , Eo=76.9  e65=17.5 (2050), E65=17.5/22  P2200= 68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JO: TGF converge a 2.5 en 2070. E0 a 72/80 (niveles del 2010) E65: 15.3/19.5, P2200=115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RILLO: TGF 1.35 en 2070, Eo= 87/93 en 2200 E65= 23.5/28.4 en 2200 P2200=15.6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DE3-A4F9-41F0-973B-7A09F636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5B7-BE28-4323-9ED3-EE67F868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EA2-5127-4EBC-86CE-10E75011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87A-DD98-4B86-B06F-6327857A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E831-2F1F-414E-9A6A-9F79A24A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223E-F528-4924-8D5C-F98721C9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1B1D-FA93-4F1E-90CC-A7B6C778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01AE-640D-4497-9585-FFE61D67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8B9D-C09C-4E39-87C6-E41BE13B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620E-5A35-4E5A-A587-DC11C1A4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2E91-E109-409F-8596-46F32072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6AB-1D01-4AA8-A615-F576174B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9181-7121-4B00-89F9-515B2BCE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F807-73A7-4B8D-B1A1-E59B1915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57C5-1576-4B4E-AE67-D28CDAC6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49D3-09F6-4399-9ABB-FF1AA4F2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5AAC-831B-4652-AC55-385FF28B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F4C-751F-4837-AEA1-ACF93F62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39C-3AC2-4EF4-B29B-7BE27595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375-DD36-4863-9899-0FD5F9AA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8E8-4B60-49A7-8BED-95AB4785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838-3A92-4725-B213-23A1587D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DD0-A018-412A-9BFF-C4662314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B71-6749-4E44-B8E8-6519CA19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12A7-CB6D-46ED-88E6-9FE6334195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F743-6F09-492F-8CFC-03A9C112CD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Arial"/>
              </a:rPr>
              <a:t>El Envejecimiento Poblacional: Desafíos para la Seguridad Soci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Rafael Rofman, 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Banco Mund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ngreso Internacional de la Seguridad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Buenos Aires, Octubre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lang="es-AR" sz="4400" spc="-1" strike="noStrike">
                <a:solidFill>
                  <a:srgbClr val="b2b2b2"/>
                </a:solidFill>
                <a:latin typeface="Arial"/>
              </a:rPr>
              <a:t>EL MODELO” Latinoamerican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Fuertemente contribu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Con intención (aunque no siempre éxito) de sustituir una parte muy importante de los ingr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Algunos mecanismos redistributivos, pero en general sólo para los particip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Baja particip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873080"/>
            <a:ext cx="9702720" cy="5007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9631" t="15051" r="7766" b="15655"/>
          <a:stretch/>
        </p:blipFill>
        <p:spPr>
          <a:xfrm>
            <a:off x="936720" y="2627280"/>
            <a:ext cx="8035920" cy="34815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b2b2b2"/>
                </a:solidFill>
                <a:latin typeface="Arial"/>
              </a:rPr>
              <a:t>La participación es baja entre los activo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1720" y="1523880"/>
            <a:ext cx="61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% de la PEA que contribuye a la Seguridad 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827360"/>
            <a:ext cx="9369360" cy="4835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1827360"/>
            <a:ext cx="9369360" cy="4835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y los adultos mayo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13716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 de los ancianos con jubil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b2b2b2"/>
                </a:solidFill>
                <a:latin typeface="Arial"/>
              </a:rPr>
              <a:t>La focalización excluye a los pobr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827360"/>
            <a:ext cx="9369360" cy="4835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827360"/>
            <a:ext cx="9369360" cy="4835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134440" y="1219320"/>
            <a:ext cx="55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bertura de Ocupados en Argen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1827360"/>
            <a:ext cx="9369360" cy="4835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8120" y="175248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ún nivel de ingr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Arial"/>
              </a:rPr>
              <a:t>Recapituland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población anciana crece en el mediano plazo (y en el largo también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modelos de protección social existentes no respond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s cambios economicos y laborales tienden a empeorar la situ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Arial"/>
              </a:rPr>
              <a:t>Hay opciones de política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siderar el sesgo contributivo del sistema de seguridad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 contributivo, parece razonable financiar con rentas gene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o el beneficio deberia ser modesto, para asegurar sosteni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objetivo de sustitución de ingresos difícilmente pueda ser financiado por la sociedad en su conju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b2b2b2"/>
                </a:solidFill>
                <a:latin typeface="Arial"/>
              </a:rPr>
              <a:t>Contenido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nvejecimien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os sistemas de protección económica de los ancianos, diseño y limi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Relevamiento empírico sobre la evolución reciente de los sist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Resolviendo incons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Arial"/>
              </a:rPr>
              <a:t>Envejecimiento en 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9144000" cy="4838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a población está envejeci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La población anciana está envejecie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Arial"/>
              </a:rPr>
              <a:t>Envejecimiento en Argentin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arecido, pero mas ráp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2092320"/>
            <a:ext cx="89917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orqu</a:t>
            </a:r>
            <a:r>
              <a:rPr b="0" lang="es-AR" sz="4000" spc="-1" strike="noStrike">
                <a:solidFill>
                  <a:srgbClr val="b2b2b2"/>
                </a:solidFill>
                <a:latin typeface="Arial"/>
              </a:rPr>
              <a:t>é envejecen las poblaciones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Caída de la Fecund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060640"/>
            <a:ext cx="8839080" cy="4344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57000" y="251460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Tasa Global de Fecund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orqu</a:t>
            </a:r>
            <a:r>
              <a:rPr b="0" lang="es-AR" sz="4000" spc="-1" strike="noStrike">
                <a:solidFill>
                  <a:srgbClr val="b2b2b2"/>
                </a:solidFill>
                <a:latin typeface="Arial"/>
              </a:rPr>
              <a:t>é envejecen las poblaciones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Caída de la Mort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492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56960" y="2322360"/>
            <a:ext cx="50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speranza de vida al nacimiento y a los 65 añ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6160" y="1730520"/>
            <a:ext cx="8991360" cy="4287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4080" y="2101680"/>
            <a:ext cx="8977320" cy="4397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54080" y="2101680"/>
            <a:ext cx="8977320" cy="4397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54080" y="2101680"/>
            <a:ext cx="8977320" cy="4397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1320" y="1171440"/>
            <a:ext cx="86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 TGF converge a 1.35 y la mortalidad continua cayen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e0=87/93 en 22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560" y="1219320"/>
            <a:ext cx="90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a fecundidad  se estabiliza en 2.1 y la mortalidad perman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estable después del 2050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2952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 TGF converge a 2.5 y la  mortalidad se estabiliza en valores del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b2b2b2"/>
                </a:solidFill>
                <a:latin typeface="Arial"/>
              </a:rPr>
              <a:t>Pero que pasaría si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360" y="56988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219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o estos tres supuestos producen poblaciones MUY distinta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b2b2b2"/>
                </a:solidFill>
                <a:latin typeface="Arial"/>
              </a:rPr>
              <a:t>Los sistemas de protección económic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Para qué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Protección contra la pobrez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Sustitución de ingres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Porqué protege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Pobreza permane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Miopí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Incertidumb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Inexistencia o ineficiencia de mercados financie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Cómo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Repar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pitaliz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Rentas Genera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b2b2b2"/>
                </a:solidFill>
                <a:latin typeface="Arial"/>
              </a:rPr>
              <a:t>Los sistemas de protección económic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Cuánto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Mínimo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Sustitutivo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A quién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Según edad? Qué edad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Universal o focalizado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Estrategias de focaliza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squemas contribu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Focalización por pobreza (de activos o ingreso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Universalización (con focalización ex-post vía impuesto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7:48:54Z</dcterms:created>
  <dc:creator>Rafael Rofman</dc:creator>
  <dc:description/>
  <dc:language>en-US</dc:language>
  <cp:lastModifiedBy>C.P.C.E.C.A.B.A.</cp:lastModifiedBy>
  <dcterms:modified xsi:type="dcterms:W3CDTF">2005-10-24T13:59:43Z</dcterms:modified>
  <cp:revision>29</cp:revision>
  <dc:subject/>
  <dc:title>La Cobertura de la Seguridad Social en América Latina</dc:title>
</cp:coreProperties>
</file>