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asta básica de prestacion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racterísticas específ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876560" y="5638680"/>
            <a:ext cx="388620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Dra. Susana Mazzari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Verdana"/>
              </a:rPr>
              <a:t>21 de octubre de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04920" y="533520"/>
            <a:ext cx="861048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Verdana"/>
              </a:rPr>
              <a:t>3° Congreso Internacional de la Seguridad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523880" y="2209680"/>
            <a:ext cx="6172200" cy="550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Un camino hacia la equida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escudo1" descr=""/>
          <p:cNvPicPr/>
          <p:nvPr/>
        </p:nvPicPr>
        <p:blipFill>
          <a:blip r:embed="rId2"/>
          <a:stretch/>
        </p:blipFill>
        <p:spPr>
          <a:xfrm>
            <a:off x="533520" y="5334120"/>
            <a:ext cx="73188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62485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inisterio de Salud Y Ambie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638680"/>
            <a:ext cx="160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aramond-Bold Ex"/>
                <a:ea typeface="Times New Roman"/>
              </a:rPr>
              <a:t>PROFE </a:t>
            </a:r>
            <a:r>
              <a:rPr b="1" lang="es-ES" sz="2000" spc="-1" strike="noStrike" u="sng" baseline="-30000">
                <a:solidFill>
                  <a:srgbClr val="333399"/>
                </a:solidFill>
                <a:uFillTx/>
                <a:latin typeface="Monotype Corsiva"/>
                <a:ea typeface="Times New Roman"/>
              </a:rPr>
              <a:t>Salu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605640" cy="1353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sto del conjunto de pres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3454560"/>
            <a:ext cx="8388360" cy="583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Recursos financieros (sustentabili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5888160"/>
            <a:ext cx="63244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Tasas de utilización an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105520"/>
            <a:ext cx="617220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Costo unitario por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287960"/>
            <a:ext cx="784872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Datos de la población benefic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escudo1" descr=""/>
          <p:cNvPicPr/>
          <p:nvPr/>
        </p:nvPicPr>
        <p:blipFill>
          <a:blip r:embed="rId5"/>
          <a:stretch/>
        </p:blipFill>
        <p:spPr>
          <a:xfrm>
            <a:off x="380880" y="60480"/>
            <a:ext cx="731880" cy="914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6320" y="97488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inisterio de Salud Y Ambie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365040"/>
            <a:ext cx="160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aramond-Bold Ex"/>
                <a:ea typeface="Times New Roman"/>
              </a:rPr>
              <a:t>PROFE </a:t>
            </a:r>
            <a:r>
              <a:rPr b="1" lang="es-ES" sz="2000" spc="-1" strike="noStrike" u="sng" baseline="-30000">
                <a:solidFill>
                  <a:srgbClr val="333399"/>
                </a:solidFill>
                <a:uFillTx/>
                <a:latin typeface="Monotype Corsiva"/>
                <a:ea typeface="Times New Roman"/>
              </a:rPr>
              <a:t>Salu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6280" y="456840"/>
            <a:ext cx="8229600" cy="13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tualización y revisión de la canasta de pres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3360" y="2362320"/>
            <a:ext cx="6476760" cy="56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r aumento de los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5791320"/>
            <a:ext cx="647676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Análisis de costo efect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4572000"/>
            <a:ext cx="647676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Cambios demográficos y/o epidemio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809880"/>
            <a:ext cx="647676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Incorporación de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3098880"/>
            <a:ext cx="6476760" cy="53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Ampliación de la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295280" y="182844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9588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1055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11480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335268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266688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980720" y="1599840"/>
            <a:ext cx="5257800" cy="60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as preve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6040440"/>
            <a:ext cx="510552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Internación geriát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5334120"/>
            <a:ext cx="525780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Cuidados domic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4572000"/>
            <a:ext cx="342900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Salud 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3886200"/>
            <a:ext cx="4648320" cy="53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Gestión de cr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3124080"/>
            <a:ext cx="4800600" cy="58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Medicación al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2362320"/>
            <a:ext cx="1600200" cy="581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1066680"/>
            <a:ext cx="0" cy="5334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638172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575316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91508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422928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346716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70504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01924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86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a Federal de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escudo1" descr=""/>
          <p:cNvPicPr/>
          <p:nvPr/>
        </p:nvPicPr>
        <p:blipFill>
          <a:blip r:embed="rId1"/>
          <a:stretch/>
        </p:blipFill>
        <p:spPr>
          <a:xfrm>
            <a:off x="380880" y="60480"/>
            <a:ext cx="731880" cy="914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320" y="97488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inisterio de Salud Y Ambie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65040"/>
            <a:ext cx="160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aramond-Bold Ex"/>
                <a:ea typeface="Times New Roman"/>
              </a:rPr>
              <a:t>PROFE </a:t>
            </a:r>
            <a:r>
              <a:rPr b="1" lang="es-ES" sz="2000" spc="-1" strike="noStrike" u="sng" baseline="-30000">
                <a:solidFill>
                  <a:srgbClr val="333399"/>
                </a:solidFill>
                <a:uFillTx/>
                <a:latin typeface="Monotype Corsiva"/>
                <a:ea typeface="Times New Roman"/>
              </a:rPr>
              <a:t>Salu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20968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Verdana"/>
              </a:rPr>
              <a:t>Nuestros Mayores son nuestras raíces y tenemos la obligación de cuidar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724280"/>
            <a:ext cx="815328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Por ello su salud es el primer objetiv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escudo1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31880" cy="914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2193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inisterio de Salud Y Ambie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609480"/>
            <a:ext cx="160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aramond-Bold Ex"/>
                <a:ea typeface="Times New Roman"/>
              </a:rPr>
              <a:t>PROFE </a:t>
            </a:r>
            <a:r>
              <a:rPr b="1" lang="es-ES" sz="2000" spc="-1" strike="noStrike" u="sng" baseline="-30000">
                <a:solidFill>
                  <a:srgbClr val="333399"/>
                </a:solidFill>
                <a:uFillTx/>
                <a:latin typeface="Monotype Corsiva"/>
                <a:ea typeface="Times New Roman"/>
              </a:rPr>
              <a:t>Salu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743200"/>
            <a:ext cx="84582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500" spc="-1" strike="noStrike">
                <a:solidFill>
                  <a:srgbClr val="000000"/>
                </a:solidFill>
                <a:latin typeface="Arial"/>
              </a:rPr>
              <a:t>MUCHAS GRACIAS POR SU ATENCIÓN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81280" y="685800"/>
            <a:ext cx="518184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ama Federal de Sal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escudo1" descr=""/>
          <p:cNvPicPr/>
          <p:nvPr/>
        </p:nvPicPr>
        <p:blipFill>
          <a:blip r:embed="rId1"/>
          <a:stretch/>
        </p:blipFill>
        <p:spPr>
          <a:xfrm>
            <a:off x="343080" y="0"/>
            <a:ext cx="73152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160" y="91440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inisterio de Salud Y Ambie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1160" y="304920"/>
            <a:ext cx="160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aramond-Bold Ex"/>
                <a:ea typeface="Times New Roman"/>
              </a:rPr>
              <a:t>PROFE </a:t>
            </a:r>
            <a:r>
              <a:rPr b="1" lang="es-ES" sz="2000" spc="-1" strike="noStrike" u="sng" baseline="-30000">
                <a:solidFill>
                  <a:srgbClr val="333399"/>
                </a:solidFill>
                <a:uFillTx/>
                <a:latin typeface="Monotype Corsiva"/>
                <a:ea typeface="Times New Roman"/>
              </a:rPr>
              <a:t>Salu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286000"/>
            <a:ext cx="7467480" cy="489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Cobertura médica a beneficiarios de PN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895480"/>
            <a:ext cx="3504960" cy="489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Verdana"/>
              </a:rPr>
              <a:t>461.396 afil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3505320"/>
          <a:ext cx="8305920" cy="2743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3505320"/>
                    <a:ext cx="83059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191120" y="628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Datos al 30 de septiembre d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33200" y="1981080"/>
          <a:ext cx="86868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981080"/>
                    <a:ext cx="86868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90720" y="212760"/>
            <a:ext cx="746748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Pirámide poblacional de Profe Octubr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766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anasta básica de pres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2514240"/>
            <a:ext cx="6408720" cy="60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pectos teóricos y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752480"/>
            <a:ext cx="64008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4394160"/>
            <a:ext cx="281952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Prior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5156280"/>
            <a:ext cx="632448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Disponibilidad de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3581280"/>
            <a:ext cx="396252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Definir Conten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5918040"/>
            <a:ext cx="243828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Lideraz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3123720"/>
            <a:ext cx="0" cy="3048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61722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41008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6483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8862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400800" cy="1218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autas para la ordenación y delimitación de presta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867280"/>
            <a:ext cx="38862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¿ A qué cost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505320"/>
            <a:ext cx="38862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¿ Qué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4267080"/>
            <a:ext cx="388620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¿ Cuánt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5105520"/>
            <a:ext cx="388620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¿ Para quié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escudo1" descr=""/>
          <p:cNvPicPr/>
          <p:nvPr/>
        </p:nvPicPr>
        <p:blipFill>
          <a:blip r:embed="rId5"/>
          <a:stretch/>
        </p:blipFill>
        <p:spPr>
          <a:xfrm>
            <a:off x="343080" y="0"/>
            <a:ext cx="731520" cy="914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160" y="91440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inisterio de Salud Y Ambie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1160" y="304920"/>
            <a:ext cx="160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aramond-Bold Ex"/>
                <a:ea typeface="Times New Roman"/>
              </a:rPr>
              <a:t>PROFE </a:t>
            </a:r>
            <a:r>
              <a:rPr b="1" lang="es-ES" sz="2000" spc="-1" strike="noStrike" u="sng" baseline="-30000">
                <a:solidFill>
                  <a:srgbClr val="333399"/>
                </a:solidFill>
                <a:uFillTx/>
                <a:latin typeface="Monotype Corsiva"/>
                <a:ea typeface="Times New Roman"/>
              </a:rPr>
              <a:t>Salu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2895480"/>
            <a:ext cx="0" cy="3353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6248520"/>
            <a:ext cx="1600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410080"/>
            <a:ext cx="1600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4572000"/>
            <a:ext cx="1600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3809880"/>
            <a:ext cx="1600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spectos del análisis en el  diseño de una canast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6024600"/>
            <a:ext cx="84582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Actualización y revisión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372280"/>
            <a:ext cx="8458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álculo del costo de las pres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4686480"/>
            <a:ext cx="84582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Necesidades diferentes de grupos concr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000680"/>
            <a:ext cx="84582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riterios de priorización de pres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3314880"/>
            <a:ext cx="84582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Definición del contenido del conju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629080"/>
            <a:ext cx="84582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Delimitación de la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943280"/>
            <a:ext cx="84582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Objetivos que motivan la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14240" y="3123720"/>
            <a:ext cx="4800600" cy="57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ficiencia financi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0960" y="5910120"/>
            <a:ext cx="4078440" cy="55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Seguridad juríd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0960" y="5224320"/>
            <a:ext cx="2173320" cy="550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Equ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0960" y="4538520"/>
            <a:ext cx="2478240" cy="550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Efici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32240" y="3852720"/>
            <a:ext cx="2801880" cy="550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Ef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escudo1" descr=""/>
          <p:cNvPicPr/>
          <p:nvPr/>
        </p:nvPicPr>
        <p:blipFill>
          <a:blip r:embed="rId6"/>
          <a:stretch/>
        </p:blipFill>
        <p:spPr>
          <a:xfrm>
            <a:off x="343080" y="38160"/>
            <a:ext cx="73152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160" y="95256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inisterio de Salud Y Ambie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1160" y="343080"/>
            <a:ext cx="160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aramond-Bold Ex"/>
                <a:ea typeface="Times New Roman"/>
              </a:rPr>
              <a:t>PROFE </a:t>
            </a:r>
            <a:r>
              <a:rPr b="1" lang="es-ES" sz="2000" spc="-1" strike="noStrike" u="sng" baseline="-30000">
                <a:solidFill>
                  <a:srgbClr val="333399"/>
                </a:solidFill>
                <a:uFillTx/>
                <a:latin typeface="Monotype Corsiva"/>
                <a:ea typeface="Times New Roman"/>
              </a:rPr>
              <a:t>Salu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81080" y="2514600"/>
            <a:ext cx="0" cy="3733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622944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556272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487692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419112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42900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71280" y="1771560"/>
            <a:ext cx="7427880" cy="85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efinición de 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67160" y="495360"/>
            <a:ext cx="54864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finición del listado de pres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0640" y="3505320"/>
            <a:ext cx="4991040" cy="52056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Procesos de enferm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0640" y="4248000"/>
            <a:ext cx="5448240" cy="94716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Tecnologías sanitarias o procedimientos terapéu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410080"/>
            <a:ext cx="6327720" cy="94716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Variantes por grupos específicos (servicios para AP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escudo1" descr=""/>
          <p:cNvPicPr/>
          <p:nvPr/>
        </p:nvPicPr>
        <p:blipFill>
          <a:blip r:embed="rId1"/>
          <a:stretch/>
        </p:blipFill>
        <p:spPr>
          <a:xfrm>
            <a:off x="304920" y="-19080"/>
            <a:ext cx="73188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8953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inisterio de Salud Y Ambie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85840"/>
            <a:ext cx="160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aramond-Bold Ex"/>
                <a:ea typeface="Times New Roman"/>
              </a:rPr>
              <a:t>PROFE </a:t>
            </a:r>
            <a:r>
              <a:rPr b="1" lang="es-ES" sz="2000" spc="-1" strike="noStrike" u="sng" baseline="-30000">
                <a:solidFill>
                  <a:srgbClr val="333399"/>
                </a:solidFill>
                <a:uFillTx/>
                <a:latin typeface="Monotype Corsiva"/>
                <a:ea typeface="Times New Roman"/>
              </a:rPr>
              <a:t>Salu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895480"/>
            <a:ext cx="0" cy="3048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94360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7242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8098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5715000" cy="6094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terios de delimit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29080" y="3257640"/>
            <a:ext cx="4457520" cy="549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écnicas anal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9080" y="5619600"/>
            <a:ext cx="57150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Combinado de an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9080" y="4781520"/>
            <a:ext cx="476244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Opinión de exper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9080" y="4019400"/>
            <a:ext cx="5448240" cy="532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Participación ciuda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escudo1" descr=""/>
          <p:cNvPicPr/>
          <p:nvPr/>
        </p:nvPicPr>
        <p:blipFill>
          <a:blip r:embed="rId5"/>
          <a:stretch/>
        </p:blipFill>
        <p:spPr>
          <a:xfrm>
            <a:off x="304920" y="0"/>
            <a:ext cx="73188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91440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Ministerio de Salud Y Ambie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04920"/>
            <a:ext cx="160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aramond-Bold Ex"/>
                <a:ea typeface="Times New Roman"/>
              </a:rPr>
              <a:t>PROFE </a:t>
            </a:r>
            <a:r>
              <a:rPr b="1" lang="es-ES" sz="2000" spc="-1" strike="noStrike" u="sng" baseline="-30000">
                <a:solidFill>
                  <a:srgbClr val="333399"/>
                </a:solidFill>
                <a:uFillTx/>
                <a:latin typeface="Monotype Corsiva"/>
                <a:ea typeface="Times New Roman"/>
              </a:rPr>
              <a:t>Salu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743200"/>
            <a:ext cx="0" cy="3200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94360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10552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426708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95360" y="1409400"/>
            <a:ext cx="8229600" cy="13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riterios de ordenación de las prestaciones sanita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0:54:02Z</dcterms:created>
  <dc:creator>6151851</dc:creator>
  <dc:description/>
  <dc:language>en-US</dc:language>
  <cp:lastModifiedBy>C.P.C.E.C.A.B.A.</cp:lastModifiedBy>
  <dcterms:modified xsi:type="dcterms:W3CDTF">2005-10-24T14:03:09Z</dcterms:modified>
  <cp:revision>56</cp:revision>
  <dc:subject/>
  <dc:title>PAUTAS PARA LA CONSTRUCCION DE UNA CANASTA BASICA DE SERVIC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0850911</vt:r8>
  </property>
  <property fmtid="{D5CDD505-2E9C-101B-9397-08002B2CF9AE}" pid="3" name="_AuthorEmail">
    <vt:lpwstr>6151851@PROFE.GOV.AR</vt:lpwstr>
  </property>
  <property fmtid="{D5CDD505-2E9C-101B-9397-08002B2CF9AE}" pid="4" name="_AuthorEmailDisplayName">
    <vt:lpwstr>Mazzarino Susana</vt:lpwstr>
  </property>
  <property fmtid="{D5CDD505-2E9C-101B-9397-08002B2CF9AE}" pid="5" name="_EmailSubject">
    <vt:lpwstr/>
  </property>
  <property fmtid="{D5CDD505-2E9C-101B-9397-08002B2CF9AE}" pid="6" name="_PreviousAdHocReviewCycleID">
    <vt:r8>-130719228</vt:r8>
  </property>
</Properties>
</file>