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3FF-DAA0-4EEC-A03B-310DAB99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A75-9F8C-4175-A52F-092390D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D2A-8195-44E3-B1B3-04E07970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FE8-D0AB-4470-82D7-5213E8A9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A078-562C-4E0D-BDF9-C747D059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CDC0-FDE3-4EA9-BD4A-E53E8AF6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F4D8-30EC-4673-8FEB-57737C6F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22BC-C19C-4D50-99B5-F94CE1C1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AC2E-AED6-4188-BF47-2D6F5AAB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1985-D323-4E80-B3D1-6E2FB780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A50C-4453-4959-A73F-6B9AF5C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313-E0AD-4113-800A-2F23BC1E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4D4E-34E2-4F66-B040-000A2A8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1F92-75D6-4D5D-95B3-0524193E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B508-5D89-4F39-A06D-6BCCCC4F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C417-AEC3-4D21-B4F3-68A91183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8ED5-679D-48EB-B977-1CE72029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B21-B73F-4571-A848-89662A4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859-F812-43D3-BD6F-3194245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145-E1D2-4FE7-9A25-8C08D636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ECF-FE30-4C71-AD1B-32C3D7EE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7A4-9457-4219-B8C2-626130C1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C2C-699E-4622-AC72-449F4655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3D4-7627-419A-AB7A-B3C6420E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53DD-8493-44D8-94B0-80C258486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D632-A7E1-4F6E-B399-7D409D6BF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3º Congreso Internacional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de la Seguridad Social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“Un camino hacia la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equidad”</a:t>
            </a:r>
            <a:br>
              <a:rPr sz="4800"/>
            </a:br>
            <a:br>
              <a:rPr sz="28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nsejo Profesional de Ciencias Económicas de la Ciudad de Buenos Aires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229360"/>
            <a:ext cx="705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Trabajador Migr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líticas Dirigidas a los Españoles en El Exte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venio de Salud Hispano-Argentin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* HORIZONTE: 2.00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125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¿Cómo evolucionaron la política respecto a los españoles en el exteri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2133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227664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2133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 a mayor protección del ciudad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328464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quilibrio P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386064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brir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4437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brir GERIAT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84640"/>
            <a:ext cx="0" cy="1512720"/>
          </a:xfrm>
          <a:prstGeom prst="line">
            <a:avLst/>
          </a:prstGeom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386064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378936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rar una vida DECO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4365720"/>
            <a:ext cx="4176720" cy="398880"/>
          </a:xfrm>
          <a:prstGeom prst="rect">
            <a:avLst/>
          </a:prstGeom>
          <a:noFill/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EVO REAL DECR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472428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daptar a la DEPENDENCI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060640"/>
            <a:ext cx="4390920" cy="647640"/>
          </a:xfrm>
          <a:prstGeom prst="rect">
            <a:avLst/>
          </a:prstGeom>
          <a:noFill/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35280" y="26028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cuencia                 En materia d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000" y="404640"/>
            <a:ext cx="863280" cy="144720"/>
          </a:xfrm>
          <a:prstGeom prst="rightArrow">
            <a:avLst>
              <a:gd name="adj1" fmla="val 50000"/>
              <a:gd name="adj2" fmla="val 14912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1413000"/>
            <a:ext cx="65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NIO ENTRE EL MINISTERIO DE TRABAJO Y ASUNTOS SOCIALES DEL REINO DE ESPAÑA Y EL MINISTERIO DE SALUD Y AMBIENTE DE LA REPUBLICA ARGENTINA PARA LA PRESTACION DE ASISTENCIA SANITARI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/03/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4437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 la inestimable colaboración de la SSSalu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ACTERI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69228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8366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ngo del Conve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d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uerdo entre Ministe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836640"/>
            <a:ext cx="57600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32000" y="836640"/>
            <a:ext cx="503280" cy="431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773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blación cubiert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c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1773360"/>
            <a:ext cx="64908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132000" y="1773360"/>
            <a:ext cx="50328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1341360"/>
            <a:ext cx="36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% de las P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% beneficiarios 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ierto a otros colec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1341360"/>
            <a:ext cx="0" cy="1295640"/>
          </a:xfrm>
          <a:prstGeom prst="line">
            <a:avLst/>
          </a:prstGeom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285264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bertura territor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c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do el paí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132000" y="2924280"/>
            <a:ext cx="50328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59280" y="2924280"/>
            <a:ext cx="64908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3645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taciones contempl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59280" y="3429000"/>
            <a:ext cx="36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 M O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 M C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3429000"/>
            <a:ext cx="0" cy="863640"/>
          </a:xfrm>
          <a:prstGeom prst="line">
            <a:avLst/>
          </a:prstGeom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1336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blación cubie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4581360"/>
            <a:ext cx="360036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st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versa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ligatoriedad como dere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 período de c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daridad entre Es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581360"/>
            <a:ext cx="0" cy="1584360"/>
          </a:xfrm>
          <a:prstGeom prst="line">
            <a:avLst/>
          </a:prstGeom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360" y="4797360"/>
            <a:ext cx="194472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stión priv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g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bre adhe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4724280"/>
            <a:ext cx="720720" cy="28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5084640"/>
            <a:ext cx="720720" cy="28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19640" y="5445000"/>
            <a:ext cx="720720" cy="28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19640" y="4724280"/>
            <a:ext cx="720720" cy="28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5084640"/>
            <a:ext cx="720720" cy="28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276720" y="5445000"/>
            <a:ext cx="720720" cy="289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9280" y="69228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620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blación cubierta         exclus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620640"/>
            <a:ext cx="64908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132000" y="692280"/>
            <a:ext cx="50328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88000" y="404640"/>
            <a:ext cx="36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O S S* ó  PA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ibilidad de cambio a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16360" y="404640"/>
            <a:ext cx="0" cy="863640"/>
          </a:xfrm>
          <a:prstGeom prst="line">
            <a:avLst/>
          </a:prstGeom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155736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trol de calidad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us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RICTO: mediante SS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132000" y="1628640"/>
            <a:ext cx="50328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59280" y="1628640"/>
            <a:ext cx="649080" cy="360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3645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eten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234936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guimien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COMISION PARI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35280" y="2565360"/>
            <a:ext cx="2881080" cy="0"/>
          </a:xfrm>
          <a:prstGeom prst="line">
            <a:avLst/>
          </a:prstGeom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3645000"/>
            <a:ext cx="4248360" cy="1008720"/>
          </a:xfrm>
          <a:prstGeom prst="rect">
            <a:avLst/>
          </a:prstGeom>
          <a:noFill/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rcarnos al seguro de salud que gozan los españoles en el territorio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19280" y="3789360"/>
            <a:ext cx="649080" cy="144360"/>
          </a:xfrm>
          <a:prstGeom prst="rightArrow">
            <a:avLst>
              <a:gd name="adj1" fmla="val 50000"/>
              <a:gd name="adj2" fmla="val 11240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57340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Inscriptos en un registro específico (gremiales y de direc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755640" y="0"/>
          <a:ext cx="748836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7488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-531720"/>
            <a:ext cx="7559640" cy="4176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55640" y="3828960"/>
            <a:ext cx="761220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OLUCION HISTOR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064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ª F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E: LA ESPAÑA DE 1.9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ª F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E: LA ESPAÑA DE 1.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ª F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E: LA ESPAÑA DE 2.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4869000"/>
            <a:ext cx="457200" cy="2286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132000" y="4797360"/>
            <a:ext cx="457200" cy="2890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4292640"/>
            <a:ext cx="0" cy="7999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3240" y="4307760"/>
            <a:ext cx="53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1400" spc="-1" strike="noStrike">
                <a:solidFill>
                  <a:srgbClr val="cccc00"/>
                </a:solidFill>
                <a:latin typeface="Arial"/>
                <a:ea typeface="Times New Roman"/>
              </a:rPr>
              <a:t>UN ESTADO SOCIALMENTE RESPONS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7880" y="4579560"/>
            <a:ext cx="6581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00"/>
                </a:solidFill>
                <a:latin typeface="Arial"/>
                <a:ea typeface="Times New Roman"/>
              </a:rPr>
              <a:t>PRINCIPIO: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00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1400" spc="-1" strike="noStrike">
                <a:solidFill>
                  <a:srgbClr val="cccc00"/>
                </a:solidFill>
                <a:latin typeface="Arial"/>
                <a:ea typeface="Times New Roman"/>
              </a:rPr>
              <a:t>GASTA   INVIERTE EN BIENESTAR 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00"/>
                </a:solidFill>
                <a:latin typeface="Arial"/>
                <a:ea typeface="Times New Roman"/>
              </a:rPr>
              <a:t>OBJETIVO:    MEJORAR LAS CONDICIONES DE VIDA DE LOS CIUDADAN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* HORIZONTE: 1.978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rt. 41: “Los poderes públicos mantendrán un régimen público de Seguridad Social para todos los ciudadanos, que garantice la asistencia y prestaciones sociales suficientes ante situaciones de necesidad, especialmente en caso de desempleo. La asistencia y prestaciones complementarias serán libres”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05264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CONSTITUCION ESPAÑ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4370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ec94"/>
                </a:solidFill>
                <a:latin typeface="Times New Roman"/>
              </a:rPr>
              <a:t>HITO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ya no solo tiene cobertura el contributivo, se amplia a toda la población,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special a los más protegible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s-ES" sz="2000" spc="-1" strike="noStrike">
                <a:solidFill>
                  <a:srgbClr val="feec94"/>
                </a:solidFill>
                <a:latin typeface="Times New Roman"/>
              </a:rPr>
              <a:t>UNIVERS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4869000"/>
            <a:ext cx="648000" cy="142560"/>
          </a:xfrm>
          <a:prstGeom prst="rightArrow">
            <a:avLst>
              <a:gd name="adj1" fmla="val 50000"/>
              <a:gd name="adj2" fmla="val 11363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* HORIZONTE: 1.978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rt. 42: “El Estado velará especialmente por la salvaguardia de los derechos económicos y sociales de los trabajadores españoles en el extranjero, y orientará su política hacia su retorno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26828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CONSTITUCION ESPAÑ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437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HIT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ección extensiva a emigr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* HORIZONTE: 1.978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50: “Los poderes públicos garantizarán mediante pensiones adecuadas y periodicamente actualizadas, la suficiencia económica a los ciudadanos durante la Tercera Edad. Asimismo, y con independencia de las obligaciones familiares, promoverán su bienestar, mediante un sistema de Servicios Sociales que atenderán sus problemas específicos de salud, vivienda, cultura y oci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05264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CONSTITUCION ESPAÑ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292640"/>
            <a:ext cx="457200" cy="2286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03640" y="4292640"/>
            <a:ext cx="457200" cy="2887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4292640"/>
            <a:ext cx="0" cy="7999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53320" y="4166280"/>
            <a:ext cx="534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o   Inversión en bienestar socia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4200" y="4424760"/>
            <a:ext cx="467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HITO: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protector de la 3ª 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DAD:   Estábamos muy lej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* HORIZONTE: 1.990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ey 26/1990 de 20 de diciembre, apartado 4 del artículo 7: “El Gobierno, en el marco de los sistemas de protección social pública, podrá establecer medidas de protección social a favor de los españoles no residentes en España de acuerdo con la característica de los países de residencia”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436572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4292640"/>
            <a:ext cx="712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a lugar al RD 728/1993 que regulan la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.A.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* HORIZONTE: 1.990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     P. N. C.      es un       DERECHO SUBJETIVO PERF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19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C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6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EP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076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1700280"/>
            <a:ext cx="720720" cy="649080"/>
          </a:xfrm>
          <a:prstGeom prst="line">
            <a:avLst/>
          </a:prstGeom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2492280"/>
            <a:ext cx="64944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3213000"/>
            <a:ext cx="647640" cy="505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3933720"/>
            <a:ext cx="576360" cy="647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00000" y="1773360"/>
            <a:ext cx="719280" cy="503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15640" y="2421000"/>
            <a:ext cx="576360" cy="720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187280" y="3212640"/>
            <a:ext cx="576360" cy="57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116000" y="3933360"/>
            <a:ext cx="431640" cy="647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84464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RECHO EXIG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530064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¿Disponibilidad presupuestaria?                  OBLIG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537372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* HORIZONTE: 2.00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125360"/>
            <a:ext cx="1871640" cy="862560"/>
          </a:xfrm>
          <a:prstGeom prst="rect">
            <a:avLst/>
          </a:prstGeom>
          <a:noFill/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NCIP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1125360"/>
            <a:ext cx="5040360" cy="862560"/>
          </a:xfrm>
          <a:prstGeom prst="rect">
            <a:avLst/>
          </a:prstGeom>
          <a:noFill/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gualar en derechos básicos a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pañoles, vivan donde vi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141300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63640" y="2637000"/>
            <a:ext cx="52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ejidad por la singularidad de cada paí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ersidad normativa, dispersa y poco concr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565360"/>
            <a:ext cx="0" cy="1079640"/>
          </a:xfrm>
          <a:prstGeom prst="line">
            <a:avLst/>
          </a:prstGeom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l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4437000"/>
            <a:ext cx="684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rcar las prestaciones sociales a los residentes en el exte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uir un códice normativo para los residentes en el exte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4365720"/>
            <a:ext cx="0" cy="1079280"/>
          </a:xfrm>
          <a:prstGeom prst="line">
            <a:avLst/>
          </a:prstGeom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465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* HORIZONTE: 2.00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112536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¿compromi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áti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141300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907920"/>
            <a:ext cx="1439640" cy="1225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11280" y="907920"/>
            <a:ext cx="1296720" cy="1225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112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155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1125360"/>
            <a:ext cx="3240000" cy="1313640"/>
          </a:xfrm>
          <a:prstGeom prst="rect">
            <a:avLst/>
          </a:prstGeom>
          <a:noFill/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omiso de un gobierno socialmente responsable con sus ciudadanos que sufrieron el desarrai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382400">
            <a:off x="3779640" y="2492280"/>
            <a:ext cx="718920" cy="1368360"/>
          </a:xfrm>
          <a:prstGeom prst="downArrow">
            <a:avLst>
              <a:gd name="adj1" fmla="val 50000"/>
              <a:gd name="adj2" fmla="val 4758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4076640"/>
            <a:ext cx="4321080" cy="1094040"/>
          </a:xfrm>
          <a:prstGeom prst="rect">
            <a:avLst/>
          </a:prstGeom>
          <a:noFill/>
          <a:ln w="1260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ATUTO DE ESPAÑO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 EL EXTE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764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o de 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10:20Z</dcterms:created>
  <dc:creator>Ministerio de Trabajo</dc:creator>
  <dc:description/>
  <dc:language>en-US</dc:language>
  <cp:lastModifiedBy>C.P.C.E.C.A.B.A.</cp:lastModifiedBy>
  <dcterms:modified xsi:type="dcterms:W3CDTF">2005-10-24T14:06:57Z</dcterms:modified>
  <cp:revision>17</cp:revision>
  <dc:subject/>
  <dc:title>EVOLUCION HISTORICA</dc:title>
</cp:coreProperties>
</file>