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CC14-BAD2-459C-99FB-1C974654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8B63-CE76-4272-B33B-E60E1046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7FCD-1A20-4ECA-98C0-988CD140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9CEA-15D1-48D1-B41C-787E58DC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B985-49C2-464A-9DED-FCF3D3A6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1855-58AC-4003-AF93-2C29FC02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BB17-310F-42FF-8108-2C08520D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9842-77F7-4C3A-B033-095E028D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2AA1-7CFF-4BA7-8F42-7BC004A0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6B19-25D3-460F-BF93-E4CF7BA2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B776-CCDF-469D-9C7E-7E541CF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617F-430C-43D2-8291-765CD762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AFF6-76C5-40B5-9341-67E9068A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ECA6-1F28-43B8-94A0-8B45328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AE1A-3E71-4D1E-A6E6-71D78A4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881A-0E6C-413C-AFC4-B9460630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1948-B912-4500-B2D4-2CC4A197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CD5C-5E34-4ABE-8181-46FC694A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DAD4-971B-460D-85B1-9060EA28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8E8C-CD79-4490-AD28-5E5602B9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8348-5695-4652-8464-E0C4A085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03D7-BB9A-43DB-AEA0-1B74E210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5981-A961-468C-902A-D250981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5A49-7715-4463-81F0-4961095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8EA5-6293-4731-9870-F68BDDC5D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D810-18EB-48E9-B593-84E9FE57F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94960" y="2819520"/>
            <a:ext cx="413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8f8f8"/>
                </a:solidFill>
                <a:latin typeface="Tahoma"/>
              </a:rPr>
              <a:t>INSALUBRIDAD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AR" sz="3200" spc="-1" strike="noStrike">
                <a:solidFill>
                  <a:srgbClr val="f8f8f8"/>
                </a:solidFill>
                <a:latin typeface="Tahoma"/>
              </a:rPr>
              <a:t>TAREAS RIESG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6040" y="529416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r. Darío Hermida Marti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600200"/>
            <a:ext cx="8458200" cy="4191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4f4fe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19320"/>
            <a:ext cx="830592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INSALUBRIDAD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SOLUCIÓN 860/0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Intentó superar las dificultades creadas por la Res.434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ahoma"/>
              </a:rPr>
              <a:t>Tien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mejoras parciales y otras cosméticas pero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ubsiste una “zona gris” que cuestiona la competencia del MT de la Nación en la determinación final de la insalubridad y/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o su levan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as provincias ejercerán su poder de policía dentro del régimen federal pero, será el MT quien resuelva, con un recurso judicial por ante la CNAT de la Capital Federal,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ahoma"/>
              </a:rPr>
              <a:t>d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efecto suspensivo de la declaración tal como lo determinan procesalmente el art. 45 de la ley 20615 y su reforma el art. 62 de la ley 221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09680"/>
            <a:ext cx="8610480" cy="403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4f4fe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57200"/>
            <a:ext cx="8534520" cy="56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INSALUBRIDA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SOLUCIÓN  860/02 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reviendo diferencias de posibilidades técnicas y criterios entre las distintas administraciones provinciales y de la Ciudad de Buenos Aires y la necesidad – dada las graves implicancias del tema – de mantener criterios uniformes aún distintas jurisdicciones y actividades, la Res. 860/02 incluyó un procedimiento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INSPECCION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NUEVA EVALUACIÓN Y DICTAMEN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CTO ADMINIST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OBJECIONES A LA DECLARACIÓN DE INSALUBRIDAD O SU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REGISTROS PROVINCIALES Y NACIONAL DE INSALUB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2057400"/>
            <a:ext cx="8610480" cy="4038480"/>
          </a:xfrm>
          <a:prstGeom prst="rect">
            <a:avLst/>
          </a:prstGeom>
          <a:gradFill rotWithShape="0">
            <a:gsLst>
              <a:gs pos="0">
                <a:srgbClr val="d6f4f4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822960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AREAS PENOSAS, MORTIFICANTES O RIESG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y 17310 (21.VI.67) art. 9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               “</a:t>
            </a: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acúltase al PEN ...  establecer un régimen que adecue limites de edad y de años de servicios y de aportes y contribuciones diferenciales, en relación a la naturaleza de la actividad de que se trate, para los servicios prestados en tareas penosas, riesgosas, insalubres, o determinantes de vejez o agotamiento prematuros, declaradas tales por la autoridad nacional competente.   ...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c. 4257/68  (29.VI.68) reglamentario de ley 17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914400"/>
            <a:ext cx="8610480" cy="5486400"/>
          </a:xfrm>
          <a:prstGeom prst="rect">
            <a:avLst/>
          </a:prstGeom>
          <a:gradFill rotWithShape="0">
            <a:gsLst>
              <a:gs pos="0">
                <a:srgbClr val="d6f4f4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81040"/>
            <a:ext cx="815328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AREAS PENOSAS, MORTIFICANTES O RIESGOSAS</a:t>
            </a:r>
            <a:r>
              <a:rPr b="1" lang="es-AR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ece cuatro niveles de reducción de requisitos jubilato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arones de 55 años y mujeres de 52 con 30 años de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)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tención de enfermos infectocontagio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)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tención de cámaras frías en tareas declaradas insalubres por autoridad nacional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)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maquinista, foguista y cambista ferrovi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)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hóferes de transporte de personas en líneas regulares urbanas o de larg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e)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mineros dedicados a la obtención direct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f)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rabajadores en lugares o ambientes declarados insalubres por la autoridad 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     </a:t>
            </a:r>
            <a:r>
              <a:rPr b="1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edad 50 años y 25 años de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)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areas de laminación, acería y fundición en lugares o ambientes declarados insalub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)   trabajadores en minas subterrán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    </a:t>
            </a:r>
            <a:r>
              <a:rPr b="1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edad 50 años y 30 de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)   tareas a bordo de aeron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edad 55 años y 30 de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)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al que se desempeñe en Antártida e Islas del Atlántico Sud (cómputo do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a contribución se incrementa en 2 punto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y el aporte será el del régimen común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600200"/>
            <a:ext cx="8610480" cy="4495680"/>
          </a:xfrm>
          <a:prstGeom prst="rect">
            <a:avLst/>
          </a:prstGeom>
          <a:gradFill rotWithShape="0">
            <a:gsLst>
              <a:gs pos="0">
                <a:srgbClr val="d6f4f4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830160"/>
            <a:ext cx="83059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AREAS PENOSAS, MORTIFICANTES O RIESGOSAS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onfunde este agrupamiento dado que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insalubrida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eligrosida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no son sinónimos: las tareas en altura puede ser peligrosas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según las circunstancias, pero no insalu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a ley previsional no ha definido “las tareas riesgosas” remitiendo a una legislación especí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a ley 18037 de jubilaciones para trabajadores en relación de dependencia anterior, art. 64 facultó a Poder Ejecutivo a establecer regímenes especiales para estos casos pero, el art. 62 solo alude a tareas determinantes de vejez o agotamiento premat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l art 157 de la 24241 hace referencia a un régimen previsional especial para trabajadores cuya actividad, por su riesgo o por generar agotamiento prematuro, los hagan acreedores a un tratamiento diferen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osterga su determinación hasta tanto el Poder Ejecutivo dicte la norma específica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371600"/>
            <a:ext cx="8610480" cy="3200400"/>
          </a:xfrm>
          <a:prstGeom prst="rect">
            <a:avLst/>
          </a:prstGeom>
          <a:gradFill rotWithShape="0">
            <a:gsLst>
              <a:gs pos="0">
                <a:srgbClr val="d6f4f4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762120"/>
            <a:ext cx="815328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A LEGISLACIÓN PREVI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Ley 24017 (1991) art. 1° prórroga por 180 d</a:t>
            </a:r>
            <a:r>
              <a:rPr b="1" lang="es-AR" sz="1600" spc="-1" strike="noStrike">
                <a:solidFill>
                  <a:srgbClr val="000000"/>
                </a:solidFill>
                <a:latin typeface="Tahoma"/>
                <a:ea typeface="Tahoma"/>
              </a:rPr>
              <a:t>í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as reg. diferen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Ley 24175 (199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Ley 24241 (1993) art. 1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Dec 2433/93 ( LIII – D 4399) refiere a jubilación por edad avanz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Res.  57/94 LIV – A 238    vigencia del dec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Ley 25322 (2000) prórroga para personal esta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828800"/>
            <a:ext cx="8610480" cy="3124080"/>
          </a:xfrm>
          <a:prstGeom prst="rect">
            <a:avLst/>
          </a:prstGeom>
          <a:gradFill rotWithShape="0">
            <a:gsLst>
              <a:gs pos="0">
                <a:srgbClr val="d6f4f4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371600"/>
            <a:ext cx="822960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ÍNT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Tema importante en el mundo laboral y de gran repercusión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Requiere criterio técnico y rigor científico, evitando general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Cualquier norma debe ser de alcance nacional para evitar criterios diversos en distintas </a:t>
            </a:r>
            <a:r>
              <a:rPr b="1" lang="es-AR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jurisdi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Tema de la seguridad social que debe ser atendido y fondeado como 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No debería generar incrementos indebidos de costos lab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Dar seguridad 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28800"/>
            <a:ext cx="7696080" cy="2895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effeef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1840" y="2644920"/>
            <a:ext cx="267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990800"/>
            <a:ext cx="71629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tece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n 1921 la ley 11127 prohibió la fabricación de cerillas con fósforo blan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n 1926 la ley 11338 fijó normas sobre el trabajo nocturno en pan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l decreto reglamentario (arts. 66/8) de la ley 9688 de accidentes se refiere “a observación de medidas de higien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31360" y="8953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INSALUB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600200"/>
            <a:ext cx="8001000" cy="3124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effeef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860400"/>
            <a:ext cx="7772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INSALUBRIDAD 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ey 11544 de jornada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rt. 2° define “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ugares insalubre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..aquellos que pongan en peligro la salud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de los obreros ocupados”. “La jornada no excederá de 6 hs. diarias o 36 hs. semanales”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l PEN determinará “..previo informe técnico..las actividades incluid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l dec s/n° del 11.III.30 establece un listado de los “lugares insalubres” a los que se agregan por dec 1016/74, las industrias ruido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Decretos posteriores sumaron otras actividades y excluyendo unas p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828800"/>
            <a:ext cx="7696440" cy="2895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effeef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143000"/>
            <a:ext cx="723888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INSALUBRIDAD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J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rnada insalu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l decreto reglamentario 16115/33 art 8° de la ley 11544 dispone que ... “en   “aquellos lugares que se consideren insalubres  la jornada será de 6 hs. diarias o 36 hs semanales, en lo casos de jornada mixta la hora insalubre equivaldrá a 1h. 33m. normal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ara mantener la proporcionalidad debió decir 1h.20m., no fu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corregido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676520"/>
            <a:ext cx="7696080" cy="2895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effeef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998640"/>
            <a:ext cx="74674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INSALUBRIDAD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a ley 11544 en su art. 2° atribuye a la Autoridad Administrativa determinar, con los estudios de rigor, los casos individ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no parece aceptable el procedimiento de solo acortar la jornada sin atemperar o eliminar las causas que potencialmente agreden a la salud del trabajador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1523880"/>
            <a:ext cx="8458200" cy="47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4f4fe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685800"/>
            <a:ext cx="838224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INSALUBRIDAD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CT-1974 – art.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Cuando la Autoridad de Aplicación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statar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el desempeño de tareas en condiciones de insalubridad,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timará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previamente al empleador a adecuar ambientalmente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el lugar, establecimiento o actividad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para que el trabajo se desarrolle en condiciones de salubridad dentro del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lazo razonable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que al efecto determine. Si no cumpliere la intimación practicada, la Autoridad de Aplicación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cederá a calificar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as tareas o condiciones ambientales del lugar que se t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a jornada de trabajo en tareas o condiciones consideradas insalubres no podrá exceder de 6 horas diarias o 36 semanale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. La insalubridad no existirá sin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eclaración previa de la autoridad de aplicación, con fundamento en dictámenes médicos de rigor científico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Podrá ser dejada sin efecto por la misma autoridad.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a reducción de jornada no importará disminución de remuner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Agotada la vía administrativa, toda declaración de insalubridad, o la que la deniegue dejarla sin efecto,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erá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currible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en los términos, formas y procedimientos que rijan para la apelación de sentencias en la jurisdicción judicial laboral de la Capital Federal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.  Al fundar este recurso el apelante podrá proponer nuevas prueb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523880"/>
            <a:ext cx="8458200" cy="47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4f4fe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762120"/>
            <a:ext cx="83818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INSALUBRIDAD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SOLUCION  MTE y SS  434/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El Pacto Federal del Trabajo, ley 25212, crea el Consejo Federal como órgano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ordinador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del accionar de las Provincias y la Ciudad de Buenos Aires,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sin excluir al Ministerio de Trabajo de la Nación.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 Ni en su contenido ni en los anexos hace referencia al tema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“insalubridad”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que permita suponer un tratamiento distinto y excepcional</a:t>
            </a: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ahoma"/>
              </a:rPr>
              <a:t> a lo ya normado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La Ministro de Trabajo, Empleo y Seguridad Social delegó por esta Res. la competencia en materia de declaración de insalubridad, en forma exclusiva, a las Administraciones Laborales Provinciales y de la Ciudad Autónoma de Buenos Ai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ahoma"/>
              </a:rPr>
              <a:t>Derogó las Resoluciones la 695/99 MTSS y la 344/01 MTE y FRH que dió a la SRT, las atribuciones de la ex Dirección Nacional de Higiene y Seguridad del Ministerio de Trabajo por imperio del art. 35 LRT., como órgano específico nacional con competencia para calificar tareas o ambientes labor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295280"/>
            <a:ext cx="8458200" cy="5257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4f4fe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703440"/>
            <a:ext cx="8229600" cy="62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INSALUBRIDA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SOLUCIÓN MTE y SS  434/02 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á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Doble error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: 1) hay razones técnico prácticas relacionadas con la disparidad de medios disponibles en las distintas provincias para atender este tema,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2) legalmente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la Ministra de Trabajo no se puede desprender de una competencia y atribuirla al Consejo Federal del Trabajo o a cualquier otro órgano,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máxime cuando la norma dice lo contr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La Ley de Ministerios otorga al Ministerio de Trabajo el poder de policía laboral en todo el territorio nacional. Es resistido por algunas provincias pero, el art. 200 LCT. 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  <a:ea typeface="Tahoma"/>
              </a:rPr>
              <a:t>cuando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fija el procedimiento a seguir en materia de insalubridades, teniendo en cuenta lo dispuesto en art.  9 de la ley 20744 que designa al Ministerio de Trabajo autoridad de aplicación de la le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El art. 3 de la ley 19549 (Régimen de Procedimientos Administrativos) establece que la competencia de los órganos administrativos surge de la Constitución, las leyes y los reglamentos dictados en su consecuencia y constituye una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obligación irrenunciable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, - del órgano, no de la persona -, improrrogable e indispon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ahoma"/>
              </a:rPr>
              <a:t>El Código Penal, art. 248, reprime al “ ...funcionario que dictare resoluciones o “órdenes contrarias a las constituciones o leyes nacionales o provinciales o ejecutare las órdenes y resoluciones de esta clase existentes ..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1676520"/>
            <a:ext cx="8763120" cy="457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4f4fe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181160"/>
            <a:ext cx="84582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INSALUBRIDAD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SOLUCIÓN MTE y SS  434/02 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m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as dificultades y complicaciones que genera la Res. 434/02, son clar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se trata de un procedimiento ilegítimo en orig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uede generar diversidad de criterios en perjuicio del administr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no establece un procedimiento seguro de apelación ante la autoridad nacional, como lo prevé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s una norma inconstitu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6:53:58Z</dcterms:created>
  <dc:creator>FAG</dc:creator>
  <dc:description/>
  <dc:language>en-US</dc:language>
  <cp:lastModifiedBy>C.P.C.E.C.A.B.A.</cp:lastModifiedBy>
  <dcterms:modified xsi:type="dcterms:W3CDTF">2005-10-24T13:54:39Z</dcterms:modified>
  <cp:revision>27</cp:revision>
  <dc:subject/>
  <dc:title>Grant Proposal  for Project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91601033</vt:lpwstr>
  </property>
</Properties>
</file>