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EB9-0A28-4931-8275-7E1A5712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89E-65DC-407C-BD21-96929BA6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2CE-37CE-4299-A7C6-7AFC8BD9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07E-BF1E-468B-9343-876221D9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604-1618-471E-A19D-6344156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01D-D290-49CC-9883-C0AA1F02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25E-1FB8-475F-81BC-F6FE9FF7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EE1-D434-402E-90A4-BF46C0BA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E01-9188-4302-9780-4727812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A14-D36E-49D2-8AB3-3DD7932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A63-8A18-4E41-BF74-09E3A80C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E88-D807-49C1-9F9D-45AD6CD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57DE-C49F-4E28-A94C-498629FB0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bujo3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90720" y="228600"/>
          <a:ext cx="7391160" cy="5943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391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ibujo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15321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3520" y="380880"/>
          <a:ext cx="7696080" cy="6019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7696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3520" y="457200"/>
          <a:ext cx="8153280" cy="5867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1532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Dibujo" descr=""/>
          <p:cNvPicPr/>
          <p:nvPr/>
        </p:nvPicPr>
        <p:blipFill>
          <a:blip r:embed="rId3"/>
          <a:stretch/>
        </p:blipFill>
        <p:spPr>
          <a:xfrm>
            <a:off x="6858000" y="609480"/>
            <a:ext cx="15318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3520" y="380880"/>
          <a:ext cx="8229600" cy="5943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bujo2" descr=""/>
          <p:cNvPicPr/>
          <p:nvPr/>
        </p:nvPicPr>
        <p:blipFill>
          <a:blip r:embed="rId3"/>
          <a:stretch/>
        </p:blipFill>
        <p:spPr>
          <a:xfrm>
            <a:off x="7315200" y="533520"/>
            <a:ext cx="12193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380880"/>
          <a:ext cx="8153280" cy="609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1532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ibujo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15321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04920"/>
          <a:ext cx="7543800" cy="6248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75438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Dibujo" descr=""/>
          <p:cNvPicPr/>
          <p:nvPr/>
        </p:nvPicPr>
        <p:blipFill>
          <a:blip r:embed="rId3"/>
          <a:stretch/>
        </p:blipFill>
        <p:spPr>
          <a:xfrm>
            <a:off x="6172200" y="457200"/>
            <a:ext cx="15318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Dibujo" descr=""/>
          <p:cNvPicPr/>
          <p:nvPr/>
        </p:nvPicPr>
        <p:blipFill>
          <a:blip r:embed="rId3"/>
          <a:stretch/>
        </p:blipFill>
        <p:spPr>
          <a:xfrm>
            <a:off x="6934320" y="685800"/>
            <a:ext cx="1531800" cy="399960"/>
          </a:xfrm>
          <a:prstGeom prst="rect">
            <a:avLst/>
          </a:prstGeom>
          <a:ln w="0">
            <a:noFill/>
          </a:ln>
        </p:spPr>
      </p:pic>
      <p:pic>
        <p:nvPicPr>
          <p:cNvPr id="100" name="Dibujo" descr=""/>
          <p:cNvPicPr/>
          <p:nvPr/>
        </p:nvPicPr>
        <p:blipFill>
          <a:blip r:embed="rId4"/>
          <a:stretch/>
        </p:blipFill>
        <p:spPr>
          <a:xfrm>
            <a:off x="838080" y="762120"/>
            <a:ext cx="15321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762120" y="533520"/>
          <a:ext cx="7696080" cy="5638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6960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ibujo" descr=""/>
          <p:cNvPicPr/>
          <p:nvPr/>
        </p:nvPicPr>
        <p:blipFill>
          <a:blip r:embed="rId3"/>
          <a:stretch/>
        </p:blipFill>
        <p:spPr>
          <a:xfrm>
            <a:off x="6629400" y="685800"/>
            <a:ext cx="15318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62120" y="380880"/>
          <a:ext cx="7619760" cy="609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880"/>
                    <a:ext cx="76197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ibujo" descr=""/>
          <p:cNvPicPr/>
          <p:nvPr/>
        </p:nvPicPr>
        <p:blipFill>
          <a:blip r:embed="rId3"/>
          <a:stretch/>
        </p:blipFill>
        <p:spPr>
          <a:xfrm>
            <a:off x="6553080" y="533520"/>
            <a:ext cx="15321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457200"/>
          <a:ext cx="7848720" cy="5943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7848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Dibujo" descr=""/>
          <p:cNvPicPr/>
          <p:nvPr/>
        </p:nvPicPr>
        <p:blipFill>
          <a:blip r:embed="rId3"/>
          <a:stretch/>
        </p:blipFill>
        <p:spPr>
          <a:xfrm>
            <a:off x="6705720" y="609480"/>
            <a:ext cx="15318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457200"/>
          <a:ext cx="8001000" cy="5867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001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ibujo" descr=""/>
          <p:cNvPicPr/>
          <p:nvPr/>
        </p:nvPicPr>
        <p:blipFill>
          <a:blip r:embed="rId3"/>
          <a:stretch/>
        </p:blipFill>
        <p:spPr>
          <a:xfrm>
            <a:off x="6629400" y="609480"/>
            <a:ext cx="15318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5800" y="457200"/>
          <a:ext cx="746748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7467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ibujo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15321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38080" y="609480"/>
          <a:ext cx="7772400" cy="533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772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ibujo" descr=""/>
          <p:cNvPicPr/>
          <p:nvPr/>
        </p:nvPicPr>
        <p:blipFill>
          <a:blip r:embed="rId3"/>
          <a:stretch/>
        </p:blipFill>
        <p:spPr>
          <a:xfrm>
            <a:off x="6781680" y="762120"/>
            <a:ext cx="15321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33520" y="380880"/>
          <a:ext cx="8305560" cy="556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305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Dibujo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5321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3520" y="457200"/>
          <a:ext cx="8076960" cy="5867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0769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37:06Z</dcterms:created>
  <dc:creator>Guidazio</dc:creator>
  <dc:description/>
  <dc:language>en-US</dc:language>
  <cp:lastModifiedBy>C.P.C.E.C.A.B.A.</cp:lastModifiedBy>
  <dcterms:modified xsi:type="dcterms:W3CDTF">2005-10-21T13:10:07Z</dcterms:modified>
  <cp:revision>4</cp:revision>
  <dc:subject/>
  <dc:title>Presentación de PowerPoint</dc:title>
</cp:coreProperties>
</file>