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2666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6446880"/>
            <a:ext cx="7238880" cy="1062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96080" y="5943600"/>
            <a:ext cx="2095560" cy="69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220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égimen de Capitalizació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057400"/>
            <a:ext cx="66294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34290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r. Juan H. González Gavi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perintendente de AF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enos Aires, octubre d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5240" y="262080"/>
            <a:ext cx="777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ITUACION DE LOS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stribución de afiliados al SIJP según densidad de aportes.1994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38120" y="1225440"/>
            <a:ext cx="90630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9917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4872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6868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96771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2012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68256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Gestión Previsional en las AFJ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825560"/>
            <a:ext cx="90676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tiempo promedio de tramitación de las SPP otorgadas en el ejercicio 2004/05 se redujo a 12,0 meses (11% menos que en el ejercicio 2003/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tiempo promedio de tramitación histórico de SPP alcanzó los 15,1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in embargo, en 2004 se otorgó el 39% de las SPP del stock que “pudo” haber sido otorgado, es decir un 17% menos que e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304920"/>
            <a:ext cx="792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iempo promedio de tramitación de SPP otorgadas por ejercicio de otorgamiento y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po de pr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(en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514520"/>
            <a:ext cx="8229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21232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01720" y="612720"/>
            <a:ext cx="8265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ICADORES DEL MERCADO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alariados no registr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3080" y="1420920"/>
            <a:ext cx="91627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76276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a nivel del sistema previsional en general un serio problema de cobert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érminos del régimen de capitalización, se obser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as en el funcionamiento del mercado (no hay competencia por preci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as en la gestión de cartera y de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os costos de la tran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4160" y="53352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3808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obertura del SIJP. 2005-20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92280" y="1344600"/>
            <a:ext cx="85438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67160" y="0"/>
            <a:ext cx="239400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4840"/>
            <a:ext cx="93726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23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914400"/>
            <a:ext cx="7162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estión públ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estión privad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2012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0556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53452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98440" y="560520"/>
            <a:ext cx="77724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TEXTO DEMOGRÁ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jecimiento de la Pob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33680"/>
            <a:ext cx="2971800" cy="2533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>
                  <a:alpha val="26274"/>
                </a:srgbClr>
              </a:gs>
              <a:gs pos="50000">
                <a:srgbClr val="ff9900">
                  <a:alpha val="18039"/>
                </a:srgbClr>
              </a:gs>
              <a:gs pos="100000">
                <a:srgbClr val="ff3300">
                  <a:alpha val="26274"/>
                </a:srgbClr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78240" y="2540160"/>
            <a:ext cx="2971800" cy="2533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>
                  <a:alpha val="32156"/>
                </a:srgbClr>
              </a:gs>
              <a:gs pos="50000">
                <a:srgbClr val="ff9900"/>
              </a:gs>
              <a:gs pos="100000">
                <a:srgbClr val="ff3300">
                  <a:alpha val="32156"/>
                </a:srgbClr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578280" y="2292120"/>
            <a:ext cx="2971800" cy="2533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339966">
                  <a:alpha val="32156"/>
                </a:srgbClr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0880" y="3048120"/>
            <a:ext cx="5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83280" y="3092400"/>
            <a:ext cx="5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9000" y="2990880"/>
            <a:ext cx="14097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scen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Fecund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7240" y="2959200"/>
            <a:ext cx="14097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scen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ort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04120" y="2736720"/>
            <a:ext cx="14097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propor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dul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ay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4880" y="5638680"/>
            <a:ext cx="87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 un proceso lento, gradual y pre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0680" y="169560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17589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s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6104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03440" y="450720"/>
            <a:ext cx="8615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RESUMEN DE LA SITUACIO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1176480"/>
            <a:ext cx="91170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spcBef>
                <a:spcPts val="1437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Times New Roman"/>
              </a:rPr>
              <a:t>Población en avanzado proceso de envejeci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437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Times New Roman"/>
              </a:rPr>
              <a:t>Proceso de normalización y crecimiento de la econom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437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Times New Roman"/>
              </a:rPr>
              <a:t>Mercado laboral con elevado desempleo, informalidad y baja densidad de aport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437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Times New Roman"/>
              </a:rPr>
              <a:t>Deterioro en el salario real y concentración de las remuneraciones en niveles baj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437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Times New Roman"/>
              </a:rPr>
              <a:t>Tendencia a la reducción en el nivel de cobertura tanto de la población activa como de la pasiv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437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Times New Roman"/>
              </a:rPr>
              <a:t>Pérdida del poder adquisitivo de los beneficios del sistem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437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Times New Roman"/>
              </a:rPr>
              <a:t>Fuerte concentración de beneficios en el mínim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del sistema en general, debe mejorarse la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érminos del régimen de capitalización, se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cia por precios, menores costos (auto-regulación, licitación, topes comis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r cartera: diversificar riesgos, articular con economía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 gestión de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98440" y="560520"/>
            <a:ext cx="77724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TEXTO DEMOGRÁ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peranza de Vida al Na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2600" y="619200"/>
            <a:ext cx="8761320" cy="606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933800" y="2419200"/>
            <a:ext cx="7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77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9360" y="3435480"/>
            <a:ext cx="7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7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12360" y="2882880"/>
            <a:ext cx="72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77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42520" y="1727280"/>
            <a:ext cx="72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84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476280"/>
            <a:ext cx="7772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IRAMIDES POBL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133640"/>
            <a:ext cx="4495680" cy="282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67400" y="1009800"/>
            <a:ext cx="4495680" cy="30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438280" y="4143240"/>
            <a:ext cx="4486320" cy="27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22920" y="685800"/>
            <a:ext cx="42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filiados - A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Black"/>
              </a:rPr>
              <a:t>(a la fec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5,3 MILLONES 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,5 MILLONES DE AFILIADOS A CAPI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,5 MILLONES DE A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,2 SISTEMA DE CAPI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0,6 SISTEMA DE REPA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0,7 MONOTRIBU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79360" y="0"/>
            <a:ext cx="77724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TUACION DE L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volución de los Afiliados y Aportantes al SI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23880" y="800280"/>
            <a:ext cx="8639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67276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79440" y="3366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STEMA PREVISIONAL -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371600"/>
            <a:ext cx="889812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spcBef>
                <a:spcPts val="13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Desde la reforma se duplica el número de afiliados mientras los aportantes se mantienen consta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3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El 85% de los aportantes están afiliados a Capitalización. Los aportantes de Reparto se concentran en edades próximas a la de reti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3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Aproximadamente el 73% de las altas al sistema fueron indecisos, el 24% optaron por el Régimen de Capitalización y el 3% por el Régimen de Repar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3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El 50% de los afiliados posee una densidad de aportes menor al 32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spcBef>
                <a:spcPts val="1375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</a:rPr>
              <a:t>El 50% de los afiliados alcanzó a capitalizar en sus cuentas  menos de $3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5908680"/>
          <a:ext cx="961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08680"/>
                    <a:ext cx="961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3:00:31Z</dcterms:created>
  <dc:creator/>
  <dc:description/>
  <dc:language>en-US</dc:language>
  <cp:lastModifiedBy>C.P.C.E.C.A.B.A.</cp:lastModifiedBy>
  <cp:lastPrinted>2005-10-20T19:38:42Z</cp:lastPrinted>
  <dcterms:modified xsi:type="dcterms:W3CDTF">2005-10-24T13:53:43Z</dcterms:modified>
  <cp:revision>127</cp:revision>
  <dc:subject/>
  <dc:title>Sin título de diapositiva</dc:title>
</cp:coreProperties>
</file>