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D1E-31A8-4D60-B202-3937D412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D91-E6AD-4AA5-8C70-B814F51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67E-353E-4927-BAA3-4C83B446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6A0-2DAE-485C-ACFA-F6896C6E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16DF-675A-4C2F-B275-C2F048F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B39-A45E-4538-B22E-7C87065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4246-40C9-4940-BCBD-3FEF7524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621A-2D03-4911-A1FA-0B27D37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A3E6-1053-4484-9EE3-E75914F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50C-9963-4CAC-9883-9065234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7B0-D86B-447E-B9DA-829DBFD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276-5843-496D-8D79-0F9A9256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9998-2C9A-4983-9B77-100AE91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A6D-BAAE-4F6A-8DEE-068A914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2D2-2E4A-45BA-A883-C9EFB70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25DC-CBCD-451E-B45F-EE10272B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C25B-AAF9-4586-86E5-07ED9D3B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B1C-2B39-420D-AF73-032D237B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B3A-A496-4BC4-8EBB-4F16B0F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461-F3D5-4478-A6F6-629E4659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6DA-19C2-4BC9-9C46-DEB21B21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694-D11C-4257-9D41-5961BE2E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4D0-A973-4D08-AE81-30290847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55E-6987-4BA6-9B30-321A7A6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CFE2-BB5A-46D6-B522-45FF8DB83DBA}" type="slidenum">
              <a:rPr b="0" lang="es-MX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B5A7-F2A2-4E33-BB16-B0ED4510A13F}" type="slidenum">
              <a:rPr b="0" lang="es-MX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915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0033"/>
                </a:solidFill>
                <a:latin typeface="Times New Roman"/>
              </a:rPr>
              <a:t>"Movilidad Jubilatoria y Equilibrio Actuarial“</a:t>
            </a:r>
            <a:br>
              <a:rPr sz="2400"/>
            </a:br>
            <a:r>
              <a:rPr b="0" lang="es-AR" sz="1800" spc="-1" strike="noStrike">
                <a:solidFill>
                  <a:srgbClr val="330033"/>
                </a:solidFill>
                <a:latin typeface="Times New Roman"/>
              </a:rPr>
              <a:t>III Congreso Internacional de la Seguridad Social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La movilidad del haber de las jubilaciones y pensiones. 82 % móvil, regimenes especiales y las garantías constitucionales.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orge García R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2240" y="2781360"/>
            <a:ext cx="25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uenos Aires, Octubre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Solid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qu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Mov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Proporcion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ción no va a definir por sí misma estas no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o si dará “el contexto, el marco y el ámbito donde estas ideas deben moverse, y descartar otros escenarios hermenéuticos alternativ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Solidaridad y equ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Sostenimiento de los Activos-Intergene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justicia del caso concreto, destinada a mitigar el rigorismo de una solu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Igual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ley debe ser igual en igualdad de circunsta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derecho a que no se establezcan excepciones o privilegios que excluyan a unos, de los que se les concede a otros en iguales circunsta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EMEL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n los fondos que concurran al pago, cualquiera que sea su orige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coexistencia de un régimen previsional de alcance general y de otro con características especiales no suscita reparos constitucionales…”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Mov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zonablemente propor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ber del legislador fijar el contenido concreto de esa garant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NCHEZ, GONZALEZ, SIROM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oporcion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azonablemente propor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posibilidades presupues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Confiscatoriedad: 33</a:t>
            </a:r>
            <a:r>
              <a:rPr b="1" lang="es-AR" sz="2000" spc="-1" strike="noStrike">
                <a:solidFill>
                  <a:srgbClr val="000000"/>
                </a:solidFill>
                <a:latin typeface="Arial Black"/>
              </a:rPr>
              <a:t>%, 30%, 15% y 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Fallos y pautas para la mov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4.91 hasta 31.3.95 índice general de remuneraciones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4.95 en adelante índice de precios al consumidor nivel general INDEC,  deflación entre 4/95 y 12/2001 (- 2,33%), creció entre 1/2002 y 572005  63%, total 59,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medio de las remuneraciones declaradas al SIJP -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 Black"/>
              </a:rPr>
              <a:t>La movilidad del haber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859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Conclusiones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gualdad – regímenes espe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arto - proporcionalidad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uro social – contractual – propor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uridad social – cobertura necesidad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ficiencia y recursos disponibles – máximo de los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Legislación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533412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18:29Z</dcterms:created>
  <dc:creator>APINO</dc:creator>
  <dc:description/>
  <dc:language>en-US</dc:language>
  <cp:lastModifiedBy>C.P.C.E.C.A.B.A.</cp:lastModifiedBy>
  <dcterms:modified xsi:type="dcterms:W3CDTF">2005-10-24T13:55:39Z</dcterms:modified>
  <cp:revision>122</cp:revision>
  <dc:subject/>
  <dc:title>Acuerdo por la Seguridad Social</dc:title>
</cp:coreProperties>
</file>