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1A7-7B72-42B0-BDC7-D12F2BD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666-1766-4B42-A71B-5507D3F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F53-4931-46F9-8933-53A8F497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797-613C-40E4-AC84-B4F543A6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4517-CF4F-4096-A79A-B17F1373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4C9-66F4-4EB6-BB04-40C3FD8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82FB-976F-41E1-B847-EBFF4E7C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D90-EBD0-49EB-9B65-D9A46C8C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03FB-F498-4A62-B7D6-1F7856B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A6E1-E479-4001-ACE8-22C59E45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BF89-FD01-411E-8C32-F1F4F63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9A7-1499-48D2-BA54-59C4F130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15D2-B26F-4018-B5F0-1B7E0FF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9EA9-2CC8-490E-92D2-09E1285D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9B1-5CFA-4B07-8767-7A91397D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4144-9A0B-462C-946A-B531720F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272E-E04E-4C26-BD93-D0011D19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7B3-5A41-443C-A2E4-1DFADEA7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FC6-8213-4F49-A3F1-A72A9D3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46C-CDC0-4C69-86FD-7A409CC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122-68A3-4C81-871C-1B9B3C06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698-8C74-4A6E-9514-F628EA5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93F-4160-44EB-A968-C0D6108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E58-6D37-450E-BABE-B02B1E11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4F3-7F81-47A1-9A01-E1D7DA991727}" type="slidenum">
              <a:rPr b="0" lang="es-A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5C8-6224-4ADC-B6B0-D6BBE2F55FC4}" type="slidenum">
              <a:rPr b="0" lang="es-A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18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66ff"/>
                </a:solidFill>
                <a:uFillTx/>
                <a:latin typeface="Comic Sans MS"/>
              </a:rPr>
              <a:t>Para Diseñar Estrategias Utiles Es Necesario Conocer: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629604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Comic Sans MS"/>
              </a:rPr>
              <a:t>Las características de la poblacion analizada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Comic Sans MS"/>
              </a:rPr>
              <a:t>Los factores que impulsan el crecimiento del gast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88000" y="602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201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PRINCIPIOS BASICOS PARA CONTENER EL GASTO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52480" y="1447920"/>
            <a:ext cx="7067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6699"/>
                </a:solidFill>
                <a:latin typeface="Comic Sans MS"/>
              </a:rPr>
              <a:t>I) </a:t>
            </a:r>
            <a:r>
              <a:rPr b="1" lang="es-ES" sz="2500" spc="-1" strike="noStrike">
                <a:solidFill>
                  <a:srgbClr val="cc00ff"/>
                </a:solidFill>
                <a:latin typeface="Comic Sans MS"/>
              </a:rPr>
              <a:t>ATENCIÓN INFORMAL. EN LA    ARGENTINA EXISTE BASE ENRAIZADA EN LA FAMILIA. NEUTRALIZA LA DEBILIDAD GENERADA POR LOS BAJOS INGRESOS PER CÁPITA DE LA POBLACIÓN MAYOR Y LAS RESTRICCIONES PRESUPUESTARIAS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6699"/>
                </a:solidFill>
                <a:latin typeface="Comic Sans MS"/>
              </a:rPr>
              <a:t>J) </a:t>
            </a:r>
            <a:r>
              <a:rPr b="1" lang="es-ES" sz="2500" spc="-1" strike="noStrike">
                <a:solidFill>
                  <a:srgbClr val="ff5050"/>
                </a:solidFill>
                <a:latin typeface="Comic Sans MS"/>
              </a:rPr>
              <a:t>PROGRAMAS DE CUIDADOS PALIATIVOS: ORIENTADOS A UNA MEJOR CALIDAD DE VIDA AL FINAL DE LA MISMA. PERMITEN AFRONTAR ESE TRÁNSITO INEVITABLE EN LAS MEJORES CONDICIONES POSIBLES, CON EL COSTO MÁS RAZONABLE Y CON EL USO ÉTICO DE LOS RECURSOS MÉDICO TECNOLÓGICOS.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PRINCIPIOS BÁSICOS PARA CONTENER EL GASTO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39008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LOS PRINCIPIOS EXPUESTOS PERMITIRÁ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   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1)</a:t>
            </a: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UNA DISMINUCIÓN EN LA DEMANDA     DE HOSPITALIZACIÓ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2) LA REDUCCIÓN DE LOS COSTOS MÉDICOS POR UN USO RAZONABLE DE MEDICAMENTOS Y DE NUEVA TECNOLOGÍA DIAGNOSTICA Y TERAPÉUTICA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3) ALCANZANDO UN INDICE DE LONGEVIDAD CON CALIDAD DE VIDA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QUÉ POLITICAS DE CONTENCIÓN ADOPTARON OTROS PAIS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Comic Sans MS"/>
              </a:rPr>
              <a:t>TRATANDOSE DE UN PROBLEMA DE ORDEN MUNDIAL PODEMOS VER QUÉ MEDIDAS HAN ADOPTADO ALGUNOS PAISE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1) </a:t>
            </a: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INGLATERRA CREÓ EL INSTITUTO NACIONAL DE EXCELENCIA CLÍNICA: ASESOR FINANCIADORES EN EFECTIVIDAD CLÍNICA DE MEDICAMENTOS PARA CADA TRATAMIENT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QUÉ POLÍTICAS DE CONTENCIÓN ADOPTARON OTROS PAIS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2491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2) </a:t>
            </a:r>
            <a:r>
              <a:rPr b="1" lang="es-ES" sz="2800" spc="-1" strike="noStrike" u="sng">
                <a:solidFill>
                  <a:srgbClr val="008000"/>
                </a:solidFill>
                <a:uFillTx/>
                <a:latin typeface="Arial"/>
              </a:rPr>
              <a:t>BÉLGICA: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 RACIONALIZÓ SERVICIOS DE INTERNACIÓN. CREÓ CAMAS PARA-MÉDICAS REEMPLAZO CAMA HOSPITALARIA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FOMENTÓ CENTROS PARAMÉDICOS: REACTIVACIÓN, REEDUCACIÓN, INTEGRACIÓN SOCIAL, CON ENFERMERAS Y FISIOTERAPÉUTA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128000" cy="20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QUÉ POLÍTICAS DE CONTENCIÓN ADOPTARON OTROS PAIS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63280" y="2349360"/>
            <a:ext cx="698508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mic Sans MS"/>
              </a:rPr>
              <a:t>3) </a:t>
            </a:r>
            <a:r>
              <a:rPr b="1" lang="es-ES" sz="2800" spc="-1" strike="noStrike" u="sng">
                <a:solidFill>
                  <a:srgbClr val="cc00ff"/>
                </a:solidFill>
                <a:uFillTx/>
                <a:latin typeface="Comic Sans MS"/>
              </a:rPr>
              <a:t>DINAMARCA</a:t>
            </a:r>
            <a:r>
              <a:rPr b="1" lang="es-ES" sz="2800" spc="-1" strike="noStrike">
                <a:solidFill>
                  <a:srgbClr val="cc00ff"/>
                </a:solidFill>
                <a:latin typeface="Comic Sans MS"/>
              </a:rPr>
              <a:t>: CONSOLIDÓ LA ATENCIÓN PRIMARIA IMPIDIENDO RECURRIR AL HOSPITAL SIN DERIVACIÓN DEL MÉDICO GENERALISTA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Comic Sans MS"/>
              </a:rPr>
              <a:t>ASIGNÓ A LA ENFERMERA UN PAPEL AMPLIO Y ACTIVO, VISITANDO PACIENTES EN DOMICILI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200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QUÉ POLÍTICAS DE CONTENCIÓN ADOPTARON OTROS PAIS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09320" y="2819520"/>
            <a:ext cx="6172200" cy="36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4) </a:t>
            </a:r>
            <a:r>
              <a:rPr b="1" lang="es-ES" sz="2800" spc="-1" strike="noStrike" u="sng">
                <a:solidFill>
                  <a:srgbClr val="ff5050"/>
                </a:solidFill>
                <a:uFillTx/>
                <a:latin typeface="Arial"/>
              </a:rPr>
              <a:t>ALEMANIA:</a:t>
            </a:r>
            <a:r>
              <a:rPr b="1" lang="es-ES" sz="2800" spc="-1" strike="noStrike">
                <a:solidFill>
                  <a:srgbClr val="ff5050"/>
                </a:solidFill>
                <a:latin typeface="Arial"/>
              </a:rPr>
              <a:t> ORGANIZÓ A TRAVÉS DE SEGUROS LA ATENCIÓN HOSPITALARIA DE LARGO PLAZ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2741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CONCLUSIONES FINALES</a:t>
            </a:r>
            <a:br>
              <a:rPr sz="36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52480" y="1196640"/>
            <a:ext cx="739152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Comic Sans MS"/>
              </a:rPr>
              <a:t>EXITEN ALGUNAS CERTEZAS INDISCUTIBLES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cc00ff"/>
                </a:solidFill>
                <a:latin typeface="Comic Sans MS"/>
              </a:rPr>
              <a:t>LA DEMANDA DE ATENCIÓN DE SALUD AUMENTARÁ DADO LAS TENDENCIAS COMPROBADAS EPIDEMIOLOGICAS Y DEMOGRÁFICA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Comic Sans MS"/>
              </a:rPr>
              <a:t>EL FINANCIAMIENTO ACTUARÁ COMO CUELLO DE BOTELLA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2007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66ff"/>
                </a:solidFill>
                <a:uFillTx/>
                <a:latin typeface="Comic Sans MS"/>
              </a:rPr>
              <a:t>CONCLUSIONES FINALES</a:t>
            </a:r>
            <a:r>
              <a:rPr b="0" lang="es-ES" sz="36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s-ES" sz="3600" spc="-1" strike="noStrike">
                <a:solidFill>
                  <a:srgbClr val="0066ff"/>
                </a:solidFill>
                <a:latin typeface="Comic Sans MS"/>
              </a:rPr>
              <a:t>Continuación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1905120"/>
            <a:ext cx="73915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ff"/>
                </a:solidFill>
                <a:latin typeface="Arial"/>
              </a:rPr>
              <a:t>LA ECUACIÓN ES OBVIAMENTE DIFICIL Y LA FALTA DE INTEGRACIÓN ECONÓMICA Y SANITARIA PARECERÍA CONDUCIR A UN MANDATO ABSURD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Century Schoolbook"/>
              </a:rPr>
              <a:t>“</a:t>
            </a:r>
            <a:r>
              <a:rPr b="1" lang="es-ES" sz="2800" spc="-1" strike="noStrike">
                <a:solidFill>
                  <a:srgbClr val="ff5050"/>
                </a:solidFill>
                <a:latin typeface="Century Schoolbook"/>
              </a:rPr>
              <a:t>HAGA MÁS CON MENOS RECURSOS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66ff"/>
                </a:solidFill>
                <a:uFillTx/>
                <a:latin typeface="Comic Sans MS"/>
              </a:rPr>
              <a:t>CONCLUSIONES FINALES</a:t>
            </a:r>
            <a:r>
              <a:rPr b="0" lang="es-E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ES" sz="36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66ff"/>
                </a:solidFill>
                <a:latin typeface="Comic Sans MS"/>
              </a:rPr>
              <a:t>Continuació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1699920"/>
            <a:ext cx="73152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050"/>
                </a:solidFill>
                <a:latin typeface="Comic Sans MS"/>
              </a:rPr>
              <a:t>OBJETIVO</a:t>
            </a:r>
            <a:r>
              <a:rPr b="1" lang="es-ES" sz="2800" spc="-1" strike="noStrike">
                <a:solidFill>
                  <a:srgbClr val="336699"/>
                </a:solidFill>
                <a:latin typeface="Comic Sans MS"/>
              </a:rPr>
              <a:t>: </a:t>
            </a: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CREAR ORGANOS TIPO TALLERES INTERDISCIPLINARIOS QUE EN CONJUNCIÓN DE TEORÍA Y PRÁCTICA COMPROMETA LA GESTIÓN DE TODOS LOS AGENTES, INCLUIDOS AGRUPACIONES SOCIALES, ADULTOS MAYORES, FAMILIARES , PARA QUE EN CONJUNTO Y ASUMIENDO EL COMPROMISO QUE LES COMPETA DISCUTAN E IMPLEMENTEN LAS INSTANCIAS OPERATIVAS MÁS ÚTILES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720072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Comic Sans MS"/>
              </a:rPr>
              <a:t>CONCLUSIONES FINALES</a:t>
            </a:r>
            <a:r>
              <a:rPr b="0" lang="es-E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66ff"/>
                </a:solidFill>
                <a:latin typeface="Comic Sans MS"/>
              </a:rPr>
              <a:t>Continuació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520" y="15238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Comic Sans MS"/>
              </a:rPr>
              <a:t>ES FUNDAMENTAL TENER PRESENTE UNA PARTICULARIDAD ESPECIAL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ff5050"/>
                </a:solidFill>
                <a:latin typeface="Comic Sans MS"/>
              </a:rPr>
              <a:t>A UN ÉXITO LE ESPERA INVARIABLEMENTE UN NUEVO AUMENT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Comic Sans MS"/>
              </a:rPr>
              <a:t>POR LO TANTO LAS ESTRATEGIAS DEBE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ff"/>
                </a:solidFill>
                <a:latin typeface="Comic Sans MS"/>
              </a:rPr>
              <a:t>“</a:t>
            </a:r>
            <a:r>
              <a:rPr b="1" lang="es-ES" sz="3600" spc="-1" strike="noStrike">
                <a:solidFill>
                  <a:srgbClr val="cc00ff"/>
                </a:solidFill>
                <a:latin typeface="Comic Sans MS"/>
              </a:rPr>
              <a:t>RENOVARSE SISTEMÁTICAMENTE”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66ff"/>
                </a:solidFill>
                <a:uFillTx/>
                <a:latin typeface="Comic Sans MS"/>
              </a:rPr>
              <a:t>Características de la Población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9280" y="1916280"/>
            <a:ext cx="752472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La tercera edad es la etapa del séptimo decenio-65 años-.Sinónimo de envejecimient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Es la etapa de la involución. Fin de la vida productiva. Marginación social, manifestaciones negativas: pérdida concentración, agudeza visual, memoria</a:t>
            </a: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2320" y="2462040"/>
          <a:ext cx="381024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2320" y="2462040"/>
                    <a:ext cx="381024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5120" y="56386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99ffcc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343400"/>
            <a:ext cx="2971800" cy="152280"/>
          </a:xfrm>
          <a:prstGeom prst="flowChartProcess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Arial"/>
              </a:rPr>
              <a:t>Tarea 2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038480"/>
            <a:ext cx="1371600" cy="152640"/>
          </a:xfrm>
          <a:prstGeom prst="flowChartProcess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Arial"/>
              </a:rPr>
              <a:t>Tarea 1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11160" y="5994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Arial"/>
              </a:rPr>
              <a:t>En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-243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66ff"/>
                </a:solidFill>
                <a:uFillTx/>
                <a:latin typeface="Comic Sans MS"/>
              </a:rPr>
              <a:t>Factor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2000" y="761760"/>
            <a:ext cx="7812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Fenómeno de crecimiento demográfico. Sostenido 30/50 años. Aumento población mayor de 65 añ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. Seguidamente veremos en un gráfico el comportamiento de ese fenómeno en nuestro país desde 1895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Pero un dato importante nos indica que a partir de 2010 la población argentina alcanzará una  tasa de fecundidad  menor al 2%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Y que los mayores de 65 años en CABA son el 16% con una tasa de fecundidad de 1,44%. En 1994 en Suecia los mayores de 65 años alcanzaban al 18%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1" lang="es-ES" sz="3600" spc="-1" strike="noStrike" u="sng">
                <a:solidFill>
                  <a:srgbClr val="0066ff"/>
                </a:solidFill>
                <a:uFillTx/>
                <a:latin typeface="Comic Sans MS"/>
              </a:rPr>
              <a:t>EVOLUCION DEMOGRAFICA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319800" y="1676520"/>
          <a:ext cx="18352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9800" y="1676520"/>
                    <a:ext cx="183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447920" y="1371600"/>
          <a:ext cx="7391160" cy="510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73911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75600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 u="sng">
                <a:solidFill>
                  <a:srgbClr val="0066ff"/>
                </a:solidFill>
                <a:uFillTx/>
                <a:latin typeface="Comic Sans MS"/>
              </a:rPr>
              <a:t>FACTORES</a:t>
            </a:r>
            <a:br>
              <a:rPr sz="3600"/>
            </a:br>
            <a:r>
              <a:rPr b="1" lang="es-ES" sz="3200" spc="-1" strike="noStrike">
                <a:solidFill>
                  <a:srgbClr val="0066ff"/>
                </a:solidFill>
                <a:latin typeface="Comic Sans MS"/>
              </a:rPr>
              <a:t>continuació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125360"/>
            <a:ext cx="746748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LA BOMBA DE TIEMPO DEMOGRAFICA POR IMPACTO EN ECONOMIA Y SISTEMAS SOCIALES ENCIENDE ALARMAS DEL SISTEMA DE SALUD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ES UNA VARIABLE DE DIFICIL REGULACIÓN CONTRARIAMENTE A LO QUE SUCEDE CON LOS RESTANTES FACTORE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PROVOCARA UN INCREMENTO DEL GASTO QUE COMPROMETERÁ SERIAMENTE LOS RECURSOS DISPONIBLE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76160" y="1628640"/>
            <a:ext cx="746748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CAMBIOS TECNOLOGICOS:</a:t>
            </a:r>
            <a:r>
              <a:rPr b="1" lang="es-ES" sz="2400" spc="-1" strike="noStrike">
                <a:solidFill>
                  <a:srgbClr val="ff5050"/>
                </a:solidFill>
                <a:latin typeface="Comic Sans MS"/>
              </a:rPr>
              <a:t> PRINCIPAL RESPONSABLE DEL CRECIMIENTO DEL GAST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CRECIO SOSTENIDAMENTE LOS ULTIMOS 50 AÑOS. LAS TASAS DE VARIACION SON SIGNIFICATIVAMENTE SUPERIORES EN SEGMENTOS DE MAYOR EDAD 4 o 5 VECES MAS QUE ENTRE 35/45 AÑOS Y EN LOS MAYORES DE 75 AÑOS ESA CIFRA LLEGA A 6 VECE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 u="sng">
                <a:solidFill>
                  <a:srgbClr val="0066ff"/>
                </a:solidFill>
                <a:uFillTx/>
                <a:latin typeface="Comic Sans MS"/>
              </a:rPr>
              <a:t>FACTORES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980640"/>
            <a:ext cx="714060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Comic Sans MS"/>
              </a:rPr>
              <a:t>QUIENES SE OCUPEN DE PERSONAS MAYORES DE 60/65 AÑOS DEBEN CONCENTRARSE EN DETECTAR, EVALUAR Y PRESERVAR LA CAPACIDAD FUNCIONAL PROCURANDO LA MAXIMA AUTONOMIA POSIBLE Y LA CALIDAD DE VIDA.</a:t>
            </a:r>
            <a:br>
              <a:rPr sz="2800"/>
            </a:br>
            <a:r>
              <a:rPr b="1" lang="es-ES" sz="2800" spc="-1" strike="noStrike">
                <a:solidFill>
                  <a:srgbClr val="ff9900"/>
                </a:solidFill>
                <a:latin typeface="Comic Sans MS"/>
              </a:rPr>
              <a:t>PREMISA FUNDAMENTAL SIN LA CUAL TODA GESTION CARECERA DE SENTIDO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66ff"/>
                </a:solidFill>
                <a:uFillTx/>
                <a:latin typeface="Comic Sans MS"/>
              </a:rPr>
              <a:t>ESTRATEGIA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PRINCIPIOS BASICOS PARA CONTENER EL GASTO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5423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A)</a:t>
            </a:r>
            <a:r>
              <a:rPr b="1" lang="es-ES" sz="28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EDUCACIÓN, INSISTIR EN HABITOS Y    CONDUCTAS PARA QUE LOS PROGRAMAS DE SALUD PREVENTIVOS ALCANCEN MEJORES RESULTADO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B)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EL MEDICO DE CABECERA ORIENTANDO AL PACIENTE EN EL MEJOR USO DE LOS RECURSO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C) </a:t>
            </a: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PROCURAR LOS MAYORES NIVELES DE EFICIENCIA, CONCEBIDA COMO NORMA ÉTICA</a:t>
            </a:r>
            <a:r>
              <a:rPr b="1" lang="es-ES" sz="24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D) 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OPTIMIZAR EL TRATAMIENTO MEDICO MEDIANTE LA EFICIENCIA DEL DIAGNÓSTIC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66ff"/>
                </a:solidFill>
                <a:uFillTx/>
                <a:latin typeface="Comic Sans MS"/>
              </a:rPr>
              <a:t>PRINCIPIOS BASICOS PARA CONTENER EL GASTO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1426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E) </a:t>
            </a: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PROMOVER EL USO RACIONAL Y APROPIADO DE LOS MEDICAMENTOS, TECNOLOGIAS DIAGNOSTICAS Y TODOS LOS MEDIOS TERAPEUTICO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F) 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CONTROLAR LAS ALTAS MEDICAS HACIENDOLAS OPORTUNA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G) </a:t>
            </a:r>
            <a:r>
              <a:rPr b="1" lang="es-ES" sz="2400" spc="-1" strike="noStrike">
                <a:solidFill>
                  <a:srgbClr val="cc00ff"/>
                </a:solidFill>
                <a:latin typeface="Comic Sans MS"/>
              </a:rPr>
              <a:t>TRATAR A CADA PACIENTE COMO UN CASO Y NO UNA PATOLOGIA. EL ANCIANO ES PLURIPATOLOGIC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Comic Sans MS"/>
              </a:rPr>
              <a:t>H) 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LA NOCION DE COSTO BENEFICIO VINCULADA CON LA EXPECTATIVA Y CALIDAD  DE VIDA Y LA CAPACIDAD DE REHABILITACION DEBEN PREVALECER SOBRE LA SUPERESPECIALIZACION Y LA NUEVA TECNOLOGIA DISPONIBLE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4:41:22Z</dcterms:created>
  <dc:creator>Nicolas Farji</dc:creator>
  <dc:description/>
  <dc:language>en-US</dc:language>
  <cp:lastModifiedBy>C.P.C.E.C.A.B.A.</cp:lastModifiedBy>
  <dcterms:modified xsi:type="dcterms:W3CDTF">2005-10-24T13:42:28Z</dcterms:modified>
  <cp:revision>56</cp:revision>
  <dc:subject/>
  <dc:title>PARA DISEÑAR ESTRATEGIAS UTILES ES NECESARIO CONOCER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