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7.png" ContentType="image/png"/>
  <Override PartName="/ppt/media/image16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A26-56FF-4A94-81DF-D02398BB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6C8-C778-4116-9587-1F83E89F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8292-91D2-4127-9561-A7004BB9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B5B5-EAD5-4F63-8CE1-8057F4C8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A1D-6643-400A-B9F4-134428B8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B09D-C442-4EAC-AB8B-0CDB8724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B0D1-B228-4740-9FBE-A2E8AB46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A150-1912-4517-B97C-541254E1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45DD-4AC4-42E2-90CD-F3FADC93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E3F-2C06-45C5-BAEB-C00CCFE8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E75F-C935-4206-A8D6-00E8C7DE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FCB-8CF0-4685-A543-4BECFB4D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2EEF-7B2A-4CA3-BF69-C2C61C545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31960" y="328680"/>
            <a:ext cx="8326440" cy="63133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55160" cy="1079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0" y="6477120"/>
            <a:ext cx="9155160" cy="3934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990720"/>
            <a:ext cx="9144000" cy="5486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460440"/>
              <a:ext cx="9144000" cy="63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6281640"/>
              <a:ext cx="91440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895680" y="5229360"/>
            <a:ext cx="2666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Octubre  200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068640"/>
            <a:ext cx="50292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es-AR" sz="2800" spc="-1" strike="noStrike" baseline="30000">
                <a:solidFill>
                  <a:srgbClr val="333399"/>
                </a:solidFill>
                <a:latin typeface="Times New Roman"/>
              </a:rPr>
              <a:t>er</a:t>
            </a:r>
            <a:r>
              <a:rPr b="1" i="1" lang="es-AR" sz="2800" spc="-1" strike="noStrike">
                <a:solidFill>
                  <a:srgbClr val="333399"/>
                </a:solidFill>
                <a:latin typeface="Times New Roman"/>
              </a:rPr>
              <a:t> Congreso Internac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99"/>
                </a:solidFill>
                <a:latin typeface="Times New Roman"/>
              </a:rPr>
              <a:t>de la Seguridad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99"/>
                </a:solidFill>
                <a:latin typeface="Times New Roman"/>
              </a:rPr>
              <a:t>"Un camino hacia la equidad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840" y="1484280"/>
            <a:ext cx="4403520" cy="886680"/>
          </a:xfrm>
          <a:prstGeom prst="rect">
            <a:avLst/>
          </a:prstGeom>
          <a:gradFill rotWithShape="0">
            <a:gsLst>
              <a:gs pos="0">
                <a:srgbClr val="83bfe7"/>
              </a:gs>
              <a:gs pos="50000">
                <a:srgbClr val="e9f2ff"/>
              </a:gs>
              <a:gs pos="100000">
                <a:srgbClr val="83bfe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1080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rección General de los Recursos de la Seguridad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0760" y="99072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360" rIns="3603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Plan Antievasión II - Me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3400" y="1770120"/>
            <a:ext cx="8020080" cy="37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3600" indent="-363600" algn="just">
              <a:lnSpc>
                <a:spcPct val="2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Servicio doméstico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ece un régimen único simple para el sector e incentiva a la regularización, permitiendo deducir el sueldo pagado al personal como gasto del impuesto a las ganan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2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Responsabilidad penal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los agentes de reten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2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Realidad económica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licación de este método de interpre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2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Presunciones objetiva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a la determinación de deuda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0200" y="90360"/>
            <a:ext cx="380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 larg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46080"/>
            <a:ext cx="503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71640" y="3141720"/>
            <a:ext cx="7315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a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8000" y="46080"/>
            <a:ext cx="503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2120" y="1341360"/>
            <a:ext cx="796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Garamond"/>
              </a:rPr>
              <a:t>Participación de la Seguridad Social en la recaudación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11280" y="2611440"/>
          <a:ext cx="7989840" cy="3619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611440"/>
                    <a:ext cx="7989840" cy="3619440"/>
                  </a:xfrm>
                  <a:prstGeom prst="rect">
                    <a:avLst/>
                  </a:prstGeom>
                  <a:ln w="9360">
                    <a:solidFill>
                      <a:srgbClr val="00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65280" y="9036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8000" y="46080"/>
            <a:ext cx="503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65200" y="1770120"/>
            <a:ext cx="796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Garamond"/>
              </a:rPr>
              <a:t>Recaudación: su relación con el PBI (en 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18960" y="2870280"/>
          <a:ext cx="8591760" cy="257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8960" y="2870280"/>
                    <a:ext cx="8591760" cy="2573280"/>
                  </a:xfrm>
                  <a:prstGeom prst="rect">
                    <a:avLst/>
                  </a:prstGeom>
                  <a:ln w="9360">
                    <a:solidFill>
                      <a:srgbClr val="00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65280" y="9036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8000" y="46080"/>
            <a:ext cx="503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089080" y="2827440"/>
            <a:ext cx="18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4360" y="1989000"/>
          <a:ext cx="8118360" cy="4197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989000"/>
                    <a:ext cx="8118360" cy="41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36480" y="1268280"/>
            <a:ext cx="79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Distribución de fondos del SI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5280" y="9036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8000" y="46080"/>
            <a:ext cx="503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0760" y="990720"/>
            <a:ext cx="884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360" rIns="3603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stema Integrado de Jubilaciones y P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50920" y="1460520"/>
          <a:ext cx="8721720" cy="500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60520"/>
                    <a:ext cx="872172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65280" y="9036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8000" y="46080"/>
            <a:ext cx="503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0760" y="990720"/>
            <a:ext cx="884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360" rIns="3603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stema Integrado de Jubilaciones y P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50920" y="1413000"/>
          <a:ext cx="8653320" cy="5057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865332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65280" y="9036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6080"/>
            <a:ext cx="503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9" name=""/>
            <p:cNvSpPr/>
            <p:nvPr/>
          </p:nvSpPr>
          <p:spPr>
            <a:xfrm>
              <a:off x="0" y="692280"/>
              <a:ext cx="9144000" cy="59767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3"/>
            <a:stretch/>
          </p:blipFill>
          <p:spPr>
            <a:xfrm>
              <a:off x="0" y="6453360"/>
              <a:ext cx="9144000" cy="40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411280" y="2637000"/>
            <a:ext cx="4605480" cy="17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64000" y="1425600"/>
            <a:ext cx="1990800" cy="642600"/>
          </a:xfrm>
          <a:prstGeom prst="rect">
            <a:avLst/>
          </a:prstGeom>
          <a:solidFill>
            <a:srgbClr val="ff0000"/>
          </a:solidFill>
          <a:ln w="28440">
            <a:solidFill>
              <a:srgbClr val="4d32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Inform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A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7880" y="1981080"/>
            <a:ext cx="232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Impuestos distors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Precarización labo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Competencia desl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51480" y="1974960"/>
            <a:ext cx="190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Falta de equ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Anom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Impun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49200" y="2711520"/>
            <a:ext cx="2955960" cy="701640"/>
            <a:chOff x="349200" y="2711520"/>
            <a:chExt cx="2955960" cy="701640"/>
          </a:xfrm>
        </p:grpSpPr>
        <p:sp>
          <p:nvSpPr>
            <p:cNvPr id="56" name=""/>
            <p:cNvSpPr/>
            <p:nvPr/>
          </p:nvSpPr>
          <p:spPr>
            <a:xfrm>
              <a:off x="349200" y="3090960"/>
              <a:ext cx="2955960" cy="32220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ffffff"/>
                  </a:solidFill>
                  <a:latin typeface="Arial"/>
                </a:rPr>
                <a:t>Pérdida de ingresos fiscal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3" idx="2"/>
              <a:endCxn id="56" idx="0"/>
            </p:cNvCxnSpPr>
            <p:nvPr/>
          </p:nvCxnSpPr>
          <p:spPr>
            <a:xfrm flipH="1">
              <a:off x="1826640" y="2711520"/>
              <a:ext cx="13320" cy="3657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58" name=""/>
          <p:cNvGrpSpPr/>
          <p:nvPr/>
        </p:nvGrpSpPr>
        <p:grpSpPr>
          <a:xfrm>
            <a:off x="6176880" y="2704680"/>
            <a:ext cx="2251080" cy="689400"/>
            <a:chOff x="6176880" y="2704680"/>
            <a:chExt cx="2251080" cy="689400"/>
          </a:xfrm>
        </p:grpSpPr>
        <p:sp>
          <p:nvSpPr>
            <p:cNvPr id="59" name=""/>
            <p:cNvSpPr/>
            <p:nvPr/>
          </p:nvSpPr>
          <p:spPr>
            <a:xfrm>
              <a:off x="6176880" y="3071880"/>
              <a:ext cx="2251080" cy="32220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ffffff"/>
                  </a:solidFill>
                  <a:latin typeface="Arial"/>
                </a:rPr>
                <a:t>Alto incumplimi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4" idx="2"/>
              <a:endCxn id="59" idx="0"/>
            </p:cNvCxnSpPr>
            <p:nvPr/>
          </p:nvCxnSpPr>
          <p:spPr>
            <a:xfrm>
              <a:off x="7302240" y="2704680"/>
              <a:ext cx="1080" cy="3531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61" name=""/>
          <p:cNvSpPr/>
          <p:nvPr/>
        </p:nvSpPr>
        <p:spPr>
          <a:xfrm>
            <a:off x="3529080" y="5410080"/>
            <a:ext cx="1979640" cy="368280"/>
          </a:xfrm>
          <a:prstGeom prst="rect">
            <a:avLst/>
          </a:prstGeom>
          <a:solidFill>
            <a:srgbClr val="99ff33"/>
          </a:solidFill>
          <a:ln w="28440">
            <a:solidFill>
              <a:srgbClr val="4d32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d32be"/>
                </a:solidFill>
                <a:latin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36720" y="5424480"/>
            <a:ext cx="2501280" cy="337320"/>
            <a:chOff x="936720" y="5424480"/>
            <a:chExt cx="2501280" cy="337320"/>
          </a:xfrm>
        </p:grpSpPr>
        <p:sp>
          <p:nvSpPr>
            <p:cNvPr id="63" name=""/>
            <p:cNvSpPr/>
            <p:nvPr/>
          </p:nvSpPr>
          <p:spPr>
            <a:xfrm>
              <a:off x="936720" y="5424480"/>
              <a:ext cx="1738080" cy="337320"/>
            </a:xfrm>
            <a:prstGeom prst="rect">
              <a:avLst/>
            </a:prstGeom>
            <a:solidFill>
              <a:srgbClr val="99ff33"/>
            </a:solidFill>
            <a:ln w="2844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4d32be"/>
                  </a:solidFill>
                  <a:latin typeface="Arial"/>
                </a:rPr>
                <a:t>CORTO PLAZ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stCxn id="61" idx="1"/>
              <a:endCxn id="63" idx="3"/>
            </p:cNvCxnSpPr>
            <p:nvPr/>
          </p:nvCxnSpPr>
          <p:spPr>
            <a:xfrm flipH="1">
              <a:off x="2687400" y="5622480"/>
              <a:ext cx="750960" cy="108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5580000" y="5424480"/>
            <a:ext cx="2601720" cy="337320"/>
            <a:chOff x="5580000" y="5424480"/>
            <a:chExt cx="2601720" cy="337320"/>
          </a:xfrm>
        </p:grpSpPr>
        <p:sp>
          <p:nvSpPr>
            <p:cNvPr id="66" name=""/>
            <p:cNvSpPr/>
            <p:nvPr/>
          </p:nvSpPr>
          <p:spPr>
            <a:xfrm>
              <a:off x="6422760" y="5424480"/>
              <a:ext cx="1758960" cy="337320"/>
            </a:xfrm>
            <a:prstGeom prst="rect">
              <a:avLst/>
            </a:prstGeom>
            <a:solidFill>
              <a:srgbClr val="99ff33"/>
            </a:solidFill>
            <a:ln w="2844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4d32be"/>
                  </a:solidFill>
                  <a:latin typeface="Arial"/>
                </a:rPr>
                <a:t>LARGO PLAZ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1" idx="3"/>
              <a:endCxn id="66" idx="1"/>
            </p:cNvCxnSpPr>
            <p:nvPr/>
          </p:nvCxnSpPr>
          <p:spPr>
            <a:xfrm>
              <a:off x="5580000" y="5622480"/>
              <a:ext cx="830160" cy="108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8" name=""/>
          <p:cNvGrpSpPr/>
          <p:nvPr/>
        </p:nvGrpSpPr>
        <p:grpSpPr>
          <a:xfrm>
            <a:off x="233280" y="3454200"/>
            <a:ext cx="3176640" cy="1955880"/>
            <a:chOff x="233280" y="3454200"/>
            <a:chExt cx="3176640" cy="1955880"/>
          </a:xfrm>
        </p:grpSpPr>
        <p:sp>
          <p:nvSpPr>
            <p:cNvPr id="69" name=""/>
            <p:cNvSpPr/>
            <p:nvPr/>
          </p:nvSpPr>
          <p:spPr>
            <a:xfrm>
              <a:off x="233280" y="3789360"/>
              <a:ext cx="3165480" cy="1219320"/>
            </a:xfrm>
            <a:prstGeom prst="ellipse">
              <a:avLst/>
            </a:prstGeom>
            <a:solidFill>
              <a:srgbClr val="99ff33"/>
            </a:solidFill>
            <a:ln w="2844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1960" y="4005360"/>
              <a:ext cx="3117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4d32be"/>
                  </a:solidFill>
                  <a:latin typeface="Arial"/>
                </a:rPr>
                <a:t>Fiscalizació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1520" indent="-1015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4d32be"/>
                  </a:solidFill>
                  <a:latin typeface="Arial"/>
                </a:rPr>
                <a:t>Facilitación del cumplimi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1520" indent="-1015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4d32be"/>
                  </a:solidFill>
                  <a:latin typeface="Arial"/>
                </a:rPr>
                <a:t>Control ciudadan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" name=""/>
            <p:cNvCxnSpPr>
              <a:stCxn id="63" idx="0"/>
              <a:endCxn id="69" idx="4"/>
            </p:cNvCxnSpPr>
            <p:nvPr/>
          </p:nvCxnSpPr>
          <p:spPr>
            <a:xfrm flipV="1">
              <a:off x="1806120" y="5022360"/>
              <a:ext cx="10440" cy="38808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69" idx="0"/>
              <a:endCxn id="56" idx="2"/>
            </p:cNvCxnSpPr>
            <p:nvPr/>
          </p:nvCxnSpPr>
          <p:spPr>
            <a:xfrm flipV="1">
              <a:off x="1815840" y="3454200"/>
              <a:ext cx="11880" cy="32112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73" name=""/>
          <p:cNvGrpSpPr/>
          <p:nvPr/>
        </p:nvGrpSpPr>
        <p:grpSpPr>
          <a:xfrm>
            <a:off x="5719680" y="3434760"/>
            <a:ext cx="3165480" cy="1975320"/>
            <a:chOff x="5719680" y="3434760"/>
            <a:chExt cx="3165480" cy="1975320"/>
          </a:xfrm>
        </p:grpSpPr>
        <p:sp>
          <p:nvSpPr>
            <p:cNvPr id="74" name=""/>
            <p:cNvSpPr/>
            <p:nvPr/>
          </p:nvSpPr>
          <p:spPr>
            <a:xfrm>
              <a:off x="5719680" y="3819600"/>
              <a:ext cx="3165480" cy="1193760"/>
            </a:xfrm>
            <a:prstGeom prst="ellipse">
              <a:avLst/>
            </a:prstGeom>
            <a:solidFill>
              <a:srgbClr val="99ff33"/>
            </a:solidFill>
            <a:ln w="2844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77000" y="4019400"/>
              <a:ext cx="288288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4d32be"/>
                  </a:solidFill>
                  <a:latin typeface="Arial"/>
                </a:rPr>
                <a:t>Plan antievasió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1520" indent="-1015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4d32be"/>
                  </a:solidFill>
                  <a:latin typeface="Arial"/>
                </a:rPr>
                <a:t>Reformas estructural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1520" indent="-1015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4d32be"/>
                  </a:solidFill>
                  <a:latin typeface="Arial"/>
                </a:rPr>
                <a:t>Educación tributari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66" idx="0"/>
              <a:endCxn id="74" idx="4"/>
            </p:cNvCxnSpPr>
            <p:nvPr/>
          </p:nvCxnSpPr>
          <p:spPr>
            <a:xfrm flipV="1">
              <a:off x="7302240" y="5027400"/>
              <a:ext cx="1080" cy="38304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77" name=""/>
            <p:cNvCxnSpPr>
              <a:stCxn id="74" idx="0"/>
              <a:endCxn id="59" idx="2"/>
            </p:cNvCxnSpPr>
            <p:nvPr/>
          </p:nvCxnSpPr>
          <p:spPr>
            <a:xfrm flipV="1">
              <a:off x="7302240" y="3434760"/>
              <a:ext cx="1080" cy="37044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78" name=""/>
          <p:cNvSpPr/>
          <p:nvPr/>
        </p:nvSpPr>
        <p:spPr>
          <a:xfrm>
            <a:off x="652320" y="7632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delo explic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594400" y="1419120"/>
            <a:ext cx="3330000" cy="533520"/>
            <a:chOff x="5594400" y="1419120"/>
            <a:chExt cx="3330000" cy="533520"/>
          </a:xfrm>
        </p:grpSpPr>
        <p:sp>
          <p:nvSpPr>
            <p:cNvPr id="80" name=""/>
            <p:cNvSpPr/>
            <p:nvPr/>
          </p:nvSpPr>
          <p:spPr>
            <a:xfrm>
              <a:off x="5945760" y="1419120"/>
              <a:ext cx="2814480" cy="5335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40080" y="1484280"/>
              <a:ext cx="28843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ffffff"/>
                  </a:solidFill>
                  <a:latin typeface="Arial"/>
                </a:rPr>
                <a:t>Consecuencias social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94400" y="1687680"/>
              <a:ext cx="3513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72880" y="1413000"/>
            <a:ext cx="3218760" cy="533160"/>
            <a:chOff x="272880" y="1413000"/>
            <a:chExt cx="3218760" cy="533160"/>
          </a:xfrm>
        </p:grpSpPr>
        <p:sp>
          <p:nvSpPr>
            <p:cNvPr id="84" name=""/>
            <p:cNvSpPr/>
            <p:nvPr/>
          </p:nvSpPr>
          <p:spPr>
            <a:xfrm>
              <a:off x="272880" y="1413000"/>
              <a:ext cx="2867400" cy="5331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4d32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7440" y="1477800"/>
              <a:ext cx="302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ffffff"/>
                  </a:solidFill>
                  <a:latin typeface="Arial"/>
                </a:rPr>
                <a:t>Consecuencias económica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3139920" y="1687680"/>
              <a:ext cx="351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08000" y="46080"/>
            <a:ext cx="503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0760" y="990720"/>
            <a:ext cx="745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360" rIns="3603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Control permanente de Fiscalización y Mor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3240" y="1523880"/>
            <a:ext cx="6531120" cy="70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iones de fiscalización  AFIP - Plan Nacional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ularización del Trabajo (Sep. 2003 / Sep. 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400" y="3027240"/>
            <a:ext cx="7842240" cy="397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ras acciones de fiscalización AFIP (Enero / Septiembre 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71680" y="2494080"/>
            <a:ext cx="444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Deuda determinada -  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s-ES" sz="1800" spc="-1" strike="noStrike">
                <a:solidFill>
                  <a:srgbClr val="00ff00"/>
                </a:solidFill>
                <a:latin typeface="Arial"/>
              </a:rPr>
              <a:t>81 mill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62680" y="3637080"/>
            <a:ext cx="4469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Deuda determinada - 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AR" sz="1800" spc="-1" strike="noStrike">
                <a:solidFill>
                  <a:srgbClr val="00ff00"/>
                </a:solidFill>
                <a:latin typeface="Arial"/>
              </a:rPr>
              <a:t>227</a:t>
            </a:r>
            <a:r>
              <a:rPr b="1" lang="es-ES" sz="1800" spc="-1" strike="noStrike">
                <a:solidFill>
                  <a:srgbClr val="00ff00"/>
                </a:solidFill>
                <a:latin typeface="Arial"/>
              </a:rPr>
              <a:t> mill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400" y="4398840"/>
            <a:ext cx="6546960" cy="38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360" bIns="36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de la morosidad (enero / septiembre 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77440" y="4876920"/>
            <a:ext cx="4490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Monto total intimado -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1800" spc="-1" strike="noStrike">
                <a:solidFill>
                  <a:srgbClr val="00ff00"/>
                </a:solidFill>
                <a:latin typeface="Arial"/>
              </a:rPr>
              <a:t>1.389</a:t>
            </a:r>
            <a:r>
              <a:rPr b="1" lang="es-ES" sz="1800" spc="-1" strike="noStrike">
                <a:solidFill>
                  <a:srgbClr val="00ff00"/>
                </a:solidFill>
                <a:latin typeface="Arial"/>
              </a:rPr>
              <a:t> mill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3240" y="5486400"/>
            <a:ext cx="288468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360" bIns="36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jecuciones fisc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78520" y="5943600"/>
            <a:ext cx="4469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cciones coactivas - 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AR" sz="1800" spc="-1" strike="noStrike">
                <a:solidFill>
                  <a:srgbClr val="00ff00"/>
                </a:solidFill>
                <a:latin typeface="Arial"/>
              </a:rPr>
              <a:t>504 </a:t>
            </a:r>
            <a:r>
              <a:rPr b="1" lang="es-ES" sz="1800" spc="-1" strike="noStrike">
                <a:solidFill>
                  <a:srgbClr val="00ff00"/>
                </a:solidFill>
                <a:latin typeface="Arial"/>
              </a:rPr>
              <a:t>mill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8000" y="46080"/>
            <a:ext cx="503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0200" y="90360"/>
            <a:ext cx="380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 cort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00" y="990720"/>
            <a:ext cx="610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360" rIns="3603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acilitación del cumplimiento 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25680"/>
            <a:ext cx="861084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3600" indent="-363600" algn="just">
              <a:lnSpc>
                <a:spcPct val="18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Extensión del universo de Agentes de Reten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7160" algn="just">
              <a:lnSpc>
                <a:spcPct val="130000"/>
              </a:lnSpc>
              <a:spcBef>
                <a:spcPts val="901"/>
              </a:spcBef>
              <a:buClr>
                <a:srgbClr val="00ff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guridad y vigil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7160" algn="just">
              <a:lnSpc>
                <a:spcPct val="130000"/>
              </a:lnSpc>
              <a:spcBef>
                <a:spcPts val="901"/>
              </a:spcBef>
              <a:buClr>
                <a:srgbClr val="00ff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ios de limpie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7160" algn="just">
              <a:lnSpc>
                <a:spcPct val="130000"/>
              </a:lnSpc>
              <a:spcBef>
                <a:spcPts val="901"/>
              </a:spcBef>
              <a:buClr>
                <a:srgbClr val="00ff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les aliment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7160" algn="just">
              <a:lnSpc>
                <a:spcPct val="130000"/>
              </a:lnSpc>
              <a:spcBef>
                <a:spcPts val="901"/>
              </a:spcBef>
              <a:buClr>
                <a:srgbClr val="00ff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égimen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Régimen único de exclusión de retenciones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ía WEB, en forma automática. Implantación 01/07/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Declaración jurada rectificativ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por novedad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in necesidad de informar la nómina completa. Implantación 20/07/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8000" y="46080"/>
            <a:ext cx="503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0200" y="90360"/>
            <a:ext cx="380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 cort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0760" y="990720"/>
            <a:ext cx="552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360" rIns="3603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Control ciudadano - Transpa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2471760"/>
            <a:ext cx="849780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licación por internet, en tiempo real, que permite a  los trabajad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50000"/>
              </a:lnSpc>
              <a:spcBef>
                <a:spcPts val="56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ar si está decla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50000"/>
              </a:lnSpc>
              <a:spcBef>
                <a:spcPts val="56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ar sus apor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50000"/>
              </a:lnSpc>
              <a:spcBef>
                <a:spcPts val="56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ificar el destino de los fo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50000"/>
              </a:lnSpc>
              <a:spcBef>
                <a:spcPts val="56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fectuar reclam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50000"/>
              </a:lnSpc>
              <a:spcBef>
                <a:spcPts val="56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eder a su historia laboral desde julio 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50000"/>
              </a:lnSpc>
              <a:spcBef>
                <a:spcPts val="7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tidad de trabajadores que consultaron desde el 11/2004: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.4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7280" y="1773360"/>
            <a:ext cx="2574720" cy="514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8000" y="46080"/>
            <a:ext cx="503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90360"/>
            <a:ext cx="380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 cort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0760" y="990720"/>
            <a:ext cx="567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360" rIns="3603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Control ciudadano - Transpa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916280"/>
            <a:ext cx="8569440" cy="44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 marL="363600" indent="-363600">
              <a:lnSpc>
                <a:spcPct val="1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gistro vía WEB de altas, bajas y modificaciones de relaciones labora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90000"/>
              </a:lnSpc>
              <a:spcBef>
                <a:spcPts val="49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onstancia de inicio de la relación lab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90000"/>
              </a:lnSpc>
              <a:spcBef>
                <a:spcPts val="400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ermite validar los datos existentes en las bases (ART, Obra Social, régimen jubilator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90000"/>
              </a:lnSpc>
              <a:spcBef>
                <a:spcPts val="49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Habilita ingreso a “MIS APORT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90000"/>
              </a:lnSpc>
              <a:spcBef>
                <a:spcPts val="49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Otorga seguridad a la registración (clave fiscal del emplead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90000"/>
              </a:lnSpc>
              <a:spcBef>
                <a:spcPts val="49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Los organismos de la seguridad social acceden a la inform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90000"/>
              </a:lnSpc>
              <a:spcBef>
                <a:spcPts val="7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antidad de novedades informadas desde 01/07/2005: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1.26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1566720"/>
          <a:ext cx="2333520" cy="49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566720"/>
                    <a:ext cx="233352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08000" y="46080"/>
            <a:ext cx="503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0200" y="90360"/>
            <a:ext cx="380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 cort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0760" y="99072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360" rIns="3603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Reformas estruc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1240" y="1674720"/>
            <a:ext cx="756144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mplificación Regis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5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yecto conjunto AFIP / Ministerio de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5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ticipan todos los actores de la seguridad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5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punta a facilitar el registro de los empleados y combatir estructuralmente el trabajo inform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5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cedimiento único de registración. Interrelaciona en tiempo real a todos los organismos de la seguridad so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5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aja el costo lab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8000" y="46080"/>
            <a:ext cx="503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0200" y="90360"/>
            <a:ext cx="380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 larg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0760" y="990720"/>
            <a:ext cx="426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360" rIns="3603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Reformas estruc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4720" y="1797120"/>
            <a:ext cx="752796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3600" indent="-363600" algn="just">
              <a:lnSpc>
                <a:spcPct val="2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rales – Convenios de Corresponsabilidad Grem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2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ecer un régimen de cotizaciones sustitutivas para la activ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2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ilitar al empleador rural una metodología de ingreso de las cotizaciones acompañando los ciclos agr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2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tener la declaración jurada mensual nominati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8000" y="46080"/>
            <a:ext cx="503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0200" y="90360"/>
            <a:ext cx="380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 larg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0760" y="990720"/>
            <a:ext cx="369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360" rIns="3603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Educación tribu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840" y="1738440"/>
            <a:ext cx="858024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3600" indent="-363600" algn="just">
              <a:lnSpc>
                <a:spcPct val="13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ff00"/>
                </a:solidFill>
                <a:latin typeface="Arial"/>
              </a:rPr>
              <a:t>Programas intensivos de educación tributaria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, con capítulos especiales de seguridad social, para formación de los docentes - Ciclos básicos y superi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3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3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ff00"/>
                </a:solidFill>
                <a:latin typeface="Arial"/>
              </a:rPr>
              <a:t>Convenio (CGT / AFIP)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- Capacitación en todo el país a agrupaciones sindicales y trabajadores sobre derechos y oblig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270000" algn="just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rcentaje de provincias visitadas: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270000" algn="just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ntidad de capacitadores entrenados para replicar el curso: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46080"/>
            <a:ext cx="503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0200" y="90360"/>
            <a:ext cx="380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 larg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19:50:30Z</dcterms:created>
  <dc:creator>Gustavo Giorgi</dc:creator>
  <dc:description/>
  <dc:language>en-US</dc:language>
  <cp:lastModifiedBy>C.P.C.E.C.A.B.A.</cp:lastModifiedBy>
  <cp:lastPrinted>2004-12-10T14:23:17Z</cp:lastPrinted>
  <dcterms:modified xsi:type="dcterms:W3CDTF">2005-10-19T19:47:25Z</dcterms:modified>
  <cp:revision>589</cp:revision>
  <dc:subject/>
  <dc:title>No Slide Title</dc:title>
</cp:coreProperties>
</file>