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20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3D8-8AB6-45AB-BA2A-26C5FDF1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7CD-CF95-4DF0-AC68-714F2EA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9DD-55FD-49CE-B73C-83BD5DDE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672-BD54-486F-B44F-589CA0C5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A1A-131F-4818-8A3C-96BE3CC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3B2-C438-4188-B131-2767A654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67E-0264-456A-9B77-B84C86E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F01-24DA-4A28-AF7E-D5D49AF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1F7-90D1-4EDA-B1DB-545CBFC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34E-4DAC-489A-9EB3-4670A39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461-232C-472A-8ACC-3F1C1C9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A5C-7C5E-439D-9E65-36EA91E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B76-CBCD-446B-B379-1DACC816B3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ar/imgres?imgurl=http://aupec.univalle.edu.co/informes/junio98/fotos/ancianos.jpg&amp;imgrefurl=http://aupec.univalle.edu.co/informes/junio98/eutanasia.html&amp;h=163&amp;w=311&amp;sz=18&amp;tbnid=X5L22EyBHbYJ:&amp;tbnh=59&amp;tbnw=113&amp;hl=es&amp;start=1&amp;prev=/images%25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6280" y="1608120"/>
            <a:ext cx="571500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3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cc00"/>
                    </a:gs>
                    <a:gs pos="100000">
                      <a:srgbClr val="00ff00"/>
                    </a:gs>
                  </a:gsLst>
                  <a:lin ang="10800000"/>
                </a:gradFill>
                <a:latin typeface="Bodoni MT Black"/>
              </a:rPr>
              <a:t>3er.Congreso Internacional</a:t>
            </a:r>
            <a:endParaRPr b="1" i="1" lang="en-US" sz="3200" spc="1" strike="noStrike">
              <a:ln w="3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cc00"/>
                  </a:gs>
                  <a:gs pos="100000">
                    <a:srgbClr val="00ff00"/>
                  </a:gs>
                </a:gsLst>
                <a:lin ang="10800000"/>
              </a:gradFill>
              <a:latin typeface="Bodoni MT Black"/>
              <a:ea typeface="Bodoni MT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3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cc00"/>
                    </a:gs>
                    <a:gs pos="100000">
                      <a:srgbClr val="00ff00"/>
                    </a:gs>
                  </a:gsLst>
                  <a:lin ang="10800000"/>
                </a:gradFill>
                <a:latin typeface="Bodoni MT Black"/>
              </a:rPr>
              <a:t> </a:t>
            </a:r>
            <a:r>
              <a:rPr b="1" i="1" lang="en-US" sz="3200" spc="1" strike="noStrike">
                <a:ln w="3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cc00"/>
                    </a:gs>
                    <a:gs pos="100000">
                      <a:srgbClr val="00ff00"/>
                    </a:gs>
                  </a:gsLst>
                  <a:lin ang="10800000"/>
                </a:gradFill>
                <a:latin typeface="Bodoni MT Black"/>
              </a:rPr>
              <a:t>de la Seguridad Social</a:t>
            </a:r>
            <a:endParaRPr b="1" i="1" lang="en-US" sz="3200" spc="1" strike="noStrike">
              <a:ln w="3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cc00"/>
                  </a:gs>
                  <a:gs pos="100000">
                    <a:srgbClr val="00ff00"/>
                  </a:gs>
                </a:gsLst>
                <a:lin ang="10800000"/>
              </a:gradFill>
              <a:latin typeface="Bodoni MT Black"/>
              <a:ea typeface="Bodoni MT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681520" y="6135840"/>
            <a:ext cx="337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Tahoma"/>
              </a:rPr>
              <a:t>Dra. Susana R. Elor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s-ES" sz="1400" spc="-1" strike="noStrike">
                <a:solidFill>
                  <a:srgbClr val="ffffff"/>
                </a:solidFill>
                <a:latin typeface="Tahoma"/>
              </a:rPr>
              <a:t>Gerente Gene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Tahoma"/>
              </a:rPr>
              <a:t>Superintendencia de Servicio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4183200"/>
            <a:ext cx="859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vejecimien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 Desafío para la Seguridad Soc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675480" y="3956040"/>
            <a:ext cx="2027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Impact"/>
              </a:rPr>
              <a:t>Premio Nacional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Impact"/>
              </a:rPr>
              <a:t>a la calida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Impact"/>
              </a:rPr>
              <a:t>2005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70840" y="1247760"/>
            <a:ext cx="1057320" cy="261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73800" y="9360"/>
            <a:ext cx="367812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8080" y="2054160"/>
            <a:ext cx="8743680" cy="3462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Transición demográfica en Argentin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487760" y="6553080"/>
            <a:ext cx="47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nfografia diario Clarin 2003 en base a datos del INDE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4560" y="-39600"/>
            <a:ext cx="56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IRÁMIDE DE POBLACIÓN POR SE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enso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01720" y="9586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UJ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4000" y="958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HOMB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337040" y="1807560"/>
            <a:ext cx="6838200" cy="4667400"/>
            <a:chOff x="1337040" y="1807560"/>
            <a:chExt cx="6838200" cy="4667400"/>
          </a:xfrm>
        </p:grpSpPr>
        <p:grpSp>
          <p:nvGrpSpPr>
            <p:cNvPr id="91" name=""/>
            <p:cNvGrpSpPr/>
            <p:nvPr/>
          </p:nvGrpSpPr>
          <p:grpSpPr>
            <a:xfrm>
              <a:off x="2812680" y="1828800"/>
              <a:ext cx="2082600" cy="2423880"/>
              <a:chOff x="2812680" y="1828800"/>
              <a:chExt cx="2082600" cy="2423880"/>
            </a:xfrm>
          </p:grpSpPr>
          <p:sp>
            <p:nvSpPr>
              <p:cNvPr id="92" name=""/>
              <p:cNvSpPr/>
              <p:nvPr/>
            </p:nvSpPr>
            <p:spPr>
              <a:xfrm flipH="1" flipV="1">
                <a:off x="4530960" y="2058480"/>
                <a:ext cx="363960" cy="936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4530960" y="2048040"/>
                <a:ext cx="36396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4530960" y="2036880"/>
                <a:ext cx="363960" cy="1116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530960" y="2027880"/>
                <a:ext cx="363960" cy="936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4530960" y="2017440"/>
                <a:ext cx="36396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530960" y="2007720"/>
                <a:ext cx="36396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4530960" y="1998000"/>
                <a:ext cx="36396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4530960" y="1988280"/>
                <a:ext cx="36396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4530960" y="1977840"/>
                <a:ext cx="363960" cy="1080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4530960" y="1967400"/>
                <a:ext cx="36396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4530960" y="1957680"/>
                <a:ext cx="36396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4530960" y="1938600"/>
                <a:ext cx="36396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4530960" y="1928880"/>
                <a:ext cx="363960" cy="936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4530960" y="1917360"/>
                <a:ext cx="363960" cy="111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530960" y="1907280"/>
                <a:ext cx="36396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4530960" y="1897560"/>
                <a:ext cx="36396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4530960" y="1888560"/>
                <a:ext cx="363960" cy="936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4530960" y="1878480"/>
                <a:ext cx="36396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530960" y="1868760"/>
                <a:ext cx="36396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4530960" y="1858320"/>
                <a:ext cx="36396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4530960" y="1847880"/>
                <a:ext cx="36396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4520520" y="1828440"/>
                <a:ext cx="3639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354560" y="2337480"/>
                <a:ext cx="54036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4354560" y="2326680"/>
                <a:ext cx="540360" cy="10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4354560" y="2316600"/>
                <a:ext cx="54036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4354560" y="2306880"/>
                <a:ext cx="54036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4354560" y="2297160"/>
                <a:ext cx="54036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4354560" y="2287080"/>
                <a:ext cx="54036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4354560" y="2277360"/>
                <a:ext cx="54036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354560" y="2266920"/>
                <a:ext cx="540360" cy="1080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4354560" y="2256480"/>
                <a:ext cx="54036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354560" y="2246760"/>
                <a:ext cx="54036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4354560" y="2237040"/>
                <a:ext cx="54036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4354560" y="2228040"/>
                <a:ext cx="540360" cy="936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4354560" y="2217960"/>
                <a:ext cx="540360" cy="9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4354560" y="2206440"/>
                <a:ext cx="540360" cy="1116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4354560" y="2197440"/>
                <a:ext cx="540360" cy="936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4354560" y="2187360"/>
                <a:ext cx="54036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4354560" y="2177280"/>
                <a:ext cx="54036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4354560" y="2167560"/>
                <a:ext cx="54036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354560" y="2157840"/>
                <a:ext cx="54036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354560" y="2147400"/>
                <a:ext cx="540360" cy="10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354560" y="2136960"/>
                <a:ext cx="54036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4354560" y="2127240"/>
                <a:ext cx="54036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4354560" y="2117520"/>
                <a:ext cx="54036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4344120" y="2097000"/>
                <a:ext cx="54036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104720" y="2605680"/>
                <a:ext cx="79020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4104720" y="2595960"/>
                <a:ext cx="79020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104720" y="2586240"/>
                <a:ext cx="79020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4104720" y="2576520"/>
                <a:ext cx="79020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4104720" y="2567520"/>
                <a:ext cx="790200" cy="936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4104720" y="2555640"/>
                <a:ext cx="790200" cy="1116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4104720" y="2545920"/>
                <a:ext cx="79020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4104720" y="2536920"/>
                <a:ext cx="790200" cy="936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4104720" y="2526480"/>
                <a:ext cx="79020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4104720" y="2516760"/>
                <a:ext cx="79020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4104720" y="2507040"/>
                <a:ext cx="79020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4104720" y="2486520"/>
                <a:ext cx="790200" cy="2052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104720" y="2476440"/>
                <a:ext cx="79020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4104720" y="2466720"/>
                <a:ext cx="79020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104720" y="2457000"/>
                <a:ext cx="79020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4104720" y="2446560"/>
                <a:ext cx="790200" cy="1080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4104720" y="2436120"/>
                <a:ext cx="79020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4104720" y="2426400"/>
                <a:ext cx="79020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4104720" y="2416680"/>
                <a:ext cx="79020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4104720" y="2406600"/>
                <a:ext cx="79020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4104720" y="2397600"/>
                <a:ext cx="790200" cy="936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094280" y="2376360"/>
                <a:ext cx="7905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895200" y="2876040"/>
                <a:ext cx="999720" cy="936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3895200" y="2865960"/>
                <a:ext cx="99972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895200" y="2856240"/>
                <a:ext cx="99972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895200" y="2845800"/>
                <a:ext cx="99972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3895200" y="2835360"/>
                <a:ext cx="99972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3895200" y="2825640"/>
                <a:ext cx="99972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3895200" y="2815920"/>
                <a:ext cx="99972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3895200" y="2806200"/>
                <a:ext cx="99972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3895200" y="2796120"/>
                <a:ext cx="99972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3895200" y="2785680"/>
                <a:ext cx="999720" cy="1080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3895200" y="2775600"/>
                <a:ext cx="99972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3895200" y="2756160"/>
                <a:ext cx="99972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3895200" y="2746080"/>
                <a:ext cx="99972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3895200" y="2735640"/>
                <a:ext cx="999720" cy="1080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3895200" y="2725200"/>
                <a:ext cx="99972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3895200" y="2715480"/>
                <a:ext cx="99972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3895200" y="2706480"/>
                <a:ext cx="999720" cy="936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3895200" y="2696400"/>
                <a:ext cx="99972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3895200" y="2686680"/>
                <a:ext cx="99972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3895200" y="2675880"/>
                <a:ext cx="99972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3895200" y="2665800"/>
                <a:ext cx="99972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3886200" y="2646360"/>
                <a:ext cx="99828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750480" y="3145320"/>
                <a:ext cx="114480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750480" y="3134880"/>
                <a:ext cx="1144800" cy="10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3750480" y="3124800"/>
                <a:ext cx="114480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3750480" y="3114720"/>
                <a:ext cx="114480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750480" y="3105000"/>
                <a:ext cx="114480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3750480" y="3095280"/>
                <a:ext cx="114480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3750480" y="3084840"/>
                <a:ext cx="1144800" cy="1080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3750480" y="3074400"/>
                <a:ext cx="114480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3750480" y="3064680"/>
                <a:ext cx="114480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3750480" y="3054960"/>
                <a:ext cx="114480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750480" y="3045960"/>
                <a:ext cx="1144800" cy="936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3750480" y="3024720"/>
                <a:ext cx="1144800" cy="2088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3750480" y="3014640"/>
                <a:ext cx="114480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3750480" y="3005640"/>
                <a:ext cx="1144800" cy="93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3750480" y="2995200"/>
                <a:ext cx="114480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3750480" y="2985480"/>
                <a:ext cx="114480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3750480" y="2975760"/>
                <a:ext cx="114480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3750480" y="2965320"/>
                <a:ext cx="1144800" cy="1080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3750480" y="2954880"/>
                <a:ext cx="114480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3750480" y="2945160"/>
                <a:ext cx="114480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3750480" y="2935440"/>
                <a:ext cx="114480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3739320" y="2916000"/>
                <a:ext cx="11451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3458160" y="3423600"/>
                <a:ext cx="143712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3458160" y="3413880"/>
                <a:ext cx="143712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3458160" y="3404160"/>
                <a:ext cx="143712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3458160" y="3394440"/>
                <a:ext cx="143712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3458160" y="3384360"/>
                <a:ext cx="143712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3458160" y="3373920"/>
                <a:ext cx="1437120" cy="10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3458160" y="3363840"/>
                <a:ext cx="143712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3458160" y="3353760"/>
                <a:ext cx="143712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3458160" y="3344760"/>
                <a:ext cx="1437120" cy="936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3458160" y="3334680"/>
                <a:ext cx="143712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3458160" y="3324960"/>
                <a:ext cx="143712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3458160" y="3314520"/>
                <a:ext cx="1437120" cy="1080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3458160" y="3304080"/>
                <a:ext cx="1437120" cy="9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3458160" y="3294360"/>
                <a:ext cx="143712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3458160" y="3284640"/>
                <a:ext cx="143712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3458160" y="3274920"/>
                <a:ext cx="143712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3458160" y="3264840"/>
                <a:ext cx="143712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3458160" y="3254400"/>
                <a:ext cx="1437120" cy="1080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3458160" y="3244320"/>
                <a:ext cx="143712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3458160" y="3234240"/>
                <a:ext cx="143712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3458160" y="3224520"/>
                <a:ext cx="143712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3458160" y="3214800"/>
                <a:ext cx="143712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3458160" y="3205800"/>
                <a:ext cx="1437120" cy="936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449160" y="3184200"/>
                <a:ext cx="14356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3250080" y="3693240"/>
                <a:ext cx="164484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3250080" y="3684240"/>
                <a:ext cx="1644840" cy="936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250080" y="3674160"/>
                <a:ext cx="164484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250080" y="3663000"/>
                <a:ext cx="1644840" cy="1116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250080" y="3653640"/>
                <a:ext cx="1644840" cy="936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3250080" y="3643560"/>
                <a:ext cx="164484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50080" y="3633840"/>
                <a:ext cx="164484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3250080" y="3623760"/>
                <a:ext cx="16448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3250080" y="3614040"/>
                <a:ext cx="164484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3250080" y="3603600"/>
                <a:ext cx="1644840" cy="1080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3250080" y="3593160"/>
                <a:ext cx="164484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3250080" y="3574080"/>
                <a:ext cx="164484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3250080" y="3564000"/>
                <a:ext cx="164484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3250080" y="3554280"/>
                <a:ext cx="164484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3250080" y="3543840"/>
                <a:ext cx="1644840" cy="1080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3250080" y="3533400"/>
                <a:ext cx="16448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3250080" y="3523680"/>
                <a:ext cx="164484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3250080" y="3514680"/>
                <a:ext cx="1644840" cy="936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250080" y="3504240"/>
                <a:ext cx="164484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3250080" y="3494520"/>
                <a:ext cx="164484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3250080" y="3484080"/>
                <a:ext cx="1644840" cy="1080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3241080" y="3464640"/>
                <a:ext cx="16437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2885760" y="3963240"/>
                <a:ext cx="200916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2885760" y="3952800"/>
                <a:ext cx="2009160" cy="10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2885760" y="3942360"/>
                <a:ext cx="200916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885760" y="3932640"/>
                <a:ext cx="200916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2885760" y="3922920"/>
                <a:ext cx="200916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2885760" y="3913200"/>
                <a:ext cx="200916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2885760" y="3903480"/>
                <a:ext cx="200916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2885760" y="3893040"/>
                <a:ext cx="2009160" cy="1080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2885760" y="3882600"/>
                <a:ext cx="200916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2885760" y="3872880"/>
                <a:ext cx="200916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2885760" y="3863160"/>
                <a:ext cx="200916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2885760" y="3843720"/>
                <a:ext cx="2009160" cy="1908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2885760" y="3832560"/>
                <a:ext cx="2009160" cy="1116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885760" y="3823200"/>
                <a:ext cx="2009160" cy="93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2885760" y="3813120"/>
                <a:ext cx="200916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2885760" y="3803400"/>
                <a:ext cx="200916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2885760" y="3793680"/>
                <a:ext cx="200916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2885760" y="3783960"/>
                <a:ext cx="200916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2885760" y="3773520"/>
                <a:ext cx="2009160" cy="1080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2885760" y="3763080"/>
                <a:ext cx="200916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2885760" y="3753360"/>
                <a:ext cx="200916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2875320" y="3733920"/>
                <a:ext cx="20091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2812320" y="4241880"/>
                <a:ext cx="2082600" cy="1080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2812320" y="4231800"/>
                <a:ext cx="208260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812320" y="4222080"/>
                <a:ext cx="208260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2812320" y="4212360"/>
                <a:ext cx="208260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2812320" y="4202280"/>
                <a:ext cx="208260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2812320" y="4193280"/>
                <a:ext cx="2082600" cy="936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2812320" y="4181760"/>
                <a:ext cx="2082600" cy="1116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2812320" y="4171680"/>
                <a:ext cx="208260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812320" y="4162680"/>
                <a:ext cx="2082600" cy="936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2812320" y="4152600"/>
                <a:ext cx="208260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2812320" y="4142880"/>
                <a:ext cx="208260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2812320" y="4133160"/>
                <a:ext cx="208260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2812320" y="4122360"/>
                <a:ext cx="2082600" cy="108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2812320" y="4112280"/>
                <a:ext cx="208260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812320" y="4102560"/>
                <a:ext cx="208260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2812320" y="4092480"/>
                <a:ext cx="208260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2812320" y="4082760"/>
                <a:ext cx="208260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2812320" y="4072320"/>
                <a:ext cx="2082600" cy="1080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2812320" y="4061880"/>
                <a:ext cx="208260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2812320" y="4052160"/>
                <a:ext cx="208260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481400" y="1899000"/>
              <a:ext cx="4163400" cy="4527000"/>
              <a:chOff x="1481400" y="1899000"/>
              <a:chExt cx="4163400" cy="4527000"/>
            </a:xfrm>
          </p:grpSpPr>
          <p:sp>
            <p:nvSpPr>
              <p:cNvPr id="293" name=""/>
              <p:cNvSpPr/>
              <p:nvPr/>
            </p:nvSpPr>
            <p:spPr>
              <a:xfrm flipH="1" flipV="1">
                <a:off x="2813760" y="4042440"/>
                <a:ext cx="208152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2813760" y="4032720"/>
                <a:ext cx="208152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2813760" y="4023720"/>
                <a:ext cx="2081520" cy="936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2803680" y="4002840"/>
                <a:ext cx="208044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2710080" y="4511160"/>
                <a:ext cx="218484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2710080" y="4501440"/>
                <a:ext cx="218484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2710080" y="4492080"/>
                <a:ext cx="2184840" cy="936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2710080" y="4482000"/>
                <a:ext cx="218484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2710080" y="4470840"/>
                <a:ext cx="2184840" cy="1116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2710080" y="4461480"/>
                <a:ext cx="2184840" cy="936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2710080" y="4451400"/>
                <a:ext cx="218484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10080" y="4441680"/>
                <a:ext cx="21848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2710080" y="4431960"/>
                <a:ext cx="218484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2710080" y="4422240"/>
                <a:ext cx="218484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2710080" y="4411800"/>
                <a:ext cx="2184840" cy="1080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2710080" y="4392000"/>
                <a:ext cx="218484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710080" y="4381920"/>
                <a:ext cx="218484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2710080" y="4371840"/>
                <a:ext cx="218484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2710080" y="4361400"/>
                <a:ext cx="2184840" cy="1080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2710080" y="4351320"/>
                <a:ext cx="21848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2710080" y="4341600"/>
                <a:ext cx="218484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2710080" y="4332240"/>
                <a:ext cx="2184840" cy="936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2710080" y="4322160"/>
                <a:ext cx="218484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2710080" y="4312440"/>
                <a:ext cx="218484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2710080" y="4301280"/>
                <a:ext cx="2184840" cy="1116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2699280" y="4282560"/>
                <a:ext cx="21848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2637360" y="4780800"/>
                <a:ext cx="225792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2637360" y="4771080"/>
                <a:ext cx="225792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2637360" y="4760640"/>
                <a:ext cx="2257920" cy="1080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2637360" y="4750200"/>
                <a:ext cx="225792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637360" y="4740480"/>
                <a:ext cx="225792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2637360" y="4730760"/>
                <a:ext cx="225792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2637360" y="4721040"/>
                <a:ext cx="225792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2637360" y="4710600"/>
                <a:ext cx="2257920" cy="1080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637360" y="4700160"/>
                <a:ext cx="225792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2637360" y="4690440"/>
                <a:ext cx="2257920" cy="9720"/>
              </a:xfrm>
              <a:prstGeom prst="rect">
                <a:avLst/>
              </a:prstGeom>
              <a:gradFill rotWithShape="0">
                <a:gsLst>
                  <a:gs pos="0">
                    <a:srgbClr val="003f3f"/>
                  </a:gs>
                  <a:gs pos="50000">
                    <a:srgbClr val="00f4f4"/>
                  </a:gs>
                  <a:gs pos="100000">
                    <a:srgbClr val="003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2637360" y="4680720"/>
                <a:ext cx="225792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637360" y="4661640"/>
                <a:ext cx="2257920" cy="1908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2637360" y="4650120"/>
                <a:ext cx="2257920" cy="1116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2637360" y="4640400"/>
                <a:ext cx="225792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2637360" y="4631400"/>
                <a:ext cx="2257920" cy="936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2637360" y="4620960"/>
                <a:ext cx="225792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2637360" y="4611240"/>
                <a:ext cx="225792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2637360" y="4601520"/>
                <a:ext cx="225792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2637360" y="4591080"/>
                <a:ext cx="2257920" cy="1080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2637360" y="4580640"/>
                <a:ext cx="225792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2637360" y="4570920"/>
                <a:ext cx="225792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2626560" y="4551480"/>
                <a:ext cx="225792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2168640" y="5060160"/>
                <a:ext cx="272664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2168640" y="5049720"/>
                <a:ext cx="2726640" cy="10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2168640" y="5039640"/>
                <a:ext cx="272664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2168640" y="5029560"/>
                <a:ext cx="272664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2168640" y="5019840"/>
                <a:ext cx="272664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2168640" y="5010120"/>
                <a:ext cx="272664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2168640" y="4999680"/>
                <a:ext cx="2726640" cy="1080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2168640" y="4989240"/>
                <a:ext cx="272664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2168640" y="4979520"/>
                <a:ext cx="272664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2168640" y="4970520"/>
                <a:ext cx="2726640" cy="936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2168640" y="4960440"/>
                <a:ext cx="272664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2168640" y="4950720"/>
                <a:ext cx="272664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2168640" y="4939920"/>
                <a:ext cx="2726640" cy="108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2168640" y="4929840"/>
                <a:ext cx="272664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168640" y="4920120"/>
                <a:ext cx="272664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2168640" y="4910400"/>
                <a:ext cx="272664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2168640" y="4900320"/>
                <a:ext cx="272664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2168640" y="4890600"/>
                <a:ext cx="272664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2168640" y="4880160"/>
                <a:ext cx="2726640" cy="1080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168640" y="4869720"/>
                <a:ext cx="272664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2168640" y="4860000"/>
                <a:ext cx="272664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2168640" y="4850280"/>
                <a:ext cx="272664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2168640" y="4840560"/>
                <a:ext cx="272664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2159280" y="4820040"/>
                <a:ext cx="2725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34000" y="5328720"/>
                <a:ext cx="286092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2034000" y="5319000"/>
                <a:ext cx="286092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2034000" y="5309640"/>
                <a:ext cx="2860920" cy="936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2034000" y="5299560"/>
                <a:ext cx="286092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2034000" y="5288400"/>
                <a:ext cx="2860920" cy="1116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034000" y="5279040"/>
                <a:ext cx="2860920" cy="936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2034000" y="5268960"/>
                <a:ext cx="286092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2034000" y="5259240"/>
                <a:ext cx="286092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2034000" y="5249520"/>
                <a:ext cx="286092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2034000" y="5239800"/>
                <a:ext cx="286092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2034000" y="5229360"/>
                <a:ext cx="2860920" cy="1080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2034000" y="5209560"/>
                <a:ext cx="286092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2034000" y="5199480"/>
                <a:ext cx="286092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2034000" y="5189400"/>
                <a:ext cx="286092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2034000" y="5179680"/>
                <a:ext cx="286092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034000" y="5169240"/>
                <a:ext cx="2860920" cy="1080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2034000" y="5159160"/>
                <a:ext cx="286092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2034000" y="5149080"/>
                <a:ext cx="286092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2034000" y="5140080"/>
                <a:ext cx="2860920" cy="936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>
                <a:off x="2034000" y="5130000"/>
                <a:ext cx="286092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2034000" y="5120280"/>
                <a:ext cx="286092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2023200" y="5100120"/>
                <a:ext cx="286092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1566000" y="5598360"/>
                <a:ext cx="332928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1566000" y="5588640"/>
                <a:ext cx="332928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1566000" y="5578200"/>
                <a:ext cx="3329280" cy="1080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1566000" y="5568120"/>
                <a:ext cx="332928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1566000" y="5558040"/>
                <a:ext cx="332928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1566000" y="5548320"/>
                <a:ext cx="332928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1566000" y="5538600"/>
                <a:ext cx="332928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flipV="1">
                <a:off x="1566000" y="5528880"/>
                <a:ext cx="332928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flipV="1">
                <a:off x="1566000" y="5518440"/>
                <a:ext cx="3329280" cy="1080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1566000" y="5508000"/>
                <a:ext cx="332928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1566000" y="5498280"/>
                <a:ext cx="332928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1566000" y="5479200"/>
                <a:ext cx="3329280" cy="1908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1566000" y="5469120"/>
                <a:ext cx="332928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1566000" y="5457960"/>
                <a:ext cx="3329280" cy="111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1566000" y="5448960"/>
                <a:ext cx="3329280" cy="936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1566000" y="5438520"/>
                <a:ext cx="332928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1566000" y="5428800"/>
                <a:ext cx="332928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1566000" y="5419080"/>
                <a:ext cx="332928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1566000" y="5409360"/>
                <a:ext cx="332928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1566000" y="5398920"/>
                <a:ext cx="332928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566000" y="5388480"/>
                <a:ext cx="332928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1554480" y="5369040"/>
                <a:ext cx="332964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1637280" y="5867280"/>
                <a:ext cx="3257640" cy="1080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1637280" y="5857200"/>
                <a:ext cx="325764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1637280" y="5847120"/>
                <a:ext cx="325764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1637280" y="5837400"/>
                <a:ext cx="325764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1637280" y="5827680"/>
                <a:ext cx="325764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1637280" y="5817960"/>
                <a:ext cx="325764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1637280" y="5807520"/>
                <a:ext cx="3257640" cy="1080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1637280" y="5797080"/>
                <a:ext cx="32576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1637280" y="5787360"/>
                <a:ext cx="325764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1637280" y="5778360"/>
                <a:ext cx="3257640" cy="93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1637280" y="5768280"/>
                <a:ext cx="325764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637280" y="5747760"/>
                <a:ext cx="3257640" cy="2052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1637280" y="5737680"/>
                <a:ext cx="325764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1637280" y="5727960"/>
                <a:ext cx="3257640" cy="972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1637280" y="5717880"/>
                <a:ext cx="325764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1637280" y="5708160"/>
                <a:ext cx="325764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1637280" y="5698440"/>
                <a:ext cx="325764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1637280" y="5688000"/>
                <a:ext cx="3257640" cy="1080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1637280" y="5677560"/>
                <a:ext cx="325764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637280" y="5667840"/>
                <a:ext cx="3257640" cy="972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1637280" y="5658120"/>
                <a:ext cx="325764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1627920" y="5637600"/>
                <a:ext cx="3256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>
                <a:off x="1566000" y="6146280"/>
                <a:ext cx="332928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1566000" y="6136560"/>
                <a:ext cx="332928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1566000" y="6126480"/>
                <a:ext cx="3329280" cy="972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566000" y="6117480"/>
                <a:ext cx="3329280" cy="936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1566000" y="6107400"/>
                <a:ext cx="3329280" cy="972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1566000" y="6096240"/>
                <a:ext cx="3329280" cy="1116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1566000" y="6086880"/>
                <a:ext cx="3329280" cy="936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1566000" y="6076800"/>
                <a:ext cx="332928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1566000" y="6067080"/>
                <a:ext cx="3329280" cy="972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1566000" y="6057360"/>
                <a:ext cx="332928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1566000" y="6047640"/>
                <a:ext cx="332928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1566000" y="6036840"/>
                <a:ext cx="3329280" cy="1080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566000" y="6026760"/>
                <a:ext cx="3329280" cy="9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566000" y="6017040"/>
                <a:ext cx="3329280" cy="9720"/>
              </a:xfrm>
              <a:prstGeom prst="rect">
                <a:avLst/>
              </a:prstGeom>
              <a:solidFill>
                <a:srgbClr val="00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566000" y="6007320"/>
                <a:ext cx="3329280" cy="9720"/>
              </a:xfrm>
              <a:prstGeom prst="rect">
                <a:avLst/>
              </a:prstGeom>
              <a:solidFill>
                <a:srgbClr val="00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1566000" y="5997240"/>
                <a:ext cx="3329280" cy="972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1566000" y="5986800"/>
                <a:ext cx="3329280" cy="10800"/>
              </a:xfrm>
              <a:prstGeom prst="rect">
                <a:avLst/>
              </a:prstGeom>
              <a:solidFill>
                <a:srgbClr val="0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1566000" y="5976720"/>
                <a:ext cx="3329280" cy="9720"/>
              </a:xfrm>
              <a:prstGeom prst="rect">
                <a:avLst/>
              </a:prstGeom>
              <a:solidFill>
                <a:srgbClr val="00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566000" y="5966640"/>
                <a:ext cx="3329280" cy="9720"/>
              </a:xfrm>
              <a:prstGeom prst="rect">
                <a:avLst/>
              </a:prstGeom>
              <a:solidFill>
                <a:srgbClr val="00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1566000" y="5956920"/>
                <a:ext cx="3329280" cy="972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1566000" y="5947920"/>
                <a:ext cx="3329280" cy="936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1566000" y="5937840"/>
                <a:ext cx="3329280" cy="9720"/>
              </a:xfrm>
              <a:prstGeom prst="rect">
                <a:avLst/>
              </a:prstGeom>
              <a:solidFill>
                <a:srgbClr val="00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1566000" y="5926680"/>
                <a:ext cx="3329280" cy="1116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554480" y="5907600"/>
                <a:ext cx="3329640" cy="2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491840" y="6415920"/>
                <a:ext cx="3403080" cy="972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1491840" y="6406200"/>
                <a:ext cx="3403080" cy="972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1491840" y="6396480"/>
                <a:ext cx="340308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1491840" y="6386040"/>
                <a:ext cx="340308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491840" y="6375600"/>
                <a:ext cx="340308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1491840" y="6365880"/>
                <a:ext cx="340308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>
                <a:off x="1491840" y="6356160"/>
                <a:ext cx="340308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1491840" y="6346440"/>
                <a:ext cx="3403080" cy="972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1491840" y="6336720"/>
                <a:ext cx="340308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1491840" y="6326280"/>
                <a:ext cx="3403080" cy="1080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1491840" y="6315840"/>
                <a:ext cx="3403080" cy="97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1491840" y="6296760"/>
                <a:ext cx="3403080" cy="19440"/>
              </a:xfrm>
              <a:prstGeom prst="rect">
                <a:avLst/>
              </a:prstGeom>
              <a:solidFill>
                <a:srgbClr val="0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1491840" y="6287400"/>
                <a:ext cx="3403080" cy="936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1491840" y="6275520"/>
                <a:ext cx="3403080" cy="11160"/>
              </a:xfrm>
              <a:prstGeom prst="rect">
                <a:avLst/>
              </a:prstGeom>
              <a:solidFill>
                <a:srgbClr val="00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1491840" y="6265800"/>
                <a:ext cx="3403080" cy="9720"/>
              </a:xfrm>
              <a:prstGeom prst="rect">
                <a:avLst/>
              </a:prstGeom>
              <a:solidFill>
                <a:srgbClr val="0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1491840" y="6256800"/>
                <a:ext cx="3403080" cy="936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1491840" y="6246360"/>
                <a:ext cx="3403080" cy="9720"/>
              </a:xfrm>
              <a:prstGeom prst="rect">
                <a:avLst/>
              </a:prstGeom>
              <a:solidFill>
                <a:srgbClr val="00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1491840" y="6236640"/>
                <a:ext cx="3403080" cy="972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1491840" y="6226920"/>
                <a:ext cx="3403080" cy="9720"/>
              </a:xfrm>
              <a:prstGeom prst="rect">
                <a:avLst/>
              </a:prstGeom>
              <a:solidFill>
                <a:srgbClr val="0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>
                <a:off x="1491840" y="6216480"/>
                <a:ext cx="3403080" cy="10800"/>
              </a:xfrm>
              <a:prstGeom prst="rect">
                <a:avLst/>
              </a:prstGeom>
              <a:solidFill>
                <a:srgbClr val="00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1491840" y="6206040"/>
                <a:ext cx="3403080" cy="9720"/>
              </a:xfrm>
              <a:prstGeom prst="rect">
                <a:avLst/>
              </a:prstGeom>
              <a:solidFill>
                <a:srgbClr val="00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1481040" y="6186600"/>
                <a:ext cx="340308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4895280" y="2059200"/>
                <a:ext cx="749520" cy="936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4895280" y="2048760"/>
                <a:ext cx="74952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4895280" y="2037600"/>
                <a:ext cx="749520" cy="1116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4895280" y="2028600"/>
                <a:ext cx="749520" cy="936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4895280" y="2018160"/>
                <a:ext cx="74952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4895280" y="2008440"/>
                <a:ext cx="74952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4895280" y="1998720"/>
                <a:ext cx="74952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4895280" y="1989000"/>
                <a:ext cx="749520" cy="972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4895280" y="1978560"/>
                <a:ext cx="749520" cy="1080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4895280" y="1968120"/>
                <a:ext cx="74952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4895280" y="1958400"/>
                <a:ext cx="74952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4895280" y="1939320"/>
                <a:ext cx="749520" cy="1944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4895280" y="1929600"/>
                <a:ext cx="749520" cy="936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4895280" y="1918080"/>
                <a:ext cx="749520" cy="1116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4895280" y="1908360"/>
                <a:ext cx="74952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895280" y="1898640"/>
                <a:ext cx="749520" cy="972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884120" y="1828440"/>
              <a:ext cx="2082240" cy="2692800"/>
              <a:chOff x="4884120" y="1828440"/>
              <a:chExt cx="2082240" cy="2692800"/>
            </a:xfrm>
          </p:grpSpPr>
          <p:sp>
            <p:nvSpPr>
              <p:cNvPr id="494" name=""/>
              <p:cNvSpPr/>
              <p:nvPr/>
            </p:nvSpPr>
            <p:spPr>
              <a:xfrm flipH="1" flipV="1">
                <a:off x="4894920" y="1888200"/>
                <a:ext cx="749520" cy="936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4894920" y="1878120"/>
                <a:ext cx="74952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4894920" y="1868400"/>
                <a:ext cx="74952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4894920" y="1857960"/>
                <a:ext cx="749520" cy="1080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4894920" y="1847520"/>
                <a:ext cx="74952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4884120" y="1828080"/>
                <a:ext cx="74952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4894920" y="2337120"/>
                <a:ext cx="79200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4894920" y="2326680"/>
                <a:ext cx="792000" cy="1080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4894920" y="2316240"/>
                <a:ext cx="792000" cy="972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4894920" y="2306520"/>
                <a:ext cx="79200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4894920" y="2296800"/>
                <a:ext cx="79200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4894920" y="2287080"/>
                <a:ext cx="792000" cy="972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4894920" y="2277000"/>
                <a:ext cx="792000" cy="972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894920" y="2266560"/>
                <a:ext cx="792000" cy="1080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4894920" y="2256480"/>
                <a:ext cx="792000" cy="972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4894920" y="2246400"/>
                <a:ext cx="79200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4894920" y="2236680"/>
                <a:ext cx="792000" cy="972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4894920" y="2227680"/>
                <a:ext cx="792000" cy="936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4894920" y="2217600"/>
                <a:ext cx="792000" cy="97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4894920" y="2206440"/>
                <a:ext cx="792000" cy="1116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4894920" y="2197080"/>
                <a:ext cx="792000" cy="936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4894920" y="2187000"/>
                <a:ext cx="79200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4894920" y="2177280"/>
                <a:ext cx="792000" cy="972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4894920" y="2167200"/>
                <a:ext cx="792000" cy="972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4894920" y="2157480"/>
                <a:ext cx="792000" cy="972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4894920" y="2147040"/>
                <a:ext cx="792000" cy="1080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4894920" y="2136600"/>
                <a:ext cx="79200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4894920" y="2126880"/>
                <a:ext cx="79200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4894920" y="2117160"/>
                <a:ext cx="792000" cy="972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4884120" y="2097000"/>
                <a:ext cx="7920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4894920" y="2605680"/>
                <a:ext cx="104040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4894920" y="2595600"/>
                <a:ext cx="104040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4894920" y="2585880"/>
                <a:ext cx="104040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4894920" y="2576160"/>
                <a:ext cx="104040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4894920" y="2567160"/>
                <a:ext cx="1040400" cy="936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4894920" y="2555640"/>
                <a:ext cx="1040400" cy="1116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4894920" y="2545560"/>
                <a:ext cx="104040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flipV="1">
                <a:off x="4894920" y="2536560"/>
                <a:ext cx="1040400" cy="936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4894920" y="2526480"/>
                <a:ext cx="104040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4894920" y="2516760"/>
                <a:ext cx="104040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4894920" y="2506680"/>
                <a:ext cx="104040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4894920" y="2486160"/>
                <a:ext cx="1040400" cy="2052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4894920" y="2476080"/>
                <a:ext cx="104040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4894920" y="2466360"/>
                <a:ext cx="104040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4894920" y="2456640"/>
                <a:ext cx="104040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4894920" y="2446200"/>
                <a:ext cx="1040400" cy="1080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>
                <a:off x="4894920" y="2435760"/>
                <a:ext cx="104040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4894920" y="2426040"/>
                <a:ext cx="104040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4894920" y="2416320"/>
                <a:ext cx="104040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4894920" y="2406600"/>
                <a:ext cx="104040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4894920" y="2397600"/>
                <a:ext cx="1040400" cy="936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4884120" y="2376000"/>
                <a:ext cx="104184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4894560" y="2876040"/>
                <a:ext cx="1145160" cy="936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4894560" y="2865960"/>
                <a:ext cx="114516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4894560" y="2855880"/>
                <a:ext cx="114516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4894560" y="2845440"/>
                <a:ext cx="1145160" cy="1080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4894560" y="2835360"/>
                <a:ext cx="114516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4894560" y="2825280"/>
                <a:ext cx="114516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4894560" y="2815560"/>
                <a:ext cx="114516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4894560" y="2805840"/>
                <a:ext cx="1145160" cy="972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4894560" y="2796120"/>
                <a:ext cx="114516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4894560" y="2785680"/>
                <a:ext cx="1145160" cy="1080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4894560" y="2775240"/>
                <a:ext cx="114516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4894560" y="2756160"/>
                <a:ext cx="1145160" cy="1944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4894560" y="2746080"/>
                <a:ext cx="114516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4894560" y="2735280"/>
                <a:ext cx="1145160" cy="1080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4894560" y="2725200"/>
                <a:ext cx="114516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4894560" y="2715480"/>
                <a:ext cx="1145160" cy="972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4894560" y="2706120"/>
                <a:ext cx="1145160" cy="936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4894560" y="2696040"/>
                <a:ext cx="114516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4894560" y="2686320"/>
                <a:ext cx="114516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4894560" y="2675880"/>
                <a:ext cx="1145160" cy="1080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4894560" y="2665440"/>
                <a:ext cx="114516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4884120" y="2646360"/>
                <a:ext cx="1144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4894920" y="3145320"/>
                <a:ext cx="129024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4894920" y="3134880"/>
                <a:ext cx="1290240" cy="1080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4894920" y="3124440"/>
                <a:ext cx="129024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>
                <a:off x="4894920" y="3114720"/>
                <a:ext cx="129024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4894920" y="3105000"/>
                <a:ext cx="129024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4894920" y="3095280"/>
                <a:ext cx="129024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4894920" y="3084840"/>
                <a:ext cx="1290240" cy="1080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4894920" y="3074400"/>
                <a:ext cx="1290240" cy="972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4894920" y="3064680"/>
                <a:ext cx="129024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4894920" y="3054960"/>
                <a:ext cx="129024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4894920" y="3045600"/>
                <a:ext cx="1290240" cy="936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4894920" y="3024720"/>
                <a:ext cx="1290240" cy="2088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4894920" y="3014280"/>
                <a:ext cx="129024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4894920" y="3005280"/>
                <a:ext cx="1290240" cy="936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4894920" y="2995200"/>
                <a:ext cx="129024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>
                <a:off x="4894920" y="2985480"/>
                <a:ext cx="1290240" cy="972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4894920" y="2975760"/>
                <a:ext cx="129024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>
                <a:off x="4894920" y="2964960"/>
                <a:ext cx="1290240" cy="1080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4894920" y="2954880"/>
                <a:ext cx="129024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4894920" y="2945160"/>
                <a:ext cx="129024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4894920" y="2935080"/>
                <a:ext cx="129024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4883760" y="2916000"/>
                <a:ext cx="129204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4894560" y="3423600"/>
                <a:ext cx="139500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flipV="1">
                <a:off x="4894560" y="3413880"/>
                <a:ext cx="139500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4894560" y="3404160"/>
                <a:ext cx="1395000" cy="972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4894560" y="3394080"/>
                <a:ext cx="139500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4894560" y="3384360"/>
                <a:ext cx="139500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4894560" y="3373920"/>
                <a:ext cx="1395000" cy="1080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4894560" y="3363480"/>
                <a:ext cx="1395000" cy="972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4894560" y="3353760"/>
                <a:ext cx="1395000" cy="972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894560" y="3344760"/>
                <a:ext cx="1395000" cy="936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>
                <a:off x="4894560" y="3334680"/>
                <a:ext cx="139500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4894560" y="3324960"/>
                <a:ext cx="1395000" cy="972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4894560" y="3314520"/>
                <a:ext cx="1395000" cy="1080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4894560" y="3304080"/>
                <a:ext cx="1395000" cy="97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4894560" y="3294360"/>
                <a:ext cx="1395000" cy="972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4894560" y="3284640"/>
                <a:ext cx="1395000" cy="972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4894560" y="3274560"/>
                <a:ext cx="139500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4894560" y="3264840"/>
                <a:ext cx="1395000" cy="972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4894560" y="3254400"/>
                <a:ext cx="1395000" cy="1080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4894560" y="3243960"/>
                <a:ext cx="1395000" cy="972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4894560" y="3234240"/>
                <a:ext cx="1395000" cy="972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4894560" y="3224520"/>
                <a:ext cx="139500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4894560" y="3214800"/>
                <a:ext cx="139500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894560" y="3205800"/>
                <a:ext cx="1395000" cy="936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4883760" y="3184200"/>
                <a:ext cx="13950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894560" y="3693240"/>
                <a:ext cx="154044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4894560" y="3684240"/>
                <a:ext cx="1540440" cy="936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894560" y="3674160"/>
                <a:ext cx="154044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894560" y="3663000"/>
                <a:ext cx="1540440" cy="1116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894560" y="3653640"/>
                <a:ext cx="1540440" cy="936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4894560" y="3643560"/>
                <a:ext cx="154044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894560" y="3633840"/>
                <a:ext cx="154044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4894560" y="3623760"/>
                <a:ext cx="1540440" cy="972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894560" y="3614040"/>
                <a:ext cx="154044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4894560" y="3603600"/>
                <a:ext cx="1540440" cy="1080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4894560" y="3593160"/>
                <a:ext cx="154044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894560" y="3574080"/>
                <a:ext cx="1540440" cy="1944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894560" y="3564000"/>
                <a:ext cx="154044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4894560" y="3554280"/>
                <a:ext cx="154044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4894560" y="3543840"/>
                <a:ext cx="1540440" cy="1080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4894560" y="3533400"/>
                <a:ext cx="1540440" cy="972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4894560" y="3523680"/>
                <a:ext cx="154044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4894560" y="3514680"/>
                <a:ext cx="1540440" cy="936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4894560" y="3504240"/>
                <a:ext cx="154044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4894560" y="3494520"/>
                <a:ext cx="154044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4894560" y="3484080"/>
                <a:ext cx="1540440" cy="1080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4883760" y="3463920"/>
                <a:ext cx="154188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4894560" y="3963240"/>
                <a:ext cx="171828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4894560" y="3952800"/>
                <a:ext cx="1718280" cy="1080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4894560" y="3942360"/>
                <a:ext cx="171828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4894560" y="3932640"/>
                <a:ext cx="171828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 flipV="1">
                <a:off x="4894560" y="3922920"/>
                <a:ext cx="1718280" cy="972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4894560" y="3913200"/>
                <a:ext cx="171828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4894560" y="3903480"/>
                <a:ext cx="171828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4894560" y="3893040"/>
                <a:ext cx="1718280" cy="1080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>
                <a:off x="4894560" y="3882600"/>
                <a:ext cx="171828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>
                <a:off x="4894560" y="3872880"/>
                <a:ext cx="171828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4894560" y="3863160"/>
                <a:ext cx="1718280" cy="972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4894560" y="3844080"/>
                <a:ext cx="1718280" cy="1908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4894560" y="3832560"/>
                <a:ext cx="1718280" cy="1116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4894560" y="3823200"/>
                <a:ext cx="1718280" cy="936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4894560" y="3813120"/>
                <a:ext cx="171828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4894560" y="3803400"/>
                <a:ext cx="1718280" cy="9720"/>
              </a:xfrm>
              <a:prstGeom prst="rect">
                <a:avLst/>
              </a:prstGeom>
              <a:solidFill>
                <a:srgbClr val="de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>
                <a:off x="4894560" y="3793680"/>
                <a:ext cx="171828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flipV="1">
                <a:off x="4894560" y="3783960"/>
                <a:ext cx="1718280" cy="972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4894560" y="3773520"/>
                <a:ext cx="1718280" cy="1080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4894560" y="3763080"/>
                <a:ext cx="171828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4894560" y="3753360"/>
                <a:ext cx="1718280" cy="972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4883760" y="3733920"/>
                <a:ext cx="171828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4894560" y="4242240"/>
                <a:ext cx="1937160" cy="1080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flipV="1">
                <a:off x="4894560" y="4231800"/>
                <a:ext cx="193716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4894560" y="4222080"/>
                <a:ext cx="1937160" cy="972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4894560" y="4212360"/>
                <a:ext cx="193716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4894560" y="4202640"/>
                <a:ext cx="193716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>
                <a:off x="4894560" y="4193280"/>
                <a:ext cx="1937160" cy="936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4894560" y="4181760"/>
                <a:ext cx="1937160" cy="1116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4894560" y="4172040"/>
                <a:ext cx="1937160" cy="972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4894560" y="4162680"/>
                <a:ext cx="1937160" cy="936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4894560" y="4152600"/>
                <a:ext cx="193716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4894560" y="4142880"/>
                <a:ext cx="1937160" cy="972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flipV="1">
                <a:off x="4894560" y="4133160"/>
                <a:ext cx="1937160" cy="972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4894560" y="4122720"/>
                <a:ext cx="1937160" cy="108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flipV="1">
                <a:off x="4894560" y="4112280"/>
                <a:ext cx="1937160" cy="9720"/>
              </a:xfrm>
              <a:prstGeom prst="rect">
                <a:avLst/>
              </a:prstGeom>
              <a:solidFill>
                <a:srgbClr val="fc9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4894560" y="4102560"/>
                <a:ext cx="1937160" cy="9720"/>
              </a:xfrm>
              <a:prstGeom prst="rect">
                <a:avLst/>
              </a:prstGeom>
              <a:solidFill>
                <a:srgbClr val="f8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4894560" y="4092840"/>
                <a:ext cx="1937160" cy="9720"/>
              </a:xfrm>
              <a:prstGeom prst="rect">
                <a:avLst/>
              </a:prstGeom>
              <a:solidFill>
                <a:srgbClr val="f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894560" y="4082760"/>
                <a:ext cx="1937160" cy="9720"/>
              </a:xfrm>
              <a:prstGeom prst="rect">
                <a:avLst/>
              </a:prstGeom>
              <a:solidFill>
                <a:srgbClr val="e68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4894560" y="4072320"/>
                <a:ext cx="1937160" cy="10800"/>
              </a:xfrm>
              <a:prstGeom prst="rect">
                <a:avLst/>
              </a:prstGeom>
              <a:solidFill>
                <a:srgbClr val="d9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>
                <a:off x="4894560" y="4062240"/>
                <a:ext cx="1937160" cy="9720"/>
              </a:xfrm>
              <a:prstGeom prst="rect">
                <a:avLst/>
              </a:prstGeom>
              <a:solidFill>
                <a:srgbClr val="c97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flipV="1">
                <a:off x="4894560" y="4052160"/>
                <a:ext cx="1937160" cy="9720"/>
              </a:xfrm>
              <a:prstGeom prst="rect">
                <a:avLst/>
              </a:prstGeom>
              <a:solidFill>
                <a:srgbClr val="b66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4894560" y="4042440"/>
                <a:ext cx="1937160" cy="9720"/>
              </a:xfrm>
              <a:prstGeom prst="rect">
                <a:avLst/>
              </a:prstGeom>
              <a:solidFill>
                <a:srgbClr val="a5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4894560" y="4032720"/>
                <a:ext cx="1937160" cy="9720"/>
              </a:xfrm>
              <a:prstGeom prst="rect">
                <a:avLst/>
              </a:prstGeom>
              <a:solidFill>
                <a:srgbClr val="945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4894560" y="4023720"/>
                <a:ext cx="1937160" cy="9360"/>
              </a:xfrm>
              <a:prstGeom prst="rect">
                <a:avLst/>
              </a:prstGeom>
              <a:solidFill>
                <a:srgbClr val="875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4883760" y="4002120"/>
                <a:ext cx="19371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4894200" y="4511160"/>
                <a:ext cx="2071800" cy="9720"/>
              </a:xfrm>
              <a:prstGeom prst="rect">
                <a:avLst/>
              </a:prstGeom>
              <a:solidFill>
                <a:srgbClr val="7647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4894200" y="4501440"/>
                <a:ext cx="2071800" cy="9720"/>
              </a:xfrm>
              <a:prstGeom prst="rect">
                <a:avLst/>
              </a:prstGeom>
              <a:solidFill>
                <a:srgbClr val="7d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4894200" y="4492440"/>
                <a:ext cx="2071800" cy="9360"/>
              </a:xfrm>
              <a:prstGeom prst="rect">
                <a:avLst/>
              </a:prstGeom>
              <a:solidFill>
                <a:srgbClr val="885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4894200" y="4482360"/>
                <a:ext cx="2071800" cy="9720"/>
              </a:xfrm>
              <a:prstGeom prst="rect">
                <a:avLst/>
              </a:prstGeom>
              <a:solidFill>
                <a:srgbClr val="96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4894200" y="4471200"/>
                <a:ext cx="2071800" cy="11160"/>
              </a:xfrm>
              <a:prstGeom prst="rect">
                <a:avLst/>
              </a:prstGeom>
              <a:solidFill>
                <a:srgbClr val="a86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4894200" y="4461840"/>
                <a:ext cx="2071800" cy="9360"/>
              </a:xfrm>
              <a:prstGeom prst="rect">
                <a:avLst/>
              </a:prstGeom>
              <a:solidFill>
                <a:srgbClr val="ba7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4894200" y="4451760"/>
                <a:ext cx="2071800" cy="9720"/>
              </a:xfrm>
              <a:prstGeom prst="rect">
                <a:avLst/>
              </a:prstGeom>
              <a:solidFill>
                <a:srgbClr val="cd7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4894200" y="4442040"/>
                <a:ext cx="2071800" cy="9720"/>
              </a:xfrm>
              <a:prstGeom prst="rect">
                <a:avLst/>
              </a:prstGeom>
              <a:solidFill>
                <a:srgbClr val="de8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>
                <a:off x="4894200" y="4432320"/>
                <a:ext cx="2071800" cy="9720"/>
              </a:xfrm>
              <a:prstGeom prst="rect">
                <a:avLst/>
              </a:prstGeom>
              <a:solidFill>
                <a:srgbClr val="ea8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4894200" y="4422240"/>
                <a:ext cx="2071800" cy="9720"/>
              </a:xfrm>
              <a:prstGeom prst="rect">
                <a:avLst/>
              </a:prstGeom>
              <a:solidFill>
                <a:srgbClr val="f49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4894200" y="4411800"/>
                <a:ext cx="2071800" cy="10800"/>
              </a:xfrm>
              <a:prstGeom prst="rect">
                <a:avLst/>
              </a:prstGeom>
              <a:solidFill>
                <a:srgbClr val="fb9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4894200" y="4392360"/>
                <a:ext cx="2071800" cy="19440"/>
              </a:xfrm>
              <a:prstGeom prst="rect">
                <a:avLst/>
              </a:prstGeom>
              <a:solidFill>
                <a:srgbClr val="fe9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 flipH="1" flipV="1">
              <a:off x="4895640" y="4383000"/>
              <a:ext cx="2070720" cy="86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4895640" y="4371840"/>
              <a:ext cx="2070720" cy="104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895640" y="4361040"/>
              <a:ext cx="2070720" cy="104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4895640" y="4350600"/>
              <a:ext cx="2070720" cy="1044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4895640" y="4342680"/>
              <a:ext cx="2070720" cy="86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4895640" y="4331520"/>
              <a:ext cx="207072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4895640" y="4322160"/>
              <a:ext cx="2070720" cy="900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4895640" y="4311720"/>
              <a:ext cx="2070720" cy="104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4895640" y="4301280"/>
              <a:ext cx="207072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4885200" y="4281840"/>
              <a:ext cx="207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4895640" y="4781520"/>
              <a:ext cx="2113200" cy="864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4895640" y="4770360"/>
              <a:ext cx="2113200" cy="104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4895640" y="4759920"/>
              <a:ext cx="211320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4895640" y="4749480"/>
              <a:ext cx="2113200" cy="104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4895640" y="4741200"/>
              <a:ext cx="2113200" cy="86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4895640" y="4730040"/>
              <a:ext cx="211320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4895640" y="4722120"/>
              <a:ext cx="2113200" cy="86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4895640" y="4709160"/>
              <a:ext cx="2113200" cy="11880"/>
            </a:xfrm>
            <a:prstGeom prst="rect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895640" y="4700880"/>
              <a:ext cx="2113200" cy="86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4895640" y="4689720"/>
              <a:ext cx="2113200" cy="104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895640" y="4681800"/>
              <a:ext cx="2113200" cy="86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4895640" y="4662000"/>
              <a:ext cx="2113200" cy="19440"/>
            </a:xfrm>
            <a:prstGeom prst="rect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895640" y="4650120"/>
              <a:ext cx="2113200" cy="1152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4895640" y="4640400"/>
              <a:ext cx="2113200" cy="900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4895640" y="4631040"/>
              <a:ext cx="2113200" cy="1008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4895640" y="4620960"/>
              <a:ext cx="2113200" cy="900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895640" y="4610520"/>
              <a:ext cx="2113200" cy="104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4895640" y="4602600"/>
              <a:ext cx="2113200" cy="86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4895640" y="4590720"/>
              <a:ext cx="2113200" cy="1152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4895640" y="4580640"/>
              <a:ext cx="2113200" cy="900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895640" y="4570200"/>
              <a:ext cx="211320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84840" y="4551480"/>
              <a:ext cx="211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4895280" y="5061240"/>
              <a:ext cx="2394720" cy="1008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4895280" y="5049720"/>
              <a:ext cx="2394720" cy="104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895280" y="5039280"/>
              <a:ext cx="2394720" cy="10440"/>
            </a:xfrm>
            <a:prstGeom prst="rect">
              <a:avLst/>
            </a:prstGeom>
            <a:solidFill>
              <a:srgbClr val="875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895280" y="5030280"/>
              <a:ext cx="2394720" cy="9000"/>
            </a:xfrm>
            <a:prstGeom prst="rect">
              <a:avLst/>
            </a:prstGeom>
            <a:solidFill>
              <a:srgbClr val="945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4895280" y="5020920"/>
              <a:ext cx="2394720" cy="10080"/>
            </a:xfrm>
            <a:prstGeom prst="rect">
              <a:avLst/>
            </a:prstGeom>
            <a:solidFill>
              <a:srgbClr val="a56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4895280" y="5010840"/>
              <a:ext cx="2394720" cy="9000"/>
            </a:xfrm>
            <a:prstGeom prst="rect">
              <a:avLst/>
            </a:prstGeom>
            <a:solidFill>
              <a:srgbClr val="b6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4895280" y="4999680"/>
              <a:ext cx="2394720" cy="11520"/>
            </a:xfrm>
            <a:prstGeom prst="rect">
              <a:avLst/>
            </a:prstGeom>
            <a:solidFill>
              <a:srgbClr val="c97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4895280" y="4989960"/>
              <a:ext cx="2394720" cy="9000"/>
            </a:xfrm>
            <a:prstGeom prst="rect">
              <a:avLst/>
            </a:prstGeom>
            <a:solidFill>
              <a:srgbClr val="d9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4895280" y="4979520"/>
              <a:ext cx="2394720" cy="10440"/>
            </a:xfrm>
            <a:prstGeom prst="rect">
              <a:avLst/>
            </a:prstGeom>
            <a:solidFill>
              <a:srgbClr val="e6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4895280" y="4971240"/>
              <a:ext cx="2394720" cy="8640"/>
            </a:xfrm>
            <a:prstGeom prst="rect">
              <a:avLst/>
            </a:prstGeom>
            <a:solidFill>
              <a:srgbClr val="f1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4895280" y="4960080"/>
              <a:ext cx="2394720" cy="10440"/>
            </a:xfrm>
            <a:prstGeom prst="rect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4895280" y="4949640"/>
              <a:ext cx="2394720" cy="10440"/>
            </a:xfrm>
            <a:prstGeom prst="rect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4895280" y="4939200"/>
              <a:ext cx="2394720" cy="104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4895280" y="4930920"/>
              <a:ext cx="2394720" cy="8640"/>
            </a:xfrm>
            <a:prstGeom prst="rect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4895280" y="4919760"/>
              <a:ext cx="2394720" cy="10440"/>
            </a:xfrm>
            <a:prstGeom prst="rect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4895280" y="4909320"/>
              <a:ext cx="2394720" cy="10440"/>
            </a:xfrm>
            <a:prstGeom prst="rect">
              <a:avLst/>
            </a:prstGeom>
            <a:solidFill>
              <a:srgbClr val="f1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4895280" y="4901040"/>
              <a:ext cx="2394720" cy="8640"/>
            </a:xfrm>
            <a:prstGeom prst="rect">
              <a:avLst/>
            </a:prstGeom>
            <a:solidFill>
              <a:srgbClr val="e6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4895280" y="4889880"/>
              <a:ext cx="2394720" cy="10440"/>
            </a:xfrm>
            <a:prstGeom prst="rect">
              <a:avLst/>
            </a:prstGeom>
            <a:solidFill>
              <a:srgbClr val="d9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4895280" y="4879440"/>
              <a:ext cx="2394720" cy="10440"/>
            </a:xfrm>
            <a:prstGeom prst="rect">
              <a:avLst/>
            </a:prstGeom>
            <a:solidFill>
              <a:srgbClr val="c97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895280" y="4869000"/>
              <a:ext cx="2394720" cy="10440"/>
            </a:xfrm>
            <a:prstGeom prst="rect">
              <a:avLst/>
            </a:prstGeom>
            <a:solidFill>
              <a:srgbClr val="b6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4895280" y="4861080"/>
              <a:ext cx="2394720" cy="8640"/>
            </a:xfrm>
            <a:prstGeom prst="rect">
              <a:avLst/>
            </a:prstGeom>
            <a:solidFill>
              <a:srgbClr val="a56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4895280" y="4849560"/>
              <a:ext cx="2394720" cy="10440"/>
            </a:xfrm>
            <a:prstGeom prst="rect">
              <a:avLst/>
            </a:prstGeom>
            <a:solidFill>
              <a:srgbClr val="945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4895280" y="4840560"/>
              <a:ext cx="2394720" cy="9000"/>
            </a:xfrm>
            <a:prstGeom prst="rect">
              <a:avLst/>
            </a:prstGeom>
            <a:solidFill>
              <a:srgbClr val="875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4884840" y="4820760"/>
              <a:ext cx="239292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4895280" y="5329080"/>
              <a:ext cx="2862720" cy="900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4895280" y="5318640"/>
              <a:ext cx="2862720" cy="104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4895280" y="5310360"/>
              <a:ext cx="2862720" cy="86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4895280" y="5299200"/>
              <a:ext cx="2862720" cy="104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flipV="1">
              <a:off x="4895280" y="5288760"/>
              <a:ext cx="2862720" cy="104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4895280" y="5278320"/>
              <a:ext cx="286272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4895280" y="5270040"/>
              <a:ext cx="2862720" cy="86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4895280" y="5258880"/>
              <a:ext cx="2862720" cy="10440"/>
            </a:xfrm>
            <a:prstGeom prst="rect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4895280" y="5250960"/>
              <a:ext cx="2862720" cy="86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4895280" y="5239440"/>
              <a:ext cx="2862720" cy="104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4895280" y="5229000"/>
              <a:ext cx="2862720" cy="104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895280" y="5209920"/>
              <a:ext cx="2862720" cy="19080"/>
            </a:xfrm>
            <a:prstGeom prst="rect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4895280" y="5199120"/>
              <a:ext cx="2862720" cy="104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4895280" y="5190120"/>
              <a:ext cx="2862720" cy="900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4895280" y="5179680"/>
              <a:ext cx="2862720" cy="104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4895280" y="5170320"/>
              <a:ext cx="2862720" cy="1008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4895280" y="5158800"/>
              <a:ext cx="2862720" cy="104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4895280" y="5149800"/>
              <a:ext cx="2862720" cy="900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4895280" y="5139360"/>
              <a:ext cx="2862720" cy="104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4895280" y="5131080"/>
              <a:ext cx="2862720" cy="86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4895280" y="5119920"/>
              <a:ext cx="286272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4885200" y="5099760"/>
              <a:ext cx="2861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4895280" y="5598000"/>
              <a:ext cx="2790000" cy="1044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895280" y="5589720"/>
              <a:ext cx="2790000" cy="86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4895280" y="5577120"/>
              <a:ext cx="2790000" cy="1188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4895280" y="5568840"/>
              <a:ext cx="2790000" cy="86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4895280" y="5557680"/>
              <a:ext cx="2790000" cy="104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4895280" y="5549400"/>
              <a:ext cx="2790000" cy="86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895280" y="5538240"/>
              <a:ext cx="2790000" cy="104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895280" y="5529240"/>
              <a:ext cx="2790000" cy="9000"/>
            </a:xfrm>
            <a:prstGeom prst="rect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4895280" y="5518080"/>
              <a:ext cx="2790000" cy="1152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895280" y="5509080"/>
              <a:ext cx="2790000" cy="86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4895280" y="5497920"/>
              <a:ext cx="2790000" cy="104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895280" y="5479200"/>
              <a:ext cx="2790000" cy="19440"/>
            </a:xfrm>
            <a:prstGeom prst="rect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flipV="1">
              <a:off x="4895280" y="5470200"/>
              <a:ext cx="2790000" cy="86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4895280" y="5458320"/>
              <a:ext cx="2790000" cy="1152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4895280" y="5448600"/>
              <a:ext cx="2790000" cy="900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4895280" y="5438160"/>
              <a:ext cx="2790000" cy="1044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4895280" y="5429880"/>
              <a:ext cx="2790000" cy="86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4895280" y="5418720"/>
              <a:ext cx="279000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4895280" y="5409720"/>
              <a:ext cx="2790000" cy="900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4895280" y="5398560"/>
              <a:ext cx="2790000" cy="1152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4895280" y="5389560"/>
              <a:ext cx="2790000" cy="86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4884840" y="5369400"/>
              <a:ext cx="278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4894920" y="5867640"/>
              <a:ext cx="2830680" cy="1152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4894920" y="5857920"/>
              <a:ext cx="2830680" cy="900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4894920" y="5848200"/>
              <a:ext cx="2830680" cy="1008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4894920" y="5838480"/>
              <a:ext cx="2830680" cy="900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4894920" y="5828040"/>
              <a:ext cx="2830680" cy="104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4894920" y="5819760"/>
              <a:ext cx="2830680" cy="86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4894920" y="5806800"/>
              <a:ext cx="2830680" cy="1188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4894920" y="5798880"/>
              <a:ext cx="2830680" cy="8640"/>
            </a:xfrm>
            <a:prstGeom prst="rect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4894920" y="5787720"/>
              <a:ext cx="2830680" cy="104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4894920" y="5779440"/>
              <a:ext cx="2830680" cy="86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4894920" y="5768280"/>
              <a:ext cx="2830680" cy="104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4894920" y="5748120"/>
              <a:ext cx="2830680" cy="20880"/>
            </a:xfrm>
            <a:prstGeom prst="rect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4894920" y="5739120"/>
              <a:ext cx="2830680" cy="86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4894920" y="5727960"/>
              <a:ext cx="2830680" cy="104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4894920" y="5718960"/>
              <a:ext cx="2830680" cy="900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4894920" y="5708520"/>
              <a:ext cx="2830680" cy="1044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flipV="1">
              <a:off x="4894920" y="5698800"/>
              <a:ext cx="2830680" cy="1008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894920" y="5687640"/>
              <a:ext cx="283068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>
              <a:off x="4894920" y="5678640"/>
              <a:ext cx="2830680" cy="900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4894920" y="5668200"/>
              <a:ext cx="2830680" cy="104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4894920" y="5657760"/>
              <a:ext cx="283068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4884840" y="5637600"/>
              <a:ext cx="2830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4895280" y="6145920"/>
              <a:ext cx="2903760" cy="1044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4895280" y="6138000"/>
              <a:ext cx="2903760" cy="86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95280" y="6126840"/>
              <a:ext cx="2903760" cy="10440"/>
            </a:xfrm>
            <a:prstGeom prst="rect">
              <a:avLst/>
            </a:prstGeom>
            <a:solidFill>
              <a:srgbClr val="875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895280" y="6118560"/>
              <a:ext cx="2903760" cy="8640"/>
            </a:xfrm>
            <a:prstGeom prst="rect">
              <a:avLst/>
            </a:prstGeom>
            <a:solidFill>
              <a:srgbClr val="945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4895280" y="6107400"/>
              <a:ext cx="2903760" cy="10440"/>
            </a:xfrm>
            <a:prstGeom prst="rect">
              <a:avLst/>
            </a:prstGeom>
            <a:solidFill>
              <a:srgbClr val="a56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4895280" y="6096960"/>
              <a:ext cx="2903760" cy="10440"/>
            </a:xfrm>
            <a:prstGeom prst="rect">
              <a:avLst/>
            </a:prstGeom>
            <a:solidFill>
              <a:srgbClr val="b6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4895280" y="6086520"/>
              <a:ext cx="2903760" cy="10440"/>
            </a:xfrm>
            <a:prstGeom prst="rect">
              <a:avLst/>
            </a:prstGeom>
            <a:solidFill>
              <a:srgbClr val="c97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4895280" y="6078240"/>
              <a:ext cx="2903760" cy="8640"/>
            </a:xfrm>
            <a:prstGeom prst="rect">
              <a:avLst/>
            </a:prstGeom>
            <a:solidFill>
              <a:srgbClr val="d9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4895280" y="6067080"/>
              <a:ext cx="2903760" cy="10440"/>
            </a:xfrm>
            <a:prstGeom prst="rect">
              <a:avLst/>
            </a:prstGeom>
            <a:solidFill>
              <a:srgbClr val="e6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895280" y="6058080"/>
              <a:ext cx="2903760" cy="9000"/>
            </a:xfrm>
            <a:prstGeom prst="rect">
              <a:avLst/>
            </a:prstGeom>
            <a:solidFill>
              <a:srgbClr val="f1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4895280" y="6047640"/>
              <a:ext cx="2903760" cy="10440"/>
            </a:xfrm>
            <a:prstGeom prst="rect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4895280" y="6037920"/>
              <a:ext cx="2903760" cy="10080"/>
            </a:xfrm>
            <a:prstGeom prst="rect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4895280" y="6026760"/>
              <a:ext cx="2903760" cy="104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4895280" y="6017760"/>
              <a:ext cx="2903760" cy="9000"/>
            </a:xfrm>
            <a:prstGeom prst="rect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4895280" y="6007320"/>
              <a:ext cx="2903760" cy="10440"/>
            </a:xfrm>
            <a:prstGeom prst="rect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895280" y="5999040"/>
              <a:ext cx="2903760" cy="8640"/>
            </a:xfrm>
            <a:prstGeom prst="rect">
              <a:avLst/>
            </a:prstGeom>
            <a:solidFill>
              <a:srgbClr val="f1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4895280" y="5987160"/>
              <a:ext cx="2903760" cy="11520"/>
            </a:xfrm>
            <a:prstGeom prst="rect">
              <a:avLst/>
            </a:prstGeom>
            <a:solidFill>
              <a:srgbClr val="e68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4895280" y="5977440"/>
              <a:ext cx="2903760" cy="9000"/>
            </a:xfrm>
            <a:prstGeom prst="rect">
              <a:avLst/>
            </a:prstGeom>
            <a:solidFill>
              <a:srgbClr val="d9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4895280" y="5967000"/>
              <a:ext cx="2903760" cy="10440"/>
            </a:xfrm>
            <a:prstGeom prst="rect">
              <a:avLst/>
            </a:prstGeom>
            <a:solidFill>
              <a:srgbClr val="c97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4895280" y="5958720"/>
              <a:ext cx="2903760" cy="8640"/>
            </a:xfrm>
            <a:prstGeom prst="rect">
              <a:avLst/>
            </a:prstGeom>
            <a:solidFill>
              <a:srgbClr val="b6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4895280" y="5947560"/>
              <a:ext cx="2903760" cy="10440"/>
            </a:xfrm>
            <a:prstGeom prst="rect">
              <a:avLst/>
            </a:prstGeom>
            <a:solidFill>
              <a:srgbClr val="a56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4895280" y="5939640"/>
              <a:ext cx="2903760" cy="8640"/>
            </a:xfrm>
            <a:prstGeom prst="rect">
              <a:avLst/>
            </a:prstGeom>
            <a:solidFill>
              <a:srgbClr val="945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4895280" y="5926680"/>
              <a:ext cx="2903760" cy="11880"/>
            </a:xfrm>
            <a:prstGeom prst="rect">
              <a:avLst/>
            </a:prstGeom>
            <a:solidFill>
              <a:srgbClr val="875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4885200" y="5907240"/>
              <a:ext cx="2903760" cy="2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4895640" y="6417360"/>
              <a:ext cx="2934000" cy="8640"/>
            </a:xfrm>
            <a:prstGeom prst="rect">
              <a:avLst/>
            </a:prstGeom>
            <a:solidFill>
              <a:srgbClr val="764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4895640" y="6406200"/>
              <a:ext cx="2934000" cy="10440"/>
            </a:xfrm>
            <a:prstGeom prst="rect">
              <a:avLst/>
            </a:prstGeom>
            <a:solidFill>
              <a:srgbClr val="7d4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4895640" y="6397200"/>
              <a:ext cx="2934000" cy="900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4895640" y="6386040"/>
              <a:ext cx="2934000" cy="1152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4895640" y="6377040"/>
              <a:ext cx="2934000" cy="864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4895640" y="6365880"/>
              <a:ext cx="2934000" cy="1044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895640" y="6356880"/>
              <a:ext cx="2934000" cy="900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4895640" y="6346080"/>
              <a:ext cx="2934000" cy="10440"/>
            </a:xfrm>
            <a:prstGeom prst="rect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4895640" y="6338160"/>
              <a:ext cx="2934000" cy="86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4895640" y="6326280"/>
              <a:ext cx="2934000" cy="1152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4895640" y="6316560"/>
              <a:ext cx="2934000" cy="900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4895640" y="6297120"/>
              <a:ext cx="2934000" cy="19080"/>
            </a:xfrm>
            <a:prstGeom prst="rect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4895640" y="6286680"/>
              <a:ext cx="2934000" cy="10440"/>
            </a:xfrm>
            <a:prstGeom prst="rect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4895640" y="6276240"/>
              <a:ext cx="2934000" cy="10440"/>
            </a:xfrm>
            <a:prstGeom prst="rect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4895640" y="6265800"/>
              <a:ext cx="2934000" cy="10440"/>
            </a:xfrm>
            <a:prstGeom prst="rect">
              <a:avLst/>
            </a:prstGeom>
            <a:solidFill>
              <a:srgbClr val="ea8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4895640" y="6257520"/>
              <a:ext cx="2934000" cy="8640"/>
            </a:xfrm>
            <a:prstGeom prst="rect">
              <a:avLst/>
            </a:prstGeom>
            <a:solidFill>
              <a:srgbClr val="de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4895640" y="6246360"/>
              <a:ext cx="2934000" cy="10440"/>
            </a:xfrm>
            <a:prstGeom prst="rect">
              <a:avLst/>
            </a:prstGeom>
            <a:solidFill>
              <a:srgbClr val="cd7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4895640" y="6237000"/>
              <a:ext cx="2934000" cy="9000"/>
            </a:xfrm>
            <a:prstGeom prst="rect">
              <a:avLst/>
            </a:prstGeom>
            <a:solidFill>
              <a:srgbClr val="ba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4895640" y="6227640"/>
              <a:ext cx="2934000" cy="10080"/>
            </a:xfrm>
            <a:prstGeom prst="rect">
              <a:avLst/>
            </a:prstGeom>
            <a:solidFill>
              <a:srgbClr val="a86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95640" y="6216480"/>
              <a:ext cx="2934000" cy="10440"/>
            </a:xfrm>
            <a:prstGeom prst="rect">
              <a:avLst/>
            </a:prstGeom>
            <a:solidFill>
              <a:srgbClr val="96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4895640" y="6206040"/>
              <a:ext cx="2934000" cy="10440"/>
            </a:xfrm>
            <a:prstGeom prst="rect">
              <a:avLst/>
            </a:prstGeom>
            <a:solidFill>
              <a:srgbClr val="88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4884840" y="6187320"/>
              <a:ext cx="2935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506480" y="1813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 - 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484160" y="206748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5 - 7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485600" y="23454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0 - 7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484160" y="26233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5 - 6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485600" y="28875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 - 6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487040" y="31518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5 - 5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488480" y="34416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 - 5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487040" y="37062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5 - 4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487040" y="39708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 - 4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488480" y="42483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5 - 3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489920" y="452628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 - 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489920" y="48038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5 - 2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489920" y="5081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 - 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489920" y="53463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489920" y="56239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 - 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595400" y="590040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 - 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595400" y="616788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 -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5805360" y="180756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297320" y="180756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5869440" y="206604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110280" y="234972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218280" y="263952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337800" y="289224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446880" y="3169800"/>
              <a:ext cx="1832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590160" y="344772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784200" y="371340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000200" y="399132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128360" y="425736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160400" y="453492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3880" y="481320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797600" y="5078880"/>
              <a:ext cx="185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851600" y="5347800"/>
              <a:ext cx="18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905240" y="5625360"/>
              <a:ext cx="185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972560" y="589140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991640" y="6169320"/>
              <a:ext cx="1832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225680" y="206604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957480" y="2349720"/>
              <a:ext cx="18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738960" y="264096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581640" y="2893320"/>
              <a:ext cx="18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04080" y="317124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113280" y="343728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725200" y="371484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665440" y="3980880"/>
              <a:ext cx="18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2573640" y="426024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494800" y="453816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019240" y="4802760"/>
              <a:ext cx="185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890720" y="5068440"/>
              <a:ext cx="1832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1415520" y="533448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1482480" y="5613480"/>
              <a:ext cx="18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418760" y="5891400"/>
              <a:ext cx="18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337040" y="616932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4571280" y="14382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20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dicadores Básicos de Argenti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0" y="1436760"/>
            <a:ext cx="9144000" cy="56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ectativa de Vida: 71/93 añ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ectativa de Vida en hombres: 68/44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ectativa de Vida en mujeres: 75/59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asa de crecimiento anual: 0.9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Fuente: INDEC. Censo 200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asa de Natalidad: 18.4 por mil (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asa Bruta de Mortalidad: 8.0 por mil (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asa de Mortalidad Infantil:16.5 por mil (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  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14.4 por mil (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uente: MSy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asa de Mortalidad Infanti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0" y="1017360"/>
            <a:ext cx="914400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ño 2003: 16.5 por m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ño 2004: 14.4 por m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imer semestre de 2005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cendió un 13%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specto del mismo período an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5324400" y="1062000"/>
            <a:ext cx="184320" cy="1665360"/>
          </a:xfrm>
          <a:custGeom>
            <a:avLst/>
            <a:gdLst>
              <a:gd name="textAreaLeft" fmla="*/ 0 w 184320"/>
              <a:gd name="textAreaRight" fmla="*/ 66600 w 184320"/>
              <a:gd name="textAreaTop" fmla="*/ 43200 h 1665360"/>
              <a:gd name="textAreaBottom" fmla="*/ 1622160 h 16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cc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18040" y="1308240"/>
            <a:ext cx="2213280" cy="812520"/>
          </a:xfrm>
          <a:prstGeom prst="ellipse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38360" y="4811760"/>
            <a:ext cx="7667280" cy="1544760"/>
          </a:xfrm>
          <a:prstGeom prst="ellipse">
            <a:avLst/>
          </a:prstGeom>
          <a:noFill/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0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Meta del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an Federal de Salud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para el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Reducción del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6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3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vejecimiento de la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192400" y="2105280"/>
            <a:ext cx="4760280" cy="4052160"/>
            <a:chOff x="2192400" y="2105280"/>
            <a:chExt cx="4760280" cy="4052160"/>
          </a:xfrm>
        </p:grpSpPr>
        <p:sp>
          <p:nvSpPr>
            <p:cNvPr id="923" name="_s198664"/>
            <p:cNvSpPr/>
            <p:nvPr/>
          </p:nvSpPr>
          <p:spPr>
            <a:xfrm>
              <a:off x="3106800" y="2105280"/>
              <a:ext cx="2932200" cy="283644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_s198665"/>
            <p:cNvSpPr/>
            <p:nvPr/>
          </p:nvSpPr>
          <p:spPr>
            <a:xfrm rot="7200000">
              <a:off x="3555360" y="2729880"/>
              <a:ext cx="2836800" cy="2932200"/>
            </a:xfrm>
            <a:custGeom>
              <a:avLst/>
              <a:gdLst>
                <a:gd name="textAreaLeft" fmla="*/ 0 w 2836800"/>
                <a:gd name="textAreaRight" fmla="*/ 2837160 w 28368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_s198667"/>
            <p:cNvSpPr/>
            <p:nvPr/>
          </p:nvSpPr>
          <p:spPr>
            <a:xfrm rot="14400000">
              <a:off x="2752560" y="2729880"/>
              <a:ext cx="2836800" cy="2932200"/>
            </a:xfrm>
            <a:custGeom>
              <a:avLst/>
              <a:gdLst>
                <a:gd name="textAreaLeft" fmla="*/ 0 w 2836800"/>
                <a:gd name="textAreaRight" fmla="*/ 2837160 w 28368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198662"/>
            <p:cNvSpPr/>
            <p:nvPr/>
          </p:nvSpPr>
          <p:spPr>
            <a:xfrm>
              <a:off x="5375160" y="2624400"/>
              <a:ext cx="117648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Sistema 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jubilaci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_s198663"/>
            <p:cNvSpPr/>
            <p:nvPr/>
          </p:nvSpPr>
          <p:spPr>
            <a:xfrm>
              <a:off x="3986280" y="4957560"/>
              <a:ext cx="117612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Sistema 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salu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_s198666"/>
            <p:cNvSpPr/>
            <p:nvPr/>
          </p:nvSpPr>
          <p:spPr>
            <a:xfrm>
              <a:off x="2592360" y="2625840"/>
              <a:ext cx="117648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Sistema 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aten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soci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0" y="50760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Problemas para los Sistemas de Salu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0" y="145908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ores necesidades de atención mé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ores tasas de consu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o de la prevalencia de enfermedades crónicas y enfermedades propias de la 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onocimiento sobre la efectividad clínica de distintos procedimientos en anci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lta de RRHH especializados en atención geriát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aumento del gasto en salud continuará en ascenso sin perspectivas de equiparación  con las posibilidades presupuestarias de los paí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-1805040" y="1365120"/>
          <a:ext cx="1249668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805040" y="1365120"/>
                    <a:ext cx="1249668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>
            <a:off x="5651640" y="19162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CTOR PÚB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5.05 MILL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77800" y="1552680"/>
            <a:ext cx="27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CTOR PR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.7 MILL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68680" y="5932440"/>
            <a:ext cx="36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CTOR SEGURIDAD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0.83 MILL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5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4160" y="2222640"/>
            <a:ext cx="788760" cy="1431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2274840" y="4581000"/>
            <a:ext cx="1433520" cy="1109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508360" y="2421000"/>
            <a:ext cx="64764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3336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BITANTES DE ARGENTINA SEGÚN SUBSECTORES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TAL 38.592.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>
            <a:hlinkClick r:id="rId4" action="ppaction://hlinksldjump"/>
          </p:cNvPr>
          <p:cNvSpPr/>
          <p:nvPr/>
        </p:nvSpPr>
        <p:spPr>
          <a:xfrm>
            <a:off x="1031760" y="1704960"/>
            <a:ext cx="304920" cy="3049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>
            <a:hlinkClick r:id="rId5" action="ppaction://hlinksldjump"/>
          </p:cNvPr>
          <p:cNvSpPr/>
          <p:nvPr/>
        </p:nvSpPr>
        <p:spPr>
          <a:xfrm>
            <a:off x="468360" y="6067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a800a8"/>
              </a:gs>
              <a:gs pos="50000">
                <a:srgbClr val="ff00ff"/>
              </a:gs>
              <a:gs pos="100000">
                <a:srgbClr val="a800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>
            <a:hlinkClick r:id="rId6" action="ppaction://hlinksldjump"/>
          </p:cNvPr>
          <p:cNvSpPr/>
          <p:nvPr/>
        </p:nvSpPr>
        <p:spPr>
          <a:xfrm>
            <a:off x="5292720" y="206064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788000" y="652464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Fuente: INDEC Estimaciones y Proyecciones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4" name=""/>
          <p:cNvGraphicFramePr/>
          <p:nvPr/>
        </p:nvGraphicFramePr>
        <p:xfrm>
          <a:off x="4210200" y="198360"/>
          <a:ext cx="4632120" cy="6545520"/>
        </p:xfrm>
        <a:graphic>
          <a:graphicData uri="http://schemas.openxmlformats.org/drawingml/2006/table">
            <a:tbl>
              <a:tblPr/>
              <a:tblGrid>
                <a:gridCol w="1025280"/>
                <a:gridCol w="1062000"/>
                <a:gridCol w="1333800"/>
                <a:gridCol w="12110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Sex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Var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Mujer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.260.1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659.0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601.0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-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349.2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03.1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46.0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-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71.2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60.6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10.5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-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27.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38.7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88.4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88.3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13.0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75.2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99.3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97.9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01.4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695.3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29.4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65.8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364.9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59.6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05.2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229.6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86.6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43.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36.5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43.1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93.3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971.9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9.1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12.7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50.4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5.1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5.3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04.0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18.1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5.8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84.3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97.2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87.0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.109.7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499.5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610.2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996.5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422.4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574.0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727.8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289.0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438.8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432.9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52.2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280.6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85-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224.4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68.4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56.0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90-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77.6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20.7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56.8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95-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6.5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4.0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2.4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00 y má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.8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1.5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Arial"/>
                          <a:ea typeface="Times New Roman"/>
                        </a:rPr>
                        <a:t>Total &gt;6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Arial"/>
                          <a:ea typeface="Arial"/>
                        </a:rPr>
                        <a:t>3.587.6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Arial"/>
                          <a:ea typeface="Arial"/>
                        </a:rPr>
                        <a:t>1.456.89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Arial"/>
                          <a:ea typeface="Arial"/>
                        </a:rPr>
                        <a:t>2.130.7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5" name=""/>
          <p:cNvSpPr/>
          <p:nvPr/>
        </p:nvSpPr>
        <p:spPr>
          <a:xfrm>
            <a:off x="218160" y="2874960"/>
            <a:ext cx="405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Comic Sans MS"/>
              </a:rPr>
              <a:t>Población Argent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Comic Sans MS"/>
              </a:rPr>
              <a:t>Censo 20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57840" y="453960"/>
            <a:ext cx="84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blación General Mayor de 65 añ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84720" y="2195640"/>
            <a:ext cx="3059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blación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8.592.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yores de 65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.322.536 (1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-900000" y="1731960"/>
          <a:ext cx="7993080" cy="479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00000" y="1731960"/>
                    <a:ext cx="799308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788000" y="652464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Fuente: INDEC Estimaciones y Proyecciones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7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Comic Sans MS"/>
              </a:rPr>
              <a:t>Mayores de 80 añ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633240" y="1469880"/>
          <a:ext cx="7832520" cy="4924440"/>
        </p:xfrm>
        <a:graphic>
          <a:graphicData uri="http://schemas.openxmlformats.org/drawingml/2006/table">
            <a:tbl>
              <a:tblPr/>
              <a:tblGrid>
                <a:gridCol w="1974600"/>
                <a:gridCol w="1857600"/>
                <a:gridCol w="2043000"/>
                <a:gridCol w="1957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Homb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uje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36.260.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7.659.0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8.601.0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65 - 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3.587.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.054.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.817.8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80-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432.9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52.2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80.6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85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24.4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68.4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56.0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90-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77.6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0.7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56.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95-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6.5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4.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2.4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00 y má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.8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1.5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753.4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245.8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507.5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mayores de 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8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mayores de 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7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&gt;80 / población mayor de 65 añ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.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9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0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788000" y="652464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Fuente: INDEC Censo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71640" y="262080"/>
            <a:ext cx="5543640" cy="6362640"/>
          </a:xfrm>
          <a:prstGeom prst="upArrow">
            <a:avLst>
              <a:gd name="adj1" fmla="val 54574"/>
              <a:gd name="adj2" fmla="val 34448"/>
            </a:avLst>
          </a:prstGeom>
          <a:gradFill rotWithShape="0">
            <a:gsLst>
              <a:gs pos="0">
                <a:srgbClr val="008000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145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asa de envejeci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rcentaje que representan los mayores de 65 años sobre la población to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asa de depende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rcentaje de mayores de 65 años sobre la población ac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Comic Sans MS"/>
              </a:rPr>
              <a:t>NIVELES DE COBERTURA POR SUBSECTOR</a:t>
            </a:r>
            <a:br>
              <a:rPr sz="3200"/>
            </a:br>
            <a:r>
              <a:rPr b="0" lang="es-AR" sz="3200" spc="-1" strike="noStrike">
                <a:solidFill>
                  <a:srgbClr val="ffff00"/>
                </a:solidFill>
                <a:latin typeface="Comic Sans MS"/>
              </a:rPr>
              <a:t>Población tot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0" y="2021040"/>
          <a:ext cx="9144000" cy="48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21040"/>
                    <a:ext cx="9144000" cy="48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Comic Sans MS"/>
              </a:rPr>
              <a:t>Mayores de 65 añ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0" y="1219320"/>
          <a:ext cx="9083520" cy="55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0835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0" y="3636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nsición Epidemiológic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157400" y="2811600"/>
          <a:ext cx="6951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2811600"/>
                    <a:ext cx="6951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4" name="" descr=""/>
          <p:cNvPicPr/>
          <p:nvPr/>
        </p:nvPicPr>
        <p:blipFill>
          <a:blip r:embed="rId4"/>
          <a:stretch/>
        </p:blipFill>
        <p:spPr>
          <a:xfrm>
            <a:off x="2050920" y="771480"/>
            <a:ext cx="5113440" cy="151308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258920" y="2421000"/>
            <a:ext cx="64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Población del Seguro Nacional de Salu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92520" y="658512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Fuente: Padrón de la SSS. 09/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250920" y="2205000"/>
            <a:ext cx="446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00"/>
                </a:solidFill>
                <a:latin typeface="Comic Sans MS"/>
              </a:rPr>
              <a:t>Sistema Nacional del Seguro de Salu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00"/>
                </a:solidFill>
                <a:latin typeface="Comic Sans MS"/>
              </a:rPr>
              <a:t>Población Beneficiar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5076720" y="128520"/>
          <a:ext cx="3672000" cy="6600960"/>
        </p:xfrm>
        <a:graphic>
          <a:graphicData uri="http://schemas.openxmlformats.org/drawingml/2006/table">
            <a:tbl>
              <a:tblPr/>
              <a:tblGrid>
                <a:gridCol w="1284480"/>
                <a:gridCol w="812880"/>
                <a:gridCol w="812520"/>
                <a:gridCol w="762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Con PAM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Sin PAM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% PAM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enos 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394.6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280.3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Fede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80.2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85.3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amar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.6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.0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.1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9.6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.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ub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.0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1.1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do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80.3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1.7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rien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6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1.0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re Ri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2.1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4.6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o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.3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.4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ju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5.9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5.0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 Pamp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.4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.2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 Rio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.4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.3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ndoz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4.5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0.6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8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io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8.1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7.6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qu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6.8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.0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Identific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204.4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204.0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 Neg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8.9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.4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1.0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0.7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 Ju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5.3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2.4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 Lu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.1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.68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a Cru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.7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.2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a F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88.2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9.2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iago del Est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4.0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.6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.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erra del Fueg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.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.6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ucum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6.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.6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otal gene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.885.8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.228.3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.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9" name=""/>
          <p:cNvGraphicFramePr/>
          <p:nvPr/>
        </p:nvGraphicFramePr>
        <p:xfrm>
          <a:off x="142920" y="2176560"/>
          <a:ext cx="8854920" cy="2039760"/>
        </p:xfrm>
        <a:graphic>
          <a:graphicData uri="http://schemas.openxmlformats.org/drawingml/2006/table">
            <a:tbl>
              <a:tblPr/>
              <a:tblGrid>
                <a:gridCol w="3755880"/>
                <a:gridCol w="1762200"/>
                <a:gridCol w="1652760"/>
                <a:gridCol w="1684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Titul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Famili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Total de Beneficiarios No Jubil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6331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55232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66"/>
                          </a:solidFill>
                          <a:latin typeface="Tahoma"/>
                        </a:rPr>
                        <a:t>11854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Total de Beneficiarios Jubil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2699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1040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ff"/>
                          </a:solidFill>
                          <a:latin typeface="Tahoma"/>
                        </a:rPr>
                        <a:t>3739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011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273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2284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0" y="54612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Sistema Nacional del Seguro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Jubilados respecto del Padrón de Beneficiarios Sin P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34120" y="6546960"/>
            <a:ext cx="282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Fuente: Padrón de la SSS 09/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678040" y="4238640"/>
          <a:ext cx="4926240" cy="2684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8040" y="4238640"/>
                    <a:ext cx="492624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4" name=""/>
          <p:cNvGraphicFramePr/>
          <p:nvPr/>
        </p:nvGraphicFramePr>
        <p:xfrm>
          <a:off x="4694400" y="136440"/>
          <a:ext cx="3311280" cy="6624720"/>
        </p:xfrm>
        <a:graphic>
          <a:graphicData uri="http://schemas.openxmlformats.org/drawingml/2006/table">
            <a:tbl>
              <a:tblPr/>
              <a:tblGrid>
                <a:gridCol w="1566720"/>
                <a:gridCol w="1744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ADRON JUNIO  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enos 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.7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Fede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.3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tamar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ub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do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.0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rien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re Ri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4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o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uju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 Pamp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7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 Rio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ndoz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io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qu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dentific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 Neg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4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 Ju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2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 Lu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a Cru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a F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.5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ntiago del Est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erra del Fueg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ucum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8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otal gene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73.9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975" name=""/>
          <p:cNvSpPr/>
          <p:nvPr/>
        </p:nvSpPr>
        <p:spPr>
          <a:xfrm flipH="1">
            <a:off x="76320" y="2205000"/>
            <a:ext cx="446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Sistema Nacional del Seguro de Sal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Jubilados por Provi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0" y="302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Jubilados por Ob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611280" y="660240"/>
          <a:ext cx="8061120" cy="6138720"/>
        </p:xfrm>
        <a:graphic>
          <a:graphicData uri="http://schemas.openxmlformats.org/drawingml/2006/table">
            <a:tbl>
              <a:tblPr/>
              <a:tblGrid>
                <a:gridCol w="782640"/>
                <a:gridCol w="3554280"/>
                <a:gridCol w="1143000"/>
                <a:gridCol w="1438200"/>
                <a:gridCol w="1143000"/>
              </a:tblGrid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Comic Sans MS"/>
                          <a:ea typeface="Arial"/>
                        </a:rPr>
                        <a:t>R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Comic Sans MS"/>
                          <a:ea typeface="Arial"/>
                        </a:rPr>
                        <a:t>Denomin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Comic Sans MS"/>
                          <a:ea typeface="Arial"/>
                        </a:rPr>
                        <a:t>Jubil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Comic Sans MS"/>
                          <a:ea typeface="Arial"/>
                        </a:rPr>
                        <a:t>Total Benefici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Comic Sans MS"/>
                          <a:ea typeface="Arial"/>
                        </a:rPr>
                        <a:t>% Respecto del Total de Benef. 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63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BANCARIA ARGENTI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.3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4.1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.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62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 LOS EMPLEADOS DE COMERCIO Y ACTIVIDADES CIVI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.0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63.35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FERROVIAR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8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.1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.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PARA LA ACTIVIDAD DOCEN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8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7.1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8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 LOS TRABAJADORES DE LAS EMPRESAS DE ELECTRIC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.7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.3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7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PERSONAL DE LAS TELECOMUNICACIONES DE LA REPUBLICA ARGENTI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8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.0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7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 LA FEDERACION ARGENTINA DE TRABAJADORES DE LUZ Y FUER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.9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.6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.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 LA ACTIVIDAD DE SEGUROS. REASEGUROS. CAPITALIZACION Y AHORRO Y PRESTAMO PARA LA VIVIEND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1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6.8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PERSONAL DE LA EMPRESA NACIONAL DE CORREOS Y TELEGRAFOS S.A. Y DE LAS  COMUNICACIONES DE LA REPULICA ARGENTI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.1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.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PARA EL PERSONAL DEL MINISTERIO DE ECONOMIA Y DE OBRAS Y SERVICIOS PUBLIC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4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1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7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UNION PERSONAL DE LA UNION PERSONAL CIVIL DE LA N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9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3.6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9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PERSONAL DE LUZ Y FUERZA DE CORDO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1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.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7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PERSONAL DE LA ACTIVIDAD DEL TUR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8.8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2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 LA UNION OBRERA METALURGICA DE LA REPUBLICA ARGENTI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3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2.1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9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SINDICATO DE MECANICOS Y AFINES DEL TRANSPORTE AUTOMOTO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.4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A SOCIAL DEL PERSONAL GRAFIC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.7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908000" y="619200"/>
            <a:ext cx="5185080" cy="5689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baf00"/>
              </a:gs>
              <a:gs pos="50000">
                <a:srgbClr val="ffcc00">
                  <a:alpha val="46274"/>
                </a:srgbClr>
              </a:gs>
              <a:gs pos="100000">
                <a:srgbClr val="dbaf00"/>
              </a:gs>
            </a:gsLst>
            <a:lin ang="10800000"/>
          </a:gra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987640" y="2565360"/>
            <a:ext cx="3238560" cy="863640"/>
          </a:xfrm>
          <a:prstGeom prst="ellipse">
            <a:avLst/>
          </a:prstGeom>
          <a:solidFill>
            <a:srgbClr val="c0c0c0">
              <a:alpha val="48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3640" y="1204920"/>
            <a:ext cx="156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MAN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3640" y="1195560"/>
            <a:ext cx="1800360" cy="50472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-24840" y="3524400"/>
            <a:ext cx="202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ECESID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900000" y="4148280"/>
            <a:ext cx="1656000" cy="50472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635280" y="249228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30440" y="142884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ul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239240" y="2378160"/>
            <a:ext cx="19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nfe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o consul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559640" y="3421080"/>
            <a:ext cx="14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bl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l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743600" y="51912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627680" y="42544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ulner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24360" y="1989000"/>
            <a:ext cx="360360" cy="28764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84720" y="11239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140360" y="15559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0" y="162720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0" y="198756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708360" y="26352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6352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076720" y="2637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51280" y="299556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0" y="299556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48360" y="299556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750075"/>
              </a:gs>
              <a:gs pos="50000">
                <a:srgbClr val="ff00ff"/>
              </a:gs>
              <a:gs pos="100000">
                <a:srgbClr val="750075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348000" y="3645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92720" y="3645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43280" y="3645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95640" y="3645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132000" y="414828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780000" y="407664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140360" y="4653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356000" y="414828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003640" y="429264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724360" y="436392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19640" y="4653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788000" y="4653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843280" y="4653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508720" y="472428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627280" y="522756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76720" y="5084640"/>
            <a:ext cx="360360" cy="287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067280" y="5084640"/>
            <a:ext cx="360360" cy="287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5084640"/>
            <a:ext cx="360360" cy="287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364000" y="515628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522756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58792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51640" y="580392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443640" y="5877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411280" y="5877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0" y="594828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551664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92360" y="551664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995640" y="551664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360" y="580392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708360" y="5877000"/>
            <a:ext cx="360360" cy="287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0800000">
            <a:off x="5579640" y="1555560"/>
            <a:ext cx="1295640" cy="3603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12734"/>
              </a:gs>
              <a:gs pos="50000">
                <a:srgbClr val="ff99cc"/>
              </a:gs>
              <a:gs pos="100000">
                <a:srgbClr val="412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rot="10800000">
            <a:off x="5866920" y="2707920"/>
            <a:ext cx="1295640" cy="3603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12734"/>
              </a:gs>
              <a:gs pos="50000">
                <a:srgbClr val="ff99cc"/>
              </a:gs>
              <a:gs pos="100000">
                <a:srgbClr val="412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rot="10800000">
            <a:off x="6084360" y="3571560"/>
            <a:ext cx="1295640" cy="3603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12734"/>
              </a:gs>
              <a:gs pos="50000">
                <a:srgbClr val="ff99cc"/>
              </a:gs>
              <a:gs pos="100000">
                <a:srgbClr val="412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rot="10800000">
            <a:off x="6372360" y="4363560"/>
            <a:ext cx="1295280" cy="3603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12734"/>
              </a:gs>
              <a:gs pos="50000">
                <a:srgbClr val="ff99cc"/>
              </a:gs>
              <a:gs pos="100000">
                <a:srgbClr val="412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6803640" y="5372280"/>
            <a:ext cx="863640" cy="288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12734"/>
              </a:gs>
              <a:gs pos="50000">
                <a:srgbClr val="ff99cc"/>
              </a:gs>
              <a:gs pos="100000">
                <a:srgbClr val="412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3080" y="1197000"/>
            <a:ext cx="4317840" cy="979560"/>
          </a:xfrm>
          <a:prstGeom prst="ellipse">
            <a:avLst/>
          </a:prstGeom>
          <a:solidFill>
            <a:srgbClr val="c0c0c0">
              <a:alpha val="48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492360" y="3789360"/>
            <a:ext cx="2159280" cy="979560"/>
          </a:xfrm>
          <a:prstGeom prst="ellipse">
            <a:avLst/>
          </a:prstGeom>
          <a:solidFill>
            <a:srgbClr val="c0c0c0">
              <a:alpha val="48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16360" y="5229360"/>
            <a:ext cx="1512720" cy="896760"/>
          </a:xfrm>
          <a:prstGeom prst="ellipse">
            <a:avLst/>
          </a:prstGeom>
          <a:solidFill>
            <a:srgbClr val="c0c0c0">
              <a:alpha val="48000"/>
            </a:srgbClr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492360" y="170028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4356000" y="5734080"/>
            <a:ext cx="203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076720" y="126828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70836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5292720" y="170028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492360" y="2924280"/>
            <a:ext cx="21600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4284720" y="1844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5651640" y="2781360"/>
            <a:ext cx="21564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788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5003640" y="393372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067280" y="4221000"/>
            <a:ext cx="21564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84720" y="2997360"/>
            <a:ext cx="21600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643280" y="4365720"/>
            <a:ext cx="21600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932360" y="544500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$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/>
          <p:nvPr/>
        </p:nvSpPr>
        <p:spPr>
          <a:xfrm>
            <a:off x="1471320" y="9216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lación Demanda Necesidades y Recu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5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0" y="65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ueden reducirse las necesidades y la demanda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Georgia"/>
              </a:rPr>
              <a:t>Algunas razones para pensar que es po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resión de la mor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to responsa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gramas de  promoción y prevención de la sal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oración de los resultados a largo plazo vs. a corto pla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ecuada gestión de las patologías cró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evo planteamiento de la asistencia en fases termi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-35712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papel del auto-cuid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71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571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5551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l costo de la atención médica está relacionado en gran medida con la morbi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morbilidad está influida por los estilos de vida y los hábitos de la pob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ás del 80% de la morbilidad corresponde a enfermedades crónicas aparecidas después de los 55 a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s enfermedades evitables suponen el 70% de la morbilidad y de los costos de la aten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s enfermedades evitables representan 8 de cada 10 causas principales de muerte; significan 980.000 muertes al año en Estados Un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5320" y="311040"/>
            <a:ext cx="7907400" cy="610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16200" y="844560"/>
            <a:ext cx="2376720" cy="172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68560" y="1201680"/>
            <a:ext cx="486000" cy="1008000"/>
          </a:xfrm>
          <a:prstGeom prst="upArrow">
            <a:avLst>
              <a:gd name="adj1" fmla="val 50000"/>
              <a:gd name="adj2" fmla="val 51852"/>
            </a:avLst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108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367164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940360" y="3500280"/>
            <a:ext cx="2664000" cy="27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62240" y="209520"/>
            <a:ext cx="2004840" cy="1009800"/>
          </a:xfrm>
          <a:prstGeom prst="irregularSeal1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cap="rnd" w="93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Baby-b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0767600">
            <a:off x="6423840" y="1203120"/>
            <a:ext cx="486000" cy="1008000"/>
          </a:xfrm>
          <a:prstGeom prst="upArrow">
            <a:avLst>
              <a:gd name="adj1" fmla="val 50000"/>
              <a:gd name="adj2" fmla="val 51852"/>
            </a:avLst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2157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te la demanda hay una gran variabilidad de respuesta a la misma neces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demanda actual significa altos niveles de utilización sin una adecuada relación entre auto-cuidados y preven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variabilidad de la demanda ante una misma necesidad no se corresponde con mejores resultados ante una demanda más 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s variaciones geográficas están más relacionadas con la capacidad asistencial que con la neces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demanda la determina el individuo, aunque también influye la oferta la fuerza comercial de la tecnología y los productos farmacéutic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 regla del rescate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incipal controversia entre el beneficio individual y colectiv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25779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costo de la atención médica en el último año de vida es alto: el 18% del gasto sanitario se realiza en esa eta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n 70% de las personas no desean tratamientos agresivos cuando están muriendo y el 85% expresan su acuerdo para limitar las terapéuticas agresivas en fases termi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allo judicial Dr. Hooft. Agosto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nvejecimiento/Gasto sanitario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l cambio demográfico por sí solo es capaz de explicar una parte bastante pequeña del gasto sanitario (Evans y col. 200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No se encontró relación significativa entre la proporción de población mayor de 65 años en cada país y el gasto sanitario como proporción del PBI (Gruber y Wise. 20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n Estados Unidos hasta el año 2030 el envejecimiento solo será responsable del 6% del crecimiento total del gasto sanitario (Burners y col. 199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l gasto por persona aumenta con la edad. Esto puede tener que ver más con que la probabilidad de muerte aumenta con la edad, que con la edad propiamente di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87120" y="3500280"/>
            <a:ext cx="7164720" cy="580680"/>
            <a:chOff x="87120" y="3500280"/>
            <a:chExt cx="7164720" cy="580680"/>
          </a:xfrm>
        </p:grpSpPr>
        <p:sp>
          <p:nvSpPr>
            <p:cNvPr id="1065" name=""/>
            <p:cNvSpPr/>
            <p:nvPr/>
          </p:nvSpPr>
          <p:spPr>
            <a:xfrm>
              <a:off x="87120" y="35002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Enfoq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52680" y="3500280"/>
              <a:ext cx="160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anten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alu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70240" y="3500280"/>
              <a:ext cx="207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tención Episodi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gu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92720" y="3500280"/>
              <a:ext cx="195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Gestión 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rón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-60120" y="1249200"/>
            <a:ext cx="8952840" cy="1676880"/>
            <a:chOff x="-60120" y="1249200"/>
            <a:chExt cx="8952840" cy="1676880"/>
          </a:xfrm>
        </p:grpSpPr>
        <p:grpSp>
          <p:nvGrpSpPr>
            <p:cNvPr id="1070" name=""/>
            <p:cNvGrpSpPr/>
            <p:nvPr/>
          </p:nvGrpSpPr>
          <p:grpSpPr>
            <a:xfrm>
              <a:off x="1690560" y="1249200"/>
              <a:ext cx="7202160" cy="1267560"/>
              <a:chOff x="1690560" y="1249200"/>
              <a:chExt cx="7202160" cy="126756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8461440" y="1618560"/>
                <a:ext cx="431280" cy="581040"/>
                <a:chOff x="8461440" y="1618560"/>
                <a:chExt cx="431280" cy="58104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8559720" y="1618560"/>
                  <a:ext cx="23400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8461440" y="1799280"/>
                  <a:ext cx="431280" cy="400320"/>
                  <a:chOff x="8461440" y="1799280"/>
                  <a:chExt cx="431280" cy="4003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8535240" y="1799280"/>
                    <a:ext cx="288720" cy="8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8461440" y="1854000"/>
                    <a:ext cx="431280" cy="345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8461440" y="1799280"/>
                    <a:ext cx="806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8811720" y="1799280"/>
                    <a:ext cx="79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8" name=""/>
              <p:cNvGrpSpPr/>
              <p:nvPr/>
            </p:nvGrpSpPr>
            <p:grpSpPr>
              <a:xfrm>
                <a:off x="5875920" y="1619640"/>
                <a:ext cx="369000" cy="528120"/>
                <a:chOff x="5875920" y="1619640"/>
                <a:chExt cx="369000" cy="528120"/>
              </a:xfrm>
            </p:grpSpPr>
            <p:grpSp>
              <p:nvGrpSpPr>
                <p:cNvPr id="1079" name=""/>
                <p:cNvGrpSpPr/>
                <p:nvPr/>
              </p:nvGrpSpPr>
              <p:grpSpPr>
                <a:xfrm>
                  <a:off x="5875920" y="1783800"/>
                  <a:ext cx="369000" cy="363960"/>
                  <a:chOff x="5875920" y="1783800"/>
                  <a:chExt cx="369000" cy="36396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5938920" y="1783800"/>
                    <a:ext cx="24624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5875920" y="1833480"/>
                    <a:ext cx="36900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5875920" y="178380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6174720" y="178380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4" name=""/>
                <p:cNvSpPr/>
                <p:nvPr/>
              </p:nvSpPr>
              <p:spPr>
                <a:xfrm>
                  <a:off x="5959800" y="1619640"/>
                  <a:ext cx="19872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1c38"/>
                    </a:gs>
                    <a:gs pos="50000">
                      <a:srgbClr val="993366"/>
                    </a:gs>
                    <a:gs pos="100000">
                      <a:srgbClr val="551c3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1690560" y="1356120"/>
                <a:ext cx="1045800" cy="1054800"/>
                <a:chOff x="1690560" y="1356120"/>
                <a:chExt cx="1045800" cy="1054800"/>
              </a:xfrm>
            </p:grpSpPr>
            <p:grpSp>
              <p:nvGrpSpPr>
                <p:cNvPr id="1086" name=""/>
                <p:cNvGrpSpPr/>
                <p:nvPr/>
              </p:nvGrpSpPr>
              <p:grpSpPr>
                <a:xfrm>
                  <a:off x="2306520" y="1460880"/>
                  <a:ext cx="429840" cy="633960"/>
                  <a:chOff x="2306520" y="1460880"/>
                  <a:chExt cx="429840" cy="633960"/>
                </a:xfrm>
              </p:grpSpPr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2306520" y="1657440"/>
                    <a:ext cx="429840" cy="437400"/>
                    <a:chOff x="2306520" y="1657440"/>
                    <a:chExt cx="429840" cy="43740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2379600" y="1657440"/>
                      <a:ext cx="287280" cy="94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2306520" y="1719360"/>
                      <a:ext cx="429840" cy="375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2306520" y="1657440"/>
                      <a:ext cx="7848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5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2655000" y="1657440"/>
                      <a:ext cx="7992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1">
                          <a:moveTo>
                            <a:pt x="76" y="90"/>
                          </a:moveTo>
                          <a:cubicBezTo>
                            <a:pt x="76" y="41"/>
                            <a:pt x="42" y="1"/>
                            <a:pt x="1" y="1"/>
                          </a:cubicBezTo>
                          <a:cubicBezTo>
                            <a:pt x="0" y="0"/>
                            <a:pt x="0" y="1"/>
                            <a:pt x="0" y="1"/>
                          </a:cubicBezTo>
                          <a:lnTo>
                            <a:pt x="1" y="91"/>
                          </a:lnTo>
                          <a:lnTo>
                            <a:pt x="76" y="9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2" name=""/>
                  <p:cNvSpPr/>
                  <p:nvPr/>
                </p:nvSpPr>
                <p:spPr>
                  <a:xfrm>
                    <a:off x="2404080" y="1460880"/>
                    <a:ext cx="232920" cy="18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1998360" y="1356120"/>
                  <a:ext cx="428760" cy="676080"/>
                  <a:chOff x="1998360" y="1356120"/>
                  <a:chExt cx="428760" cy="676080"/>
                </a:xfrm>
              </p:grpSpPr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1998360" y="1565640"/>
                    <a:ext cx="428760" cy="466560"/>
                    <a:chOff x="1998360" y="1565640"/>
                    <a:chExt cx="428760" cy="46656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2071440" y="1565640"/>
                      <a:ext cx="287640" cy="100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1998360" y="1631880"/>
                      <a:ext cx="428760" cy="400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1998360" y="1565640"/>
                      <a:ext cx="7992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2346840" y="1566360"/>
                      <a:ext cx="784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9"/>
                          </a:moveTo>
                          <a:cubicBezTo>
                            <a:pt x="75" y="40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>
                    <a:off x="2095920" y="1356120"/>
                    <a:ext cx="233640" cy="1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1690560" y="1460880"/>
                  <a:ext cx="427320" cy="676800"/>
                  <a:chOff x="1690560" y="1460880"/>
                  <a:chExt cx="427320" cy="6768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1787760" y="1460880"/>
                    <a:ext cx="231840" cy="19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1690560" y="1671480"/>
                    <a:ext cx="427320" cy="466200"/>
                    <a:chOff x="1690560" y="1671480"/>
                    <a:chExt cx="427320" cy="46620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1763640" y="1671480"/>
                      <a:ext cx="285840" cy="9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1690560" y="1735200"/>
                      <a:ext cx="427320" cy="402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1690560" y="1671480"/>
                      <a:ext cx="799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39"/>
                            <a:pt x="0" y="88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2037600" y="1671480"/>
                      <a:ext cx="784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8"/>
                          </a:moveTo>
                          <a:cubicBezTo>
                            <a:pt x="75" y="39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1998360" y="1777680"/>
                  <a:ext cx="429840" cy="633240"/>
                  <a:chOff x="1998360" y="1777680"/>
                  <a:chExt cx="429840" cy="63324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2097720" y="1777680"/>
                    <a:ext cx="227880" cy="215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1998360" y="2012040"/>
                    <a:ext cx="429840" cy="398880"/>
                    <a:chOff x="1998360" y="2012040"/>
                    <a:chExt cx="429840" cy="39888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2071440" y="2012040"/>
                      <a:ext cx="282960" cy="109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2000520" y="2085480"/>
                      <a:ext cx="427680" cy="325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1998360" y="2012040"/>
                      <a:ext cx="799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07">
                          <a:moveTo>
                            <a:pt x="93" y="0"/>
                          </a:moveTo>
                          <a:cubicBezTo>
                            <a:pt x="42" y="0"/>
                            <a:pt x="1" y="48"/>
                            <a:pt x="1" y="107"/>
                          </a:cubicBezTo>
                          <a:cubicBezTo>
                            <a:pt x="0" y="107"/>
                            <a:pt x="1" y="107"/>
                            <a:pt x="1" y="107"/>
                          </a:cubicBezTo>
                          <a:lnTo>
                            <a:pt x="94" y="107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2349000" y="2012040"/>
                      <a:ext cx="7884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8">
                          <a:moveTo>
                            <a:pt x="92" y="108"/>
                          </a:moveTo>
                          <a:cubicBezTo>
                            <a:pt x="92" y="107"/>
                            <a:pt x="93" y="107"/>
                            <a:pt x="93" y="107"/>
                          </a:cubicBezTo>
                          <a:cubicBezTo>
                            <a:pt x="93" y="48"/>
                            <a:pt x="51" y="0"/>
                            <a:pt x="0" y="0"/>
                          </a:cubicBezTo>
                          <a:lnTo>
                            <a:pt x="0" y="107"/>
                          </a:lnTo>
                          <a:lnTo>
                            <a:pt x="92" y="10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14" name=""/>
              <p:cNvGrpSpPr/>
              <p:nvPr/>
            </p:nvGrpSpPr>
            <p:grpSpPr>
              <a:xfrm>
                <a:off x="3783240" y="1355040"/>
                <a:ext cx="1045800" cy="1055880"/>
                <a:chOff x="3783240" y="1355040"/>
                <a:chExt cx="1045800" cy="1055880"/>
              </a:xfrm>
            </p:grpSpPr>
            <p:grpSp>
              <p:nvGrpSpPr>
                <p:cNvPr id="1115" name=""/>
                <p:cNvGrpSpPr/>
                <p:nvPr/>
              </p:nvGrpSpPr>
              <p:grpSpPr>
                <a:xfrm>
                  <a:off x="4399200" y="1459800"/>
                  <a:ext cx="429840" cy="633960"/>
                  <a:chOff x="4399200" y="1459800"/>
                  <a:chExt cx="429840" cy="633960"/>
                </a:xfrm>
              </p:grpSpPr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4399200" y="1656360"/>
                    <a:ext cx="429840" cy="437400"/>
                    <a:chOff x="4399200" y="1656360"/>
                    <a:chExt cx="429840" cy="43740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4472280" y="1656360"/>
                      <a:ext cx="287280" cy="94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4399200" y="1718280"/>
                      <a:ext cx="429840" cy="375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4399200" y="1656360"/>
                      <a:ext cx="7848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5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747680" y="1656360"/>
                      <a:ext cx="7992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1">
                          <a:moveTo>
                            <a:pt x="76" y="90"/>
                          </a:moveTo>
                          <a:cubicBezTo>
                            <a:pt x="76" y="41"/>
                            <a:pt x="42" y="1"/>
                            <a:pt x="1" y="1"/>
                          </a:cubicBezTo>
                          <a:cubicBezTo>
                            <a:pt x="0" y="0"/>
                            <a:pt x="0" y="1"/>
                            <a:pt x="0" y="1"/>
                          </a:cubicBezTo>
                          <a:lnTo>
                            <a:pt x="1" y="91"/>
                          </a:lnTo>
                          <a:lnTo>
                            <a:pt x="76" y="9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1" name=""/>
                  <p:cNvSpPr/>
                  <p:nvPr/>
                </p:nvSpPr>
                <p:spPr>
                  <a:xfrm>
                    <a:off x="4496760" y="1459800"/>
                    <a:ext cx="232920" cy="18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4091040" y="1355040"/>
                  <a:ext cx="428760" cy="676440"/>
                  <a:chOff x="4091040" y="1355040"/>
                  <a:chExt cx="428760" cy="676440"/>
                </a:xfrm>
              </p:grpSpPr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4091040" y="1564560"/>
                    <a:ext cx="428760" cy="466920"/>
                    <a:chOff x="4091040" y="1564560"/>
                    <a:chExt cx="428760" cy="466920"/>
                  </a:xfrm>
                </p:grpSpPr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4164120" y="1564560"/>
                      <a:ext cx="287640" cy="101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4091040" y="1630800"/>
                      <a:ext cx="428760" cy="40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4091040" y="1564560"/>
                      <a:ext cx="7992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4439520" y="1565280"/>
                      <a:ext cx="784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9"/>
                          </a:moveTo>
                          <a:cubicBezTo>
                            <a:pt x="75" y="40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8" name=""/>
                  <p:cNvSpPr/>
                  <p:nvPr/>
                </p:nvSpPr>
                <p:spPr>
                  <a:xfrm>
                    <a:off x="4188600" y="1355040"/>
                    <a:ext cx="233640" cy="1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3783240" y="1459800"/>
                  <a:ext cx="427320" cy="676800"/>
                  <a:chOff x="3783240" y="1459800"/>
                  <a:chExt cx="427320" cy="67680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3880440" y="1459800"/>
                    <a:ext cx="231840" cy="19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3783240" y="1670400"/>
                    <a:ext cx="427320" cy="466200"/>
                    <a:chOff x="3783240" y="1670400"/>
                    <a:chExt cx="427320" cy="46620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3856320" y="1670400"/>
                      <a:ext cx="285840" cy="9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3783240" y="1734120"/>
                      <a:ext cx="427320" cy="402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783240" y="1670400"/>
                      <a:ext cx="799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39"/>
                            <a:pt x="0" y="88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4130280" y="1670400"/>
                      <a:ext cx="784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8"/>
                          </a:moveTo>
                          <a:cubicBezTo>
                            <a:pt x="75" y="39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3783240" y="1777680"/>
                  <a:ext cx="429840" cy="633240"/>
                  <a:chOff x="3783240" y="1777680"/>
                  <a:chExt cx="429840" cy="63324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>
                    <a:off x="3882600" y="1777680"/>
                    <a:ext cx="227880" cy="215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3783240" y="2012040"/>
                    <a:ext cx="429840" cy="398880"/>
                    <a:chOff x="3783240" y="2012040"/>
                    <a:chExt cx="429840" cy="39888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3856320" y="2012040"/>
                      <a:ext cx="282960" cy="109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3785400" y="2085480"/>
                      <a:ext cx="427680" cy="325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3783240" y="2012040"/>
                      <a:ext cx="799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07">
                          <a:moveTo>
                            <a:pt x="93" y="0"/>
                          </a:moveTo>
                          <a:cubicBezTo>
                            <a:pt x="42" y="0"/>
                            <a:pt x="1" y="48"/>
                            <a:pt x="1" y="107"/>
                          </a:cubicBezTo>
                          <a:cubicBezTo>
                            <a:pt x="0" y="107"/>
                            <a:pt x="1" y="107"/>
                            <a:pt x="1" y="107"/>
                          </a:cubicBezTo>
                          <a:lnTo>
                            <a:pt x="94" y="107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4133880" y="2012040"/>
                      <a:ext cx="7884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8">
                          <a:moveTo>
                            <a:pt x="92" y="108"/>
                          </a:moveTo>
                          <a:cubicBezTo>
                            <a:pt x="92" y="107"/>
                            <a:pt x="93" y="107"/>
                            <a:pt x="93" y="107"/>
                          </a:cubicBezTo>
                          <a:cubicBezTo>
                            <a:pt x="93" y="48"/>
                            <a:pt x="51" y="0"/>
                            <a:pt x="0" y="0"/>
                          </a:cubicBezTo>
                          <a:lnTo>
                            <a:pt x="0" y="107"/>
                          </a:lnTo>
                          <a:lnTo>
                            <a:pt x="92" y="10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4336560" y="1724040"/>
                  <a:ext cx="431280" cy="685440"/>
                  <a:chOff x="4336560" y="1724040"/>
                  <a:chExt cx="431280" cy="68544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4435920" y="1724040"/>
                    <a:ext cx="230400" cy="23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336560" y="1977120"/>
                    <a:ext cx="431280" cy="432360"/>
                    <a:chOff x="4336560" y="1977120"/>
                    <a:chExt cx="431280" cy="43236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409280" y="1977120"/>
                      <a:ext cx="284400" cy="120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2f00"/>
                        </a:gs>
                        <a:gs pos="50000">
                          <a:srgbClr val="ff6600"/>
                        </a:gs>
                        <a:gs pos="100000">
                          <a:srgbClr val="752f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4337280" y="2058120"/>
                      <a:ext cx="430560" cy="3513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2f00"/>
                        </a:gs>
                        <a:gs pos="50000">
                          <a:srgbClr val="ff6600"/>
                        </a:gs>
                        <a:gs pos="100000">
                          <a:srgbClr val="752f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4336560" y="1977120"/>
                      <a:ext cx="7812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7">
                          <a:moveTo>
                            <a:pt x="92" y="0"/>
                          </a:moveTo>
                          <a:cubicBezTo>
                            <a:pt x="41" y="0"/>
                            <a:pt x="1" y="48"/>
                            <a:pt x="1" y="107"/>
                          </a:cubicBezTo>
                          <a:cubicBezTo>
                            <a:pt x="0" y="107"/>
                            <a:pt x="1" y="107"/>
                            <a:pt x="1" y="107"/>
                          </a:cubicBezTo>
                          <a:lnTo>
                            <a:pt x="93" y="107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2f00"/>
                        </a:gs>
                        <a:gs pos="50000">
                          <a:srgbClr val="ff6600"/>
                        </a:gs>
                        <a:gs pos="100000">
                          <a:srgbClr val="752f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4685400" y="1979280"/>
                      <a:ext cx="79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9">
                          <a:moveTo>
                            <a:pt x="92" y="109"/>
                          </a:moveTo>
                          <a:cubicBezTo>
                            <a:pt x="92" y="108"/>
                            <a:pt x="93" y="108"/>
                            <a:pt x="93" y="108"/>
                          </a:cubicBezTo>
                          <a:cubicBezTo>
                            <a:pt x="93" y="48"/>
                            <a:pt x="51" y="0"/>
                            <a:pt x="0" y="0"/>
                          </a:cubicBezTo>
                          <a:lnTo>
                            <a:pt x="0" y="108"/>
                          </a:lnTo>
                          <a:lnTo>
                            <a:pt x="92" y="10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2f00"/>
                        </a:gs>
                        <a:gs pos="50000">
                          <a:srgbClr val="ff6600"/>
                        </a:gs>
                        <a:gs pos="100000">
                          <a:srgbClr val="752f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50" name=""/>
              <p:cNvGrpSpPr/>
              <p:nvPr/>
            </p:nvGrpSpPr>
            <p:grpSpPr>
              <a:xfrm>
                <a:off x="7291440" y="1672200"/>
                <a:ext cx="431640" cy="581040"/>
                <a:chOff x="7291440" y="1672200"/>
                <a:chExt cx="431640" cy="5810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7389720" y="1672200"/>
                  <a:ext cx="23400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52" name=""/>
                <p:cNvGrpSpPr/>
                <p:nvPr/>
              </p:nvGrpSpPr>
              <p:grpSpPr>
                <a:xfrm>
                  <a:off x="7291440" y="1852920"/>
                  <a:ext cx="431640" cy="400320"/>
                  <a:chOff x="7291440" y="1852920"/>
                  <a:chExt cx="431640" cy="40032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7365240" y="1852920"/>
                    <a:ext cx="288720" cy="8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7291440" y="1907640"/>
                    <a:ext cx="431640" cy="345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3366ff"/>
                      </a:gs>
                      <a:gs pos="100000">
                        <a:srgbClr val="fefefe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291440" y="1852920"/>
                    <a:ext cx="806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7641720" y="1852920"/>
                    <a:ext cx="79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7476120" y="1249200"/>
                <a:ext cx="369000" cy="528120"/>
                <a:chOff x="7476120" y="1249200"/>
                <a:chExt cx="369000" cy="52812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7476120" y="1413360"/>
                  <a:ext cx="369000" cy="363960"/>
                  <a:chOff x="7476120" y="1413360"/>
                  <a:chExt cx="369000" cy="3639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7539120" y="1413360"/>
                    <a:ext cx="24624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476120" y="1463040"/>
                    <a:ext cx="36900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476120" y="141336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74920" y="141336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3" name=""/>
                <p:cNvSpPr/>
                <p:nvPr/>
              </p:nvSpPr>
              <p:spPr>
                <a:xfrm>
                  <a:off x="7560000" y="1249200"/>
                  <a:ext cx="19872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0000"/>
                    </a:gs>
                    <a:gs pos="50000">
                      <a:srgbClr val="ff0000"/>
                    </a:gs>
                    <a:gs pos="100000">
                      <a:srgbClr val="8e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8337600" y="1249200"/>
                <a:ext cx="369000" cy="528120"/>
                <a:chOff x="8337600" y="1249200"/>
                <a:chExt cx="369000" cy="52812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8337600" y="1413360"/>
                  <a:ext cx="369000" cy="363960"/>
                  <a:chOff x="8337600" y="1413360"/>
                  <a:chExt cx="369000" cy="36396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8400600" y="1413360"/>
                    <a:ext cx="24624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8337600" y="1463040"/>
                    <a:ext cx="36900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8337600" y="141336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8636400" y="141336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8421480" y="1249200"/>
                  <a:ext cx="19872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558e"/>
                    </a:gs>
                    <a:gs pos="50000">
                      <a:srgbClr val="cc99ff"/>
                    </a:gs>
                    <a:gs pos="100000">
                      <a:srgbClr val="71558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7906320" y="1249200"/>
                <a:ext cx="430200" cy="634320"/>
                <a:chOff x="7906320" y="1249200"/>
                <a:chExt cx="430200" cy="634320"/>
              </a:xfrm>
            </p:grpSpPr>
            <p:grpSp>
              <p:nvGrpSpPr>
                <p:cNvPr id="1172" name=""/>
                <p:cNvGrpSpPr/>
                <p:nvPr/>
              </p:nvGrpSpPr>
              <p:grpSpPr>
                <a:xfrm>
                  <a:off x="7906320" y="1445760"/>
                  <a:ext cx="430200" cy="437760"/>
                  <a:chOff x="7906320" y="1445760"/>
                  <a:chExt cx="430200" cy="43776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7979400" y="1445760"/>
                    <a:ext cx="287640" cy="94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906320" y="1507680"/>
                    <a:ext cx="430200" cy="375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906320" y="1445760"/>
                    <a:ext cx="78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4" y="0"/>
                        </a:moveTo>
                        <a:cubicBezTo>
                          <a:pt x="33" y="0"/>
                          <a:pt x="0" y="40"/>
                          <a:pt x="0" y="89"/>
                        </a:cubicBezTo>
                        <a:lnTo>
                          <a:pt x="75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8255160" y="1445760"/>
                    <a:ext cx="799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1">
                        <a:moveTo>
                          <a:pt x="76" y="90"/>
                        </a:moveTo>
                        <a:cubicBezTo>
                          <a:pt x="76" y="41"/>
                          <a:pt x="42" y="1"/>
                          <a:pt x="1" y="1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lnTo>
                          <a:pt x="1" y="91"/>
                        </a:lnTo>
                        <a:lnTo>
                          <a:pt x="76" y="9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"/>
                <p:cNvSpPr/>
                <p:nvPr/>
              </p:nvSpPr>
              <p:spPr>
                <a:xfrm>
                  <a:off x="8003880" y="1249200"/>
                  <a:ext cx="233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968600" y="1672200"/>
                <a:ext cx="369000" cy="528120"/>
                <a:chOff x="7968600" y="1672200"/>
                <a:chExt cx="369000" cy="528120"/>
              </a:xfrm>
            </p:grpSpPr>
            <p:grpSp>
              <p:nvGrpSpPr>
                <p:cNvPr id="1179" name=""/>
                <p:cNvGrpSpPr/>
                <p:nvPr/>
              </p:nvGrpSpPr>
              <p:grpSpPr>
                <a:xfrm>
                  <a:off x="7968600" y="1836360"/>
                  <a:ext cx="369000" cy="363960"/>
                  <a:chOff x="7968600" y="1836360"/>
                  <a:chExt cx="369000" cy="36396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8031600" y="1836360"/>
                    <a:ext cx="24624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968600" y="1886040"/>
                    <a:ext cx="36900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968600" y="183636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8267400" y="183636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"/>
                <p:cNvSpPr/>
                <p:nvPr/>
              </p:nvSpPr>
              <p:spPr>
                <a:xfrm>
                  <a:off x="8052480" y="1672200"/>
                  <a:ext cx="19872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1c38"/>
                    </a:gs>
                    <a:gs pos="50000">
                      <a:srgbClr val="993366"/>
                    </a:gs>
                    <a:gs pos="100000">
                      <a:srgbClr val="551c3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8214480" y="1513440"/>
                <a:ext cx="430920" cy="685440"/>
                <a:chOff x="8214480" y="1513440"/>
                <a:chExt cx="430920" cy="68544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8313480" y="1513440"/>
                  <a:ext cx="230400" cy="23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2f00"/>
                    </a:gs>
                    <a:gs pos="50000">
                      <a:srgbClr val="ff6600"/>
                    </a:gs>
                    <a:gs pos="100000">
                      <a:srgbClr val="752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7" name=""/>
                <p:cNvGrpSpPr/>
                <p:nvPr/>
              </p:nvGrpSpPr>
              <p:grpSpPr>
                <a:xfrm>
                  <a:off x="8214480" y="1766520"/>
                  <a:ext cx="430920" cy="432360"/>
                  <a:chOff x="8214480" y="1766520"/>
                  <a:chExt cx="430920" cy="43236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8287200" y="1766520"/>
                    <a:ext cx="284400" cy="12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8215200" y="1847520"/>
                    <a:ext cx="430200" cy="351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8214480" y="1766520"/>
                    <a:ext cx="78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7">
                        <a:moveTo>
                          <a:pt x="92" y="0"/>
                        </a:moveTo>
                        <a:cubicBezTo>
                          <a:pt x="41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3" y="107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8562960" y="176868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9">
                        <a:moveTo>
                          <a:pt x="92" y="109"/>
                        </a:moveTo>
                        <a:cubicBezTo>
                          <a:pt x="92" y="108"/>
                          <a:pt x="93" y="108"/>
                          <a:pt x="93" y="108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8"/>
                        </a:lnTo>
                        <a:lnTo>
                          <a:pt x="92" y="10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7599600" y="1513440"/>
                <a:ext cx="430200" cy="633240"/>
                <a:chOff x="7599600" y="1513440"/>
                <a:chExt cx="430200" cy="6332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7699320" y="1513440"/>
                  <a:ext cx="22788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0075"/>
                    </a:gs>
                    <a:gs pos="50000">
                      <a:srgbClr val="ff00ff"/>
                    </a:gs>
                    <a:gs pos="100000">
                      <a:srgbClr val="7500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7599600" y="1747800"/>
                  <a:ext cx="430200" cy="398880"/>
                  <a:chOff x="7599600" y="1747800"/>
                  <a:chExt cx="430200" cy="3988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7672680" y="1747800"/>
                    <a:ext cx="282960" cy="10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601760" y="1821240"/>
                    <a:ext cx="428040" cy="325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599600" y="1747800"/>
                    <a:ext cx="799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07">
                        <a:moveTo>
                          <a:pt x="93" y="0"/>
                        </a:moveTo>
                        <a:cubicBezTo>
                          <a:pt x="42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4" y="107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950600" y="1747800"/>
                    <a:ext cx="788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8">
                        <a:moveTo>
                          <a:pt x="92" y="108"/>
                        </a:moveTo>
                        <a:cubicBezTo>
                          <a:pt x="92" y="107"/>
                          <a:pt x="93" y="107"/>
                          <a:pt x="93" y="107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7"/>
                        </a:lnTo>
                        <a:lnTo>
                          <a:pt x="92" y="1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7845480" y="1988640"/>
                <a:ext cx="431280" cy="527040"/>
                <a:chOff x="7845480" y="1988640"/>
                <a:chExt cx="431280" cy="52704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7845480" y="2152080"/>
                  <a:ext cx="431280" cy="363600"/>
                  <a:chOff x="7845480" y="2152080"/>
                  <a:chExt cx="431280" cy="36360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7918920" y="2152080"/>
                    <a:ext cx="289440" cy="78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845480" y="2203560"/>
                    <a:ext cx="431280" cy="31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845480" y="2152080"/>
                    <a:ext cx="80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40"/>
                          <a:pt x="0" y="89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8196120" y="2152800"/>
                    <a:ext cx="79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9"/>
                        </a:moveTo>
                        <a:cubicBezTo>
                          <a:pt x="75" y="40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7943400" y="1988640"/>
                  <a:ext cx="23472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8214480" y="1988640"/>
                <a:ext cx="431280" cy="527760"/>
                <a:chOff x="8214480" y="1988640"/>
                <a:chExt cx="431280" cy="5277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8312760" y="1988640"/>
                  <a:ext cx="2340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8" name=""/>
                <p:cNvGrpSpPr/>
                <p:nvPr/>
              </p:nvGrpSpPr>
              <p:grpSpPr>
                <a:xfrm>
                  <a:off x="8214480" y="2152800"/>
                  <a:ext cx="431280" cy="363600"/>
                  <a:chOff x="8214480" y="2152800"/>
                  <a:chExt cx="431280" cy="36360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8288280" y="2152800"/>
                    <a:ext cx="28872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8214480" y="2202480"/>
                    <a:ext cx="431280" cy="31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8214480" y="2152800"/>
                    <a:ext cx="8064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8564760" y="2152800"/>
                    <a:ext cx="79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3" name=""/>
              <p:cNvGrpSpPr/>
              <p:nvPr/>
            </p:nvGrpSpPr>
            <p:grpSpPr>
              <a:xfrm>
                <a:off x="7537320" y="1988640"/>
                <a:ext cx="369000" cy="528120"/>
                <a:chOff x="7537320" y="1988640"/>
                <a:chExt cx="369000" cy="528120"/>
              </a:xfrm>
            </p:grpSpPr>
            <p:grpSp>
              <p:nvGrpSpPr>
                <p:cNvPr id="1214" name=""/>
                <p:cNvGrpSpPr/>
                <p:nvPr/>
              </p:nvGrpSpPr>
              <p:grpSpPr>
                <a:xfrm>
                  <a:off x="7537320" y="2152800"/>
                  <a:ext cx="369000" cy="363960"/>
                  <a:chOff x="7537320" y="2152800"/>
                  <a:chExt cx="369000" cy="36396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600320" y="2152800"/>
                    <a:ext cx="24624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537320" y="2202480"/>
                    <a:ext cx="36900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7537320" y="215280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7836120" y="215280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7621200" y="1988640"/>
                  <a:ext cx="19872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4747"/>
                    </a:gs>
                    <a:gs pos="50000">
                      <a:srgbClr val="808080"/>
                    </a:gs>
                    <a:gs pos="100000">
                      <a:srgbClr val="47474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"/>
              <p:cNvSpPr/>
              <p:nvPr/>
            </p:nvSpPr>
            <p:spPr>
              <a:xfrm>
                <a:off x="6616800" y="17780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-60120" y="191628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Pobla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91700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4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932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01112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5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-9000" y="4581360"/>
            <a:ext cx="8901360" cy="1891440"/>
            <a:chOff x="-9000" y="4581360"/>
            <a:chExt cx="8901360" cy="1891440"/>
          </a:xfrm>
        </p:grpSpPr>
        <p:grpSp>
          <p:nvGrpSpPr>
            <p:cNvPr id="1226" name=""/>
            <p:cNvGrpSpPr/>
            <p:nvPr/>
          </p:nvGrpSpPr>
          <p:grpSpPr>
            <a:xfrm>
              <a:off x="1763640" y="4581360"/>
              <a:ext cx="7128720" cy="1852560"/>
              <a:chOff x="1763640" y="4581360"/>
              <a:chExt cx="7128720" cy="1852560"/>
            </a:xfrm>
          </p:grpSpPr>
          <p:pic>
            <p:nvPicPr>
              <p:cNvPr id="1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5313600"/>
                <a:ext cx="1018800" cy="389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8" name=""/>
              <p:cNvGrpSpPr/>
              <p:nvPr/>
            </p:nvGrpSpPr>
            <p:grpSpPr>
              <a:xfrm>
                <a:off x="3798000" y="4977720"/>
                <a:ext cx="1019520" cy="1060200"/>
                <a:chOff x="3798000" y="4977720"/>
                <a:chExt cx="1019520" cy="1060200"/>
              </a:xfrm>
            </p:grpSpPr>
            <p:pic>
              <p:nvPicPr>
                <p:cNvPr id="12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798000" y="564876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98000" y="549288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8000" y="531684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99440" y="5147280"/>
                  <a:ext cx="1018080" cy="388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98000" y="497772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4" name=""/>
              <p:cNvGrpSpPr/>
              <p:nvPr/>
            </p:nvGrpSpPr>
            <p:grpSpPr>
              <a:xfrm>
                <a:off x="5834160" y="5062680"/>
                <a:ext cx="1019520" cy="890640"/>
                <a:chOff x="5834160" y="5062680"/>
                <a:chExt cx="1019520" cy="890640"/>
              </a:xfrm>
            </p:grpSpPr>
            <p:pic>
              <p:nvPicPr>
                <p:cNvPr id="123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834160" y="556416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834160" y="5408280"/>
                  <a:ext cx="1018440" cy="388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34160" y="523224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35600" y="5062680"/>
                  <a:ext cx="101808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9" name=""/>
              <p:cNvGrpSpPr/>
              <p:nvPr/>
            </p:nvGrpSpPr>
            <p:grpSpPr>
              <a:xfrm>
                <a:off x="7871400" y="4581360"/>
                <a:ext cx="1020960" cy="1852560"/>
                <a:chOff x="7871400" y="4581360"/>
                <a:chExt cx="1020960" cy="1852560"/>
              </a:xfrm>
            </p:grpSpPr>
            <p:pic>
              <p:nvPicPr>
                <p:cNvPr id="124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72480" y="6044760"/>
                  <a:ext cx="101880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72480" y="5888880"/>
                  <a:ext cx="101880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872480" y="5712840"/>
                  <a:ext cx="101880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873920" y="554328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872480" y="5373360"/>
                  <a:ext cx="101880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871400" y="525276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871400" y="509652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71400" y="492084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872480" y="4750920"/>
                  <a:ext cx="101880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871400" y="4581360"/>
                  <a:ext cx="1018440" cy="389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50" name=""/>
              <p:cNvSpPr/>
              <p:nvPr/>
            </p:nvSpPr>
            <p:spPr>
              <a:xfrm>
                <a:off x="7111800" y="520380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-9000" y="509760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Gasto e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Salu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2100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4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93948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5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0296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398880" y="270000"/>
            <a:ext cx="80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ómo se utilizan hoy en día los recurs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" name=""/>
          <p:cNvGrpSpPr/>
          <p:nvPr/>
        </p:nvGrpSpPr>
        <p:grpSpPr>
          <a:xfrm>
            <a:off x="87120" y="3500280"/>
            <a:ext cx="7164720" cy="580680"/>
            <a:chOff x="87120" y="3500280"/>
            <a:chExt cx="7164720" cy="580680"/>
          </a:xfrm>
        </p:grpSpPr>
        <p:sp>
          <p:nvSpPr>
            <p:cNvPr id="1257" name=""/>
            <p:cNvSpPr/>
            <p:nvPr/>
          </p:nvSpPr>
          <p:spPr>
            <a:xfrm>
              <a:off x="87120" y="35002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Enfoq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552680" y="3500280"/>
              <a:ext cx="160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anten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alu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81400" y="3500280"/>
              <a:ext cx="204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tención episodi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gu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92720" y="3500280"/>
              <a:ext cx="195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Gestión 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rón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0" y="270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ómo deberían utilizarse los recursos en el futur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-60120" y="1249200"/>
            <a:ext cx="8951760" cy="1676880"/>
            <a:chOff x="-60120" y="1249200"/>
            <a:chExt cx="8951760" cy="1676880"/>
          </a:xfrm>
        </p:grpSpPr>
        <p:sp>
          <p:nvSpPr>
            <p:cNvPr id="1263" name=""/>
            <p:cNvSpPr/>
            <p:nvPr/>
          </p:nvSpPr>
          <p:spPr>
            <a:xfrm>
              <a:off x="-60120" y="16160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Pobla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91700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6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1932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11120" y="2527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3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1690560" y="1249200"/>
              <a:ext cx="7201080" cy="1267920"/>
              <a:chOff x="1690560" y="1249200"/>
              <a:chExt cx="7201080" cy="1267920"/>
            </a:xfrm>
          </p:grpSpPr>
          <p:grpSp>
            <p:nvGrpSpPr>
              <p:cNvPr id="1268" name=""/>
              <p:cNvGrpSpPr/>
              <p:nvPr/>
            </p:nvGrpSpPr>
            <p:grpSpPr>
              <a:xfrm>
                <a:off x="8459640" y="1628640"/>
                <a:ext cx="432000" cy="581040"/>
                <a:chOff x="8459640" y="1628640"/>
                <a:chExt cx="432000" cy="5810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8557920" y="1628640"/>
                  <a:ext cx="23436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0" name=""/>
                <p:cNvGrpSpPr/>
                <p:nvPr/>
              </p:nvGrpSpPr>
              <p:grpSpPr>
                <a:xfrm>
                  <a:off x="8459640" y="1809360"/>
                  <a:ext cx="432000" cy="400320"/>
                  <a:chOff x="8459640" y="1809360"/>
                  <a:chExt cx="432000" cy="40032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8533440" y="1809360"/>
                    <a:ext cx="289080" cy="8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8459640" y="1864080"/>
                    <a:ext cx="432000" cy="345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c9fcb"/>
                      </a:gs>
                      <a:gs pos="50000">
                        <a:srgbClr val="f8b049"/>
                      </a:gs>
                      <a:gs pos="100000">
                        <a:srgbClr val="fc9f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8459640" y="1809360"/>
                    <a:ext cx="806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8810280" y="1809360"/>
                    <a:ext cx="79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"/>
              <p:cNvGrpSpPr/>
              <p:nvPr/>
            </p:nvGrpSpPr>
            <p:grpSpPr>
              <a:xfrm>
                <a:off x="5877000" y="1619280"/>
                <a:ext cx="368280" cy="527760"/>
                <a:chOff x="5877000" y="1619280"/>
                <a:chExt cx="368280" cy="527760"/>
              </a:xfrm>
            </p:grpSpPr>
            <p:grpSp>
              <p:nvGrpSpPr>
                <p:cNvPr id="1276" name=""/>
                <p:cNvGrpSpPr/>
                <p:nvPr/>
              </p:nvGrpSpPr>
              <p:grpSpPr>
                <a:xfrm>
                  <a:off x="5877000" y="1783440"/>
                  <a:ext cx="368280" cy="363600"/>
                  <a:chOff x="5877000" y="1783440"/>
                  <a:chExt cx="368280" cy="3636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939640" y="1783440"/>
                    <a:ext cx="24588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877000" y="1833120"/>
                    <a:ext cx="368280" cy="31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877000" y="1783440"/>
                    <a:ext cx="67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6175440" y="178344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1" name=""/>
                <p:cNvSpPr/>
                <p:nvPr/>
              </p:nvSpPr>
              <p:spPr>
                <a:xfrm>
                  <a:off x="5960520" y="1619280"/>
                  <a:ext cx="19800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1c38"/>
                    </a:gs>
                    <a:gs pos="50000">
                      <a:srgbClr val="993366"/>
                    </a:gs>
                    <a:gs pos="100000">
                      <a:srgbClr val="551c3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1690560" y="1357200"/>
                <a:ext cx="1045800" cy="1053720"/>
                <a:chOff x="1690560" y="1357200"/>
                <a:chExt cx="1045800" cy="1053720"/>
              </a:xfrm>
            </p:grpSpPr>
            <p:grpSp>
              <p:nvGrpSpPr>
                <p:cNvPr id="1283" name=""/>
                <p:cNvGrpSpPr/>
                <p:nvPr/>
              </p:nvGrpSpPr>
              <p:grpSpPr>
                <a:xfrm>
                  <a:off x="2306520" y="1461600"/>
                  <a:ext cx="429840" cy="633240"/>
                  <a:chOff x="2306520" y="1461600"/>
                  <a:chExt cx="429840" cy="633240"/>
                </a:xfrm>
              </p:grpSpPr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2306520" y="1657800"/>
                    <a:ext cx="429840" cy="437040"/>
                    <a:chOff x="2306520" y="1657800"/>
                    <a:chExt cx="429840" cy="43704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2379600" y="1657800"/>
                      <a:ext cx="287280" cy="94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2306520" y="1719720"/>
                      <a:ext cx="429840" cy="375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2306520" y="1657800"/>
                      <a:ext cx="7848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5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2655000" y="1657800"/>
                      <a:ext cx="7992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1">
                          <a:moveTo>
                            <a:pt x="76" y="90"/>
                          </a:moveTo>
                          <a:cubicBezTo>
                            <a:pt x="76" y="41"/>
                            <a:pt x="42" y="1"/>
                            <a:pt x="1" y="1"/>
                          </a:cubicBezTo>
                          <a:cubicBezTo>
                            <a:pt x="0" y="0"/>
                            <a:pt x="0" y="1"/>
                            <a:pt x="0" y="1"/>
                          </a:cubicBezTo>
                          <a:lnTo>
                            <a:pt x="1" y="91"/>
                          </a:lnTo>
                          <a:lnTo>
                            <a:pt x="76" y="9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9" name=""/>
                  <p:cNvSpPr/>
                  <p:nvPr/>
                </p:nvSpPr>
                <p:spPr>
                  <a:xfrm>
                    <a:off x="2404080" y="1461600"/>
                    <a:ext cx="232920" cy="18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1998360" y="1357200"/>
                  <a:ext cx="428760" cy="675000"/>
                  <a:chOff x="1998360" y="1357200"/>
                  <a:chExt cx="428760" cy="675000"/>
                </a:xfrm>
              </p:grpSpPr>
              <p:grpSp>
                <p:nvGrpSpPr>
                  <p:cNvPr id="1291" name=""/>
                  <p:cNvGrpSpPr/>
                  <p:nvPr/>
                </p:nvGrpSpPr>
                <p:grpSpPr>
                  <a:xfrm>
                    <a:off x="1998360" y="1566360"/>
                    <a:ext cx="428760" cy="465840"/>
                    <a:chOff x="1998360" y="1566360"/>
                    <a:chExt cx="428760" cy="465840"/>
                  </a:xfrm>
                </p:grpSpPr>
                <p:sp>
                  <p:nvSpPr>
                    <p:cNvPr id="1292" name=""/>
                    <p:cNvSpPr/>
                    <p:nvPr/>
                  </p:nvSpPr>
                  <p:spPr>
                    <a:xfrm>
                      <a:off x="2071440" y="1566360"/>
                      <a:ext cx="287640" cy="100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1998360" y="1632240"/>
                      <a:ext cx="428760" cy="39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1998360" y="1566360"/>
                      <a:ext cx="7992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40"/>
                            <a:pt x="0" y="89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2346840" y="1567080"/>
                      <a:ext cx="784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9"/>
                          </a:moveTo>
                          <a:cubicBezTo>
                            <a:pt x="75" y="40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6" name=""/>
                  <p:cNvSpPr/>
                  <p:nvPr/>
                </p:nvSpPr>
                <p:spPr>
                  <a:xfrm>
                    <a:off x="2095920" y="1357200"/>
                    <a:ext cx="233640" cy="1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1690560" y="1461600"/>
                  <a:ext cx="427320" cy="676080"/>
                  <a:chOff x="1690560" y="1461600"/>
                  <a:chExt cx="427320" cy="67608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1787760" y="1461600"/>
                    <a:ext cx="231840" cy="19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1690560" y="1671840"/>
                    <a:ext cx="427320" cy="465840"/>
                    <a:chOff x="1690560" y="1671840"/>
                    <a:chExt cx="427320" cy="46584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1763640" y="1671840"/>
                      <a:ext cx="285840" cy="9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1690560" y="1735560"/>
                      <a:ext cx="427320" cy="402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1690560" y="1671840"/>
                      <a:ext cx="799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90">
                          <a:moveTo>
                            <a:pt x="74" y="0"/>
                          </a:moveTo>
                          <a:cubicBezTo>
                            <a:pt x="33" y="0"/>
                            <a:pt x="0" y="39"/>
                            <a:pt x="0" y="88"/>
                          </a:cubicBezTo>
                          <a:lnTo>
                            <a:pt x="76" y="9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2037600" y="1671840"/>
                      <a:ext cx="784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0">
                          <a:moveTo>
                            <a:pt x="75" y="88"/>
                          </a:moveTo>
                          <a:cubicBezTo>
                            <a:pt x="75" y="39"/>
                            <a:pt x="42" y="0"/>
                            <a:pt x="0" y="0"/>
                          </a:cubicBezTo>
                          <a:lnTo>
                            <a:pt x="1" y="90"/>
                          </a:lnTo>
                          <a:lnTo>
                            <a:pt x="75" y="8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1998360" y="1778040"/>
                  <a:ext cx="429840" cy="632880"/>
                  <a:chOff x="1998360" y="1778040"/>
                  <a:chExt cx="429840" cy="63288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097720" y="1778040"/>
                    <a:ext cx="227880" cy="215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1998360" y="2012400"/>
                    <a:ext cx="429840" cy="398520"/>
                    <a:chOff x="1998360" y="2012400"/>
                    <a:chExt cx="429840" cy="39852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>
                      <a:off x="2071440" y="2012400"/>
                      <a:ext cx="282960" cy="1094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>
                      <a:off x="2000520" y="2085840"/>
                      <a:ext cx="427680" cy="3250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1998360" y="2012400"/>
                      <a:ext cx="799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07">
                          <a:moveTo>
                            <a:pt x="93" y="0"/>
                          </a:moveTo>
                          <a:cubicBezTo>
                            <a:pt x="42" y="0"/>
                            <a:pt x="1" y="48"/>
                            <a:pt x="1" y="107"/>
                          </a:cubicBezTo>
                          <a:cubicBezTo>
                            <a:pt x="0" y="107"/>
                            <a:pt x="1" y="107"/>
                            <a:pt x="1" y="107"/>
                          </a:cubicBezTo>
                          <a:lnTo>
                            <a:pt x="94" y="107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2349000" y="2012400"/>
                      <a:ext cx="7884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8">
                          <a:moveTo>
                            <a:pt x="92" y="108"/>
                          </a:moveTo>
                          <a:cubicBezTo>
                            <a:pt x="92" y="107"/>
                            <a:pt x="93" y="107"/>
                            <a:pt x="93" y="107"/>
                          </a:cubicBezTo>
                          <a:cubicBezTo>
                            <a:pt x="93" y="48"/>
                            <a:pt x="51" y="0"/>
                            <a:pt x="0" y="0"/>
                          </a:cubicBezTo>
                          <a:lnTo>
                            <a:pt x="0" y="107"/>
                          </a:lnTo>
                          <a:lnTo>
                            <a:pt x="92" y="10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0075"/>
                        </a:gs>
                        <a:gs pos="50000">
                          <a:srgbClr val="ff00ff"/>
                        </a:gs>
                        <a:gs pos="100000">
                          <a:srgbClr val="75007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11" name=""/>
              <p:cNvGrpSpPr/>
              <p:nvPr/>
            </p:nvGrpSpPr>
            <p:grpSpPr>
              <a:xfrm>
                <a:off x="4398840" y="1460520"/>
                <a:ext cx="430200" cy="634320"/>
                <a:chOff x="4398840" y="1460520"/>
                <a:chExt cx="430200" cy="63432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4398840" y="1657080"/>
                  <a:ext cx="430200" cy="437760"/>
                  <a:chOff x="4398840" y="1657080"/>
                  <a:chExt cx="430200" cy="4377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4471920" y="1657080"/>
                    <a:ext cx="287640" cy="94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4398840" y="1719000"/>
                    <a:ext cx="430200" cy="375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4398840" y="1657080"/>
                    <a:ext cx="78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4" y="0"/>
                        </a:moveTo>
                        <a:cubicBezTo>
                          <a:pt x="33" y="0"/>
                          <a:pt x="0" y="40"/>
                          <a:pt x="0" y="89"/>
                        </a:cubicBezTo>
                        <a:lnTo>
                          <a:pt x="75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747680" y="1657080"/>
                    <a:ext cx="799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1">
                        <a:moveTo>
                          <a:pt x="76" y="90"/>
                        </a:moveTo>
                        <a:cubicBezTo>
                          <a:pt x="76" y="41"/>
                          <a:pt x="42" y="1"/>
                          <a:pt x="1" y="1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lnTo>
                          <a:pt x="1" y="91"/>
                        </a:lnTo>
                        <a:lnTo>
                          <a:pt x="76" y="9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7" name=""/>
                <p:cNvSpPr/>
                <p:nvPr/>
              </p:nvSpPr>
              <p:spPr>
                <a:xfrm>
                  <a:off x="4496400" y="1460520"/>
                  <a:ext cx="233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782880" y="1460520"/>
                <a:ext cx="427320" cy="677160"/>
                <a:chOff x="3782880" y="1460520"/>
                <a:chExt cx="427320" cy="6771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880080" y="1460520"/>
                  <a:ext cx="23184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3782880" y="1671120"/>
                  <a:ext cx="427320" cy="466560"/>
                  <a:chOff x="3782880" y="1671120"/>
                  <a:chExt cx="427320" cy="4665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3855960" y="1671120"/>
                    <a:ext cx="285840" cy="99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782880" y="1734840"/>
                    <a:ext cx="427320" cy="402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3782880" y="1671120"/>
                    <a:ext cx="799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129920" y="1671120"/>
                    <a:ext cx="78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3782880" y="1778040"/>
                <a:ext cx="430200" cy="632880"/>
                <a:chOff x="3782880" y="1778040"/>
                <a:chExt cx="430200" cy="6328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3882600" y="1778040"/>
                  <a:ext cx="22788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0075"/>
                    </a:gs>
                    <a:gs pos="50000">
                      <a:srgbClr val="ff00ff"/>
                    </a:gs>
                    <a:gs pos="100000">
                      <a:srgbClr val="7500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3782880" y="2012400"/>
                  <a:ext cx="430200" cy="398520"/>
                  <a:chOff x="3782880" y="2012400"/>
                  <a:chExt cx="430200" cy="3985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855960" y="2012400"/>
                    <a:ext cx="282960" cy="109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3785040" y="2085840"/>
                    <a:ext cx="428040" cy="325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3782880" y="2012400"/>
                    <a:ext cx="799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07">
                        <a:moveTo>
                          <a:pt x="93" y="0"/>
                        </a:moveTo>
                        <a:cubicBezTo>
                          <a:pt x="42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4" y="107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133880" y="2012400"/>
                    <a:ext cx="788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8">
                        <a:moveTo>
                          <a:pt x="92" y="108"/>
                        </a:moveTo>
                        <a:cubicBezTo>
                          <a:pt x="92" y="107"/>
                          <a:pt x="93" y="107"/>
                          <a:pt x="93" y="107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7"/>
                        </a:lnTo>
                        <a:lnTo>
                          <a:pt x="92" y="1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2" name=""/>
              <p:cNvGrpSpPr/>
              <p:nvPr/>
            </p:nvGrpSpPr>
            <p:grpSpPr>
              <a:xfrm>
                <a:off x="4336920" y="1724040"/>
                <a:ext cx="431640" cy="685440"/>
                <a:chOff x="4336920" y="1724040"/>
                <a:chExt cx="431640" cy="68544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4436280" y="1724040"/>
                  <a:ext cx="2307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2f00"/>
                    </a:gs>
                    <a:gs pos="50000">
                      <a:srgbClr val="ff6600"/>
                    </a:gs>
                    <a:gs pos="100000">
                      <a:srgbClr val="752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4336920" y="1977120"/>
                  <a:ext cx="431640" cy="432360"/>
                  <a:chOff x="4336920" y="1977120"/>
                  <a:chExt cx="431640" cy="43236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4409640" y="1977120"/>
                    <a:ext cx="284760" cy="12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4337640" y="2058120"/>
                    <a:ext cx="430920" cy="351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336920" y="1977120"/>
                    <a:ext cx="78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7">
                        <a:moveTo>
                          <a:pt x="92" y="0"/>
                        </a:moveTo>
                        <a:cubicBezTo>
                          <a:pt x="41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3" y="107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685760" y="197928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9">
                        <a:moveTo>
                          <a:pt x="92" y="109"/>
                        </a:moveTo>
                        <a:cubicBezTo>
                          <a:pt x="92" y="108"/>
                          <a:pt x="93" y="108"/>
                          <a:pt x="93" y="108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8"/>
                        </a:lnTo>
                        <a:lnTo>
                          <a:pt x="92" y="10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9" name=""/>
              <p:cNvGrpSpPr/>
              <p:nvPr/>
            </p:nvGrpSpPr>
            <p:grpSpPr>
              <a:xfrm>
                <a:off x="7291440" y="1671480"/>
                <a:ext cx="431640" cy="581040"/>
                <a:chOff x="7291440" y="1671480"/>
                <a:chExt cx="431640" cy="5810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7389720" y="1671480"/>
                  <a:ext cx="23400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1" name=""/>
                <p:cNvGrpSpPr/>
                <p:nvPr/>
              </p:nvGrpSpPr>
              <p:grpSpPr>
                <a:xfrm>
                  <a:off x="7291440" y="1852200"/>
                  <a:ext cx="431640" cy="400320"/>
                  <a:chOff x="7291440" y="1852200"/>
                  <a:chExt cx="431640" cy="40032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7365240" y="1852200"/>
                    <a:ext cx="288720" cy="8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7291440" y="1906920"/>
                    <a:ext cx="431640" cy="345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3366ff"/>
                      </a:gs>
                      <a:gs pos="100000">
                        <a:srgbClr val="fefefe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291440" y="1852200"/>
                    <a:ext cx="806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7641720" y="1852200"/>
                    <a:ext cx="79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7475400" y="1249200"/>
                <a:ext cx="370080" cy="528120"/>
                <a:chOff x="7475400" y="1249200"/>
                <a:chExt cx="370080" cy="52812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7475400" y="1413360"/>
                  <a:ext cx="370080" cy="363960"/>
                  <a:chOff x="7475400" y="1413360"/>
                  <a:chExt cx="370080" cy="36396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>
                    <a:off x="7538400" y="1413360"/>
                    <a:ext cx="24696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7475400" y="1463040"/>
                    <a:ext cx="37008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7475400" y="1413360"/>
                    <a:ext cx="676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775280" y="1413360"/>
                    <a:ext cx="676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e0000"/>
                      </a:gs>
                      <a:gs pos="50000">
                        <a:srgbClr val="ff0000"/>
                      </a:gs>
                      <a:gs pos="100000">
                        <a:srgbClr val="8e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7559280" y="1249200"/>
                  <a:ext cx="19908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0000"/>
                    </a:gs>
                    <a:gs pos="50000">
                      <a:srgbClr val="ff0000"/>
                    </a:gs>
                    <a:gs pos="100000">
                      <a:srgbClr val="8e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8337600" y="1249200"/>
                <a:ext cx="369720" cy="528120"/>
                <a:chOff x="8337600" y="1249200"/>
                <a:chExt cx="369720" cy="528120"/>
              </a:xfrm>
            </p:grpSpPr>
            <p:grpSp>
              <p:nvGrpSpPr>
                <p:cNvPr id="1354" name=""/>
                <p:cNvGrpSpPr/>
                <p:nvPr/>
              </p:nvGrpSpPr>
              <p:grpSpPr>
                <a:xfrm>
                  <a:off x="8337600" y="1413360"/>
                  <a:ext cx="369720" cy="363960"/>
                  <a:chOff x="8337600" y="1413360"/>
                  <a:chExt cx="369720" cy="363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8400600" y="1413360"/>
                    <a:ext cx="24660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8337600" y="1463040"/>
                    <a:ext cx="36972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8337600" y="1413360"/>
                    <a:ext cx="676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637120" y="1413360"/>
                    <a:ext cx="676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558e"/>
                      </a:gs>
                      <a:gs pos="50000">
                        <a:srgbClr val="cc99ff"/>
                      </a:gs>
                      <a:gs pos="100000">
                        <a:srgbClr val="71558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8421480" y="1249200"/>
                  <a:ext cx="19908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558e"/>
                    </a:gs>
                    <a:gs pos="50000">
                      <a:srgbClr val="cc99ff"/>
                    </a:gs>
                    <a:gs pos="100000">
                      <a:srgbClr val="71558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"/>
              <p:cNvGrpSpPr/>
              <p:nvPr/>
            </p:nvGrpSpPr>
            <p:grpSpPr>
              <a:xfrm>
                <a:off x="7905600" y="1249200"/>
                <a:ext cx="430200" cy="634320"/>
                <a:chOff x="7905600" y="1249200"/>
                <a:chExt cx="430200" cy="634320"/>
              </a:xfrm>
            </p:grpSpPr>
            <p:grpSp>
              <p:nvGrpSpPr>
                <p:cNvPr id="1361" name=""/>
                <p:cNvGrpSpPr/>
                <p:nvPr/>
              </p:nvGrpSpPr>
              <p:grpSpPr>
                <a:xfrm>
                  <a:off x="7905600" y="1445760"/>
                  <a:ext cx="430200" cy="437760"/>
                  <a:chOff x="7905600" y="1445760"/>
                  <a:chExt cx="430200" cy="43776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7978680" y="1445760"/>
                    <a:ext cx="287640" cy="94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7905600" y="1507680"/>
                    <a:ext cx="430200" cy="375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7905600" y="1445760"/>
                    <a:ext cx="78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4" y="0"/>
                        </a:moveTo>
                        <a:cubicBezTo>
                          <a:pt x="33" y="0"/>
                          <a:pt x="0" y="40"/>
                          <a:pt x="0" y="89"/>
                        </a:cubicBezTo>
                        <a:lnTo>
                          <a:pt x="75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8254440" y="1445760"/>
                    <a:ext cx="799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1">
                        <a:moveTo>
                          <a:pt x="76" y="90"/>
                        </a:moveTo>
                        <a:cubicBezTo>
                          <a:pt x="76" y="41"/>
                          <a:pt x="42" y="1"/>
                          <a:pt x="1" y="1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lnTo>
                          <a:pt x="1" y="91"/>
                        </a:lnTo>
                        <a:lnTo>
                          <a:pt x="76" y="9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8003160" y="1249200"/>
                  <a:ext cx="233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7969320" y="1671480"/>
                <a:ext cx="368280" cy="528120"/>
                <a:chOff x="7969320" y="1671480"/>
                <a:chExt cx="368280" cy="528120"/>
              </a:xfrm>
            </p:grpSpPr>
            <p:grpSp>
              <p:nvGrpSpPr>
                <p:cNvPr id="1368" name=""/>
                <p:cNvGrpSpPr/>
                <p:nvPr/>
              </p:nvGrpSpPr>
              <p:grpSpPr>
                <a:xfrm>
                  <a:off x="7969320" y="1835640"/>
                  <a:ext cx="368280" cy="363960"/>
                  <a:chOff x="7969320" y="1835640"/>
                  <a:chExt cx="368280" cy="36396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8031960" y="1835640"/>
                    <a:ext cx="24588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7969320" y="1885320"/>
                    <a:ext cx="36828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7969320" y="183564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267760" y="183564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1c38"/>
                      </a:gs>
                      <a:gs pos="50000">
                        <a:srgbClr val="993366"/>
                      </a:gs>
                      <a:gs pos="100000">
                        <a:srgbClr val="551c3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3" name=""/>
                <p:cNvSpPr/>
                <p:nvPr/>
              </p:nvSpPr>
              <p:spPr>
                <a:xfrm>
                  <a:off x="8052840" y="1671480"/>
                  <a:ext cx="19800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1c38"/>
                    </a:gs>
                    <a:gs pos="50000">
                      <a:srgbClr val="993366"/>
                    </a:gs>
                    <a:gs pos="100000">
                      <a:srgbClr val="551c3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8215200" y="1514520"/>
                <a:ext cx="429840" cy="685440"/>
                <a:chOff x="8215200" y="1514520"/>
                <a:chExt cx="429840" cy="68544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8314200" y="1514520"/>
                  <a:ext cx="22968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2f00"/>
                    </a:gs>
                    <a:gs pos="50000">
                      <a:srgbClr val="ff6600"/>
                    </a:gs>
                    <a:gs pos="100000">
                      <a:srgbClr val="752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6" name=""/>
                <p:cNvGrpSpPr/>
                <p:nvPr/>
              </p:nvGrpSpPr>
              <p:grpSpPr>
                <a:xfrm>
                  <a:off x="8215200" y="1767600"/>
                  <a:ext cx="429840" cy="432360"/>
                  <a:chOff x="8215200" y="1767600"/>
                  <a:chExt cx="429840" cy="43236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>
                    <a:off x="8287560" y="1767600"/>
                    <a:ext cx="283680" cy="120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8215920" y="1848600"/>
                    <a:ext cx="429120" cy="351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8215200" y="1767600"/>
                    <a:ext cx="78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7">
                        <a:moveTo>
                          <a:pt x="92" y="0"/>
                        </a:moveTo>
                        <a:cubicBezTo>
                          <a:pt x="41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3" y="107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8562600" y="1769760"/>
                    <a:ext cx="792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9">
                        <a:moveTo>
                          <a:pt x="92" y="109"/>
                        </a:moveTo>
                        <a:cubicBezTo>
                          <a:pt x="92" y="108"/>
                          <a:pt x="93" y="108"/>
                          <a:pt x="93" y="108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8"/>
                        </a:lnTo>
                        <a:lnTo>
                          <a:pt x="92" y="10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2f00"/>
                      </a:gs>
                      <a:gs pos="50000">
                        <a:srgbClr val="ff6600"/>
                      </a:gs>
                      <a:gs pos="100000">
                        <a:srgbClr val="752f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1" name=""/>
              <p:cNvGrpSpPr/>
              <p:nvPr/>
            </p:nvGrpSpPr>
            <p:grpSpPr>
              <a:xfrm>
                <a:off x="7599240" y="1514520"/>
                <a:ext cx="430200" cy="632880"/>
                <a:chOff x="7599240" y="1514520"/>
                <a:chExt cx="430200" cy="6328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7698960" y="1514520"/>
                  <a:ext cx="227880" cy="2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0075"/>
                    </a:gs>
                    <a:gs pos="50000">
                      <a:srgbClr val="ff00ff"/>
                    </a:gs>
                    <a:gs pos="100000">
                      <a:srgbClr val="7500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3" name=""/>
                <p:cNvGrpSpPr/>
                <p:nvPr/>
              </p:nvGrpSpPr>
              <p:grpSpPr>
                <a:xfrm>
                  <a:off x="7599240" y="1748880"/>
                  <a:ext cx="430200" cy="398520"/>
                  <a:chOff x="7599240" y="1748880"/>
                  <a:chExt cx="430200" cy="39852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7672320" y="1748880"/>
                    <a:ext cx="282960" cy="109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7601400" y="1822320"/>
                    <a:ext cx="428040" cy="325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7599240" y="1748880"/>
                    <a:ext cx="799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07">
                        <a:moveTo>
                          <a:pt x="93" y="0"/>
                        </a:moveTo>
                        <a:cubicBezTo>
                          <a:pt x="42" y="0"/>
                          <a:pt x="1" y="48"/>
                          <a:pt x="1" y="107"/>
                        </a:cubicBezTo>
                        <a:cubicBezTo>
                          <a:pt x="0" y="107"/>
                          <a:pt x="1" y="107"/>
                          <a:pt x="1" y="107"/>
                        </a:cubicBezTo>
                        <a:lnTo>
                          <a:pt x="94" y="107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7950240" y="1748880"/>
                    <a:ext cx="788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8">
                        <a:moveTo>
                          <a:pt x="92" y="108"/>
                        </a:moveTo>
                        <a:cubicBezTo>
                          <a:pt x="92" y="107"/>
                          <a:pt x="93" y="107"/>
                          <a:pt x="93" y="107"/>
                        </a:cubicBezTo>
                        <a:cubicBezTo>
                          <a:pt x="93" y="48"/>
                          <a:pt x="51" y="0"/>
                          <a:pt x="0" y="0"/>
                        </a:cubicBezTo>
                        <a:lnTo>
                          <a:pt x="0" y="107"/>
                        </a:lnTo>
                        <a:lnTo>
                          <a:pt x="92" y="1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0075"/>
                      </a:gs>
                      <a:gs pos="50000">
                        <a:srgbClr val="ff00ff"/>
                      </a:gs>
                      <a:gs pos="100000">
                        <a:srgbClr val="7500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8" name=""/>
              <p:cNvGrpSpPr/>
              <p:nvPr/>
            </p:nvGrpSpPr>
            <p:grpSpPr>
              <a:xfrm>
                <a:off x="7845480" y="1989000"/>
                <a:ext cx="431640" cy="526320"/>
                <a:chOff x="7845480" y="1989000"/>
                <a:chExt cx="431640" cy="52632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7845480" y="2152080"/>
                  <a:ext cx="431640" cy="363240"/>
                  <a:chOff x="7845480" y="2152080"/>
                  <a:chExt cx="431640" cy="36324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7918920" y="2152080"/>
                    <a:ext cx="289440" cy="78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7845480" y="2203560"/>
                    <a:ext cx="431640" cy="311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7845480" y="2152080"/>
                    <a:ext cx="80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40"/>
                          <a:pt x="0" y="89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8196480" y="2152800"/>
                    <a:ext cx="79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9"/>
                        </a:moveTo>
                        <a:cubicBezTo>
                          <a:pt x="75" y="40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"/>
                <p:cNvSpPr/>
                <p:nvPr/>
              </p:nvSpPr>
              <p:spPr>
                <a:xfrm>
                  <a:off x="7943400" y="1989000"/>
                  <a:ext cx="23508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8215200" y="1989000"/>
                <a:ext cx="430200" cy="527040"/>
                <a:chOff x="8215200" y="1989000"/>
                <a:chExt cx="430200" cy="52704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8313120" y="1989000"/>
                  <a:ext cx="23328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8215200" y="2152800"/>
                  <a:ext cx="430200" cy="363240"/>
                  <a:chOff x="8215200" y="2152800"/>
                  <a:chExt cx="430200" cy="36324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8288640" y="2152800"/>
                    <a:ext cx="28800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8215200" y="2202480"/>
                    <a:ext cx="430200" cy="313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8215200" y="2152800"/>
                    <a:ext cx="80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8564400" y="2152800"/>
                    <a:ext cx="79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"/>
              <p:cNvGrpSpPr/>
              <p:nvPr/>
            </p:nvGrpSpPr>
            <p:grpSpPr>
              <a:xfrm>
                <a:off x="7537320" y="1989000"/>
                <a:ext cx="368280" cy="528120"/>
                <a:chOff x="7537320" y="1989000"/>
                <a:chExt cx="368280" cy="528120"/>
              </a:xfrm>
            </p:grpSpPr>
            <p:grpSp>
              <p:nvGrpSpPr>
                <p:cNvPr id="1403" name=""/>
                <p:cNvGrpSpPr/>
                <p:nvPr/>
              </p:nvGrpSpPr>
              <p:grpSpPr>
                <a:xfrm>
                  <a:off x="7537320" y="2153160"/>
                  <a:ext cx="368280" cy="363960"/>
                  <a:chOff x="7537320" y="2153160"/>
                  <a:chExt cx="368280" cy="36396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7599960" y="2153160"/>
                    <a:ext cx="24588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7537320" y="2202840"/>
                    <a:ext cx="36828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7537320" y="215316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7835760" y="215316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8" name=""/>
                <p:cNvSpPr/>
                <p:nvPr/>
              </p:nvSpPr>
              <p:spPr>
                <a:xfrm>
                  <a:off x="7620840" y="1989000"/>
                  <a:ext cx="19800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4747"/>
                    </a:gs>
                    <a:gs pos="50000">
                      <a:srgbClr val="808080"/>
                    </a:gs>
                    <a:gs pos="100000">
                      <a:srgbClr val="47474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>
                <a:off x="6617160" y="17780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2340000" y="1844640"/>
                <a:ext cx="368280" cy="528120"/>
                <a:chOff x="2340000" y="1844640"/>
                <a:chExt cx="368280" cy="528120"/>
              </a:xfrm>
            </p:grpSpPr>
            <p:grpSp>
              <p:nvGrpSpPr>
                <p:cNvPr id="1411" name=""/>
                <p:cNvGrpSpPr/>
                <p:nvPr/>
              </p:nvGrpSpPr>
              <p:grpSpPr>
                <a:xfrm>
                  <a:off x="2340000" y="2008800"/>
                  <a:ext cx="368280" cy="363960"/>
                  <a:chOff x="2340000" y="2008800"/>
                  <a:chExt cx="368280" cy="363960"/>
                </a:xfrm>
              </p:grpSpPr>
              <p:sp>
                <p:nvSpPr>
                  <p:cNvPr id="1412" name=""/>
                  <p:cNvSpPr/>
                  <p:nvPr/>
                </p:nvSpPr>
                <p:spPr>
                  <a:xfrm>
                    <a:off x="2402640" y="2008800"/>
                    <a:ext cx="245880" cy="77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2340000" y="2058480"/>
                    <a:ext cx="368280" cy="314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2340000" y="2008800"/>
                    <a:ext cx="673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3" y="0"/>
                        </a:moveTo>
                        <a:cubicBezTo>
                          <a:pt x="33" y="1"/>
                          <a:pt x="0" y="40"/>
                          <a:pt x="0" y="88"/>
                        </a:cubicBezTo>
                        <a:lnTo>
                          <a:pt x="75" y="90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638440" y="2008800"/>
                    <a:ext cx="6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1" y="0"/>
                          <a:pt x="0" y="0"/>
                        </a:cubicBezTo>
                        <a:lnTo>
                          <a:pt x="0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74747"/>
                      </a:gs>
                      <a:gs pos="50000">
                        <a:srgbClr val="808080"/>
                      </a:gs>
                      <a:gs pos="100000">
                        <a:srgbClr val="47474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6" name=""/>
                <p:cNvSpPr/>
                <p:nvPr/>
              </p:nvSpPr>
              <p:spPr>
                <a:xfrm>
                  <a:off x="2423520" y="1844640"/>
                  <a:ext cx="19800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4747"/>
                    </a:gs>
                    <a:gs pos="50000">
                      <a:srgbClr val="808080"/>
                    </a:gs>
                    <a:gs pos="100000">
                      <a:srgbClr val="47474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692360" y="1911240"/>
                <a:ext cx="358560" cy="581040"/>
                <a:chOff x="1692360" y="1911240"/>
                <a:chExt cx="358560" cy="58104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774080" y="1911240"/>
                  <a:ext cx="19440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7575"/>
                    </a:gs>
                    <a:gs pos="50000">
                      <a:srgbClr val="ccffff"/>
                    </a:gs>
                    <a:gs pos="100000">
                      <a:srgbClr val="5e75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9" name=""/>
                <p:cNvGrpSpPr/>
                <p:nvPr/>
              </p:nvGrpSpPr>
              <p:grpSpPr>
                <a:xfrm>
                  <a:off x="1692360" y="2091960"/>
                  <a:ext cx="358560" cy="400320"/>
                  <a:chOff x="1692360" y="2091960"/>
                  <a:chExt cx="358560" cy="40032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>
                    <a:off x="1753560" y="2091960"/>
                    <a:ext cx="240120" cy="8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7575"/>
                      </a:gs>
                      <a:gs pos="50000">
                        <a:srgbClr val="ccffff"/>
                      </a:gs>
                      <a:gs pos="100000">
                        <a:srgbClr val="5e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1692360" y="2146680"/>
                    <a:ext cx="358560" cy="345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7575"/>
                      </a:gs>
                      <a:gs pos="50000">
                        <a:srgbClr val="ccffff"/>
                      </a:gs>
                      <a:gs pos="100000">
                        <a:srgbClr val="5e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1692360" y="2091960"/>
                    <a:ext cx="669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90">
                        <a:moveTo>
                          <a:pt x="74" y="0"/>
                        </a:moveTo>
                        <a:cubicBezTo>
                          <a:pt x="33" y="0"/>
                          <a:pt x="0" y="39"/>
                          <a:pt x="0" y="88"/>
                        </a:cubicBezTo>
                        <a:lnTo>
                          <a:pt x="76" y="9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7575"/>
                      </a:gs>
                      <a:gs pos="50000">
                        <a:srgbClr val="ccffff"/>
                      </a:gs>
                      <a:gs pos="100000">
                        <a:srgbClr val="5e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1983600" y="2091960"/>
                    <a:ext cx="65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88"/>
                        </a:moveTo>
                        <a:cubicBezTo>
                          <a:pt x="75" y="39"/>
                          <a:pt x="42" y="0"/>
                          <a:pt x="0" y="0"/>
                        </a:cubicBezTo>
                        <a:lnTo>
                          <a:pt x="1" y="90"/>
                        </a:lnTo>
                        <a:lnTo>
                          <a:pt x="75" y="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7575"/>
                      </a:gs>
                      <a:gs pos="50000">
                        <a:srgbClr val="ccffff"/>
                      </a:gs>
                      <a:gs pos="100000">
                        <a:srgbClr val="5e757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24" name=""/>
          <p:cNvGrpSpPr/>
          <p:nvPr/>
        </p:nvGrpSpPr>
        <p:grpSpPr>
          <a:xfrm>
            <a:off x="-9000" y="5032440"/>
            <a:ext cx="8902080" cy="1440360"/>
            <a:chOff x="-9000" y="5032440"/>
            <a:chExt cx="8902080" cy="1440360"/>
          </a:xfrm>
        </p:grpSpPr>
        <p:grpSp>
          <p:nvGrpSpPr>
            <p:cNvPr id="1425" name=""/>
            <p:cNvGrpSpPr/>
            <p:nvPr/>
          </p:nvGrpSpPr>
          <p:grpSpPr>
            <a:xfrm>
              <a:off x="3798720" y="5116680"/>
              <a:ext cx="1019520" cy="889920"/>
              <a:chOff x="3798720" y="5116680"/>
              <a:chExt cx="1019520" cy="889920"/>
            </a:xfrm>
          </p:grpSpPr>
          <p:pic>
            <p:nvPicPr>
              <p:cNvPr id="14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8720" y="5617800"/>
                <a:ext cx="101772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98720" y="5462280"/>
                <a:ext cx="1017720" cy="38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98720" y="5286240"/>
                <a:ext cx="1017720" cy="38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00520" y="5116680"/>
                <a:ext cx="1017720" cy="38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0" name=""/>
            <p:cNvGrpSpPr/>
            <p:nvPr/>
          </p:nvGrpSpPr>
          <p:grpSpPr>
            <a:xfrm>
              <a:off x="5834160" y="5289480"/>
              <a:ext cx="1019160" cy="544320"/>
              <a:chOff x="5834160" y="5289480"/>
              <a:chExt cx="1019160" cy="544320"/>
            </a:xfrm>
          </p:grpSpPr>
          <p:pic>
            <p:nvPicPr>
              <p:cNvPr id="143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34160" y="5445000"/>
                <a:ext cx="101916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834160" y="5289480"/>
                <a:ext cx="1019160" cy="388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3" name=""/>
            <p:cNvGrpSpPr/>
            <p:nvPr/>
          </p:nvGrpSpPr>
          <p:grpSpPr>
            <a:xfrm>
              <a:off x="7873920" y="5032440"/>
              <a:ext cx="1019160" cy="1060560"/>
              <a:chOff x="7873920" y="5032440"/>
              <a:chExt cx="1019160" cy="1060560"/>
            </a:xfrm>
          </p:grpSpPr>
          <p:pic>
            <p:nvPicPr>
              <p:cNvPr id="14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3920" y="5703840"/>
                <a:ext cx="101772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73920" y="5548320"/>
                <a:ext cx="101772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73920" y="5372280"/>
                <a:ext cx="101772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75720" y="5202360"/>
                <a:ext cx="101736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73920" y="5032440"/>
                <a:ext cx="1017720" cy="38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9" name=""/>
            <p:cNvSpPr/>
            <p:nvPr/>
          </p:nvSpPr>
          <p:spPr>
            <a:xfrm>
              <a:off x="7112520" y="52102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-9000" y="509760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Gasto e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Comic Sans MS"/>
                </a:rPr>
                <a:t>Salu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2100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2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3948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40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923480" y="60739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3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1754280" y="5216400"/>
              <a:ext cx="1028520" cy="689040"/>
              <a:chOff x="1754280" y="5216400"/>
              <a:chExt cx="1028520" cy="68904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63640" y="5516280"/>
                <a:ext cx="101916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63640" y="5360760"/>
                <a:ext cx="101772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754280" y="5216400"/>
                <a:ext cx="1017360" cy="388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¿Qué Hacemos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0" y="744120"/>
            <a:ext cx="91440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Ley de Prescripción de Medicamentos por Nombre Genérico. Ley 25.64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Programa REMED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Programa de Salud Sexual y Procreación Respons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Plan NACER ARGENT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Programa de Médicos Comunita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Habilitación categoriz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Elaboración de PMO defini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Formulario Terapéutico de la Segu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Aumento de cobertura en medicamentos del 40% al 70% para Patologías Crón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Evaluación de Tecnologías 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Campañas de Promoción y Prevención de la Sal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Información al benefici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-6364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5ffff"/>
                </a:solidFill>
                <a:latin typeface="Comic Sans MS"/>
              </a:rPr>
              <a:t>Sistema de Contrataciones Regionales de las Obra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630360" y="5223960"/>
            <a:ext cx="7885080" cy="779760"/>
          </a:xfrm>
          <a:prstGeom prst="downArrowCallout">
            <a:avLst>
              <a:gd name="adj1" fmla="val -44450"/>
              <a:gd name="adj2" fmla="val 54868"/>
              <a:gd name="adj3" fmla="val 47884"/>
              <a:gd name="adj4" fmla="val 15565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1422360" y="5883120"/>
            <a:ext cx="61689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Comic Sans MS"/>
              </a:rPr>
              <a:t>PLAN FEDERAL DE SAL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/>
          </p:nvPr>
        </p:nvSpPr>
        <p:spPr>
          <a:xfrm>
            <a:off x="-2700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ta de Ottawa para el Fomento de la Salu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–(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98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ferencia Internacional sobre la Población y el Desarroll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258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ar los años de vida con buena sal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258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jorar la calidad de vida de las perso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258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ducir las tasas de mortalidad y mor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258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ar la esperanza de v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El acceso universal de las personas de edad a los servicios de salud durante toda la vida son el pilar del envejecimiento con sal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147600" y="1477800"/>
            <a:ext cx="75614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...</a:t>
            </a:r>
            <a:r>
              <a:rPr b="0" i="1" lang="en-US" sz="4400" spc="-1" strike="noStrike">
                <a:solidFill>
                  <a:srgbClr val="ffffff"/>
                </a:solidFill>
                <a:latin typeface="Georgia"/>
              </a:rPr>
              <a:t>Escucha a tu </a:t>
            </a:r>
            <a:r>
              <a:rPr b="0" i="1" lang="es-AR" sz="4400" spc="-1" strike="noStrike">
                <a:solidFill>
                  <a:srgbClr val="ffffff"/>
                </a:solidFill>
                <a:latin typeface="Georgia"/>
              </a:rPr>
              <a:t>padre a aquel que te engendró y no desprecies a tu madre cuando se envejecier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es-AR" sz="3200" spc="-1" strike="noStrike">
                <a:solidFill>
                  <a:srgbClr val="ffffff"/>
                </a:solidFill>
                <a:latin typeface="Georgia"/>
              </a:rPr>
              <a:t>Proverbio 23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es-AR" sz="3200" spc="-1" strike="noStrike">
                <a:solidFill>
                  <a:srgbClr val="ffffff"/>
                </a:solidFill>
                <a:latin typeface="Georgia"/>
              </a:rPr>
              <a:t>Antiguo Testamento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nsición demográfica mundi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200" y="1244520"/>
            <a:ext cx="86299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 número de personas de más de 60 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2409840" y="2552760"/>
            <a:ext cx="1463760" cy="34596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ef1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8400" y="3706920"/>
            <a:ext cx="1441440" cy="38880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97200 h 388800"/>
              <a:gd name="textAreaBottom" fmla="*/ 291600 h 38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ef1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16080" y="4746600"/>
            <a:ext cx="4135680" cy="469800"/>
          </a:xfrm>
          <a:custGeom>
            <a:avLst/>
            <a:gdLst>
              <a:gd name="textAreaLeft" fmla="*/ 646200 w 4135680"/>
              <a:gd name="textAreaRight" fmla="*/ 3618720 w 4135680"/>
              <a:gd name="textAreaTop" fmla="*/ 117360 h 469800"/>
              <a:gd name="textAreaBottom" fmla="*/ 352440 h 469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ef1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4720" y="2486160"/>
            <a:ext cx="488880" cy="1684080"/>
          </a:xfrm>
          <a:custGeom>
            <a:avLst/>
            <a:gdLst>
              <a:gd name="textAreaLeft" fmla="*/ 0 w 488880"/>
              <a:gd name="textAreaRight" fmla="*/ 176400 w 488880"/>
              <a:gd name="textAreaTop" fmla="*/ 43920 h 1684080"/>
              <a:gd name="textAreaBottom" fmla="*/ 1640160 h 16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43720" y="2981160"/>
            <a:ext cx="1298520" cy="636840"/>
          </a:xfrm>
          <a:prstGeom prst="ellipse">
            <a:avLst/>
          </a:prstGeom>
          <a:noFill/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5840" y="242244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ño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19680" y="242244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600 mill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586320"/>
            <a:ext cx="20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ño 20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19680" y="3586320"/>
            <a:ext cx="30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000 mill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800" y="469116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ño 20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3000" y="4692600"/>
            <a:ext cx="10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nsición demográfica mundi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ntre 1998 y 2025 las personas de ed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n Asia y América Latina  aumentarán del 8% al 15%, en América del Norte del 16% al 26% y en Europa del 20% al 2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n los países en desarrollo se prevé que se cuadruplicarán en los próximos 50 a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l 82% de la población de los países desarrollados vivirá en zonas urbanas, mientras que menos de la mitad de la población de los países en desarrollo vivirá en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n los países desarrollados una gran proporción vive en hogares multigener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41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57480" y="6597000"/>
            <a:ext cx="8172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Fuente: I Asamblea Mundial del Envejecimiento. Viena 1992 y II Asamblea en Madrid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ició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mográfica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undia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841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mediados de siglo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62200" y="6515280"/>
            <a:ext cx="72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Fuente: I Asamblea Mundial del Envejecimiento. Viena 1992 y II Asamblea en Madrid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54120"/>
            <a:ext cx="91440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s porcentajes entre mayores de edad y jóvenes serán ig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porcentaje de los niños se reducirá en un ter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pasará del 30% al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 algunos países desarrollados el número de personas de edad será más del doble que el de los ni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valor medio de 88 hombres cada 100 mujeres bajará a 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cc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 las regiones menos desarrolladas las mujeres de edad no superarán en número a los homb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1125"/>
              </a:spcBef>
              <a:buClr>
                <a:srgbClr val="00cc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ransición demográfica mundi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 grupo de personas de edad que crece más rápidamente es el de los más ancianos, los que tienen 80 años de edad o má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 el año 2000 su número llegaba a 70 millones y s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yect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que en los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próximos 50 año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esa cifra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aumentará más de cinco ve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Jubilados/Personas en Edad Labor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1200" y="1720800"/>
          <a:ext cx="7905600" cy="4291200"/>
        </p:xfrm>
        <a:graphic>
          <a:graphicData uri="http://schemas.openxmlformats.org/drawingml/2006/table">
            <a:tbl>
              <a:tblPr/>
              <a:tblGrid>
                <a:gridCol w="3828960"/>
                <a:gridCol w="4076640"/>
              </a:tblGrid>
              <a:tr h="142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Relación Jubilados/Trabajadores en el Mundo</a:t>
                      </a:r>
                      <a:r>
                        <a:rPr b="0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ubilados / Personas en Edad Lab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/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/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4971960" y="65008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mic Sans MS"/>
              </a:rPr>
              <a:t>           </a:t>
            </a:r>
            <a:r>
              <a:rPr b="0" lang="es-ES_tradnl" sz="1800" spc="-1" strike="noStrike">
                <a:solidFill>
                  <a:srgbClr val="ffff66"/>
                </a:solidFill>
                <a:latin typeface="Comic Sans MS"/>
              </a:rPr>
              <a:t>Fuente: Naciones Unidas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20:30Z</dcterms:created>
  <dc:creator>rroa</dc:creator>
  <dc:description/>
  <dc:language>en-US</dc:language>
  <cp:lastModifiedBy>C.P.C.E.C.A.B.A.</cp:lastModifiedBy>
  <dcterms:modified xsi:type="dcterms:W3CDTF">2005-10-24T14:02:12Z</dcterms:modified>
  <cp:revision>75</cp:revision>
  <dc:subject/>
  <dc:title>Diapositiva 1</dc:title>
</cp:coreProperties>
</file>