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.jpeg" ContentType="image/jpeg"/>
  <Override PartName="/ppt/media/image4.gif" ContentType="image/gif"/>
  <Override PartName="/ppt/media/image6.jpeg" ContentType="image/jpeg"/>
  <Override PartName="/ppt/media/image5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4A2E-5563-4AE9-9C56-08CFC1082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C71C-87DC-4653-967E-803848919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FBAA-489F-4689-AC9A-88A520817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6F18-932A-4337-8974-428336524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69748-F945-41C8-B81A-DF3949B80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A5720-AFBA-49E8-A2F8-831EB4514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7525F-F73D-431D-867E-10AB79864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AE17F-39E9-49AF-86BF-E5AB55C52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10A73-0900-4377-B675-0824EA1D9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F77ED-D80F-4886-B288-AF9B0A648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EA019-8CD4-40E4-BDCF-2271380D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F528-2F7F-48CD-BA13-FF0C1512F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CE127-EA59-46EF-A390-D17CC50C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ABA85-4614-4BD1-A124-FAF7D8B3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E8C60-87A1-40BB-8AF5-E754D9A2C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9DB42-CE37-434C-9CD3-89FA8EF96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3F214-D352-4BCF-9375-F9E005B96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1006-036F-4D23-8AA3-E7B256BAE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6D99-1DFA-476C-AD73-B93F4E855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F8E7-EA83-47CE-8636-E52A336DA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0004-E6BC-4A28-B4B9-3D69B8BDE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2533-CF5E-45C4-A154-D8934889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93DA-FCE5-498E-B497-B59FDD83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2AD7-07B5-40A9-8C2E-F719B577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4560" y="64008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Dra. C.P. Alejandra A. Fernández - Dr. C.P. Pablo C. del Río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2E22E-A1DD-463E-B7D8-1AACB4CA01CD}" type="slidenum">
              <a:rPr b="0" lang="es-MX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24DF9-9BD2-4B95-B3D7-DDBB94DF46B6}" type="slidenum">
              <a:rPr b="0" lang="es-MX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304920" y="6400800"/>
            <a:ext cx="883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Dra. C.P. Alejandra A. Fernández - Dr. C.P. Pablo C. del Río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Garamond"/>
              </a:rPr>
              <a:t>El envejecimiento poblacional en las sociedades del nuevo milenio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85440" y="3124080"/>
            <a:ext cx="8458200" cy="23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Verdana"/>
              </a:rPr>
              <a:t>3º Congreso Internacional de la Seguridad Soci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Verdana"/>
              </a:rPr>
              <a:t>Ciudad Autónoma de Buenos Aires, Octubre de 2005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649116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Verdana"/>
              </a:rPr>
              <a:t>Dr. C.P. Pablo C. del Rí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49116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Verdana"/>
              </a:rPr>
              <a:t>Dra. C.P. Alejandra A. Fernánd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999900"/>
                </a:solidFill>
                <a:latin typeface="Garamond"/>
              </a:rPr>
              <a:t>Impacto en los sistemas sanitario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Verdana"/>
              </a:rPr>
              <a:t>Hacia el año 2020 en el mundo habrá más de 1000 millones de mayores de 60 año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Verdana"/>
              </a:rPr>
              <a:t>Más de  700 millones vivirán en países en desarrollo donde aumentará el gasto sanitario un  48 % (2000-2050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Verdana"/>
              </a:rPr>
              <a:t>Mayores de 65 años: consumo de productos y servicios sanitarios 3.2 veces superi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4570560"/>
            <a:ext cx="1812960" cy="1800000"/>
          </a:xfrm>
          <a:prstGeom prst="ellipse">
            <a:avLst/>
          </a:prstGeom>
          <a:gradFill rotWithShape="0">
            <a:gsLst>
              <a:gs pos="0">
                <a:srgbClr val="cccc66"/>
              </a:gs>
              <a:gs pos="50000">
                <a:srgbClr val="666600"/>
              </a:gs>
              <a:gs pos="100000">
                <a:srgbClr val="cccc66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Verdana"/>
              </a:rPr>
              <a:t>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43200" y="4572000"/>
            <a:ext cx="1812960" cy="1800360"/>
          </a:xfrm>
          <a:prstGeom prst="ellipse">
            <a:avLst/>
          </a:prstGeom>
          <a:gradFill rotWithShape="0">
            <a:gsLst>
              <a:gs pos="0">
                <a:srgbClr val="cccc66"/>
              </a:gs>
              <a:gs pos="50000">
                <a:srgbClr val="666600"/>
              </a:gs>
              <a:gs pos="100000">
                <a:srgbClr val="cccc66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Verdana"/>
              </a:rPr>
              <a:t>Promo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Verdana"/>
              </a:rPr>
              <a:t>de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Verdana"/>
              </a:rPr>
              <a:t>Sal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76920" y="4570560"/>
            <a:ext cx="1812960" cy="1800000"/>
          </a:xfrm>
          <a:prstGeom prst="ellipse">
            <a:avLst/>
          </a:prstGeom>
          <a:gradFill rotWithShape="0">
            <a:gsLst>
              <a:gs pos="0">
                <a:srgbClr val="cccc66"/>
              </a:gs>
              <a:gs pos="50000">
                <a:srgbClr val="666600"/>
              </a:gs>
              <a:gs pos="100000">
                <a:srgbClr val="cccc66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Verdana"/>
              </a:rPr>
              <a:t>Servic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Verdana"/>
              </a:rPr>
              <a:t>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Verdana"/>
              </a:rPr>
              <a:t>Sal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086600" y="4570560"/>
            <a:ext cx="1812960" cy="1800000"/>
          </a:xfrm>
          <a:prstGeom prst="ellipse">
            <a:avLst/>
          </a:prstGeom>
          <a:gradFill rotWithShape="0">
            <a:gsLst>
              <a:gs pos="0">
                <a:srgbClr val="cccc66"/>
              </a:gs>
              <a:gs pos="50000">
                <a:srgbClr val="666600"/>
              </a:gs>
              <a:gs pos="100000">
                <a:srgbClr val="cccc66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Verdana"/>
              </a:rPr>
              <a:t>Capaci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5800" spc="-1" strike="noStrike">
                <a:solidFill>
                  <a:srgbClr val="999900"/>
                </a:solidFill>
                <a:latin typeface="Garamond"/>
              </a:rPr>
              <a:t>Análisis Microeconómico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084720" y="3357720"/>
            <a:ext cx="251964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999900"/>
                </a:solidFill>
                <a:latin typeface="Garamond"/>
              </a:rPr>
              <a:t>Impacto económico en las familia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cc9900"/>
                </a:solidFill>
                <a:latin typeface="Verdana"/>
              </a:rPr>
              <a:t>Ancianos autónomos</a:t>
            </a:r>
            <a:r>
              <a:rPr b="0" lang="es-AR" sz="2000" spc="-1" strike="noStrike">
                <a:solidFill>
                  <a:srgbClr val="cc99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1" lang="es-AR" sz="1600" spc="-1" strike="noStrike">
                <a:solidFill>
                  <a:srgbClr val="000000"/>
                </a:solidFill>
                <a:latin typeface="Verdana"/>
              </a:rPr>
              <a:t>Negativo:</a:t>
            </a:r>
            <a:r>
              <a:rPr b="0" lang="es-AR" sz="1600" spc="-1" strike="noStrike">
                <a:solidFill>
                  <a:srgbClr val="000000"/>
                </a:solidFill>
                <a:latin typeface="Verdana"/>
              </a:rPr>
              <a:t> Grupo familiar </a:t>
            </a:r>
            <a:r>
              <a:rPr b="1" lang="es-AR" sz="1600" spc="-1" strike="noStrike">
                <a:solidFill>
                  <a:srgbClr val="666600"/>
                </a:solidFill>
                <a:latin typeface="Verdana"/>
              </a:rPr>
              <a:t>cofinanciador</a:t>
            </a:r>
            <a:r>
              <a:rPr b="0" lang="es-AR" sz="1600" spc="-1" strike="noStrike">
                <a:solidFill>
                  <a:srgbClr val="000000"/>
                </a:solidFill>
                <a:latin typeface="Verdana"/>
              </a:rPr>
              <a:t> de la salud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Verdana"/>
              </a:rPr>
              <a:t>Efecto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Verdana"/>
              </a:rPr>
              <a:t>                                 </a:t>
            </a:r>
            <a:r>
              <a:rPr b="0" lang="es-AR" sz="1600" spc="-1" strike="noStrike" u="sng">
                <a:solidFill>
                  <a:srgbClr val="000000"/>
                </a:solidFill>
                <a:uFillTx/>
                <a:latin typeface="Verdana"/>
              </a:rPr>
              <a:t>Aportes directos</a:t>
            </a:r>
            <a:r>
              <a:rPr b="0" lang="es-AR" sz="1600" spc="-1" strike="noStrike">
                <a:solidFill>
                  <a:srgbClr val="000000"/>
                </a:solidFill>
                <a:latin typeface="Verdana"/>
              </a:rPr>
              <a:t>: Pensiones, &gt; % del Ingreso Familiar        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1" lang="es-AR" sz="1600" spc="-1" strike="noStrike">
                <a:solidFill>
                  <a:srgbClr val="000000"/>
                </a:solidFill>
                <a:latin typeface="Verdana"/>
              </a:rPr>
              <a:t>Positivo</a:t>
            </a:r>
            <a:r>
              <a:rPr b="0" lang="es-AR" sz="1600" spc="-1" strike="noStrike">
                <a:solidFill>
                  <a:srgbClr val="000000"/>
                </a:solidFill>
                <a:latin typeface="Verdana"/>
              </a:rPr>
              <a:t>                  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Verdana"/>
              </a:rPr>
              <a:t>                                 </a:t>
            </a:r>
            <a:r>
              <a:rPr b="0" lang="es-AR" sz="1600" spc="-1" strike="noStrike" u="sng">
                <a:solidFill>
                  <a:srgbClr val="000000"/>
                </a:solidFill>
                <a:uFillTx/>
                <a:latin typeface="Verdana"/>
              </a:rPr>
              <a:t>Aportes Indirectos</a:t>
            </a:r>
            <a:r>
              <a:rPr b="0" lang="es-AR" sz="1600" spc="-1" strike="noStrike">
                <a:solidFill>
                  <a:srgbClr val="000000"/>
                </a:solidFill>
                <a:latin typeface="Verdana"/>
              </a:rPr>
              <a:t>: Cuidado de nietos – Inserción laboral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                     </a:t>
            </a:r>
            <a:r>
              <a:rPr b="0" lang="es-AR" sz="1600" spc="-1" strike="noStrike">
                <a:solidFill>
                  <a:srgbClr val="000000"/>
                </a:solidFill>
                <a:latin typeface="Verdana"/>
              </a:rPr>
              <a:t>de la muj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cc9900"/>
                </a:solidFill>
                <a:latin typeface="Verdana"/>
              </a:rPr>
              <a:t>Ancianos con aspectos dependientes</a:t>
            </a:r>
            <a:r>
              <a:rPr b="0" lang="es-AR" sz="1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s-AR" sz="1600" spc="-1" strike="noStrike">
                <a:solidFill>
                  <a:srgbClr val="000000"/>
                </a:solidFill>
                <a:latin typeface="Verdana"/>
              </a:rPr>
              <a:t>.  Equilibrio:    Apoyo familiar  -    Apoyo del Estad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s-AR" sz="1600" spc="-1" strike="noStrike">
                <a:solidFill>
                  <a:srgbClr val="000000"/>
                </a:solidFill>
                <a:latin typeface="Verdana"/>
              </a:rPr>
              <a:t>.  Programas que capaciten, apoyen y faciliten l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s-AR" sz="1600" spc="-1" strike="noStrike">
                <a:solidFill>
                  <a:srgbClr val="000000"/>
                </a:solidFill>
                <a:latin typeface="Verdana"/>
              </a:rPr>
              <a:t>permanencia del anciano en su hábita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cc9900"/>
                </a:solidFill>
                <a:latin typeface="Verdana"/>
              </a:rPr>
              <a:t>    </a:t>
            </a:r>
            <a:r>
              <a:rPr b="1" lang="es-AR" sz="1600" spc="-1" strike="noStrike">
                <a:solidFill>
                  <a:srgbClr val="cc9900"/>
                </a:solidFill>
                <a:latin typeface="Verdana"/>
              </a:rPr>
              <a:t>.  </a:t>
            </a:r>
            <a:r>
              <a:rPr b="0" lang="es-AR" sz="1600" spc="-1" strike="noStrike">
                <a:solidFill>
                  <a:srgbClr val="000000"/>
                </a:solidFill>
                <a:latin typeface="Verdana"/>
              </a:rPr>
              <a:t>Desarrollo del asistente geriátric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cc9900"/>
                </a:solidFill>
                <a:latin typeface="Verdana"/>
              </a:rPr>
              <a:t>Ancianos totalmente dependiente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s-AR" sz="1600" spc="-1" strike="noStrike">
                <a:solidFill>
                  <a:srgbClr val="000000"/>
                </a:solidFill>
                <a:latin typeface="Verdana"/>
              </a:rPr>
              <a:t>Institucionalización del ancian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659640" y="4419720"/>
            <a:ext cx="2484360" cy="19159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295280" y="2057400"/>
            <a:ext cx="304920" cy="1676520"/>
          </a:xfrm>
          <a:custGeom>
            <a:avLst/>
            <a:gdLst>
              <a:gd name="textAreaLeft" fmla="*/ 194760 w 304920"/>
              <a:gd name="textAreaRight" fmla="*/ 305280 w 30492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527"/>
                </a:lnTo>
                <a:cubicBezTo>
                  <a:pt x="10800" y="8427"/>
                  <a:pt x="5400" y="9327"/>
                  <a:pt x="0" y="9327"/>
                </a:cubicBezTo>
                <a:cubicBezTo>
                  <a:pt x="5400" y="9327"/>
                  <a:pt x="10800" y="10227"/>
                  <a:pt x="10800" y="11127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666880" y="2743200"/>
            <a:ext cx="304920" cy="1219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527"/>
                </a:lnTo>
                <a:cubicBezTo>
                  <a:pt x="10800" y="8427"/>
                  <a:pt x="5400" y="9327"/>
                  <a:pt x="0" y="9327"/>
                </a:cubicBezTo>
                <a:cubicBezTo>
                  <a:pt x="5400" y="9327"/>
                  <a:pt x="10800" y="10227"/>
                  <a:pt x="10800" y="11127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999900"/>
                </a:solidFill>
                <a:latin typeface="Garamond"/>
              </a:rPr>
              <a:t>Análisis especial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198108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Verdana"/>
              </a:rPr>
              <a:t>Familias con menos hijos y concentrados en el ti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76720" y="198108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Verdana"/>
              </a:rPr>
              <a:t>Mayor inversión familiar en hij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5880" y="1981080"/>
            <a:ext cx="2667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Verdana"/>
              </a:rPr>
              <a:t>Creación de capital humano con mayor capacidad para sostener a los pas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743200" y="228600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486400" y="236232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6200000">
            <a:off x="4228920" y="-267120"/>
            <a:ext cx="685800" cy="7925040"/>
          </a:xfrm>
          <a:custGeom>
            <a:avLst/>
            <a:gdLst>
              <a:gd name="textAreaLeft" fmla="*/ 438120 w 685800"/>
              <a:gd name="textAreaRight" fmla="*/ 686160 w 685800"/>
              <a:gd name="textAreaTop" fmla="*/ 206640 h 7925040"/>
              <a:gd name="textAreaBottom" fmla="*/ 7718400 h 7925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5"/>
                </a:lnTo>
                <a:cubicBezTo>
                  <a:pt x="10800" y="9665"/>
                  <a:pt x="5400" y="10565"/>
                  <a:pt x="0" y="10565"/>
                </a:cubicBezTo>
                <a:cubicBezTo>
                  <a:pt x="5400" y="10565"/>
                  <a:pt x="10800" y="11465"/>
                  <a:pt x="10800" y="1236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05320" y="42670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Verdana"/>
              </a:rPr>
              <a:t>DEB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487692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Verdana"/>
              </a:rPr>
              <a:t>Efectiva incorporación al mercado lab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429000" y="525780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Verdana"/>
              </a:rPr>
              <a:t>Valoración en términos de remune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400800" y="49528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Verdana"/>
              </a:rPr>
              <a:t>Envejecimiento: Relación 1-2-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5340000">
            <a:off x="4228560" y="468612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9540000">
            <a:off x="2819160" y="449496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2700000">
            <a:off x="5752800" y="453384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999900"/>
                </a:solidFill>
                <a:latin typeface="Garamond"/>
              </a:rPr>
              <a:t>Establecimientos geriátrico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00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Verdana"/>
              </a:rPr>
              <a:t>Adecuada regulación estatal. La sobredemanda puede redundar en una sobreocup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Verdana"/>
              </a:rPr>
              <a:t>Cobertura Estatal: propia o tercerizada en el sector priva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486400" y="1484280"/>
            <a:ext cx="3657600" cy="2232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09480" y="4464000"/>
            <a:ext cx="8534520" cy="23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</a:rPr>
              <a:t>                                       </a:t>
            </a:r>
            <a:r>
              <a:rPr b="1" lang="es-AR" sz="1800" spc="-1" strike="noStrike">
                <a:solidFill>
                  <a:srgbClr val="000000"/>
                </a:solidFill>
                <a:latin typeface="Verdana"/>
              </a:rPr>
              <a:t>Residencias Geriátr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Verdana"/>
              </a:rPr>
              <a:t>                                             </a:t>
            </a:r>
            <a:r>
              <a:rPr b="1" lang="es-AR" sz="1800" spc="-1" strike="noStrike">
                <a:solidFill>
                  <a:srgbClr val="000000"/>
                </a:solidFill>
                <a:latin typeface="Verdana"/>
              </a:rPr>
              <a:t>Centros de Estadía Prolongada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1" lang="es-AR" sz="1800" spc="-1" strike="noStrike">
                <a:solidFill>
                  <a:srgbClr val="000000"/>
                </a:solidFill>
                <a:latin typeface="Verdana"/>
              </a:rPr>
              <a:t>Clasificación              subclasificados por grupos 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Verdana"/>
              </a:rPr>
              <a:t>                                             </a:t>
            </a:r>
            <a:r>
              <a:rPr b="1" lang="es-AR" sz="1800" spc="-1" strike="noStrike">
                <a:solidFill>
                  <a:srgbClr val="000000"/>
                </a:solidFill>
                <a:latin typeface="Verdana"/>
              </a:rPr>
              <a:t>patologías generadoras de la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Verdana"/>
              </a:rPr>
              <a:t>                                             </a:t>
            </a:r>
            <a:r>
              <a:rPr b="1" lang="es-AR" sz="1800" spc="-1" strike="noStrike">
                <a:solidFill>
                  <a:srgbClr val="000000"/>
                </a:solidFill>
                <a:latin typeface="Verdana"/>
              </a:rPr>
              <a:t>depend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657600" y="4343400"/>
            <a:ext cx="304920" cy="2133720"/>
          </a:xfrm>
          <a:custGeom>
            <a:avLst/>
            <a:gdLst>
              <a:gd name="textAreaLeft" fmla="*/ 194760 w 304920"/>
              <a:gd name="textAreaRight" fmla="*/ 305280 w 30492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0350"/>
                </a:lnTo>
                <a:cubicBezTo>
                  <a:pt x="10800" y="11250"/>
                  <a:pt x="5400" y="12150"/>
                  <a:pt x="0" y="12150"/>
                </a:cubicBezTo>
                <a:cubicBezTo>
                  <a:pt x="5400" y="12150"/>
                  <a:pt x="10800" y="13050"/>
                  <a:pt x="10800" y="1395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336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999900"/>
                </a:solidFill>
                <a:latin typeface="Garamond"/>
              </a:rPr>
              <a:t>Impacto en la vivienda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Verdana"/>
              </a:rPr>
              <a:t>Retraso del ciclo de rotació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s-AR" sz="2000" spc="-1" strike="noStrike">
                <a:solidFill>
                  <a:srgbClr val="000000"/>
                </a:solidFill>
                <a:latin typeface="Verdana"/>
              </a:rPr>
              <a:t>del patrimonio famili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Verdana"/>
              </a:rPr>
              <a:t>                                       </a:t>
            </a:r>
            <a:r>
              <a:rPr b="1" lang="es-AR" sz="2000" spc="-1" strike="noStrike">
                <a:solidFill>
                  <a:srgbClr val="000000"/>
                </a:solidFill>
                <a:latin typeface="Verdana"/>
              </a:rPr>
              <a:t>¿ Co – Residencia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Verdana"/>
              </a:rPr>
              <a:t>Adecuación de viviendas  a los grado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s-AR" sz="2000" spc="-1" strike="noStrike">
                <a:solidFill>
                  <a:srgbClr val="000000"/>
                </a:solidFill>
                <a:latin typeface="Verdana"/>
              </a:rPr>
              <a:t>de funcionalidad del anciano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1" lang="es-AR" sz="2000" spc="-1" strike="noStrike">
                <a:solidFill>
                  <a:srgbClr val="000000"/>
                </a:solidFill>
                <a:latin typeface="Verdana"/>
              </a:rPr>
              <a:t>Componente hotelero, sanitario-asistencial y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1" lang="es-AR" sz="2000" spc="-1" strike="noStrike">
                <a:solidFill>
                  <a:srgbClr val="000000"/>
                </a:solidFill>
                <a:latin typeface="Verdana"/>
              </a:rPr>
              <a:t>social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Verdana"/>
              </a:rPr>
              <a:t>                                    </a:t>
            </a:r>
            <a:r>
              <a:rPr b="1" lang="es-AR" sz="2000" spc="-1" strike="noStrike">
                <a:solidFill>
                  <a:srgbClr val="000000"/>
                </a:solidFill>
                <a:latin typeface="Verdana"/>
              </a:rPr>
              <a:t>¿A quien corresponde l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Verdana"/>
              </a:rPr>
              <a:t>                                      </a:t>
            </a:r>
            <a:r>
              <a:rPr b="1" lang="es-AR" sz="2000" spc="-1" strike="noStrike">
                <a:solidFill>
                  <a:srgbClr val="000000"/>
                </a:solidFill>
                <a:latin typeface="Verdana"/>
              </a:rPr>
              <a:t>cobertura de gastos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Verdana"/>
              </a:rPr>
              <a:t>Zonas geográficas especial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 rot="5400000">
            <a:off x="2952720" y="2457360"/>
            <a:ext cx="609480" cy="419040"/>
          </a:xfrm>
          <a:custGeom>
            <a:avLst/>
            <a:gdLst>
              <a:gd name="textAreaLeft" fmla="*/ 203040 w 609480"/>
              <a:gd name="textAreaRight" fmla="*/ 522000 w 609480"/>
              <a:gd name="textAreaTop" fmla="*/ 271440 h 419040"/>
              <a:gd name="textAreaBottom" fmla="*/ 358920 h 419040"/>
            </a:gdLst>
            <a:ahLst/>
            <a:rect l="textAreaLeft" t="textAreaTop" r="textAreaRight" b="textAreaBottom"/>
            <a:pathLst>
              <a:path w="21600" h="21600">
                <a:moveTo>
                  <a:pt x="0" y="17094"/>
                </a:moveTo>
                <a:lnTo>
                  <a:pt x="13994" y="17094"/>
                </a:lnTo>
                <a:lnTo>
                  <a:pt x="13994" y="7200"/>
                </a:lnTo>
                <a:lnTo>
                  <a:pt x="10894" y="7200"/>
                </a:lnTo>
                <a:lnTo>
                  <a:pt x="16247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2647800" y="5048280"/>
            <a:ext cx="609840" cy="419040"/>
          </a:xfrm>
          <a:custGeom>
            <a:avLst/>
            <a:gdLst>
              <a:gd name="textAreaLeft" fmla="*/ 203400 w 609840"/>
              <a:gd name="textAreaRight" fmla="*/ 522360 w 609840"/>
              <a:gd name="textAreaTop" fmla="*/ 271440 h 419040"/>
              <a:gd name="textAreaBottom" fmla="*/ 358920 h 419040"/>
            </a:gdLst>
            <a:ahLst/>
            <a:rect l="textAreaLeft" t="textAreaTop" r="textAreaRight" b="textAreaBottom"/>
            <a:pathLst>
              <a:path w="21600" h="21600">
                <a:moveTo>
                  <a:pt x="0" y="17094"/>
                </a:moveTo>
                <a:lnTo>
                  <a:pt x="13994" y="17094"/>
                </a:lnTo>
                <a:lnTo>
                  <a:pt x="13994" y="7200"/>
                </a:lnTo>
                <a:lnTo>
                  <a:pt x="10894" y="7200"/>
                </a:lnTo>
                <a:lnTo>
                  <a:pt x="16247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5400000">
            <a:off x="1161720" y="4171680"/>
            <a:ext cx="685800" cy="419400"/>
          </a:xfrm>
          <a:custGeom>
            <a:avLst/>
            <a:gdLst>
              <a:gd name="textAreaLeft" fmla="*/ 137520 w 685800"/>
              <a:gd name="textAreaRight" fmla="*/ 566280 w 685800"/>
              <a:gd name="textAreaTop" fmla="*/ 284760 h 419400"/>
              <a:gd name="textAreaBottom" fmla="*/ 346320 h 419400"/>
            </a:gdLst>
            <a:ahLst/>
            <a:rect l="textAreaLeft" t="textAreaTop" r="textAreaRight" b="textAreaBottom"/>
            <a:pathLst>
              <a:path w="21600" h="21600">
                <a:moveTo>
                  <a:pt x="0" y="18432"/>
                </a:moveTo>
                <a:lnTo>
                  <a:pt x="14663" y="18432"/>
                </a:lnTo>
                <a:lnTo>
                  <a:pt x="14663" y="4336"/>
                </a:lnTo>
                <a:lnTo>
                  <a:pt x="10894" y="4336"/>
                </a:lnTo>
                <a:lnTo>
                  <a:pt x="16247" y="0"/>
                </a:lnTo>
                <a:lnTo>
                  <a:pt x="21600" y="4336"/>
                </a:lnTo>
                <a:lnTo>
                  <a:pt x="17831" y="4336"/>
                </a:lnTo>
                <a:lnTo>
                  <a:pt x="1783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760" bIns="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999900"/>
                </a:solidFill>
                <a:latin typeface="Garamond"/>
              </a:rPr>
              <a:t>Impacto en el mercado de consumo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23880" y="464832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Verdana"/>
              </a:rPr>
              <a:t>Reorientar el mercado a la “salud” y no a la “enfermedad” a fin de favorecer un “envejecimiento saludable”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"/>
          <p:cNvSpPr/>
          <p:nvPr/>
        </p:nvSpPr>
        <p:spPr>
          <a:xfrm>
            <a:off x="1724400" y="1836720"/>
            <a:ext cx="5571000" cy="15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s-AR" sz="2200" spc="-1" strike="noStrike">
                <a:solidFill>
                  <a:srgbClr val="000000"/>
                </a:solidFill>
                <a:latin typeface="Verdana"/>
              </a:rPr>
              <a:t>El anciano  es considerad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Verdana"/>
              </a:rPr>
              <a:t>un residuo del mercad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Verdana"/>
              </a:rPr>
              <a:t>no requerido en términos de consum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14400" y="3657600"/>
            <a:ext cx="7162920" cy="533520"/>
          </a:xfrm>
          <a:custGeom>
            <a:avLst/>
            <a:gdLst>
              <a:gd name="textAreaLeft" fmla="*/ 1790640 w 7162920"/>
              <a:gd name="textAreaRight" fmla="*/ 5372280 w 7162920"/>
              <a:gd name="textAreaTop" fmla="*/ 1548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Verdana"/>
              </a:rPr>
              <a:t>PARADIG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5400000">
            <a:off x="3428640" y="3276720"/>
            <a:ext cx="1981080" cy="1523880"/>
          </a:xfrm>
          <a:prstGeom prst="lightningBol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999900"/>
                </a:solidFill>
                <a:latin typeface="Garamond"/>
              </a:rPr>
              <a:t>Impacto en el mercado de consumo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867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Verdana"/>
              </a:rPr>
              <a:t>Reciclar dentro del mercado de consumo el haber jubilatori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s-AR" sz="1800" spc="-1" strike="noStrike">
                <a:solidFill>
                  <a:srgbClr val="000000"/>
                </a:solidFill>
                <a:latin typeface="Verdana"/>
              </a:rPr>
              <a:t>. Adecuación de ofer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s-AR" sz="1800" spc="-1" strike="noStrike">
                <a:solidFill>
                  <a:srgbClr val="000000"/>
                </a:solidFill>
                <a:latin typeface="Verdana"/>
              </a:rPr>
              <a:t>. Accesibilidad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1" lang="es-AR" sz="1800" spc="-1" strike="noStrike">
                <a:solidFill>
                  <a:srgbClr val="000000"/>
                </a:solidFill>
                <a:latin typeface="Verdana"/>
              </a:rPr>
              <a:t>Feminización de la vejez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s-AR" sz="1800" spc="-1" strike="noStrike">
                <a:solidFill>
                  <a:srgbClr val="000000"/>
                </a:solidFill>
                <a:latin typeface="Verdana"/>
              </a:rPr>
              <a:t>. Asistencia nutricion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447920" y="3733920"/>
            <a:ext cx="2057400" cy="11998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6400800" y="1676520"/>
            <a:ext cx="2046240" cy="13683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6400800" y="1676520"/>
            <a:ext cx="2111400" cy="13716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209680" y="5257800"/>
            <a:ext cx="4496040" cy="13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Verdana"/>
              </a:rPr>
              <a:t>Turismo social inte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Verdana"/>
              </a:rPr>
              <a:t>Turismo internac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3520" y="5257800"/>
            <a:ext cx="14475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Verdana"/>
              </a:rPr>
              <a:t>Turism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Verdana"/>
              </a:rPr>
              <a:t>pa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Verdana"/>
              </a:rPr>
              <a:t>anci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133720" y="5181480"/>
            <a:ext cx="75960" cy="1219320"/>
          </a:xfrm>
          <a:custGeom>
            <a:avLst/>
            <a:gdLst>
              <a:gd name="textAreaLeft" fmla="*/ 48600 w 75960"/>
              <a:gd name="textAreaRight" fmla="*/ 76320 w 7596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0400" y="3886200"/>
            <a:ext cx="5486400" cy="11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Verdana"/>
              </a:rPr>
              <a:t>Actividades Físico – Recre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images" descr=""/>
          <p:cNvPicPr/>
          <p:nvPr/>
        </p:nvPicPr>
        <p:blipFill>
          <a:blip r:embed="rId4"/>
          <a:stretch/>
        </p:blipFill>
        <p:spPr>
          <a:xfrm>
            <a:off x="6019920" y="5029200"/>
            <a:ext cx="2133360" cy="11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999900"/>
                </a:solidFill>
                <a:latin typeface="Garamond"/>
              </a:rPr>
              <a:t>Reflexión fin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788000" y="2060640"/>
            <a:ext cx="3728880" cy="41878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762120" y="2057400"/>
            <a:ext cx="3384360" cy="41767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219320" y="2895480"/>
            <a:ext cx="25905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Verdana"/>
              </a:rPr>
              <a:t>Derecho a abandonar este mundo de una manera digna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-1295280" y="0"/>
            <a:ext cx="6705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Garamond"/>
              </a:rPr>
              <a:t>Muchas Graci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Garamond"/>
              </a:rPr>
              <a:t>por su atención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114800" y="5791320"/>
            <a:ext cx="54864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Verdana"/>
              </a:rPr>
              <a:t>Dr. C.P. Pablo C. del Rí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666600"/>
                </a:solidFill>
                <a:latin typeface="Verdana"/>
              </a:rPr>
              <a:t>pablodelrio@delrioyasociados.com.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-685800" y="5791320"/>
            <a:ext cx="57913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Verdana"/>
              </a:rPr>
              <a:t>Dra. C.P. Alejandra A. Fernánde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666600"/>
                </a:solidFill>
                <a:latin typeface="Verdana"/>
              </a:rPr>
              <a:t>afernandez@dmfyasociados.com.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999900"/>
                </a:solidFill>
                <a:latin typeface="Garamond"/>
              </a:rPr>
              <a:t>Concepto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505320" y="2895480"/>
            <a:ext cx="2438280" cy="22100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80880" y="1981080"/>
            <a:ext cx="3124440" cy="48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Verdana"/>
              </a:rPr>
              <a:t>E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Verdana"/>
              </a:rPr>
              <a:t>envejecimiento poblacion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Verdana"/>
              </a:rPr>
              <a:t>es sólo un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Verdana"/>
              </a:rPr>
              <a:t>de la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Verdana"/>
              </a:rPr>
              <a:t>múltipl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Verdana"/>
              </a:rPr>
              <a:t>faceta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Verdana"/>
              </a:rPr>
              <a:t>de l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s-ES" sz="2200" spc="-1" strike="noStrike">
                <a:solidFill>
                  <a:srgbClr val="000000"/>
                </a:solidFill>
                <a:latin typeface="Verdana"/>
              </a:rPr>
              <a:t>transición demográfica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48520" y="2133720"/>
            <a:ext cx="2590560" cy="36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Verdana"/>
              </a:rPr>
              <a:t>L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Verdana"/>
              </a:rPr>
              <a:t>factores que determinan el envejecimiento poblacional son tres: la fertilidad, la mortalidad  y los fenómenos migrato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999900"/>
                </a:solidFill>
                <a:latin typeface="Garamond"/>
              </a:rPr>
              <a:t>La situación mundial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El envejecimiento de la población mundial es un hecho que se ha acelera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En el siglo XX</a:t>
            </a:r>
            <a:r>
              <a:rPr b="1" lang="es-AR" sz="2400" spc="-1" strike="noStrike">
                <a:solidFill>
                  <a:srgbClr val="000000"/>
                </a:solidFill>
                <a:latin typeface="Verdana"/>
              </a:rPr>
              <a:t>, el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AR" sz="2400" spc="-1" strike="noStrike">
                <a:solidFill>
                  <a:srgbClr val="999900"/>
                </a:solidFill>
                <a:latin typeface="Verdana"/>
              </a:rPr>
              <a:t>“Siglo del Envejecimiento”</a:t>
            </a:r>
            <a:r>
              <a:rPr b="1" lang="es-AR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es-AR" sz="2400" spc="-1" strike="noStrike">
                <a:solidFill>
                  <a:srgbClr val="999900"/>
                </a:solidFill>
                <a:latin typeface="Verdana"/>
              </a:rPr>
              <a:t> </a:t>
            </a:r>
            <a:r>
              <a:rPr b="1" lang="es-A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e produjo la revolución de la longevidad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Verdana"/>
              </a:rPr>
              <a:t>                       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093080" y="136440"/>
            <a:ext cx="1224000" cy="1174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572000" y="4724280"/>
            <a:ext cx="4572000" cy="15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cc9900"/>
                </a:solidFill>
                <a:latin typeface="Verdana"/>
              </a:rPr>
              <a:t>1950:  46 añ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cc9900"/>
                </a:solidFill>
                <a:latin typeface="Verdana"/>
              </a:rPr>
              <a:t>2005:  66 añ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cc9900"/>
                </a:solidFill>
                <a:latin typeface="Verdana"/>
              </a:rPr>
              <a:t>2050:  76 añ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495288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c9900"/>
                </a:solidFill>
                <a:latin typeface="Verdana"/>
              </a:rPr>
              <a:t>Esperanza media de vida al na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800600" y="4648320"/>
            <a:ext cx="457200" cy="1523880"/>
          </a:xfrm>
          <a:custGeom>
            <a:avLst/>
            <a:gdLst>
              <a:gd name="textAreaLeft" fmla="*/ 292320 w 457200"/>
              <a:gd name="textAreaRight" fmla="*/ 457560 w 4572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999900"/>
                </a:solidFill>
                <a:latin typeface="Garamond"/>
              </a:rPr>
              <a:t>La situación en Argentina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3º País de Latinoamérica con mayor tasa de envejecimiento,  detrás de Uruguay y Cub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Hoy en día el 13,3 % de la población tiene más de 60 años. En el 2050 será </a:t>
            </a:r>
            <a:r>
              <a:rPr b="1" lang="es-AR" sz="2000" spc="-1" strike="noStrike">
                <a:solidFill>
                  <a:srgbClr val="000000"/>
                </a:solidFill>
                <a:latin typeface="Verdana"/>
              </a:rPr>
              <a:t>el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23%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Verdana"/>
              </a:rPr>
              <a:t>Factores de análisis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Tasa de natalidad elevada: 2,6 niños por muj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Esperanza de vida de 73 años (similar Europa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s-MX" sz="2200" spc="-1" strike="noStrike">
                <a:solidFill>
                  <a:srgbClr val="666600"/>
                </a:solidFill>
                <a:latin typeface="Verdana"/>
              </a:rPr>
              <a:t>Los países desarrollados se hicieron ricos antes de volverse viejos, los países en vías de desarrollo se están volviendo viejos antes de haber logrado volverse ricos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images8" descr=""/>
          <p:cNvPicPr/>
          <p:nvPr/>
        </p:nvPicPr>
        <p:blipFill>
          <a:blip r:embed="rId1"/>
          <a:stretch/>
        </p:blipFill>
        <p:spPr>
          <a:xfrm>
            <a:off x="6781680" y="304920"/>
            <a:ext cx="1521000" cy="100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5800" spc="-1" strike="noStrike">
                <a:solidFill>
                  <a:srgbClr val="999900"/>
                </a:solidFill>
                <a:latin typeface="Garamond"/>
              </a:rPr>
              <a:t>Análisis Macroeconómico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084720" y="3500280"/>
            <a:ext cx="22942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99900"/>
                </a:solidFill>
                <a:latin typeface="Garamond"/>
              </a:rPr>
              <a:t>Impacto en los regímenes previsionales y en la renta</a:t>
            </a:r>
            <a:r>
              <a:rPr b="0" lang="es-MX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Verdana"/>
              </a:rPr>
              <a:t>Los sistemas jubilatorios se van a enfrentar, por un lado, a la jubilación de los niños nacidos durante el </a:t>
            </a:r>
            <a:r>
              <a:rPr b="1" i="1" lang="es-ES" sz="2200" spc="-1" strike="noStrike">
                <a:solidFill>
                  <a:srgbClr val="000000"/>
                </a:solidFill>
                <a:latin typeface="Verdana"/>
              </a:rPr>
              <a:t>baby boom </a:t>
            </a:r>
            <a:r>
              <a:rPr b="1" lang="es-ES" sz="2200" spc="-1" strike="noStrike">
                <a:solidFill>
                  <a:srgbClr val="000000"/>
                </a:solidFill>
                <a:latin typeface="Verdana"/>
              </a:rPr>
              <a:t>y, por otro, al aumento en la esperanza media de vida de las personas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Verdana"/>
              </a:rPr>
              <a:t>El resultado final será un aumento considerable del gasto en pensiones que deberá ser costeado por una población activa aminorada por las bajas tasas de natalidad actuales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Verdana"/>
              </a:rPr>
              <a:t>El sistema se enfrenta al dilema de aumentar las cotizaciones o disminuir las prestacion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999900"/>
                </a:solidFill>
                <a:latin typeface="Garamond"/>
              </a:rPr>
              <a:t>Variables del sistema jubilatorio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Verdana"/>
              </a:rPr>
              <a:t>La variable demográfica</a:t>
            </a:r>
            <a:r>
              <a:rPr b="1" lang="es-MX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2200" spc="-1" strike="noStrike">
                <a:solidFill>
                  <a:srgbClr val="000000"/>
                </a:solidFill>
                <a:latin typeface="Verdana"/>
              </a:rPr>
              <a:t>no es la variable central para el estudio del sistema jubilatorio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s-ES" sz="2200" spc="-1" strike="noStrike">
                <a:solidFill>
                  <a:srgbClr val="000000"/>
                </a:solidFill>
                <a:latin typeface="Verdana"/>
              </a:rPr>
              <a:t>Las pensiones dependen de la</a:t>
            </a:r>
            <a:r>
              <a:rPr b="1" lang="es-A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2200" spc="-1" strike="noStrike">
                <a:solidFill>
                  <a:srgbClr val="000000"/>
                </a:solidFill>
                <a:latin typeface="Verdana"/>
              </a:rPr>
              <a:t>renta o, lo que es lo mismo, de la tasa de crecimiento económico</a:t>
            </a:r>
            <a:r>
              <a:rPr b="1" lang="es-MX" sz="22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1" lang="es-ES" sz="2200" spc="-1" strike="noStrike">
                <a:solidFill>
                  <a:srgbClr val="000000"/>
                </a:solidFill>
                <a:latin typeface="Verdana"/>
              </a:rPr>
              <a:t>Si el crecimiento económico se debilita la cantidad de renta a distribuir también se debilitará y las pensiones obtenidas bajo cualquier método también se resentirán. En caso contrario no habrá motivo alguno para la preocupación</a:t>
            </a:r>
            <a:r>
              <a:rPr b="1" lang="es-MX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999900"/>
                </a:solidFill>
                <a:latin typeface="Garamond"/>
              </a:rPr>
              <a:t>Reparto y Capitalizació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Verdana"/>
              </a:rPr>
              <a:t>El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istema de reparto dispone de mecanismos de ajuste que permiten una corrección más eficiente, en términos de bienestar de la población, de las desviaciones entre lo que se estima y lo que acaba aconteciendo, que el método de la capitalización, más atado a los vaivenes de la economía</a:t>
            </a:r>
            <a:r>
              <a:rPr b="1" lang="es-MX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999900"/>
                </a:solidFill>
                <a:latin typeface="Garamond"/>
              </a:rPr>
              <a:t>Exclusión social y vejez productiva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Verdana"/>
              </a:rPr>
              <a:t>Los gobiernos deben desarrollar medidas que propicien la contribución de los ancianos, aceptando a su vez que estos esfuerzos mantendrán una economía dinámica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Verdana"/>
              </a:rPr>
              <a:t>El esfuerzo debe ir encaminado a sistemas educativos que fomenten la capacitación y el readiestramiento, garantizando así su competencia en el mercado del trabajo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999900"/>
                </a:solidFill>
                <a:latin typeface="Verdana"/>
              </a:rPr>
              <a:t>Proponemos la creación de centros de formación de oficios con ancianos docent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5T13:09:13Z</dcterms:created>
  <dc:creator>Pablo</dc:creator>
  <dc:description/>
  <dc:language>en-US</dc:language>
  <cp:lastModifiedBy>C.P.C.E.C.A.B.A.</cp:lastModifiedBy>
  <dcterms:modified xsi:type="dcterms:W3CDTF">2005-10-18T19:26:04Z</dcterms:modified>
  <cp:revision>47</cp:revision>
  <dc:subject/>
  <dc:title>El envejecimiento poblacional en las sociedades del nuevo milenio</dc:title>
</cp:coreProperties>
</file>