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CBA-4DA4-4135-9A72-A9C41A99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98F-5D3D-4878-B8C7-2F7701BB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09F-8215-4749-915C-7D5FC2BD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8E2-AB7B-42AE-976B-156F23C9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61EE-41AD-4F9B-A06D-F9A774C6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B10C-AD1B-43B7-9CC8-D1E03C2A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9DB2-7B94-4944-ABEC-A470D94C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0440-C5C9-431A-A006-3D9018F2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EBFA-AB57-48A0-8617-7509F42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26820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F285-6BF7-4B50-A74E-D0926FB7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A3A9-F5BA-493C-9E9C-1BC2C5A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822-9578-4D93-B74B-9E0A2CFA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096D-3174-431F-947E-2190E5F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08EA-0C9E-4CAE-9836-A9EF5A1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7D5A-F8C7-4691-A5B4-F1CC9A8D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012F-9D80-4825-904B-995A2037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94D8-CDBC-41E4-A489-93BBAD93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D0F-9C6B-43A6-9880-BC8225C0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7D0-AE15-4722-9686-1F4FD89B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8F0-41DD-483C-9CE6-BB2694ED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26820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384-E51E-4248-A3CA-4C638A33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DEF-D87E-48C4-928A-AB363525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0BC-DB1A-4F83-AD75-51CD6A93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C3E-D7FA-45A1-AB04-436AC4CF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d4337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E09B-20B0-495D-90AE-AD8465ABFE80}" type="slidenum">
              <a:rPr b="0" lang="es-ES" sz="1400" spc="-1" strike="noStrike">
                <a:solidFill>
                  <a:srgbClr val="1d4337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d4337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B349-1872-44BC-8E79-C98D6F4A649C}" type="slidenum">
              <a:rPr b="0" lang="es-ES" sz="1400" spc="-1" strike="noStrike">
                <a:solidFill>
                  <a:srgbClr val="1d4337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337"/>
                </a:solidFill>
                <a:latin typeface="Verdana"/>
              </a:rPr>
              <a:t>3º Congreso Internacional de la Seguridad Social</a:t>
            </a:r>
            <a:br>
              <a:rPr sz="4000"/>
            </a:br>
            <a:r>
              <a:rPr b="1" lang="en-US" sz="4000" spc="-1" strike="noStrike">
                <a:solidFill>
                  <a:srgbClr val="1d4337"/>
                </a:solidFill>
                <a:latin typeface="Verdana"/>
              </a:rPr>
              <a:t>"Un camino hacia la equidad”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3647880"/>
            <a:ext cx="853416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337"/>
                </a:solidFill>
                <a:latin typeface="Arial"/>
              </a:rPr>
              <a:t>Consejo Profesional de Ciencias Económicas de la Ciudad de Buenos Aires</a:t>
            </a:r>
            <a:endParaRPr b="1" lang="en-US" sz="1600" spc="-1" strike="noStrike">
              <a:solidFill>
                <a:srgbClr val="1d4337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337"/>
                </a:solidFill>
                <a:latin typeface="Arial"/>
              </a:rPr>
              <a:t>Octubre 2005</a:t>
            </a:r>
            <a:endParaRPr b="1" lang="en-US" sz="16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876920"/>
            <a:ext cx="7696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d4337"/>
                </a:solidFill>
                <a:latin typeface="Arial"/>
              </a:rPr>
              <a:t>El Trabajador Migrante </a:t>
            </a:r>
            <a:br>
              <a:rPr sz="2800"/>
            </a:br>
            <a:r>
              <a:rPr b="0" lang="es-ES_tradnl" sz="2800" spc="-1" strike="noStrike">
                <a:solidFill>
                  <a:srgbClr val="1d4337"/>
                </a:solidFill>
                <a:latin typeface="Arial"/>
              </a:rPr>
              <a:t>Acuerdo Mercosur - Acuerdo con España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8200"/>
            <a:ext cx="8291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944"/>
                </a:solidFill>
                <a:latin typeface="Arial"/>
              </a:rPr>
              <a:t>1º REUNION DE LA COMISION MULTILATERAL</a:t>
            </a:r>
            <a:endParaRPr b="1" lang="en-US" sz="3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861920"/>
            <a:ext cx="7315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d4337"/>
                </a:solidFill>
                <a:latin typeface="Arial"/>
              </a:rPr>
              <a:t>Buenos Aires,12 de Octubre de 2005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d4337"/>
                </a:solidFill>
                <a:latin typeface="Arial"/>
              </a:rPr>
              <a:t>Art. 5 - .... recomendar la urgente realización de una reunión técnica para la discusión de las prestaciones de salud, a partir del análisis de las particularidades de los sistemas de cada país..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876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COBERTURA DE SALUD PARA EMIGRANTES ESPAÑOLES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5201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d4944"/>
                </a:solidFill>
                <a:latin typeface="Arial"/>
              </a:rPr>
              <a:t>PROGRAMA DE ASISTENCIA SANITARIA PARA EMIGRANTES ESPAÑOLES RESIDENTES EN ARGENTINA</a:t>
            </a:r>
            <a:endParaRPr b="1" lang="en-US" sz="27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6999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d4337"/>
                </a:solidFill>
                <a:latin typeface="Arial"/>
              </a:rPr>
              <a:t>Convenio entre el Ministerio de Trabajo y Asuntos Sociales del Reino de España y el Ministerio de Salud y Ambiente de la República Argentina para la Prestación de Asistencia Sanitaria</a:t>
            </a:r>
            <a:endParaRPr b="0" lang="en-US" sz="27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5201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d4944"/>
                </a:solidFill>
                <a:latin typeface="Arial"/>
              </a:rPr>
              <a:t>PROGRAMA DE ASISTENCIA SANITARIA PARA EMIGRANTES ESPAÑOLES RESIDENTES EN ARGENTINA</a:t>
            </a:r>
            <a:endParaRPr b="1" lang="en-US" sz="27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Beneficiarios del Programa</a:t>
            </a:r>
            <a:r>
              <a:rPr b="0" lang="en-US" sz="2300" spc="-1" strike="noStrike">
                <a:solidFill>
                  <a:srgbClr val="1d4337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Emigrantes de nacionalidad española residentes legalmente en la Argentina: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7a8e32"/>
              </a:buClr>
              <a:buSzPct val="75000"/>
              <a:buFont typeface="Wingdings" charset="2"/>
              <a:buChar char="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Perceptores de pensiones asistenciales por ancianidad, o de las ayudas asistenciales ordinarias por incapacidad permanente para el trabajo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7a8e32"/>
              </a:buClr>
              <a:buSzPct val="75000"/>
              <a:buFont typeface="Wingdings" charset="2"/>
              <a:buChar char="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Que atraviesen una situación de precariedad económica, con autorización de la Conserjería de Trabajo y Asuntos Sociales de la Embajada de España en Argentina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Cónyuges de los beneficiarios referidos, con nacionalidad española y que dependan económicamente de éstos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5201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d4944"/>
                </a:solidFill>
                <a:latin typeface="Arial"/>
              </a:rPr>
              <a:t>PROGRAMA DE ASISTENCIA SANITARIA PARA EMIGRANTES ESPAÑOLES RESIDENTES EN ARGENTINA</a:t>
            </a:r>
            <a:endParaRPr b="1" lang="en-US" sz="27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532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Prestaciones incluidas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2500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Programa Médico Obligatorio de Emergencia y sus modificatorias (Resolución Nº 201/2002 MS, 310/2004 MS, 758/2004 MS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2500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Programa Médico Complementario (Anexo del Convenio entre el Ministerio de Trabajo y Asuntos Sociales del Reino de España y el Ministerio de Salud y Ambiente de la República Argentina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5201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d4944"/>
                </a:solidFill>
                <a:latin typeface="Arial"/>
              </a:rPr>
              <a:t>PROGRAMA DE ASISTENCIA SANITARIA PARA EMIGRANTES ESPAÑOLES RESIDENTES EN ARGENTINA</a:t>
            </a:r>
            <a:endParaRPr b="1" lang="en-US" sz="27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89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Podrán brindarán cobertura: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Las Obras Sociales que se inscriban en el Registro creado a tal efecto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Componente Económico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€ </a:t>
            </a: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6 (por PMO para mayores de 70 años) + € 12 (por PMC)</a:t>
            </a:r>
            <a:endParaRPr b="0" lang="en-US" sz="19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€ </a:t>
            </a: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12 (por PMC a beneficiarios con cobertura de PAMI o una Obra Social del Sistema)</a:t>
            </a:r>
            <a:endParaRPr b="0" lang="en-US" sz="19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€ </a:t>
            </a: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12 (por PMC para los cónyuges de los beneficiarios)</a:t>
            </a:r>
            <a:endParaRPr b="0" lang="en-US" sz="19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€ </a:t>
            </a: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24 (por PMO y PMC a beneficiarios que carecen de cobertura del Sistema)</a:t>
            </a:r>
            <a:endParaRPr b="0" lang="en-US" sz="19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876560"/>
            <a:ext cx="80643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COBERTURA DE SALUD EN EL MERCOSUR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944"/>
                </a:solidFill>
                <a:latin typeface="Arial"/>
              </a:rPr>
              <a:t>CONVENIO MULTILATERAL DE SEGURIDAD SOCIAL - MERCOSUR</a:t>
            </a:r>
            <a:endParaRPr b="1" lang="en-US" sz="34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87" name="argentina1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95256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brasil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95256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paraguay1" descr=""/>
          <p:cNvPicPr/>
          <p:nvPr/>
        </p:nvPicPr>
        <p:blipFill>
          <a:blip r:embed="rId4"/>
          <a:stretch/>
        </p:blipFill>
        <p:spPr>
          <a:xfrm>
            <a:off x="4724280" y="1981080"/>
            <a:ext cx="95256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uruguay" descr=""/>
          <p:cNvPicPr/>
          <p:nvPr/>
        </p:nvPicPr>
        <p:blipFill>
          <a:blip r:embed="rId5"/>
          <a:stretch/>
        </p:blipFill>
        <p:spPr>
          <a:xfrm>
            <a:off x="6324480" y="1981080"/>
            <a:ext cx="952560" cy="6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1828800"/>
            <a:ext cx="7696080" cy="1143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2" name="mercosur" descr=""/>
          <p:cNvPicPr/>
          <p:nvPr/>
        </p:nvPicPr>
        <p:blipFill>
          <a:blip r:embed="rId6"/>
          <a:stretch/>
        </p:blipFill>
        <p:spPr>
          <a:xfrm>
            <a:off x="3733920" y="1905120"/>
            <a:ext cx="1523880" cy="976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36576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1d4337"/>
                </a:solidFill>
                <a:latin typeface="Arial"/>
              </a:rPr>
              <a:t>En caso de traslado a cualquiera de los tres restantes países del Mercosur, permite continuar con las prestaciones a cargo de la obra social de origen, para el titular y el grupo familiar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1d4337"/>
                </a:solidFill>
                <a:latin typeface="Arial"/>
              </a:rPr>
              <a:t>Vigencia 01/Junio/2005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68200"/>
            <a:ext cx="8748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ÁMBITO DE APLICACIÓN PERSONAL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2057400"/>
            <a:ext cx="8280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d4337"/>
                </a:solidFill>
                <a:latin typeface="Arial"/>
              </a:rPr>
              <a:t>Art. 2 - Los derechos de Seguridad Social se reconocerán a los trabajadores que presten o hayan prestado servicios en cualquiera de los estados partes reconociéndoles, así como a sus familiares y asimilados, los mismos derechos y estando sujetos a las mismas obligaciones que los nacionales de dichos Estados Parte, con respecto a los mencionados en el acuerdo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d4337"/>
                </a:solidFill>
                <a:latin typeface="Arial"/>
              </a:rPr>
              <a:t>Art. 3 - El Acuerdo será aplicado de conformidad con la legislación de la Seguridad Social referente a las prestaciones contributivas pecuniarias y de salud existentes en los Estados Partes, concediendo cada uno de ellos las prestaciones (pecuniarias y de salud) de acuerdo a su propia legislación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ÁMBITO MATERIAL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ÁMBITO PRESTACIONAL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1d4337"/>
                </a:solidFill>
                <a:latin typeface="Arial"/>
              </a:rPr>
              <a:t>Título V - Art. 6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1d4337"/>
                </a:solidFill>
                <a:latin typeface="Arial"/>
              </a:rPr>
              <a:t>1. Las prestaciones de salud serán otorgadas al trabajador trasladado temporalmente al territorio de otro Estado Parte así como a sus familiares y asimilados, siempre que la Entidad Gestora del Estado de origen autorice su otorgamiento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1d4337"/>
                </a:solidFill>
                <a:latin typeface="Arial"/>
              </a:rPr>
              <a:t>2. Los costes que se originen de acuerdo con lo previsto en el apartado anterior, correrán a cargo de la Entidad Gestora que haya autorizado la prestación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1d4944"/>
                </a:solidFill>
                <a:latin typeface="Arial"/>
              </a:rPr>
              <a:t>REGLAMENTO ADMINISTRATIVO PARA LA APLICACIÓN DEL ACUERDO</a:t>
            </a:r>
            <a:endParaRPr b="1" lang="en-US" sz="3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d4337"/>
                </a:solidFill>
                <a:latin typeface="Arial"/>
              </a:rPr>
              <a:t>Entidades Gestoras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7a8e3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1d4337"/>
                </a:solidFill>
                <a:latin typeface="Arial"/>
              </a:rPr>
              <a:t>ARGENTINA</a:t>
            </a:r>
            <a:endParaRPr b="0" lang="en-US" sz="2100" spc="-1" strike="noStrike">
              <a:solidFill>
                <a:srgbClr val="1d4337"/>
              </a:solidFill>
              <a:latin typeface="Arial"/>
            </a:endParaRPr>
          </a:p>
          <a:p>
            <a:pPr lvl="2" marL="1131480" indent="-22608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Superintendencia de Servicios de Salud (como continuadora de la ANSSAL - Dec. 1615/96)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2" marL="1131480" indent="-22608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Anses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2" marL="1131480" indent="-22608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Cajas o Institutos Municipales o Provinciales de Previsión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2" marL="1131480" indent="-22608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Superintendencia de AFJP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2" marL="1131480" indent="-22608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AFJP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7a8e3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1d4337"/>
                </a:solidFill>
                <a:latin typeface="Arial"/>
              </a:rPr>
              <a:t>BRASIL</a:t>
            </a:r>
            <a:endParaRPr b="0" lang="en-US" sz="2100" spc="-1" strike="noStrike">
              <a:solidFill>
                <a:srgbClr val="1d4337"/>
              </a:solidFill>
              <a:latin typeface="Arial"/>
            </a:endParaRPr>
          </a:p>
          <a:p>
            <a:pPr lvl="2" marL="1131480" indent="-22608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Instituto Nacional del Seguro Social (INSS)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2" marL="1131480" indent="-22608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Ministerio de la Salud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7a8e3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1d4337"/>
                </a:solidFill>
                <a:latin typeface="Arial"/>
              </a:rPr>
              <a:t>PARAGUAY</a:t>
            </a:r>
            <a:endParaRPr b="0" lang="en-US" sz="2100" spc="-1" strike="noStrike">
              <a:solidFill>
                <a:srgbClr val="1d4337"/>
              </a:solidFill>
              <a:latin typeface="Arial"/>
            </a:endParaRPr>
          </a:p>
          <a:p>
            <a:pPr lvl="2" marL="1131480" indent="-22608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Instituto de Previsión Social (IPS)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7a8e3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1d4337"/>
                </a:solidFill>
                <a:latin typeface="Arial"/>
              </a:rPr>
              <a:t>URUGUAY</a:t>
            </a:r>
            <a:endParaRPr b="0" lang="en-US" sz="2100" spc="-1" strike="noStrike">
              <a:solidFill>
                <a:srgbClr val="1d4337"/>
              </a:solidFill>
              <a:latin typeface="Arial"/>
            </a:endParaRPr>
          </a:p>
          <a:p>
            <a:pPr lvl="2" marL="1131480" indent="-22608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Banco de Previsión Social (BPS)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2682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1d4944"/>
                </a:solidFill>
                <a:latin typeface="Arial"/>
              </a:rPr>
              <a:t>REGLAMENTO ADMINISTRATIVO PARA LA APLICACIÓN DEL ACUERDO</a:t>
            </a:r>
            <a:endParaRPr b="1" lang="en-US" sz="3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d4337"/>
                </a:solidFill>
                <a:latin typeface="Arial"/>
              </a:rPr>
              <a:t>Organismos de Enlace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7a8e3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1d4337"/>
                </a:solidFill>
                <a:latin typeface="Arial"/>
              </a:rPr>
              <a:t>ARGENTINA</a:t>
            </a:r>
            <a:endParaRPr b="0" lang="en-US" sz="21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Superintendencia de Servicios de Salud (como continuadora de la ANSSAL - Dec. 1615/96)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Anses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7a8e3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1d4337"/>
                </a:solidFill>
                <a:latin typeface="Arial"/>
              </a:rPr>
              <a:t>BRASIL</a:t>
            </a:r>
            <a:endParaRPr b="0" lang="en-US" sz="21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Instituto Nacional del Seguro Social (INSS)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Ministerio de la Salud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7a8e3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1d4337"/>
                </a:solidFill>
                <a:latin typeface="Arial"/>
              </a:rPr>
              <a:t>PARAGUAY</a:t>
            </a:r>
            <a:endParaRPr b="0" lang="en-US" sz="21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Instituto de Previsión Social (IPS)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7a8e3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1d4337"/>
                </a:solidFill>
                <a:latin typeface="Arial"/>
              </a:rPr>
              <a:t>URUGUAY</a:t>
            </a:r>
            <a:endParaRPr b="0" lang="en-US" sz="21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7a8e32"/>
              </a:buClr>
              <a:buSzPct val="7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1d4337"/>
                </a:solidFill>
                <a:latin typeface="Arial"/>
              </a:rPr>
              <a:t>Banco de Previsión Social (BPS)</a:t>
            </a:r>
            <a:endParaRPr b="0" lang="en-US" sz="17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1d4944"/>
                </a:solidFill>
                <a:latin typeface="Arial"/>
              </a:rPr>
              <a:t>REGLAMENTO ADMINISTRATIVO PARA LA APLICACIÓN DEL ACUERDO</a:t>
            </a:r>
            <a:endParaRPr b="1" lang="en-US" sz="3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162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937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d4337"/>
                </a:solidFill>
                <a:latin typeface="Arial"/>
              </a:rPr>
              <a:t>Prestaciones Comprometidas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3937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d4337"/>
                </a:solidFill>
                <a:latin typeface="Arial"/>
              </a:rPr>
              <a:t>Modos y Mecanismos de cobertura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3937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d4337"/>
                </a:solidFill>
                <a:latin typeface="Arial"/>
              </a:rPr>
              <a:t>Extraterritorialidad de la ley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39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3:51:19Z</dcterms:created>
  <dc:creator>Andrea Bernadaz</dc:creator>
  <dc:description/>
  <dc:language>en-US</dc:language>
  <cp:lastModifiedBy>C.P.C.E.C.A.B.A.</cp:lastModifiedBy>
  <dcterms:modified xsi:type="dcterms:W3CDTF">2005-10-21T16:52:36Z</dcterms:modified>
  <cp:revision>26</cp:revision>
  <dc:subject/>
  <dc:title>3º Congreso Internacional de la Seguridad Social "Un camino hacia la equidad”   Aspectos conflictivos y asignaturas pendientes</dc:title>
</cp:coreProperties>
</file>