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AEE7-6424-4DA5-A212-442058354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l trabajo tiene dos partes; una que determina los efectos redistributivos de manera teórica y los cuantifica; y otra que aborda el caso argenti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n esta última parte se revisan las reglas de valuación del FJP y se muestran algunos indicadores del valor del fon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sto último implica que las futuras compras de cuotapartes serán más caras en términos nomina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uego, existe un efecto riqueza inmediato y paralelamente se incuban otros efectos riqueza , que se develan en otros moment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modelo planteado determinó la cuantía de las difer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e compararon dos trayectorias de tres momen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Una donde no hay cambios en los precios versus otra en la que si hay una variación del precio en el momento 2  y su recuperación al nivel inicial en el tercer momen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Nuevos aportantes pierden/ganan riqueza respecto de viejos aportantes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, pues compran cuotapartes del fondo relativamente caras o bara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i se introduce una 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forma de valuar discrecional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,  varía el patrimonio de quién mantiene cuotapartes del fondo, sean 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nuevos y viejos aportantes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, en proporción a dichas tenencias, vía el ajuste del valor cuot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medida de la redistribución depende del monto de los nuevos aportes respecto del monto total de las pensiones pagad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artera a vencimiento: desde ’95; aumento al 30% actual desapari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o mercado: De préstamos Garantizados a default de la deuda públ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CLUSIÓN FIN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 ello se “suaviza” el efecto riqueza inmediato de las variaciones producidas por el aumento del riesgo de la deuda; a costa de producir redistribuciones de naturaleza más velada, que pueden afectar la riqueza agregado o por lo menos la riqueza intra-aportan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* Recaudación Neta, Rentabilidad y Transferencias Ne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* Tres observaci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umento de la rentabilidad producto de la pesif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Desaceleración de recaudación neta: disminución de alícuota al 5% y 7% y disminución de aport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umento de transferencias netas: mayor acumul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452C-CDB4-435A-87BC-93591E3F8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334A-A149-4D48-9CE2-8586DA01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7E22-FD38-4BA1-8549-7A9E42722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C628-3EA1-456C-9621-AD5095CD4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86642-15C1-4D7C-A81F-A77A66210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42BC0-9E08-474B-B7E6-97E95708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AB274-16B5-4D28-BB22-63ACD7E0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41445-951D-400C-90FE-AB5862DE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30611-AAB9-43B4-9651-F36ADC9A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9EC59-FA8D-4A38-8E20-0E195E9F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3FB95-9C4F-40D8-A26F-7B3B4147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8231-2EE5-498F-83E4-32AE16EA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1D490-167C-4BA4-882D-81D2B426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D656C-3891-497A-9F66-FB35B220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EC622-B0F2-49F2-A555-6DB10610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E87F5A-4001-4EFE-9324-B94DE01E7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F21D3-59D0-469D-8FFC-C1B8D16DF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82B2-7AB6-41C6-A618-7E0FAD7D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4C41-57B9-4F72-A96E-B8CC1E5A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5466-4B17-4770-A316-75B296E8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064D-061B-4119-8ADF-178F148B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72EC-5F8C-45CE-BE7F-0FDA0F70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F785-9CE2-4A76-909B-24A11FAF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9AB2-E865-4333-8C40-0ED33C20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3B08-14F8-4A4B-B655-4D2E5718A0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024C-AE28-4152-B9DF-78224CE2EE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VALUACIÓN DE FONDOS DE PENSIONES. 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EFECTOS REDISTRIBUTIVOS Y EL CASO ARGENTINO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403280" y="4797000"/>
            <a:ext cx="6400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ergio Carpe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Buenos Aires, octubre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250920" y="0"/>
          <a:ext cx="856908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0"/>
                    <a:ext cx="856908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La valuación de un fondo de pension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 distintas formas de valuar los recursos de un fondo de pensiones. Se pueden clasificar según sean d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s variaciones en los precios de  los instrumentos versus variaciones provocadas por cambios en la forma de valu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ble efecto de la variación en los prec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riación en la riqueza agrega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riación en el valor cuota del fon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ipóte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mbios en las formas valuatorias tienen efectos en la riqueza de aportantes y beneficiarios del sistema de pension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Cómo? ¿Por qué?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álisis dinámico y comparativo de dos mundos diferenciad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ólo un aporta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 aportante y un benefici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álisis de trayectoria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comparó lo que ocurre en dos trayectorias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a sin variación de preci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otra con variación y recuperación posterior del valor inic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álisis de trayectoria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nte cambios en los preci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Nuevos aportantes pierden/ganan riqueza respecto de viejos aportan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Si se trata de precios de mercado, quién realiza la contraparte de dichas diferencias es quién vende instrumentos financieros al fon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i se introduce una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forma de valuar discrecional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,  varía el patrimonio de quién mantiene cuotapartes del fondo. La “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uasirentabilidad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” desaparece generándose un “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diferencial redistributivo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3e3ff"/>
                </a:solidFill>
                <a:latin typeface="Arial"/>
              </a:rPr>
              <a:t>Trayectorias con beneficiario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l beneficiario “captura” pérdidas o ganancias derivadas de los cambios en los precios. Las diferencias serán “genuinas” si los precios son de merc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ino, se afectará parte del llamado “diferencial redistributivo” a favor (contra) del beneficiario y en contra (a favor) del aportant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rolari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onsabilidad sobre los efectos redistributivos de la riqueza recae 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administrador del fondo de pensiones (valuación a mercado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 la autoridad regulatoria (valuación discrecion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aso argentin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s ejemplos de aplicación de reglas discreciona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tera a vencimi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existencia de mercado para títulos de deuda públ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457200" y="228600"/>
          <a:ext cx="822960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8600"/>
                    <a:ext cx="82296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5T14:53:11Z</dcterms:created>
  <dc:creator>GABY</dc:creator>
  <dc:description/>
  <dc:language>en-US</dc:language>
  <cp:lastModifiedBy>scarpenter</cp:lastModifiedBy>
  <dcterms:modified xsi:type="dcterms:W3CDTF">2005-10-19T14:27:52Z</dcterms:modified>
  <cp:revision>36</cp:revision>
  <dc:subject/>
  <dc:title>VALUACIÓN DE FONDOS DE PENSIONES.  EFECTOS REDISTRIBUTIVOS Y EL CASO ARGENTINO</dc:title>
</cp:coreProperties>
</file>