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951612E-A767-48F9-AC60-902CE27AA51D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43BF03C-8F89-4A16-B807-8361B937453E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B457EE3-9B0E-4721-96FC-65828E060D18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B96BC4E-AB4C-4CC0-A7A0-DFC2BFE76FCB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A466732-A141-4BF8-A729-E1240B01A1B1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C9B2686-1EC4-4869-98E9-E297750C697D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9C3DA5F-C7DE-4955-BD50-B79E9A43062C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2E71753-2D22-4F89-ADCA-FA65EEFA4EFB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8210A3D-25F5-4657-BA56-10CAC29AF34E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3835FAE-1C45-4874-9406-C08F74AFCB0D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26814DB-7A5B-44CE-A029-F3C39253494F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6092304-ED8E-4D64-8B8A-9CA454BE7BFB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07318BE-FA31-49E3-AFD1-5FFC6DDF077F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5BE144B-9D79-4E90-8D13-2E82B2FB38F4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9CCE5B4-C205-49CE-BB1F-3A297DD1390D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953B7EF-06FA-414E-9A51-09A14E029121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F290979-5C08-402A-BA3C-74954D27B913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165D-D24D-4FFC-8E16-8B3782D13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5187-4C17-457B-9C4A-08BAC6C6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BCA8-2C2D-41BB-BD0F-D2C83CF0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0828-AEEA-428D-9FEE-260B299E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3229-8554-488F-B159-89A06D5F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5A20-D693-4C02-B0D3-596E3FFD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215D-3C57-4844-9E7C-2E8683E2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29BA-1FB9-4144-822A-D3BA9575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3E62-0364-43BE-A08F-D33273C7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BFF9-B4FF-4BAD-8BD7-5BDEBEA0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83BB-586E-46C4-892D-8AF4B919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B5D9-70E8-47B0-BE69-F42D21AE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144B-8CA2-4E87-8D8F-4B3531A0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A2DC-5AC5-4B1B-981A-AAE27E4B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04AB-C882-45AE-8421-94F9E5FA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B53C-338E-47A1-84C9-E4C14395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1EC5-AFC6-4D6F-B615-F737769C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9861-E711-4D08-B481-69A45606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3253-52B6-4F75-8723-6F1734E8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AD25-3BDE-41DB-B95B-7F98BFAC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5691-40E3-495D-B5D8-F8078EB8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85A1-1502-4EE5-90DB-88AF5D83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8D90-861E-4075-BB4D-B3193189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F697-CD00-4B46-8073-0E22E5E7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b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3FD7-446A-477C-8211-F0168E9731F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b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52F7-08CB-4F52-848E-287AAC50737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hbertin@safjp.gov.ar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b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3° Congreso Internacional de Seguridad Socia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ecff"/>
                </a:solidFill>
                <a:latin typeface="Times New Roman"/>
              </a:rPr>
              <a:t>SISTEMA PREVISIONAL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ecff"/>
                </a:solidFill>
                <a:latin typeface="Times New Roman"/>
              </a:rPr>
              <a:t>ÚNICO O MÚLTIPL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ugo Bertí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Gerente de Estudios Estratégicos y Estadísticas, SAFJP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Octubre de 2005, Buenos Air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b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ecff"/>
                </a:solidFill>
                <a:latin typeface="Times New Roman"/>
              </a:rPr>
              <a:t>Perspectiva instituciona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3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imes New Roman"/>
              </a:rPr>
              <a:t>Institucional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imes New Roman"/>
              <a:buChar char="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Nación Argentina adopta para su gobierno la forma representativa, republicana y federal. (Constitución de la Nación Argentina, art. 1°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imes New Roman"/>
              <a:buChar char="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anto la Nación como las provincias tienen facultades para crear sistemas de seguridad social para cubrir a los ciudadanos, sin que puedan existir superposiciones de aportes. (Constitución de la Nación Argentina, art. 14° bis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1125360"/>
            <a:ext cx="864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b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ecff"/>
                </a:solidFill>
                <a:latin typeface="Times New Roman"/>
              </a:rPr>
              <a:t>La histori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560" y="1457280"/>
            <a:ext cx="8893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la primera mitad del siglo XX, desde la sanción de la Ley 4349/04, se fueron creando distintos regímenes previsionales, con una intensidad mayor entre las décadas del ’40 y ‘50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proceso de unificación de la previsión social tiene su propia trayectoria histórica, tanto en lo relacionado con la homogeneización de los parámetros, como también en la unificación de los subsistema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primer antecedente es el Decreto-Ley 10424/44, creación del Consejo Nacional de la Previsión Socia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creto-Ley 9316746, reciprocidad jubilatori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ey 14370/54, disposiciones varias de unificació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1125360"/>
            <a:ext cx="864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b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ecff"/>
                </a:solidFill>
                <a:latin typeface="Times New Roman"/>
              </a:rPr>
              <a:t>La historia, 2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8920" y="1530000"/>
            <a:ext cx="8642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ey 14999/58, haber jubilatorio para trabajadores en relación de dependencia (82% móvil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ey 17310/67, simplificación de las prestaciones, edad (60 para hombres y 55 para mujeres) y años de aport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ey 18037/68, régimen único para trabajadores en relación de dependencia y Ley 18.038/68 para trabajadores autónomo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olución 383/81, reciprocidad Nación-provincia-cajas profesional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ey 23769/90, creación del Instituto Nacional de Previsión Social (absorbió a las 3 cajas previsionales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creto 2284/91, Sistema Único de Seguridad Social (SUSS) y de la CUSS. Disolución de las 3 cajas de subsidios familiares y del Instituto Nacional de Previsión Socia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250920" y="1125360"/>
            <a:ext cx="864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b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ecff"/>
                </a:solidFill>
                <a:latin typeface="Times New Roman"/>
              </a:rPr>
              <a:t>La historia, 3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79214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creto 2741/91, creación de la ANS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ey 24241/93, Sistema Integrado de Jubilaciones y Pension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creto 1807/93, Pacto Federal, transferencia de cajas provincial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ey 25239/99, Pacto Federal II, adecuación de edades, aportes y contribuciones de cajas provinciales y financiamiento de sus desequilibrio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olución Conjunta SAFJP 12/99, ANSES 521/99 y SSN 27188/99, aplicación de la Resolución 363/81 en el ámbito del Régimen de Capitalizació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1125360"/>
            <a:ext cx="864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b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ecff"/>
                </a:solidFill>
                <a:latin typeface="Times New Roman"/>
              </a:rPr>
              <a:t>La historia, 4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79930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creto 2322/02 (observaciones parciales a la Ley 25668/02),  eliminación de regímenes especiales de funcionarios del Poder Ejecutivo (ministros y secretarios de estado) y del Poder Legislativo (diputados, senadores y secretarios de bloque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250920" y="1125360"/>
            <a:ext cx="864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b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ecff"/>
                </a:solidFill>
                <a:latin typeface="Times New Roman"/>
              </a:rPr>
              <a:t>Sistema previsional argentino actua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880" y="1457280"/>
            <a:ext cx="87631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Argentina existen 123 subsistemas previsionales, sustitutivos, en el ámbito nacional, provincial, municipal y profesional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60000"/>
              </a:lnSpc>
              <a:spcBef>
                <a:spcPts val="1400"/>
              </a:spcBef>
              <a:spcAft>
                <a:spcPts val="1400"/>
              </a:spcAft>
              <a:buClr>
                <a:srgbClr val="ffffcc"/>
              </a:buClr>
              <a:buSzPct val="60000"/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imes New Roman"/>
              </a:rPr>
              <a:t>Nacionale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JP: Régimen Público de Reparto y Régimen de Capitalizació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gímenes especiales: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Servicio Exterior (Ley 22731), Investigadores Científicos y Tecnológicos (Ley 22929), Docentes (Ley 24016), Magistrados y funcionarios del Poder Judicial (Ley 24018)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ete subsistemas para: las Fuerzas Armadas, Policía Federal, Gendarmería Nacional, Prefectura Nacional, Servicio Penitenciario y Guarda parque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250920" y="1125360"/>
            <a:ext cx="864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b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ecff"/>
                </a:solidFill>
                <a:latin typeface="Times New Roman"/>
              </a:rPr>
              <a:t>Sistema previsional argentino actual, 2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ffcc"/>
              </a:buClr>
              <a:buSzPct val="6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imes New Roman"/>
              </a:rPr>
              <a:t>Provinciale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14 provincias que no han traspasado sus sistemas previsionales al SIJP: Buenos Aires, Córdoba, Corrientes, Chaco, Chubut, Entre Ríos, Formosa, La Pampa, Misiones, Neuquén, Santa Cruz, Santa Fe, Tierra del Fueg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demás existen dos bancos provinciales con sistemas para sus empleado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ffcc"/>
              </a:buClr>
              <a:buSzPct val="60000"/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imes New Roman"/>
              </a:rPr>
              <a:t>Municipales: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4 municipios con sistemas propio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ffcc"/>
              </a:buClr>
              <a:buSzPct val="60000"/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imes New Roman"/>
              </a:rPr>
              <a:t>Profesionales: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77 cajas profesionales funcionando en todo el paí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0" algn="r">
              <a:lnSpc>
                <a:spcPct val="6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 algn="r">
              <a:lnSpc>
                <a:spcPct val="6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uente: Secretaría de Seguridad Social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1125360"/>
            <a:ext cx="864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b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ecff"/>
                </a:solidFill>
                <a:latin typeface="Times New Roman"/>
              </a:rPr>
              <a:t>Conclusion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8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2100"/>
              </a:spcBef>
              <a:buClr>
                <a:srgbClr val="ffffcc"/>
              </a:buClr>
              <a:buSzPct val="60000"/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s pregunta son: ¿régimen público integrado o múltiples regímenes públicos previsionales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2100"/>
              </a:spcBef>
              <a:buClr>
                <a:srgbClr val="ffffcc"/>
              </a:buClr>
              <a:buSzPct val="60000"/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¿Las “reglas” para el diseño se deben fijar a partir d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SzPct val="60000"/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0" lang="es-ES_tradnl" sz="2800" spc="-1" strike="noStrike">
                <a:solidFill>
                  <a:srgbClr val="ccecff"/>
                </a:solidFill>
                <a:latin typeface="Times New Roman"/>
              </a:rPr>
              <a:t>diversificación de las ocupacion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las esperanzas de vida asociadas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SzPct val="60000"/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0" lang="es-ES_tradnl" sz="2800" spc="-1" strike="noStrike">
                <a:solidFill>
                  <a:srgbClr val="ccecff"/>
                </a:solidFill>
                <a:latin typeface="Times New Roman"/>
              </a:rPr>
              <a:t>distinción de empleos por jurisdiccion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SzPct val="60000"/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0" lang="es-ES_tradnl" sz="2800" spc="-1" strike="noStrike">
                <a:solidFill>
                  <a:srgbClr val="ccecff"/>
                </a:solidFill>
                <a:latin typeface="Times New Roman"/>
              </a:rPr>
              <a:t>separación de funciones dentro del Estad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división de los poderes)?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1125360"/>
            <a:ext cx="864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b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imes New Roman"/>
              </a:rPr>
              <a:t>Gracias por vuestra atención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Hugo Bertí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Gerente de Estudios Estratégicos y Estadística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uperintendencia de AFJ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hbertin@safjp.gov.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b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ecff"/>
                </a:solidFill>
                <a:latin typeface="Times New Roman"/>
              </a:rPr>
              <a:t>Agend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4130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2449"/>
              </a:spcBef>
              <a:buClr>
                <a:srgbClr val="ffffcc"/>
              </a:buClr>
              <a:buSzPct val="60000"/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bjetivos de los sistemas de pension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2449"/>
              </a:spcBef>
              <a:buClr>
                <a:srgbClr val="ffffcc"/>
              </a:buClr>
              <a:buSzPct val="60000"/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lasificación de los sistemas de pension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2449"/>
              </a:spcBef>
              <a:buClr>
                <a:srgbClr val="ffffcc"/>
              </a:buClr>
              <a:buSzPct val="60000"/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perspectiva teóric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2449"/>
              </a:spcBef>
              <a:buClr>
                <a:srgbClr val="ffffcc"/>
              </a:buClr>
              <a:buSzPct val="60000"/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perspectiva instituciona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2449"/>
              </a:spcBef>
              <a:buClr>
                <a:srgbClr val="ffffcc"/>
              </a:buClr>
              <a:buSzPct val="60000"/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histori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2449"/>
              </a:spcBef>
              <a:buClr>
                <a:srgbClr val="ffffcc"/>
              </a:buClr>
              <a:buSzPct val="60000"/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stema previsional argentino actua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2449"/>
              </a:spcBef>
              <a:buClr>
                <a:srgbClr val="ffffcc"/>
              </a:buClr>
              <a:buSzPct val="60000"/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clusion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1125360"/>
            <a:ext cx="864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b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ecff"/>
                </a:solidFill>
                <a:latin typeface="Times New Roman"/>
              </a:rPr>
              <a:t>Objetivos de los sistemas de pension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258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501"/>
              </a:spcBef>
              <a:buClr>
                <a:srgbClr val="ffffcc"/>
              </a:buClr>
              <a:buSzPct val="60000"/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uavizar la curva de consumo entre la vida activa y pasiva, otorgando a cada individuo prestaciones proporcionales a su esfuerzo de contribución (</a:t>
            </a:r>
            <a:r>
              <a:rPr b="0" lang="es-ES_tradnl" sz="2800" spc="-1" strike="noStrike">
                <a:solidFill>
                  <a:srgbClr val="ccecff"/>
                </a:solidFill>
                <a:latin typeface="Times New Roman"/>
              </a:rPr>
              <a:t>eficienci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).     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501"/>
              </a:spcBef>
              <a:buClr>
                <a:srgbClr val="ffffcc"/>
              </a:buClr>
              <a:buSzPct val="60000"/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teger a los ciudadanos frente a la pobreza, a través de la redistribución entre grupos de individuos (</a:t>
            </a:r>
            <a:r>
              <a:rPr b="0" lang="es-ES_tradnl" sz="2800" spc="-1" strike="noStrike">
                <a:solidFill>
                  <a:srgbClr val="ccecff"/>
                </a:solidFill>
                <a:latin typeface="Times New Roman"/>
              </a:rPr>
              <a:t>solidaridad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125360"/>
            <a:ext cx="864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b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ecff"/>
                </a:solidFill>
                <a:latin typeface="Times New Roman"/>
              </a:rPr>
              <a:t>Clasificación de los sistemas de pension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62864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501"/>
              </a:spcBef>
              <a:buClr>
                <a:srgbClr val="ffffcc"/>
              </a:buClr>
              <a:buSzPct val="60000"/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or la forma de reconocer los aporte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Times New Roman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parto: simple, cuentas nocional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Times New Roman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pitalización: individual, colectiv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501"/>
              </a:spcBef>
              <a:buClr>
                <a:srgbClr val="ffffcc"/>
              </a:buClr>
              <a:buSzPct val="60000"/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or el origen de los aportes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Times New Roman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ributiv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Times New Roman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o contributiv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1125360"/>
            <a:ext cx="864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b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188640"/>
            <a:ext cx="8915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ecff"/>
                </a:solidFill>
                <a:latin typeface="Times New Roman"/>
              </a:rPr>
              <a:t>Clasificación de los sistemas de pensiones, 2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3501"/>
              </a:spcBef>
              <a:buClr>
                <a:srgbClr val="ffffcc"/>
              </a:buClr>
              <a:buSzPct val="60000"/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or la forma de determinar los aportes y beneficio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53760" indent="-251280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Times New Roman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porte definido: riesgo a cargo del trabajado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53760" indent="-251280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Times New Roman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eneficio definido: riesgo compartid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3501"/>
              </a:spcBef>
              <a:buClr>
                <a:srgbClr val="ffffcc"/>
              </a:buClr>
              <a:buSzPct val="60000"/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or el sujeto administrador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53760" indent="-251280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Times New Roman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úblico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53760" indent="-251280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Times New Roman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ivado: administrador especializado, empresa, agremiacion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53760" indent="-251280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Times New Roman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ixt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1125360"/>
            <a:ext cx="864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b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ecff"/>
                </a:solidFill>
                <a:latin typeface="Times New Roman"/>
              </a:rPr>
              <a:t>Perspectiva teóric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imes New Roman"/>
              </a:rPr>
              <a:t>Mercado laboral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83280" indent="-26280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imes New Roman"/>
              <a:buChar char="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movilidad de los recursos humanos se favorece en la medida que los regímenes previsionales sean homogéneos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051560" indent="-21024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SzPct val="60000"/>
              <a:buFont typeface="Times New Roman"/>
              <a:buChar char="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un extremo un único sistema previsional no pone trabas al desplazamiento de los trabajadores entre jurisdicciones o empresas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051560" indent="-21024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SzPct val="60000"/>
              <a:buFont typeface="Times New Roman"/>
              <a:buChar char="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el otro extremo los sistemas previsionales organizados al nivel de las firmas, cerrados, introducen distorsiones al cambio de empleo entre los trabajadore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051560" indent="-21024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SzPct val="60000"/>
              <a:buFont typeface="Times New Roman"/>
              <a:buChar char="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os sistemas de reciprocidad pueden compensar estas traba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125360"/>
            <a:ext cx="864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b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ecff"/>
                </a:solidFill>
                <a:latin typeface="Times New Roman"/>
              </a:rPr>
              <a:t>Perspectiva teóric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9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imes New Roman"/>
              </a:rPr>
              <a:t>Riesgo laboral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imes New Roman"/>
              <a:buChar char="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0" lang="es-ES_tradnl" sz="2800" spc="-1" strike="noStrike">
                <a:solidFill>
                  <a:srgbClr val="ccecff"/>
                </a:solidFill>
                <a:latin typeface="Times New Roman"/>
              </a:rPr>
              <a:t>diversidad de riesg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entre los empleos suele ser contemplada en los contratos laborales en la vida activa (duración de la jornada laboral, salario, beneficios relacionados, etc.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imes New Roman"/>
              <a:buChar char="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Justifica también un tratamiento distinto, </a:t>
            </a:r>
            <a:r>
              <a:rPr b="0" lang="es-ES_tradnl" sz="2800" spc="-1" strike="noStrike">
                <a:solidFill>
                  <a:srgbClr val="ccecff"/>
                </a:solidFill>
                <a:latin typeface="Times New Roman"/>
              </a:rPr>
              <a:t>aunque integrad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en la organización de la cobertura previsional entre los trabajador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imes New Roman"/>
              <a:buChar char="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ventaja del diseño integrado del sistema de pensiones es que facilita </a:t>
            </a:r>
            <a:r>
              <a:rPr b="0" lang="es-ES_tradnl" sz="2800" spc="-1" strike="noStrike">
                <a:solidFill>
                  <a:srgbClr val="ccecff"/>
                </a:solidFill>
                <a:latin typeface="Times New Roman"/>
              </a:rPr>
              <a:t>homogeneizar los incentivos y los costos asociad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1125360"/>
            <a:ext cx="864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b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ecff"/>
                </a:solidFill>
                <a:latin typeface="Times New Roman"/>
              </a:rPr>
              <a:t>Perspectiva teóric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imes New Roman"/>
              </a:rPr>
              <a:t>Financiamiento, incidencia tributaria y las T.I.R.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os sistemas públicos, financiados con aportes personales, contribuciones patronales e impuestos tienen una incidencia distinta según sea la </a:t>
            </a: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elasticidad-precio de la demanda y oferta en el mercado labor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y de las </a:t>
            </a: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elasticidades -precio e ingreso- en los mercados de bienes y servicio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sde el punto de vista de la asignación de los recursos, las “reglas” de los subsistemas previsionales públicos obligatorios </a:t>
            </a: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no deberían generar T.I.R. distint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para los trabajadores como resultado de variables </a:t>
            </a: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que no dependen del riesgo laboral de las ocupacion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1125360"/>
            <a:ext cx="864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b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ecff"/>
                </a:solidFill>
                <a:latin typeface="Times New Roman"/>
              </a:rPr>
              <a:t>Las T.I.R. de dos regímenes público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1125360"/>
            <a:ext cx="864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57200" y="2057400"/>
          <a:ext cx="845820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7400"/>
                    <a:ext cx="84582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3T21:10:58Z</dcterms:created>
  <dc:creator>Informatica</dc:creator>
  <dc:description/>
  <dc:language>en-US</dc:language>
  <cp:lastModifiedBy>C.P.C.E.C.A.B.A.</cp:lastModifiedBy>
  <cp:lastPrinted>2005-09-02T16:47:30Z</cp:lastPrinted>
  <dcterms:modified xsi:type="dcterms:W3CDTF">2005-10-19T19:48:58Z</dcterms:modified>
  <cp:revision>76</cp:revision>
  <dc:subject/>
  <dc:title>Diapositiva 1</dc:title>
</cp:coreProperties>
</file>