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8.jpeg" ContentType="image/jpeg"/>
  <Override PartName="/ppt/media/image55.jpeg" ContentType="image/jpeg"/>
  <Override PartName="/ppt/media/image53.jpeg" ContentType="image/jpeg"/>
  <Override PartName="/ppt/media/image52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60.png" ContentType="image/png"/>
  <Override PartName="/ppt/media/image34.png" ContentType="image/png"/>
  <Override PartName="/ppt/media/image4.png" ContentType="image/png"/>
  <Override PartName="/ppt/media/image7.jpeg" ContentType="image/jpeg"/>
  <Override PartName="/ppt/media/image38.jpeg" ContentType="image/jpeg"/>
  <Override PartName="/ppt/media/image3.png" ContentType="image/png"/>
  <Override PartName="/ppt/media/image56.jpeg" ContentType="image/jpeg"/>
  <Override PartName="/ppt/media/image17.jpeg" ContentType="image/jpeg"/>
  <Override PartName="/ppt/media/image9.jpeg" ContentType="image/jpeg"/>
  <Override PartName="/ppt/media/image11.png" ContentType="image/png"/>
  <Override PartName="/ppt/media/image23.wmf" ContentType="image/x-wmf"/>
  <Override PartName="/ppt/media/image51.jpeg" ContentType="image/jpeg"/>
  <Override PartName="/ppt/media/image2.png" ContentType="image/png"/>
  <Override PartName="/ppt/media/image62.jpeg" ContentType="image/jpeg"/>
  <Override PartName="/ppt/media/image21.png" ContentType="image/png"/>
  <Override PartName="/ppt/media/image46.jpeg" ContentType="image/jpeg"/>
  <Override PartName="/ppt/media/image26.wmf" ContentType="image/x-wmf"/>
  <Override PartName="/ppt/media/image61.png" ContentType="image/png"/>
  <Override PartName="/ppt/media/image20.jpeg" ContentType="image/jpeg"/>
  <Override PartName="/ppt/media/image22.jpeg" ContentType="image/jpeg"/>
  <Override PartName="/ppt/media/image39.png" ContentType="image/png"/>
  <Override PartName="/ppt/media/image63.jpeg" ContentType="image/jpeg"/>
  <Override PartName="/ppt/media/image29.png" ContentType="image/png"/>
  <Override PartName="/ppt/media/image27.wmf" ContentType="image/x-wmf"/>
  <Override PartName="/ppt/media/image16.jpeg" ContentType="image/jpeg"/>
  <Override PartName="/ppt/media/image24.wmf" ContentType="image/x-wmf"/>
  <Override PartName="/ppt/media/image15.jpeg" ContentType="image/jpeg"/>
  <Override PartName="/ppt/media/image13.png" ContentType="image/png"/>
  <Override PartName="/ppt/media/image54.jpeg" ContentType="image/jpeg"/>
  <Override PartName="/ppt/media/image19.jpeg" ContentType="image/jpeg"/>
  <Override PartName="/ppt/media/image18.png" ContentType="image/png"/>
  <Override PartName="/ppt/media/image59.jpeg" ContentType="image/jpeg"/>
  <Override PartName="/ppt/media/image42.jpeg" ContentType="image/jpeg"/>
  <Override PartName="/ppt/media/image5.png" ContentType="image/png"/>
  <Override PartName="/ppt/media/image28.png" ContentType="image/png"/>
  <Override PartName="/ppt/media/image43.jpeg" ContentType="image/jpeg"/>
  <Override PartName="/ppt/media/image10.jpeg" ContentType="image/jpeg"/>
  <Override PartName="/ppt/media/image12.png" ContentType="image/pn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5.jpeg" ContentType="image/jpeg"/>
  <Override PartName="/ppt/media/image36.jpeg" ContentType="image/jpeg"/>
  <Override PartName="/ppt/media/image57.png" ContentType="image/png"/>
  <Override PartName="/ppt/media/image37.jpeg" ContentType="image/jpeg"/>
  <Override PartName="/ppt/media/image1.wmf" ContentType="image/x-wmf"/>
  <Override PartName="/ppt/media/image40.jpeg" ContentType="image/jpeg"/>
  <Override PartName="/ppt/media/image41.png" ContentType="image/png"/>
  <Override PartName="/ppt/media/image44.jpeg" ContentType="image/jpeg"/>
  <Override PartName="/ppt/media/image48.png" ContentType="image/png"/>
  <Override PartName="/ppt/media/image45.jpeg" ContentType="image/jpeg"/>
  <Override PartName="/ppt/media/image25.wmf" ContentType="image/x-wmf"/>
  <Override PartName="/ppt/media/image47.jpeg" ContentType="image/jpeg"/>
  <Override PartName="/ppt/media/image49.jpeg" ContentType="image/jpeg"/>
  <Override PartName="/ppt/media/image5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725D-5302-4387-A608-461C523A1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90CF-8C26-4F42-97D4-8416D3348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451A-08BD-4614-AEBC-006907329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AD8B-5DA2-4663-ACAF-858FF7774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9AC06-C8E4-4A19-A871-10B48036A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DBFCE-6C31-4E61-9E8F-AB83E0021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39487-628E-4BF8-AC81-D2866770D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21733-7B86-4ADE-9690-E315666E5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28F15-0D0E-421A-B4C2-845B47F10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86B25-4F7B-4DC2-B9A1-42E0372A5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B34B6-CA0C-4AC2-BD5D-D02062B3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4032-5B3B-40C6-B6CB-6616D3A34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48971-ACCD-4FB8-83A8-AB1878E4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19D88-54BE-41CB-B2D7-38C14553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E1C75-AE45-4971-BBCB-F3AEE15EF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006FF-DE16-4A1F-84C6-5926F22E3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2456A-9AF0-43ED-B395-30A78A60B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47D7-E6AD-44DA-990B-2D66C017B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E3FA-18AA-48BE-A80E-E91D8EFE0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5D99-FB6B-4FDB-970E-7B4C3C8D1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9EF8-2B9A-49C4-80A4-7BC15B882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5AE6-C536-46B1-B942-8F973641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B43E-896E-462A-89E5-952E5B2C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7201-34DD-4D5B-8DB5-CCE03ADB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FB709-F2A0-40CD-809C-438969E46094}" type="slidenum">
              <a:rPr b="0" lang="es-E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7E474-6CCE-4CDF-B88A-2D0FF08E2676}" type="slidenum">
              <a:rPr b="0" lang="es-E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image" Target="../media/image16.jpeg"/><Relationship Id="rId12" Type="http://schemas.openxmlformats.org/officeDocument/2006/relationships/image" Target="../media/image17.jpe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image" Target="../media/image28.png"/><Relationship Id="rId10" Type="http://schemas.openxmlformats.org/officeDocument/2006/relationships/image" Target="../media/image28.png"/><Relationship Id="rId11" Type="http://schemas.openxmlformats.org/officeDocument/2006/relationships/image" Target="../media/image28.png"/><Relationship Id="rId12" Type="http://schemas.openxmlformats.org/officeDocument/2006/relationships/image" Target="../media/image45.jpeg"/><Relationship Id="rId13" Type="http://schemas.openxmlformats.org/officeDocument/2006/relationships/image" Target="../media/image46.jpeg"/><Relationship Id="rId14" Type="http://schemas.openxmlformats.org/officeDocument/2006/relationships/image" Target="../media/image47.jpeg"/><Relationship Id="rId1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image" Target="../media/image28.png"/><Relationship Id="rId10" Type="http://schemas.openxmlformats.org/officeDocument/2006/relationships/image" Target="../media/image28.png"/><Relationship Id="rId11" Type="http://schemas.openxmlformats.org/officeDocument/2006/relationships/image" Target="../media/image48.png"/><Relationship Id="rId12" Type="http://schemas.openxmlformats.org/officeDocument/2006/relationships/image" Target="../media/image49.jpeg"/><Relationship Id="rId13" Type="http://schemas.openxmlformats.org/officeDocument/2006/relationships/image" Target="../media/image50.jpeg"/><Relationship Id="rId1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image" Target="../media/image28.png"/><Relationship Id="rId10" Type="http://schemas.openxmlformats.org/officeDocument/2006/relationships/image" Target="../media/image28.png"/><Relationship Id="rId11" Type="http://schemas.openxmlformats.org/officeDocument/2006/relationships/image" Target="../media/image28.png"/><Relationship Id="rId12" Type="http://schemas.openxmlformats.org/officeDocument/2006/relationships/image" Target="../media/image28.png"/><Relationship Id="rId13" Type="http://schemas.openxmlformats.org/officeDocument/2006/relationships/image" Target="../media/image28.png"/><Relationship Id="rId14" Type="http://schemas.openxmlformats.org/officeDocument/2006/relationships/image" Target="../media/image28.png"/><Relationship Id="rId15" Type="http://schemas.openxmlformats.org/officeDocument/2006/relationships/image" Target="../media/image28.png"/><Relationship Id="rId16" Type="http://schemas.openxmlformats.org/officeDocument/2006/relationships/image" Target="../media/image51.jpeg"/><Relationship Id="rId17" Type="http://schemas.openxmlformats.org/officeDocument/2006/relationships/image" Target="../media/image46.jpeg"/><Relationship Id="rId18" Type="http://schemas.openxmlformats.org/officeDocument/2006/relationships/image" Target="../media/image52.png"/><Relationship Id="rId19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53.jpeg"/><Relationship Id="rId6" Type="http://schemas.openxmlformats.org/officeDocument/2006/relationships/image" Target="../media/image54.jpeg"/><Relationship Id="rId7" Type="http://schemas.openxmlformats.org/officeDocument/2006/relationships/image" Target="../media/image55.jpeg"/><Relationship Id="rId8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image" Target="../media/image28.png"/><Relationship Id="rId10" Type="http://schemas.openxmlformats.org/officeDocument/2006/relationships/image" Target="../media/image28.png"/><Relationship Id="rId11" Type="http://schemas.openxmlformats.org/officeDocument/2006/relationships/image" Target="../media/image28.png"/><Relationship Id="rId12" Type="http://schemas.openxmlformats.org/officeDocument/2006/relationships/image" Target="../media/image28.png"/><Relationship Id="rId13" Type="http://schemas.openxmlformats.org/officeDocument/2006/relationships/image" Target="../media/image28.png"/><Relationship Id="rId14" Type="http://schemas.openxmlformats.org/officeDocument/2006/relationships/image" Target="../media/image28.png"/><Relationship Id="rId15" Type="http://schemas.openxmlformats.org/officeDocument/2006/relationships/image" Target="../media/image28.png"/><Relationship Id="rId16" Type="http://schemas.openxmlformats.org/officeDocument/2006/relationships/image" Target="../media/image28.png"/><Relationship Id="rId17" Type="http://schemas.openxmlformats.org/officeDocument/2006/relationships/image" Target="../media/image28.png"/><Relationship Id="rId18" Type="http://schemas.openxmlformats.org/officeDocument/2006/relationships/image" Target="../media/image28.png"/><Relationship Id="rId19" Type="http://schemas.openxmlformats.org/officeDocument/2006/relationships/image" Target="../media/image28.png"/><Relationship Id="rId20" Type="http://schemas.openxmlformats.org/officeDocument/2006/relationships/image" Target="../media/image28.png"/><Relationship Id="rId21" Type="http://schemas.openxmlformats.org/officeDocument/2006/relationships/image" Target="../media/image28.png"/><Relationship Id="rId22" Type="http://schemas.openxmlformats.org/officeDocument/2006/relationships/image" Target="../media/image28.png"/><Relationship Id="rId23" Type="http://schemas.openxmlformats.org/officeDocument/2006/relationships/image" Target="../media/image28.png"/><Relationship Id="rId24" Type="http://schemas.openxmlformats.org/officeDocument/2006/relationships/image" Target="../media/image28.png"/><Relationship Id="rId25" Type="http://schemas.openxmlformats.org/officeDocument/2006/relationships/image" Target="../media/image28.png"/><Relationship Id="rId26" Type="http://schemas.openxmlformats.org/officeDocument/2006/relationships/image" Target="../media/image28.png"/><Relationship Id="rId27" Type="http://schemas.openxmlformats.org/officeDocument/2006/relationships/image" Target="../media/image28.png"/><Relationship Id="rId28" Type="http://schemas.openxmlformats.org/officeDocument/2006/relationships/image" Target="../media/image28.png"/><Relationship Id="rId29" Type="http://schemas.openxmlformats.org/officeDocument/2006/relationships/image" Target="../media/image28.png"/><Relationship Id="rId30" Type="http://schemas.openxmlformats.org/officeDocument/2006/relationships/image" Target="../media/image28.png"/><Relationship Id="rId31" Type="http://schemas.openxmlformats.org/officeDocument/2006/relationships/image" Target="../media/image28.png"/><Relationship Id="rId32" Type="http://schemas.openxmlformats.org/officeDocument/2006/relationships/image" Target="../media/image56.jpeg"/><Relationship Id="rId33" Type="http://schemas.openxmlformats.org/officeDocument/2006/relationships/image" Target="../media/image32.jpeg"/><Relationship Id="rId34" Type="http://schemas.openxmlformats.org/officeDocument/2006/relationships/image" Target="../media/image57.png"/><Relationship Id="rId3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image" Target="../media/image28.png"/><Relationship Id="rId10" Type="http://schemas.openxmlformats.org/officeDocument/2006/relationships/image" Target="../media/image28.png"/><Relationship Id="rId11" Type="http://schemas.openxmlformats.org/officeDocument/2006/relationships/image" Target="../media/image28.png"/><Relationship Id="rId12" Type="http://schemas.openxmlformats.org/officeDocument/2006/relationships/image" Target="../media/image28.png"/><Relationship Id="rId13" Type="http://schemas.openxmlformats.org/officeDocument/2006/relationships/image" Target="../media/image28.png"/><Relationship Id="rId14" Type="http://schemas.openxmlformats.org/officeDocument/2006/relationships/image" Target="../media/image28.png"/><Relationship Id="rId15" Type="http://schemas.openxmlformats.org/officeDocument/2006/relationships/image" Target="../media/image28.png"/><Relationship Id="rId16" Type="http://schemas.openxmlformats.org/officeDocument/2006/relationships/image" Target="../media/image28.png"/><Relationship Id="rId17" Type="http://schemas.openxmlformats.org/officeDocument/2006/relationships/image" Target="../media/image28.png"/><Relationship Id="rId18" Type="http://schemas.openxmlformats.org/officeDocument/2006/relationships/image" Target="../media/image7.jpeg"/><Relationship Id="rId19" Type="http://schemas.openxmlformats.org/officeDocument/2006/relationships/image" Target="../media/image58.jpeg"/><Relationship Id="rId20" Type="http://schemas.openxmlformats.org/officeDocument/2006/relationships/image" Target="../media/image59.jpeg"/><Relationship Id="rId21" Type="http://schemas.openxmlformats.org/officeDocument/2006/relationships/image" Target="../media/image60.png"/><Relationship Id="rId22" Type="http://schemas.openxmlformats.org/officeDocument/2006/relationships/image" Target="../media/image61.png"/><Relationship Id="rId23" Type="http://schemas.openxmlformats.org/officeDocument/2006/relationships/image" Target="../media/image62.jpeg"/><Relationship Id="rId2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476360" y="2025720"/>
            <a:ext cx="2808360" cy="17175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067280" y="3214800"/>
            <a:ext cx="1317600" cy="2131920"/>
          </a:xfrm>
          <a:prstGeom prst="rect">
            <a:avLst/>
          </a:prstGeom>
          <a:ln w="0">
            <a:noFill/>
          </a:ln>
        </p:spPr>
      </p:pic>
      <p:grpSp>
        <p:nvGrpSpPr>
          <p:cNvPr id="194" name=""/>
          <p:cNvGrpSpPr/>
          <p:nvPr/>
        </p:nvGrpSpPr>
        <p:grpSpPr>
          <a:xfrm>
            <a:off x="0" y="1989000"/>
            <a:ext cx="9383760" cy="4869000"/>
            <a:chOff x="0" y="1989000"/>
            <a:chExt cx="9383760" cy="4869000"/>
          </a:xfrm>
        </p:grpSpPr>
        <p:pic>
          <p:nvPicPr>
            <p:cNvPr id="195" name="" descr=""/>
            <p:cNvPicPr/>
            <p:nvPr/>
          </p:nvPicPr>
          <p:blipFill>
            <a:blip r:embed="rId3"/>
            <a:stretch/>
          </p:blipFill>
          <p:spPr>
            <a:xfrm>
              <a:off x="6019920" y="4518000"/>
              <a:ext cx="3363840" cy="23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4">
              <a:lum contrast="12000"/>
            </a:blip>
            <a:stretch/>
          </p:blipFill>
          <p:spPr>
            <a:xfrm>
              <a:off x="0" y="4118040"/>
              <a:ext cx="3527280" cy="273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5"/>
            <a:stretch/>
          </p:blipFill>
          <p:spPr>
            <a:xfrm>
              <a:off x="3203640" y="5106960"/>
              <a:ext cx="1509480" cy="175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6"/>
            <a:stretch/>
          </p:blipFill>
          <p:spPr>
            <a:xfrm>
              <a:off x="2057400" y="3735360"/>
              <a:ext cx="2131920" cy="142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7"/>
            <a:stretch/>
          </p:blipFill>
          <p:spPr>
            <a:xfrm>
              <a:off x="5076720" y="1989000"/>
              <a:ext cx="2880000" cy="212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8"/>
            <a:stretch/>
          </p:blipFill>
          <p:spPr>
            <a:xfrm>
              <a:off x="6877080" y="2852640"/>
              <a:ext cx="2266920" cy="163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9"/>
            <a:stretch/>
          </p:blipFill>
          <p:spPr>
            <a:xfrm>
              <a:off x="0" y="1990800"/>
              <a:ext cx="2597040" cy="214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10"/>
            <a:stretch/>
          </p:blipFill>
          <p:spPr>
            <a:xfrm>
              <a:off x="5105520" y="4038480"/>
              <a:ext cx="1752480" cy="131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" descr=""/>
            <p:cNvPicPr/>
            <p:nvPr/>
          </p:nvPicPr>
          <p:blipFill>
            <a:blip r:embed="rId11"/>
            <a:stretch/>
          </p:blipFill>
          <p:spPr>
            <a:xfrm>
              <a:off x="4419720" y="5349960"/>
              <a:ext cx="1676160" cy="150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" descr=""/>
            <p:cNvPicPr/>
            <p:nvPr/>
          </p:nvPicPr>
          <p:blipFill>
            <a:blip r:embed="rId12"/>
            <a:stretch/>
          </p:blipFill>
          <p:spPr>
            <a:xfrm>
              <a:off x="4067280" y="1989000"/>
              <a:ext cx="1476360" cy="1524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5" name="" descr=""/>
          <p:cNvPicPr/>
          <p:nvPr/>
        </p:nvPicPr>
        <p:blipFill>
          <a:blip r:embed="rId13"/>
          <a:stretch/>
        </p:blipFill>
        <p:spPr>
          <a:xfrm>
            <a:off x="2124000" y="208080"/>
            <a:ext cx="5543640" cy="7984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62040" y="3212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man"/>
              </a:rPr>
              <a:t>DETERMINA LO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man"/>
              </a:rPr>
              <a:t>LUGARES INSALUBRE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-152280" y="4495680"/>
            <a:ext cx="802800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ARA TRABAJADORES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UE EN FORMA PERMANENT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RABAJAN EN LUGARES INSALUBRE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63600" y="176040"/>
            <a:ext cx="6997680" cy="22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DECRETO DEL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11-03-1930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EL ARTICULO   6 to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304920" y="1326960"/>
            <a:ext cx="6976800" cy="40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man"/>
              </a:rPr>
              <a:t>FABRICACION DE ALBAYALDO,MINIO,MATERIA COLORANTE TOXICA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man"/>
              </a:rPr>
              <a:t>MANIPULACION DE PINTURAS, ESMALTES O BARNICES CON SALES DE PLOMO O ARSENIC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18480" y="3733920"/>
            <a:ext cx="6830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ALLA Y PULIMIENTO DE VIDRIO</a:t>
            </a:r>
            <a:br>
              <a:rPr sz="2400"/>
            </a:b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ULIMIENTO DE METALES CON ESMERIL</a:t>
            </a:r>
            <a:br>
              <a:rPr sz="2400"/>
            </a:b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UGAR DONDE HALLA DESPRENDIMIENTO</a:t>
            </a:r>
            <a:r>
              <a:rPr b="1" lang="es-ES_tradnl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E POLVO O VAPORES TOXICOS</a:t>
            </a: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279440" y="216000"/>
            <a:ext cx="502920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7d47d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LUGARES INSALUBR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7d47d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92200" y="1001520"/>
            <a:ext cx="5958000" cy="12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FABRICACION,FUNDICION Y LAMINADO DE PLOMO Y FABRICACION DE LITARGIRIO, MINIO Y OXIDO DE PLOMO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172200" y="0"/>
            <a:ext cx="1647720" cy="21589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407880" y="2806560"/>
            <a:ext cx="6326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ALLERES CON MAQUINAS DE COMPONER, LINOTIPOS, FUNDIDORAS DE TIPO, MAQUINAS ESTEREOTIPIA,</a:t>
            </a: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MANIPULACION DE PLOMO, ANTIMONIO, ESTAÑO, ROTOGRABAD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-152280" y="5045040"/>
            <a:ext cx="7448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FABRICACION DE MERCURIO Y</a:t>
            </a: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US COMPUESTOS</a:t>
            </a: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ESTILACION DE MERCURIO</a:t>
            </a:r>
            <a:br>
              <a:rPr sz="3600"/>
            </a:b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666880" y="1447920"/>
            <a:ext cx="381024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FABRICACION DE PERFUMES CON DERIVADOS NITRICOS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2328840" cy="23767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228600" y="419112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FABRICACION Y TRITURACION DE LOS COMPONENTES DE COBRE Y TRATAMIENTO DEL MISMO POR LOS ACIDO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191120" y="2209320"/>
            <a:ext cx="2544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ORADO Y PLATEADO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19720" cy="29098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2398680" y="4086360"/>
            <a:ext cx="651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ESTILERIA DE MATERIA ALQUITRANOSAS</a:t>
            </a: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ARAFINAS, CREOSOTA</a:t>
            </a:r>
            <a:br>
              <a:rPr sz="2400"/>
            </a:b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0" y="4154400"/>
            <a:ext cx="3562200" cy="27036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657240" y="0"/>
            <a:ext cx="38862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RABAJOS DEBAJO DEL AGUA</a:t>
            </a: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REPARACION DE BUQUES</a:t>
            </a: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ESCENSOS DE BUZOS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05320" cy="25369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611280" y="3235320"/>
            <a:ext cx="6475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RABAJOS DE HILANDERIA DE LANA,</a:t>
            </a: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URTIEMBRE</a:t>
            </a: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RITURACION DE TRAPOS,</a:t>
            </a: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ARDADO DE FABRICAS DE TEJIDO,</a:t>
            </a: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ALDERAS DE TINTORERIAS Y DROGAS</a:t>
            </a: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UGARES DE INDUSTRIA TEXTIL DE TEMPERATURA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MUY ELEVADA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01064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RABAJOS DE CONSTRUCCION, PERFORACION O EXCAVAMIENTO DE SUBTERRANEOS O SOTANOS,QUE A JUICIO DE LAS AUTORIDADES REPRESENTEN LUGARES INSALUBRES POR FALTA DE AIRE,COMPRESION O EMANACION DE POLVOS  TOXICOS PERMANENTES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3480" y="4419720"/>
            <a:ext cx="7102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RABAJOS EN SANATORIOS Y HOSPITALE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ESTINADOS TOTAL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O PARCIALMENTE A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NFERMOS TUBERCULOSOS O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N AREAS PARA TAREAS DE RADIOSCOPIA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2666880" y="2819520"/>
            <a:ext cx="2210040" cy="15462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533520" y="907920"/>
            <a:ext cx="6933960" cy="367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DECRETOS DE EXCEPCIÓ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761976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Times New Roman"/>
              </a:rPr>
              <a:t>INDUSTRIA</a:t>
            </a:r>
            <a:br>
              <a:rPr sz="4000"/>
            </a:br>
            <a:r>
              <a:rPr b="1" lang="es-ES_tradnl" sz="4000" spc="-1" strike="noStrike">
                <a:solidFill>
                  <a:srgbClr val="ffffff"/>
                </a:solidFill>
                <a:latin typeface="Times New Roman"/>
              </a:rPr>
              <a:t>AZUCARERA</a:t>
            </a:r>
            <a:br>
              <a:rPr sz="4000"/>
            </a:br>
            <a:r>
              <a:rPr b="1" lang="es-ES_tradnl" sz="4000" spc="-1" strike="noStrike">
                <a:solidFill>
                  <a:srgbClr val="ffffff"/>
                </a:solidFill>
                <a:latin typeface="Times New Roman"/>
              </a:rPr>
              <a:t>DECRETO N° 906/47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1371600" y="1371240"/>
            <a:ext cx="6400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89680" y="3795840"/>
            <a:ext cx="1839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3776760" y="2975040"/>
            <a:ext cx="3919320" cy="280188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2840" y="2984400"/>
            <a:ext cx="3733920" cy="28004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75960" y="152280"/>
            <a:ext cx="78483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Times New Roman"/>
              </a:rPr>
              <a:t>DORADO Y PLATEADO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Times New Roman"/>
              </a:rPr>
              <a:t>RES MTSS N°844/62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0" y="2200320"/>
            <a:ext cx="7772400" cy="4734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152280" y="685800"/>
            <a:ext cx="7467840" cy="571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LA SALUD 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NO ES LA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MERA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USENCIA DE ENFERMEDAD,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SINO TAMBIEN 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UN ESTADO DE BIENESTAR,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FISICO, 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MENTAL Y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SOCIAL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76320" y="228240"/>
            <a:ext cx="76197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Times New Roman"/>
              </a:rPr>
              <a:t>CARDADO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Times New Roman"/>
              </a:rPr>
              <a:t>HILANDERIA DE LANA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Times New Roman"/>
              </a:rPr>
              <a:t>TRITURACION DE TRAPOS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Times New Roman"/>
              </a:rPr>
              <a:t>DECRETO N°5756/67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0" y="4056120"/>
            <a:ext cx="7772400" cy="28782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69343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Times New Roman"/>
              </a:rPr>
              <a:t>CURTIEMBRES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Times New Roman"/>
              </a:rPr>
              <a:t>DECRETO N°4414/43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990720" y="457056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638280" y="2362320"/>
            <a:ext cx="6572160" cy="40161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-152280" y="228600"/>
            <a:ext cx="8076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Times New Roman"/>
              </a:rPr>
              <a:t>TRITURACION DE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Times New Roman"/>
              </a:rPr>
              <a:t>MOLIENDA DE MINERALES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Times New Roman"/>
              </a:rPr>
              <a:t>DECRETO N° 5755/67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1028880" y="2590920"/>
            <a:ext cx="5715000" cy="39560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380880" y="1126800"/>
            <a:ext cx="73915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Times New Roman"/>
              </a:rPr>
              <a:t>PULIMENTO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Times New Roman"/>
              </a:rPr>
              <a:t>DE METALES CON ESMERIL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Times New Roman"/>
              </a:rPr>
              <a:t>RES SET N°322/67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234080" y="4022640"/>
            <a:ext cx="5686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Times New Roman"/>
              </a:rPr>
              <a:t>TAREAS DE PINTURA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4000" spc="-1" strike="noStrike">
                <a:solidFill>
                  <a:srgbClr val="ffffff"/>
                </a:solidFill>
                <a:latin typeface="Times New Roman"/>
              </a:rPr>
              <a:t>DE PULVERIZACION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Times New Roman"/>
              </a:rPr>
              <a:t>DECRETO N° 141409/43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-380880" y="228600"/>
            <a:ext cx="864072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FABRICACION SUSTANCIAS</a:t>
            </a:r>
            <a:br>
              <a:rPr sz="3200"/>
            </a:b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COLORANTES</a:t>
            </a:r>
            <a:br>
              <a:rPr sz="3200"/>
            </a:b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 TOXICAS</a:t>
            </a:r>
            <a:br>
              <a:rPr sz="3200"/>
            </a:b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DECRETO N°1002/80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66680" y="2362320"/>
            <a:ext cx="754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FABRICACION DE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SULFURO DE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CARBONO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DECRETO N°340/79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47560" y="4572000"/>
            <a:ext cx="6782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INDUSTRIA Y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FABRICACION D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ACIDO SULFURICO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DECRETO N°1895/78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609480" y="1905120"/>
            <a:ext cx="6400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Roman"/>
              </a:rPr>
              <a:t>TAREAS ALTERNADAS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Roman"/>
              </a:rPr>
              <a:t>NORMALES E INSALUBRES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Roman"/>
              </a:rPr>
              <a:t>DECRETO N° 16115/33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-490680" y="1600200"/>
            <a:ext cx="90252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ff"/>
                </a:solidFill>
                <a:latin typeface="Times New Roman"/>
              </a:rPr>
              <a:t>COMPOSICION Y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ff"/>
                </a:solidFill>
                <a:latin typeface="Times New Roman"/>
              </a:rPr>
              <a:t>FABRICACION 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ff"/>
                </a:solidFill>
                <a:latin typeface="Times New Roman"/>
              </a:rPr>
              <a:t>DE VIDRIO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ff"/>
                </a:solidFill>
                <a:latin typeface="Times New Roman"/>
              </a:rPr>
              <a:t>DECRETO N°1835/80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6840" y="761760"/>
            <a:ext cx="6705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ff"/>
                </a:solidFill>
                <a:latin typeface="Times New Roman"/>
              </a:rPr>
              <a:t>FABRICACION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4800" spc="-1" strike="noStrike">
                <a:solidFill>
                  <a:srgbClr val="ffffff"/>
                </a:solidFill>
                <a:latin typeface="Times New Roman"/>
              </a:rPr>
              <a:t>DE CLORO,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ff"/>
                </a:solidFill>
                <a:latin typeface="Times New Roman"/>
              </a:rPr>
              <a:t>CLORURO DE CAL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ff"/>
                </a:solidFill>
                <a:latin typeface="Times New Roman"/>
              </a:rPr>
              <a:t>HIPOCLORITO DE CAL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ff"/>
                </a:solidFill>
                <a:latin typeface="Times New Roman"/>
              </a:rPr>
              <a:t>DECRETO N°267/79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-74520"/>
            <a:ext cx="7543800" cy="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720" bIns="27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371600" y="1371240"/>
            <a:ext cx="6400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14920" y="428760"/>
            <a:ext cx="603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ff"/>
                </a:solidFill>
                <a:latin typeface="Times New Roman"/>
              </a:rPr>
              <a:t>CÁMARAS FRIAS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ff"/>
                </a:solidFill>
                <a:latin typeface="Times New Roman"/>
              </a:rPr>
              <a:t>DECRETO N°6969/46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1197000" y="2573280"/>
            <a:ext cx="5867280" cy="40561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218960" y="1676160"/>
            <a:ext cx="464796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ff"/>
                </a:solidFill>
                <a:latin typeface="Times New Roman"/>
              </a:rPr>
              <a:t>TRABAJO DE MUJERES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ff"/>
                </a:solidFill>
                <a:latin typeface="Times New Roman"/>
              </a:rPr>
              <a:t>LEY N° 11317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438640" y="4570560"/>
            <a:ext cx="4263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ff"/>
                </a:solidFill>
                <a:latin typeface="Times New Roman"/>
              </a:rPr>
              <a:t>TRABAJO 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ff"/>
                </a:solidFill>
                <a:latin typeface="Times New Roman"/>
              </a:rPr>
              <a:t>DE MENORES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320" cy="114300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0" y="4038480"/>
            <a:ext cx="1825560" cy="274320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3"/>
          <a:stretch/>
        </p:blipFill>
        <p:spPr>
          <a:xfrm>
            <a:off x="5710320" y="152280"/>
            <a:ext cx="2062080" cy="274320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133720" cy="14191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519200" y="1108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3592440"/>
            <a:ext cx="4952880" cy="32655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4800600" y="2438280"/>
            <a:ext cx="2987640" cy="44197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 txBox="1"/>
          <p:nvPr/>
        </p:nvSpPr>
        <p:spPr>
          <a:xfrm>
            <a:off x="914400" y="685800"/>
            <a:ext cx="63244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INSALUBRIDAD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981720" y="550800"/>
            <a:ext cx="2532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INSALUBRIDAD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038480" y="304920"/>
            <a:ext cx="403884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AREAS PENOSAS, RIESGOSA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Y/O CAUSANTES DE ENVEJECIMIENTO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ECOZ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057400" y="1143000"/>
            <a:ext cx="380880" cy="838080"/>
          </a:xfrm>
          <a:prstGeom prst="downArrow">
            <a:avLst>
              <a:gd name="adj1" fmla="val 50000"/>
              <a:gd name="adj2" fmla="val 55009"/>
            </a:avLst>
          </a:prstGeom>
          <a:solidFill>
            <a:srgbClr val="ffffff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80880" y="2362320"/>
            <a:ext cx="373392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IMPACTO JUBILATORI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Y REDUCCIÓN DE LA JORNADA LABORA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791320" y="2209680"/>
            <a:ext cx="533160" cy="838440"/>
          </a:xfrm>
          <a:prstGeom prst="downArrow">
            <a:avLst>
              <a:gd name="adj1" fmla="val 50000"/>
              <a:gd name="adj2" fmla="val 39315"/>
            </a:avLst>
          </a:prstGeom>
          <a:solidFill>
            <a:srgbClr val="ffffff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900680" y="3048120"/>
            <a:ext cx="23155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IMPACTO</a:t>
            </a: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JUBILATORI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23600" y="4724280"/>
            <a:ext cx="30470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EY N° 11544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ecreto s/n 11/03/30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ecretos de excepción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019240" y="3860640"/>
            <a:ext cx="457200" cy="838440"/>
          </a:xfrm>
          <a:prstGeom prst="downArrow">
            <a:avLst>
              <a:gd name="adj1" fmla="val 50000"/>
              <a:gd name="adj2" fmla="val 45846"/>
            </a:avLst>
          </a:prstGeom>
          <a:solidFill>
            <a:srgbClr val="ffffff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791320" y="3886200"/>
            <a:ext cx="533160" cy="838080"/>
          </a:xfrm>
          <a:prstGeom prst="downArrow">
            <a:avLst>
              <a:gd name="adj1" fmla="val 50000"/>
              <a:gd name="adj2" fmla="val 39298"/>
            </a:avLst>
          </a:prstGeom>
          <a:solidFill>
            <a:srgbClr val="ffffff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305240" y="4952880"/>
            <a:ext cx="350532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EY N° 24017, MODIFICADA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OR 24175 y 24241(articulo 157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3370680" y="473040"/>
            <a:ext cx="2064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EY N° 25212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925800" y="1143000"/>
            <a:ext cx="282600" cy="990720"/>
          </a:xfrm>
          <a:prstGeom prst="downArrow">
            <a:avLst>
              <a:gd name="adj1" fmla="val 50000"/>
              <a:gd name="adj2" fmla="val 8764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287720" y="2262240"/>
            <a:ext cx="605700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ODER DE POLICIA  SE TRANSFIER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A LAS PROVINCIAS DE ACUERDO A LA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NSTITUCIÓN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NACIONA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892080" y="3809880"/>
            <a:ext cx="903240" cy="990720"/>
          </a:xfrm>
          <a:custGeom>
            <a:avLst/>
            <a:gdLst>
              <a:gd name="textAreaLeft" fmla="*/ 120960 w 903240"/>
              <a:gd name="textAreaRight" fmla="*/ 782280 w 903240"/>
              <a:gd name="textAreaTop" fmla="*/ 173160 h 990720"/>
              <a:gd name="textAreaBottom" fmla="*/ 71820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2f1311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286680" y="3809880"/>
            <a:ext cx="788760" cy="838440"/>
          </a:xfrm>
          <a:custGeom>
            <a:avLst/>
            <a:gdLst>
              <a:gd name="textAreaLeft" fmla="*/ 105480 w 788760"/>
              <a:gd name="textAreaRight" fmla="*/ 683280 w 78876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2f1311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4952880"/>
            <a:ext cx="208764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Res MTEySS N°434/02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modificada por 860/02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419720" y="5029200"/>
            <a:ext cx="33382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Res MTE y SS N°212/02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(Procedimiento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304920" y="285840"/>
            <a:ext cx="312408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RES MTE Y SS 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° 434/02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962520" y="285840"/>
            <a:ext cx="3733560" cy="12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16059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ES MTE y SS</a:t>
            </a:r>
            <a:endParaRPr b="0" lang="en-US" sz="1800" spc="1" strike="noStrike">
              <a:ln w="12600">
                <a:solidFill>
                  <a:srgbClr val="c16059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16059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</a:t>
            </a:r>
            <a:r>
              <a:rPr b="0" lang="en-US" sz="1800" spc="1" strike="noStrike">
                <a:ln w="12600">
                  <a:solidFill>
                    <a:srgbClr val="c16059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°860/02</a:t>
            </a:r>
            <a:endParaRPr b="0" lang="en-US" sz="1800" spc="1" strike="noStrike">
              <a:ln w="12600">
                <a:solidFill>
                  <a:srgbClr val="c16059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16059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( MODIFICATORIA)</a:t>
            </a:r>
            <a:endParaRPr b="0" lang="en-US" sz="1800" spc="1" strike="noStrike">
              <a:ln w="12600">
                <a:solidFill>
                  <a:srgbClr val="c16059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998880" y="4191120"/>
            <a:ext cx="312408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ARTÍCULO 2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0840" y="2851200"/>
            <a:ext cx="280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ugar y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ambiente de trabaj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495680" y="2851200"/>
            <a:ext cx="268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Lugar,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tarea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 y ambiente de trabaj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2209680" y="1981080"/>
            <a:ext cx="35053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ARTÍCULO 1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962520" y="480060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Modifica el primer párraf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5518080"/>
            <a:ext cx="472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e aplica a las insalubridades en general y a aquellas dadas hasta enero del 2003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152280" y="4191120"/>
            <a:ext cx="312444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ARTÍCULO 3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blinds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609480" y="838080"/>
            <a:ext cx="23623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Artículo 4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62120" y="1752480"/>
            <a:ext cx="171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e sustituy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648320" y="838080"/>
            <a:ext cx="23619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Times New Roman"/>
              </a:rPr>
              <a:t>Artículo 3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ff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8360" y="2438280"/>
            <a:ext cx="11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ANSE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914400" y="3124080"/>
            <a:ext cx="990720" cy="990720"/>
          </a:xfrm>
          <a:custGeom>
            <a:avLst/>
            <a:gdLst>
              <a:gd name="textAreaLeft" fmla="*/ 0 w 990720"/>
              <a:gd name="textAreaRight" fmla="*/ 991080 w 9907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90720" y="4114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RT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417560" y="1905120"/>
            <a:ext cx="327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ANSES y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resto de actores sociale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involucrados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791320" y="3124080"/>
            <a:ext cx="609480" cy="838440"/>
          </a:xfrm>
          <a:custGeom>
            <a:avLst/>
            <a:gdLst>
              <a:gd name="textAreaLeft" fmla="*/ 0 w 609480"/>
              <a:gd name="textAreaRight" fmla="*/ 609840 w 60948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06240" y="3886200"/>
            <a:ext cx="238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Consejo Federal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del Trabaj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248520" y="4876920"/>
            <a:ext cx="609480" cy="838080"/>
          </a:xfrm>
          <a:custGeom>
            <a:avLst/>
            <a:gdLst>
              <a:gd name="textAreaLeft" fmla="*/ 0 w 609480"/>
              <a:gd name="textAreaRight" fmla="*/ 609840 w 6094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251040" y="563868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SRT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533520" y="18432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Roman"/>
              </a:rPr>
              <a:t>2  </a:t>
            </a:r>
            <a:r>
              <a:rPr b="1" lang="es-ES_tradnl" sz="4400" spc="-1" strike="noStrike">
                <a:solidFill>
                  <a:srgbClr val="ffffff"/>
                </a:solidFill>
                <a:latin typeface="Roman"/>
              </a:rPr>
              <a:t>METODOLOGIAS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255680" y="12193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solidFill>
            <a:srgbClr val="ffffff"/>
          </a:solidFill>
          <a:ln w="9360">
            <a:solidFill>
              <a:srgbClr val="2f1311"/>
            </a:solidFill>
            <a:miter/>
          </a:ln>
          <a:effectLst>
            <a:outerShdw dist="107932" dir="13500000" blurRad="0" rotWithShape="0">
              <a:srgbClr val="2f13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372280" y="105264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solidFill>
            <a:srgbClr val="ffffff"/>
          </a:solidFill>
          <a:ln w="9360">
            <a:solidFill>
              <a:srgbClr val="2f1311"/>
            </a:solidFill>
            <a:miter/>
          </a:ln>
          <a:effectLst>
            <a:outerShdw dist="107932" dir="13500000" blurRad="0" rotWithShape="0">
              <a:srgbClr val="2f13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-228600" y="2057400"/>
            <a:ext cx="3427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man"/>
              </a:rPr>
              <a:t>TAXATIVAMENT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Roman"/>
              </a:rPr>
              <a:t>INSALUBRE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654360" y="1676520"/>
            <a:ext cx="3889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man"/>
              </a:rPr>
              <a:t>ART 200 DE LA LEY DE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man"/>
              </a:rPr>
              <a:t>CONTRATO DE TRABAJ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man"/>
              </a:rPr>
              <a:t>LEY 20744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372280" y="328464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solidFill>
            <a:srgbClr val="ffffff"/>
          </a:solidFill>
          <a:ln w="9360">
            <a:solidFill>
              <a:srgbClr val="2f1311"/>
            </a:solidFill>
            <a:miter/>
          </a:ln>
          <a:effectLst>
            <a:outerShdw dist="107932" dir="13500000" blurRad="0" rotWithShape="0">
              <a:srgbClr val="2f13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257480" y="320040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solidFill>
            <a:srgbClr val="ffffff"/>
          </a:solidFill>
          <a:ln w="9360">
            <a:solidFill>
              <a:srgbClr val="2f1311"/>
            </a:solidFill>
            <a:miter/>
          </a:ln>
          <a:effectLst>
            <a:outerShdw dist="107932" dir="13500000" blurRad="0" rotWithShape="0">
              <a:srgbClr val="2f13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16000" y="4232160"/>
            <a:ext cx="253836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Roman"/>
              </a:rPr>
              <a:t>DECRETOS D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Roman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Roman"/>
              </a:rPr>
              <a:t>EXCEPCIO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429000" y="4005360"/>
            <a:ext cx="434340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Roman"/>
              </a:rPr>
              <a:t>MÉTODOS MÉDICOS D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Roman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Roman"/>
              </a:rPr>
              <a:t>RIGOR CIENTIFICO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591000" y="6165720"/>
            <a:ext cx="40194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RES MTE y SS N° 212/03</a:t>
            </a:r>
            <a:endParaRPr b="0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39" name=""/>
          <p:cNvSpPr/>
          <p:nvPr/>
        </p:nvSpPr>
        <p:spPr>
          <a:xfrm>
            <a:off x="5372280" y="5445000"/>
            <a:ext cx="457200" cy="60984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ffffff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209520" y="380880"/>
            <a:ext cx="748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imes New Roman"/>
              </a:rPr>
              <a:t>METODOLOGIA PARA IMPLEMENTAR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imes New Roman"/>
              </a:rPr>
              <a:t>EL ARTICULO 200 DE LA LEY N° 20744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090440" y="4267080"/>
            <a:ext cx="5724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RES MTE y SS N° 212/03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blinds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-304920" y="914400"/>
            <a:ext cx="7696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REALIZAR UNA DESCRIPCIÓN  DEL AMBIENTE DEL PUESTO DE TRABAJO INVOLUCRADOS Y CANTIDAD DE PERSONAL DE PRODUCCIÓN EN CADA UNA DE LAS SECCIONES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ENUMERAR LOS CONTAMINANT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PRESENTES EN LAS DISTINTAS SECCIONES, EVALUANDO LAS MEDICIONES DE LOS MISMO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0"/>
            <a:ext cx="830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-304920" y="0"/>
            <a:ext cx="77724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EVALUACIÓN DE RESULTADOS ESTARÁ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ACORDE A LAS CONCENTRACIONES MÁXIMAS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ERMISIBLES ESTABLECIDAS EN LA RESOLUCIÓN MTEy SS N°295/03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HACER REFERENCIA A LOS INDICES BIOLÓGICOS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E EXPOSICIÓN (IBE), QUE CONSTAN EN LA MENCIONADA RESOLUCIÓN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ETECCIÓN DE ALTERACIONES A LA SALUD DEL PERSONAL EXPUESTO A TODOS AQUELLOS CONTAMINANTES QUE PUEDAN PROVOCAR RIESGO PARA LA SALUD DE LOS TRABAJADORES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2635200" y="118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28600" y="457200"/>
            <a:ext cx="7429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os términos </a:t>
            </a:r>
            <a:r>
              <a:rPr b="1" lang="es-ES_tradnl" sz="2400" spc="-1" strike="noStrike">
                <a:solidFill>
                  <a:srgbClr val="2f1311"/>
                </a:solidFill>
                <a:latin typeface="Times New Roman"/>
              </a:rPr>
              <a:t>“</a:t>
            </a:r>
            <a:r>
              <a:rPr b="1" lang="es-ES_tradnl" sz="2400" spc="-1" strike="noStrike">
                <a:solidFill>
                  <a:srgbClr val="2f1311"/>
                </a:solidFill>
                <a:latin typeface="Times New Roman"/>
              </a:rPr>
              <a:t>Normales” o “Insalubres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” involucran la calificación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e las tareas o de los ambientes laborales en que desarrollan sus actividades los trabajadores ante una situación de riesgo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635200" y="3774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2362320"/>
            <a:ext cx="7238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Insalubres” aquellas en que técnicamente es posible corregir los riesgos pero por situaciones especiales no pueden implementars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(ej.: por incumplimientos de la normativa por el empleador, etc.)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o aquellas consideradas taxativamente insalubres por la normativa vigente tanto a nivel laboral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(en la que se establece una reducción en la duración de la jornada de trabajo)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380880" y="3049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imes New Roman"/>
              </a:rPr>
              <a:t>SUPERVISIÓN DE LA SALUD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3600" spc="-1" strike="noStrike">
                <a:solidFill>
                  <a:srgbClr val="ffffff"/>
                </a:solidFill>
                <a:latin typeface="Times New Roman"/>
              </a:rPr>
              <a:t>DE LOS TRABAJADORES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rot="960600">
            <a:off x="990720" y="2793960"/>
            <a:ext cx="1828800" cy="1752480"/>
          </a:xfrm>
          <a:custGeom>
            <a:avLst/>
            <a:gdLst>
              <a:gd name="textAreaLeft" fmla="*/ 244800 w 1828800"/>
              <a:gd name="textAreaRight" fmla="*/ 1584000 w 1828800"/>
              <a:gd name="textAreaTop" fmla="*/ 306720 h 1752480"/>
              <a:gd name="textAreaBottom" fmla="*/ 127080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2f1311"/>
            </a:solidFill>
            <a:miter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rot="20451600">
            <a:off x="5334120" y="2906640"/>
            <a:ext cx="1904760" cy="1524240"/>
          </a:xfrm>
          <a:custGeom>
            <a:avLst/>
            <a:gdLst>
              <a:gd name="textAreaLeft" fmla="*/ 254880 w 1904760"/>
              <a:gd name="textAreaRight" fmla="*/ 1649880 w 1904760"/>
              <a:gd name="textAreaTop" fmla="*/ 266760 h 1524240"/>
              <a:gd name="textAreaBottom" fmla="*/ 110520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2f1311"/>
            </a:solidFill>
            <a:miter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70520" y="4572000"/>
            <a:ext cx="300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imes New Roman"/>
              </a:rPr>
              <a:t>AMBIENTAL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343400" y="4572000"/>
            <a:ext cx="275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imes New Roman"/>
              </a:rPr>
              <a:t>SANITARIA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835640" y="380880"/>
            <a:ext cx="405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BERNARDINO  RAMAZZINI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477120" y="152280"/>
            <a:ext cx="1217520" cy="1524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0" y="114300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ROBERT  OWEN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   LIDERA LAS REINVIDICACIONES    OBRERAS CON DISMINUCIÓN DE LA JORNADA LABORA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006200" y="2438280"/>
            <a:ext cx="6438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LAVOISIER, TENON Y ADAMSON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(1783)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mientras se aplauden las conquistas del trabajo,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el mismo trabajo produce muerte y mutilaciones”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5257800" y="4262400"/>
            <a:ext cx="3886200" cy="25956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228600" y="3968640"/>
            <a:ext cx="5029200" cy="28893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380880" y="914400"/>
            <a:ext cx="6858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DECRETO N° 4257/6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" y="3429000"/>
            <a:ext cx="6705720" cy="17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rtículo 1° inc. F) el personal que se desempeñe habitualmente en lugares y ambientes declarados insalubres por la autoridad competent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838080" y="1317600"/>
            <a:ext cx="6782040" cy="355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SU REORDENAMIENTO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Y RACIONALIZACIÓ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blinds dir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0" y="620640"/>
            <a:ext cx="786456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ANTIGÜEDAD DE LOS DECRETOS DE EXCEPCIÓN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Y TAXATIVO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AMBIO EN LA TECNOLOGIA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ESMEDRO DE LAS ALTERACIONES A LA SALUD A FAVOR DE CIERTAS ACTIVIDADE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ESACTUALIZACIÓN DE LOS LIMITES MAXIMOS PERMISIBLE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SANCIÓN DE LA RESOLUCIÓN MTEySS Nª       212/03 DEBERIA SER DE USO GENERAL PARA TODAS LAS ACTIVIDADE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447840" y="1704960"/>
            <a:ext cx="614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LOS EMPLEADORES ACEPTARON LOS DECRETOS DE EXCEPCIÒN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68360" y="3340080"/>
            <a:ext cx="731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E DEBERÍA IMPLEMENTAR EL REGISTRO DE INSALUBRIDADES POR PROVINCIA, TAL COMO INDICA LA RESOLUCIÓN MTEy SSN° 212/03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762120" y="2144880"/>
            <a:ext cx="6400800" cy="242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TAREAS RIESGOS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blinds dir="horz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2753280" y="765000"/>
            <a:ext cx="3256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imes New Roman"/>
              </a:rPr>
              <a:t>LEY 24017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imes New Roman"/>
              </a:rPr>
              <a:t>MODIFICADA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imes New Roman"/>
              </a:rPr>
              <a:t>LEY 24175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imes New Roman"/>
              </a:rPr>
              <a:t>MODIFICADA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imes New Roman"/>
              </a:rPr>
              <a:t>LEY 24241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427120" y="404640"/>
            <a:ext cx="3733920" cy="1295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427120" y="5029200"/>
            <a:ext cx="3733920" cy="1295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2514600" y="2635920"/>
            <a:ext cx="3733920" cy="1143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0" y="685800"/>
            <a:ext cx="7711920" cy="17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Según datos Comisión Europea 35% de los europeos de mas de 54 años  abandonaron su trabajo lo hicieron por el mecanismo normal de jubilació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50920" y="2421000"/>
            <a:ext cx="3581280" cy="190476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  <a:effectLst>
            <a:outerShdw dist="107932" dir="81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67280" y="2781360"/>
            <a:ext cx="328176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22%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jubilados anticipad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962520" y="2438280"/>
            <a:ext cx="3581280" cy="182880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170600" y="2997360"/>
            <a:ext cx="328500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17% dejó el trabajo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por incapacidad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-117360" y="4826160"/>
            <a:ext cx="8145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7 millones de trabajadores europeos de más de 54 años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ejan anticipadamente el mercado de trabajo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395280" y="981000"/>
            <a:ext cx="6902280" cy="35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La Comisión Europea  afirma que el bajo nivel de empleo de lo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trabajadores de edad no es solo un despilfarro en la vida de las persona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y de potencia social .es también sobretodo un atentado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ontra el derecho de los trabajadores a una vida saludabl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2895480" y="4525920"/>
            <a:ext cx="2819520" cy="23320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250920" y="333360"/>
            <a:ext cx="7254720" cy="60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El envejecimiento conlleva a cambios psicofisiológico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30 a 40 años perdida de elasticidad articular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ligamentos menos elástico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tendones mas duro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40 a 65 años se reduce la fuerza muscular en     un 25%disminuye la agudeza visual y auditiv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ambios a nivel circulatorio neurona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lteran los hábitos de sueño y vigili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619200" y="4572000"/>
            <a:ext cx="6534000" cy="14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A una polipatología que no tiene coincidencia con la edad cronológic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228600" y="76320"/>
            <a:ext cx="7315200" cy="35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¿A que denominamos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envejecimiento precoz 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533520" y="3352680"/>
            <a:ext cx="70038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i="1" lang="es-ES_tradnl" sz="2800" spc="-1" strike="noStrike">
                <a:solidFill>
                  <a:srgbClr val="ffffff"/>
                </a:solidFill>
                <a:latin typeface="Times New Roman"/>
              </a:rPr>
              <a:t>distinción a todos los efectos de esta ley entre las actividades normales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2800" spc="-1" strike="noStrike">
                <a:solidFill>
                  <a:srgbClr val="ffffff"/>
                </a:solidFill>
                <a:latin typeface="Times New Roman"/>
              </a:rPr>
              <a:t>riesgosas o determinantes de vejez o agotamiento prematuro y/o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Times New Roman"/>
              </a:rPr>
              <a:t>las desarrolladas en lugares o ambientes insalubres”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295280" y="304920"/>
            <a:ext cx="5486400" cy="279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Ley N° 1958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articulo 5° inc d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blinds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0" y="533520"/>
            <a:ext cx="7924680" cy="26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E CARACTERIZAN  CUANDO UN RIESGO ES INMODIFICABLE , COMO SER EL CASO DE LA MINERIA SUBTERRANEA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28600" y="2514600"/>
            <a:ext cx="7467480" cy="38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studiar las aptitudes globales de la población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Adecuar las aptitudes de los trabajadores y las exigencias del puesto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studiar las aptitudes que exigirán los puestos de trabajo en el futuro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mparar las exigencias de los puestos actuales y las exigencias previsibles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nseguir la flexibilidad del personal basada en la formación y el reciclaje permanent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380880" y="1797120"/>
            <a:ext cx="7010640" cy="27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recomendación sobre los Trabajadores de Edad núm. 162 (1980) busca determinar y eliminar los peligros de salud profesional y las condiciones de trabajo que reducen la capacidad de trabajo de los trabajadores mayores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nvocar a una comisión en virtud de lo establecido en el articulo 157 de la Ley N°24557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762120" y="127080"/>
            <a:ext cx="6553080" cy="109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DECRETO N° 4257/6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0800" y="1844640"/>
            <a:ext cx="6966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EPROSARIO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INFECTOCONTAGIOSA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ALIENADO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ASISTENCIA DE DIFRENCIADOS MENTALE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FERROVIARIO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NDUCTOR DE COLECTIVO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2"/>
          <a:stretch/>
        </p:blipFill>
        <p:spPr>
          <a:xfrm>
            <a:off x="5334120" y="1523880"/>
            <a:ext cx="914400" cy="113364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13"/>
          <a:stretch/>
        </p:blipFill>
        <p:spPr>
          <a:xfrm>
            <a:off x="4419720" y="4572000"/>
            <a:ext cx="1276200" cy="9619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14"/>
          <a:stretch/>
        </p:blipFill>
        <p:spPr>
          <a:xfrm>
            <a:off x="6400800" y="5181480"/>
            <a:ext cx="1257480" cy="12574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11520" y="914400"/>
            <a:ext cx="6931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AREAS MINERAS A CIELO ABIERT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MINACIÓN, ACERIA, FUNDICIÓN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MINERIA SUBTERRANEA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AREAS DE AERONAVEGACIÓN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ANTARTIDA E ISLAS DEL ATLANTICO SUR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1"/>
          <a:stretch/>
        </p:blipFill>
        <p:spPr>
          <a:xfrm>
            <a:off x="6219720" y="0"/>
            <a:ext cx="1476360" cy="98748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12"/>
          <a:stretch/>
        </p:blipFill>
        <p:spPr>
          <a:xfrm>
            <a:off x="6400800" y="2308320"/>
            <a:ext cx="1295280" cy="90468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13"/>
          <a:stretch/>
        </p:blipFill>
        <p:spPr>
          <a:xfrm>
            <a:off x="5943600" y="4559400"/>
            <a:ext cx="1752480" cy="14605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304200" y="304920"/>
            <a:ext cx="1476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1967/67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1852/75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992/75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8746/72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1851/73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533/75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937/74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057400" y="380880"/>
            <a:ext cx="1066680" cy="381240"/>
          </a:xfrm>
          <a:prstGeom prst="rightArrow">
            <a:avLst>
              <a:gd name="adj1" fmla="val 50000"/>
              <a:gd name="adj2" fmla="val 69948"/>
            </a:avLst>
          </a:prstGeom>
          <a:solidFill>
            <a:srgbClr val="ffffff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133720" y="2514600"/>
            <a:ext cx="1066680" cy="380880"/>
          </a:xfrm>
          <a:prstGeom prst="rightArrow">
            <a:avLst>
              <a:gd name="adj1" fmla="val 50000"/>
              <a:gd name="adj2" fmla="val 70014"/>
            </a:avLst>
          </a:prstGeom>
          <a:solidFill>
            <a:srgbClr val="ffffff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286000" y="3200400"/>
            <a:ext cx="1066680" cy="380880"/>
          </a:xfrm>
          <a:prstGeom prst="rightArrow">
            <a:avLst>
              <a:gd name="adj1" fmla="val 50000"/>
              <a:gd name="adj2" fmla="val 70014"/>
            </a:avLst>
          </a:prstGeom>
          <a:solidFill>
            <a:srgbClr val="ffffff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362320" y="3962520"/>
            <a:ext cx="1066680" cy="380880"/>
          </a:xfrm>
          <a:prstGeom prst="rightArrow">
            <a:avLst>
              <a:gd name="adj1" fmla="val 50000"/>
              <a:gd name="adj2" fmla="val 70014"/>
            </a:avLst>
          </a:prstGeom>
          <a:solidFill>
            <a:srgbClr val="ffffff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133720" y="4724280"/>
            <a:ext cx="1066680" cy="381240"/>
          </a:xfrm>
          <a:prstGeom prst="rightArrow">
            <a:avLst>
              <a:gd name="adj1" fmla="val 50000"/>
              <a:gd name="adj2" fmla="val 69948"/>
            </a:avLst>
          </a:prstGeom>
          <a:solidFill>
            <a:srgbClr val="ffffff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209680" y="5486400"/>
            <a:ext cx="1067040" cy="380880"/>
          </a:xfrm>
          <a:prstGeom prst="rightArrow">
            <a:avLst>
              <a:gd name="adj1" fmla="val 50000"/>
              <a:gd name="adj2" fmla="val 70038"/>
            </a:avLst>
          </a:prstGeom>
          <a:solidFill>
            <a:srgbClr val="ffffff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133720" y="1447920"/>
            <a:ext cx="1066680" cy="380880"/>
          </a:xfrm>
          <a:prstGeom prst="rightArrow">
            <a:avLst>
              <a:gd name="adj1" fmla="val 50000"/>
              <a:gd name="adj2" fmla="val 70014"/>
            </a:avLst>
          </a:prstGeom>
          <a:solidFill>
            <a:srgbClr val="ffffff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380880"/>
            <a:ext cx="3520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OLICIA NAVA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RAGADO Y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BALIZAMIENT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FERROBARCO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ESPOSTAD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EÑALERO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ZONA DE FRONTERA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ALTA TENSION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6">
            <a:lum contrast="36000"/>
          </a:blip>
          <a:stretch/>
        </p:blipFill>
        <p:spPr>
          <a:xfrm>
            <a:off x="3352680" y="2895480"/>
            <a:ext cx="990720" cy="74448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17"/>
          <a:stretch/>
        </p:blipFill>
        <p:spPr>
          <a:xfrm>
            <a:off x="6553080" y="3733920"/>
            <a:ext cx="1143000" cy="86184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18"/>
          <a:stretch/>
        </p:blipFill>
        <p:spPr>
          <a:xfrm>
            <a:off x="6172200" y="5897520"/>
            <a:ext cx="1447920" cy="9604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3124080" y="3808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imes New Roman"/>
              </a:rPr>
              <a:t>DECRETOS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04200" y="190512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2136/74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981080" y="1981080"/>
            <a:ext cx="1219320" cy="457200"/>
          </a:xfrm>
          <a:prstGeom prst="rightArrow">
            <a:avLst>
              <a:gd name="adj1" fmla="val 50000"/>
              <a:gd name="adj2" fmla="val 66673"/>
            </a:avLst>
          </a:prstGeom>
          <a:solidFill>
            <a:srgbClr val="ffffff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13840" y="1828800"/>
            <a:ext cx="245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XPLOTACIÓN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ETROLIFERA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905120" y="3200400"/>
            <a:ext cx="1218960" cy="4572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ffffff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057400" y="4724280"/>
            <a:ext cx="1219320" cy="457200"/>
          </a:xfrm>
          <a:prstGeom prst="rightArrow">
            <a:avLst>
              <a:gd name="adj1" fmla="val 50000"/>
              <a:gd name="adj2" fmla="val 66673"/>
            </a:avLst>
          </a:prstGeom>
          <a:solidFill>
            <a:srgbClr val="ffffff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133720" y="5791320"/>
            <a:ext cx="1218960" cy="4572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ffffff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880" y="320040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14/87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509640" y="3200400"/>
            <a:ext cx="187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ENARES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04560" y="4800600"/>
            <a:ext cx="155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4645/72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585600" y="4800600"/>
            <a:ext cx="251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ELEFONISTA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32800" y="5715000"/>
            <a:ext cx="13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182/74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09640" y="5867280"/>
            <a:ext cx="28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FORJA Y FRAGUA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5"/>
          <a:srcRect l="0" t="0" r="4331" b="0"/>
          <a:stretch/>
        </p:blipFill>
        <p:spPr>
          <a:xfrm>
            <a:off x="6019920" y="108000"/>
            <a:ext cx="1676160" cy="161460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6"/>
          <a:stretch/>
        </p:blipFill>
        <p:spPr>
          <a:xfrm>
            <a:off x="6054840" y="2637000"/>
            <a:ext cx="1606320" cy="175248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7"/>
          <a:stretch/>
        </p:blipFill>
        <p:spPr>
          <a:xfrm>
            <a:off x="6058080" y="4998960"/>
            <a:ext cx="1600200" cy="10209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1433160" y="422280"/>
            <a:ext cx="19393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1825/87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2371/73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3176/71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1805/73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1851/75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2135/74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5912/72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EY 20740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191480" y="0"/>
            <a:ext cx="30913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USINAS YPF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ELEGRAFIA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VIDRI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LANTA DE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MBUSTIBLE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2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HILADO Y DOFE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2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2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AMARRADORE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2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2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ORTUARIO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2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3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AUTOMOTORES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E CARGA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971800" y="53352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ffffff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048120" y="190512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ffffff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971800" y="266688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ffffff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971800" y="380988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ffffff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048120" y="449568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ffffff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200400" y="533412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ffffff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352680" y="6019920"/>
            <a:ext cx="609840" cy="228600"/>
          </a:xfrm>
          <a:prstGeom prst="rightArrow">
            <a:avLst>
              <a:gd name="adj1" fmla="val 50000"/>
              <a:gd name="adj2" fmla="val 66693"/>
            </a:avLst>
          </a:prstGeom>
          <a:solidFill>
            <a:srgbClr val="ffffff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124080" y="1219320"/>
            <a:ext cx="609840" cy="228600"/>
          </a:xfrm>
          <a:prstGeom prst="rightArrow">
            <a:avLst>
              <a:gd name="adj1" fmla="val 50000"/>
              <a:gd name="adj2" fmla="val 66693"/>
            </a:avLst>
          </a:prstGeom>
          <a:solidFill>
            <a:srgbClr val="ffffff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32"/>
          <a:stretch/>
        </p:blipFill>
        <p:spPr>
          <a:xfrm>
            <a:off x="6781680" y="5810400"/>
            <a:ext cx="1009800" cy="104760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33">
            <a:lum contrast="48000"/>
          </a:blip>
          <a:stretch/>
        </p:blipFill>
        <p:spPr>
          <a:xfrm>
            <a:off x="6781680" y="2895480"/>
            <a:ext cx="914400" cy="69372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34"/>
          <a:stretch/>
        </p:blipFill>
        <p:spPr>
          <a:xfrm>
            <a:off x="5715000" y="1219320"/>
            <a:ext cx="1143000" cy="934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-360" y="304920"/>
            <a:ext cx="1476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3555/72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321/80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710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629/73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3092/71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2465/86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2137/67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6730/68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590920" y="304920"/>
            <a:ext cx="4267080" cy="63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FAENA</a:t>
            </a:r>
            <a:r>
              <a:rPr b="1" lang="es-ES_tradnl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ARN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RADIOSCOPIA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ASTIL SOCOMPA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AXI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ESCA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RECOLECCIÓN  RESIDUO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FERROCARRILE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ERSONAL EMBARCAD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752480" y="380880"/>
            <a:ext cx="609840" cy="304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371600" y="2133720"/>
            <a:ext cx="609480" cy="30456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ffffff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752480" y="3276720"/>
            <a:ext cx="609840" cy="30456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ffffff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676520" y="388620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fffff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752480" y="4724280"/>
            <a:ext cx="609840" cy="304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752480" y="5410080"/>
            <a:ext cx="609840" cy="304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676520" y="632448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fffff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600200" y="106668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fffff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18"/>
          <a:stretch/>
        </p:blipFill>
        <p:spPr>
          <a:xfrm>
            <a:off x="5715000" y="304920"/>
            <a:ext cx="1090440" cy="175248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19"/>
          <a:stretch/>
        </p:blipFill>
        <p:spPr>
          <a:xfrm>
            <a:off x="4114800" y="2590920"/>
            <a:ext cx="1066680" cy="88236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20"/>
          <a:stretch/>
        </p:blipFill>
        <p:spPr>
          <a:xfrm>
            <a:off x="3962520" y="3668760"/>
            <a:ext cx="1447560" cy="77940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21"/>
          <a:stretch/>
        </p:blipFill>
        <p:spPr>
          <a:xfrm>
            <a:off x="6172200" y="3429000"/>
            <a:ext cx="1523880" cy="115092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22"/>
          <a:stretch/>
        </p:blipFill>
        <p:spPr>
          <a:xfrm>
            <a:off x="5486400" y="5257800"/>
            <a:ext cx="990720" cy="74628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23"/>
          <a:stretch/>
        </p:blipFill>
        <p:spPr>
          <a:xfrm>
            <a:off x="6781680" y="5105520"/>
            <a:ext cx="893880" cy="16002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152280" y="685800"/>
            <a:ext cx="769644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SU REORDENAMIENTO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Y RACIONALIZACIÓ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blinds dir="horz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6" name=""/>
          <p:cNvGrpSpPr/>
          <p:nvPr/>
        </p:nvGrpSpPr>
        <p:grpSpPr>
          <a:xfrm>
            <a:off x="1066320" y="971640"/>
            <a:ext cx="6023160" cy="825480"/>
            <a:chOff x="1066320" y="971640"/>
            <a:chExt cx="6023160" cy="825480"/>
          </a:xfrm>
        </p:grpSpPr>
        <p:sp>
          <p:nvSpPr>
            <p:cNvPr id="447" name=""/>
            <p:cNvSpPr/>
            <p:nvPr/>
          </p:nvSpPr>
          <p:spPr>
            <a:xfrm>
              <a:off x="1066320" y="971640"/>
              <a:ext cx="14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SzPct val="102884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s-ES_tradnl" sz="2400" spc="-1" strike="noStrike">
                  <a:solidFill>
                    <a:srgbClr val="ffffff"/>
                  </a:solidFill>
                  <a:latin typeface="Times New Roman"/>
                </a:rPr>
                <a:t>2338/69</a:t>
              </a: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934000" y="971640"/>
              <a:ext cx="4155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imes New Roman"/>
                </a:rPr>
                <a:t>FUNDICIÓN, LAMINACIÓN</a:t>
              </a: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s-ES_tradnl" sz="2400" spc="-1" strike="noStrike">
                  <a:solidFill>
                    <a:srgbClr val="ffffff"/>
                  </a:solidFill>
                  <a:latin typeface="Times New Roman"/>
                </a:rPr>
                <a:t>Y ACERÍA</a:t>
              </a: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2595600" y="2038320"/>
            <a:ext cx="2971800" cy="39816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754380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S CONDICIONES Y MEDIO AMBIENTE DE TRABAJ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ABARCA POR UN LADO LA SEGURIDAD E HIGIENE DEL TRABAJO Y POR OTRO LAD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S CONDICIONES GENERALES DE TRABAJ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1981080"/>
            <a:ext cx="73152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Y DE VIDA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ON LOS ELEMENTOS QUE DETERMINAN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SITUACIÓN QUE VIVE EL TRABAJADOR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987640" y="3141720"/>
            <a:ext cx="2286000" cy="21924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5638680" y="4114800"/>
            <a:ext cx="1981440" cy="19162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0" y="3276720"/>
            <a:ext cx="2435400" cy="24382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3505320" y="5470560"/>
            <a:ext cx="1447560" cy="11746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5"/>
          <a:stretch/>
        </p:blipFill>
        <p:spPr>
          <a:xfrm>
            <a:off x="2362320" y="5029200"/>
            <a:ext cx="1252440" cy="18288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0" y="609480"/>
            <a:ext cx="7885080" cy="59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ANALIZAR LAS JUBILACIONES DIFERENCIALES A LA LUZ DE LOS CAMBIOS TECNOLOGICOS Y INCORPORACIÓN DE NUEVAS TECNOLOGIA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INCORPORAR UN MECANISMO DE INTERCAMBIO PERMANENTE  EN EL DICTADO DE INSALUBRIDADES Y RESOLUCIONES DE JUBILACIONES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MANTENER UN FLUIDO INTERCAMBIO SIN DESMEDRO DEL PODER QUE PERTENECE A LAS PROVINCIA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S CAJAS PROVINCIALES SE HAN TRANSPASADO A NACIÓN CON EXCEPCIÓN DE TRES PROVINCIA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ffffff"/>
                </a:solidFill>
                <a:latin typeface="Roman"/>
              </a:rPr>
              <a:t>LEY 11.544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685800" y="228420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ff"/>
                </a:solidFill>
                <a:latin typeface="Arial"/>
              </a:rPr>
              <a:t>JORNADA LABORAL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25600" y="4035600"/>
            <a:ext cx="6721200" cy="16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1929, Gobierno de Hipólito Yrigoyen) se había sancionado la Ley N° 11544,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ue instituía la jornada laboral de ocho horas, vieja aspiración del sindicalismo internacional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584440" y="914400"/>
            <a:ext cx="268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ARTICULO 1</a:t>
            </a:r>
            <a:br>
              <a:rPr sz="3200"/>
            </a:b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2971800"/>
            <a:ext cx="7238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JORNADA LABORAL:8 HORAS DIARIAS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O 48 HORAS SEMANALE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-380880"/>
            <a:ext cx="6629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ARTICULO   2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-152640" y="980640"/>
            <a:ext cx="78483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JORNADA LABORAL NOCTURNA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7 HORAS (21 HS.A 6 HS.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-141120" y="2133720"/>
            <a:ext cx="782604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JORNADA LABORA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INSALUBRE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6 HORAS (36 SEMANALES</a:t>
            </a:r>
            <a:r>
              <a:rPr b="1" lang="es-ES_tradnl" sz="40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74640" y="3645000"/>
            <a:ext cx="6192720" cy="321300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219320" y="4194000"/>
            <a:ext cx="511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LUGARES VICIADOS DEL AIR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EMANACION DE POLVOS TOXICO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ELEMENTO CUALQUIERA QUE PONGA EN PELIGRO DEL TRABAJADOR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15:11:41Z</dcterms:created>
  <dc:creator>SRT</dc:creator>
  <dc:description/>
  <dc:language>en-US</dc:language>
  <cp:lastModifiedBy>C.P.C.E.C.A.B.A.</cp:lastModifiedBy>
  <dcterms:modified xsi:type="dcterms:W3CDTF">2005-10-12T17:14:35Z</dcterms:modified>
  <cp:revision>7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