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743-4808-433C-B8A2-D4890D47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04B-8BF4-4430-80B2-29415788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8D5-B65C-42D9-BC58-0C26071C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E5C-F78E-4781-80D0-BD355574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455-D61E-4432-BE0F-6C3011F4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763-CA82-4FA9-A52F-6D2F47AF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408-18D8-427E-BEA6-386556EB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3CB-9C1E-4B88-9F4C-F595543E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43F-E759-4AA4-A1F1-AD448D0E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8B2-D39C-454A-896B-C0AA7A6B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C7E-F445-4C43-A37D-939F4EC3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F78-D24C-4E62-A326-6690AC52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E157-1868-45EB-9394-60D8998290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squema de Prestaciones de invalidez y muerte de los subsistemas de la Seguridad Social y la legislación laboral. Problemas y lineamientos de un nuevo diseñ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3560" y="5420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arcelo Aló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eficienci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Incentivos distorsivos y comportamientos oportunistas, litigiosidad, superposición de gastos administ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equidad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Ante igual contingencia diferente cobertura según el ori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ineamientos de un nuevo diseñ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tablecer las prestaciones en función de la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ecesidad del siniestrado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y no por el origen del sinies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signar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sponsabilidades de gestión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la cobertura por origen de la contingencia (laboral - no labor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vitar la superposición, incrementar la cobertura y; reducir instituciones, entidades y organismos de la Segur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0" y="42840"/>
          <a:ext cx="9144000" cy="6799320"/>
        </p:xfrm>
        <a:graphic>
          <a:graphicData uri="http://schemas.openxmlformats.org/drawingml/2006/table">
            <a:tbl>
              <a:tblPr/>
              <a:tblGrid>
                <a:gridCol w="3921120"/>
                <a:gridCol w="2610000"/>
                <a:gridCol w="2612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c0000"/>
                          </a:solidFill>
                          <a:latin typeface="Arial"/>
                          <a:ea typeface="Times New Roman"/>
                        </a:rPr>
                        <a:t>Condición Lab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c0000"/>
                          </a:solidFill>
                          <a:latin typeface="Arial"/>
                          <a:ea typeface="Times New Roman"/>
                        </a:rPr>
                        <a:t>Ocupados Registrados: trabajadores en relación de dependencia y trabajadores por cuenta propia (con siniestros del ámbito no labor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aleza del sinies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9999"/>
                          </a:solidFill>
                          <a:latin typeface="Arial"/>
                          <a:ea typeface="Times New Roman"/>
                        </a:rPr>
                        <a:t>Lab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Lab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i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9999"/>
                          </a:solidFill>
                          <a:latin typeface="Arial"/>
                          <a:ea typeface="Times New Roman"/>
                        </a:rPr>
                        <a:t>Emple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mpleado/Emple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idad Gest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9999"/>
                          </a:solidFill>
                          <a:latin typeface="Arial"/>
                          <a:ea typeface="Times New Roman"/>
                        </a:rPr>
                        <a:t>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FJ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erio de elegibi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9999"/>
                          </a:solidFill>
                          <a:latin typeface="Arial"/>
                          <a:ea typeface="Times New Roman"/>
                        </a:rPr>
                        <a:t>Desde el primer día de la relación lab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as condiciones actuales de acceso a Benef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apacidad Temp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del ingreso base, con un período de carencia de los primeros 10 dí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.  Permanente Parcial Provisoria -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% ingreso base * Porcentaje inc. (por 5 añ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. Permanente Parcial Definitiva -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go Unico: 53 * el ingreso base * porcentaje de incapacidad * el coeficiente de 65 sobre la edad. tope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. Permanente Parcial Definitiva +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so base * porcentaje de incapacidad  (hasta la jubilación) + Prestación adicional de ???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. Permanente Total Provisoria +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% del ingreso base (durante 5 añ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. Permanente Total Definitiva +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% del ingreso base (hasta la jubilación) + prestación adicional de ???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n Invali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% del ingreso base + 3 AMPOS + prestación adicional de ???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% del ingreso base cónyuge y 14% del ingreso base hijo menor + prestación adicional de ???$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5" name=""/>
          <p:cNvSpPr/>
          <p:nvPr/>
        </p:nvSpPr>
        <p:spPr>
          <a:xfrm>
            <a:off x="-2309760" y="64173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-2311560" y="689940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1330200" y="1700280"/>
            <a:ext cx="684216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41480" y="1973160"/>
            <a:ext cx="684216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al como vimos el esquema actual tiene superposiciones y vacíos de cober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presentado un nuevo esquema de beneficios que se basa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mplificar del esquema actual de beneficios por las contingencias de invalidez y muer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cuar las prestaciones a las necesidades de los siniestrados, y no por el origen del siniest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rindar una gestión más eficiente del sist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costo incremental de este nuevo diseño es de  0,7% de la masa salarial. Aunque existen perdedores y ganadores, según las intensidades que se defin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c0000"/>
                </a:solidFill>
                <a:latin typeface="Arial"/>
              </a:rPr>
              <a:t>Sin embargo; subsiste un problema en cualquiera de los esquemas presentados para una </a:t>
            </a:r>
            <a:r>
              <a:rPr b="1" i="1" lang="es-ES_tradnl" sz="3200" spc="-1" strike="noStrike">
                <a:solidFill>
                  <a:srgbClr val="fc0000"/>
                </a:solidFill>
                <a:latin typeface="Arial"/>
              </a:rPr>
              <a:t>gran cantidad de trabajadores que están fuera del mercado formal</a:t>
            </a:r>
            <a:r>
              <a:rPr b="0" i="1" lang="es-ES_tradnl" sz="3200" spc="-1" strike="noStrike">
                <a:solidFill>
                  <a:srgbClr val="f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otivación y Marco de Refer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esentación del problema y sus consecu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ineamientos de un nuevo 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stos comparativos (MUY PRELIMINARES!!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clu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ntentamos promover el debate sobre el diseño de acceso y monto de las prestaciones de invalidez y muerte de los trabaj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foque económ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e qué se tr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l trabajador se expone a contingencias que afectan la capacidad laboral y por lo tanto el flujo de ingr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Nos referimos a las contingencias de invalidez y muerte de los trabajadores ac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tos siniestros pueden provenir de las tareas desarrolladas debido a sus actividades laborales o fuera del ámbito d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orque el Esta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 cualquier caso el Estado busca establecer los mecanismos para mantener el flujo de ingresos ante estos ev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 intervención se da, entre otras cosas, debido a la falta de un mercado asegurador eficiente que mantenga el flujo de ingr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ómo lo h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 Argentina existen básicamente dos regimenes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 cubren de manera diferente según las contingencias provengan del ámbito laboral o no labo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y de Riesgos del Trabajo N° 24.557 (LRT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br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eventos de muerte e invalidez producidos por el desarrollo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reas labor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o accidentes in itiner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Integrado de Jubilaciones y Pensiones (SIJP) Ley 24.24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br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eventos de muerte e invalidez producido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uera del ámbito labor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demás de la vejez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ómo lo h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 su vez, de manera transversal traspasan ambos subsistemas las prestaciones prevista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y de Contrato de Trabajo (LCT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y de Obras Sociales (LO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venios Colectivos de Trabajo (CCT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eguro de Vida Obligatorio (SV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ual es el proble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diseño responde al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rig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a contingencia y no al objetivo de proteger la necesidad del trabajador expuesto a una disminución de su capacidad de generar ingres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esta manera se presentan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uperposicion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beneficios y prestaciones y en otros casos, existen un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acíos de cober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Veam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105040" y="52815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78920" y="1995480"/>
            <a:ext cx="6685560" cy="996840"/>
            <a:chOff x="1078920" y="1995480"/>
            <a:chExt cx="6685560" cy="996840"/>
          </a:xfrm>
        </p:grpSpPr>
        <p:sp>
          <p:nvSpPr>
            <p:cNvPr id="60" name=""/>
            <p:cNvSpPr/>
            <p:nvPr/>
          </p:nvSpPr>
          <p:spPr>
            <a:xfrm>
              <a:off x="4333680" y="2022480"/>
              <a:ext cx="202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igen de la conting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14400" y="2022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57200" y="199548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7200" y="199548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57200" y="199548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57200" y="19954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57200" y="199548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78080" y="199548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8080" y="199548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2600" y="201600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2600" y="20160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2600" y="19954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2600" y="19954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2600" y="19954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13120" y="1995480"/>
              <a:ext cx="4830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13120" y="1995480"/>
              <a:ext cx="483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43960" y="19954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43960" y="19954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743960" y="19954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43960" y="19954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43960" y="19954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7200" y="2017800"/>
              <a:ext cx="20880" cy="19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57200" y="2017800"/>
              <a:ext cx="1800" cy="19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92600" y="2017800"/>
              <a:ext cx="20520" cy="19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92600" y="2017800"/>
              <a:ext cx="1440" cy="19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43960" y="2017800"/>
              <a:ext cx="20520" cy="19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43960" y="2017800"/>
              <a:ext cx="1440" cy="19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36440" y="224460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bo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17120" y="2244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54120" y="2244600"/>
              <a:ext cx="81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 labo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9360" y="2244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57200" y="221760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57200" y="221760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92600" y="221760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92600" y="22176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3120" y="2217600"/>
              <a:ext cx="223056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13120" y="2217600"/>
              <a:ext cx="223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43680" y="223848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43680" y="22384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3680" y="2217600"/>
              <a:ext cx="205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3680" y="22176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43680" y="221760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64200" y="2217600"/>
              <a:ext cx="257976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64200" y="2217600"/>
              <a:ext cx="2579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43960" y="221760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43960" y="22176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57200" y="2239920"/>
              <a:ext cx="20880" cy="19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57200" y="2239920"/>
              <a:ext cx="1800" cy="19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92600" y="2239920"/>
              <a:ext cx="20520" cy="19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92600" y="2239920"/>
              <a:ext cx="1440" cy="19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43680" y="2239920"/>
              <a:ext cx="20520" cy="19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43680" y="2239920"/>
              <a:ext cx="1440" cy="19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43960" y="2239920"/>
              <a:ext cx="20520" cy="19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43960" y="2239920"/>
              <a:ext cx="1440" cy="19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00760" y="2022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41760" y="222264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po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42320" y="242244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ing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1880" y="242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2467080"/>
              <a:ext cx="81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nera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4080" y="246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41800" y="246708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 espec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02920" y="246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20520" y="2467080"/>
              <a:ext cx="81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nera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14320" y="246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86640" y="246708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 espec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47760" y="246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57200" y="243828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57200" y="243828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2600" y="24382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2600" y="2438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13120" y="2438280"/>
              <a:ext cx="1073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13120" y="2438280"/>
              <a:ext cx="1073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86280" y="246060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86280" y="2460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6280" y="24382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6280" y="2438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86280" y="2438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06800" y="2438280"/>
              <a:ext cx="1136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06800" y="2438280"/>
              <a:ext cx="1136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43680" y="24382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3680" y="2438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64200" y="2438280"/>
              <a:ext cx="13096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64200" y="2438280"/>
              <a:ext cx="1309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73880" y="246060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3880" y="2460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3880" y="24382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73880" y="2438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3880" y="2438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94400" y="2438280"/>
              <a:ext cx="12495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94400" y="2438280"/>
              <a:ext cx="124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43960" y="24382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43960" y="2438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57200" y="2460600"/>
              <a:ext cx="20880" cy="3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7200" y="2460600"/>
              <a:ext cx="180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57200" y="284796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57200" y="284796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57200" y="284796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57200" y="284796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57200" y="284796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7200" y="284796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8080" y="284796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8080" y="284796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92600" y="2460600"/>
              <a:ext cx="20520" cy="3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92600" y="2460600"/>
              <a:ext cx="144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2600" y="28479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92600" y="28479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92600" y="28479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13120" y="284796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13120" y="284796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86280" y="2460600"/>
              <a:ext cx="20520" cy="3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86280" y="2460600"/>
              <a:ext cx="144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86280" y="28479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86280" y="28479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86280" y="28479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06800" y="284796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06800" y="284796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43680" y="2460600"/>
              <a:ext cx="20520" cy="3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43680" y="2460600"/>
              <a:ext cx="144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43680" y="28479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43680" y="28479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43680" y="28479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64200" y="284796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64200" y="284796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73880" y="2460600"/>
              <a:ext cx="20520" cy="3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73880" y="2460600"/>
              <a:ext cx="144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73880" y="28479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73880" y="28479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73880" y="28479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94400" y="284796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94400" y="284796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43960" y="2460600"/>
              <a:ext cx="20520" cy="3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43960" y="2460600"/>
              <a:ext cx="144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43960" y="28479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43960" y="28479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3960" y="28479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43960" y="28479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43960" y="28479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43960" y="28479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78920" y="28702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78920" y="2870280"/>
            <a:ext cx="6685560" cy="564840"/>
            <a:chOff x="1078920" y="2870280"/>
            <a:chExt cx="6685560" cy="564840"/>
          </a:xfrm>
        </p:grpSpPr>
        <p:sp>
          <p:nvSpPr>
            <p:cNvPr id="200" name=""/>
            <p:cNvSpPr/>
            <p:nvPr/>
          </p:nvSpPr>
          <p:spPr>
            <a:xfrm>
              <a:off x="1378080" y="2892600"/>
              <a:ext cx="2376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68480" y="2892600"/>
              <a:ext cx="2412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01840" y="2892600"/>
              <a:ext cx="146664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97160" y="2897280"/>
              <a:ext cx="101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apacid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1840" y="3092400"/>
              <a:ext cx="1466640" cy="196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98960" y="3097080"/>
              <a:ext cx="91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mpor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9960" y="309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13120" y="2892600"/>
              <a:ext cx="2376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2892600"/>
              <a:ext cx="2376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13120" y="3092400"/>
              <a:ext cx="1073160" cy="196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36880" y="2892600"/>
              <a:ext cx="102564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84280" y="289728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14040" y="289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06800" y="2892600"/>
              <a:ext cx="2232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19560" y="2892600"/>
              <a:ext cx="2412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06800" y="3092400"/>
              <a:ext cx="1136880" cy="196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29120" y="2892600"/>
              <a:ext cx="109044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09640" y="289728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39400" y="289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4200" y="2892600"/>
              <a:ext cx="2376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50120" y="2892600"/>
              <a:ext cx="2376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64200" y="3092400"/>
              <a:ext cx="1309680" cy="196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87960" y="2892600"/>
              <a:ext cx="126216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54160" y="289728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82480" y="289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94400" y="2892600"/>
              <a:ext cx="2376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19840" y="2892600"/>
              <a:ext cx="2412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94400" y="3092400"/>
              <a:ext cx="1249560" cy="196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18160" y="2892600"/>
              <a:ext cx="120168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92280" y="289728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44640" y="289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57200" y="287028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7200" y="287028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57200" y="287028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57200" y="28702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57200" y="287028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78080" y="287028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78080" y="287028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8080" y="2890800"/>
              <a:ext cx="151452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92600" y="289080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92600" y="28908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2600" y="2870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2600" y="28702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2600" y="2870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13120" y="287028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3120" y="287028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13120" y="2890800"/>
              <a:ext cx="107316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86280" y="289080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86280" y="28908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86280" y="2870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86280" y="28702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86280" y="2870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06800" y="287028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06800" y="287028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6800" y="2890800"/>
              <a:ext cx="113688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43680" y="289080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43680" y="28908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43680" y="2870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43680" y="28702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43680" y="2870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64200" y="287028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64200" y="287028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64200" y="2890800"/>
              <a:ext cx="130968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3880" y="289080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73880" y="28908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3880" y="2870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3880" y="28702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3880" y="2870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94400" y="287028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94400" y="287028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94400" y="2890800"/>
              <a:ext cx="124956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43960" y="28702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43960" y="2870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43960" y="2870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43960" y="28702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43960" y="2870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57200" y="2892600"/>
              <a:ext cx="2088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2892600"/>
              <a:ext cx="180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57200" y="328932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57200" y="32893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57200" y="32893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57200" y="328932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57200" y="32893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57200" y="32893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78080" y="3289320"/>
              <a:ext cx="1514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78080" y="328932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2600" y="2892600"/>
              <a:ext cx="2052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2600" y="2892600"/>
              <a:ext cx="144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92600" y="328932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92600" y="328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92600" y="32893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13120" y="3289320"/>
              <a:ext cx="1073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13120" y="328932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86280" y="2892600"/>
              <a:ext cx="2052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86280" y="2892600"/>
              <a:ext cx="144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86280" y="328932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86280" y="328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86280" y="32893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06800" y="3289320"/>
              <a:ext cx="1136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06800" y="328932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43680" y="2892600"/>
              <a:ext cx="2052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43680" y="2892600"/>
              <a:ext cx="144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43680" y="328932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43680" y="328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3680" y="32893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64200" y="3289320"/>
              <a:ext cx="13096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64200" y="328932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73880" y="2892600"/>
              <a:ext cx="2052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73880" y="2892600"/>
              <a:ext cx="144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73880" y="328932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73880" y="328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3880" y="32893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94400" y="3289320"/>
              <a:ext cx="12495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94400" y="328932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43960" y="2892600"/>
              <a:ext cx="2052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43960" y="2892600"/>
              <a:ext cx="144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43960" y="328932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43960" y="328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43960" y="32893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43960" y="328932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43960" y="328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43960" y="32893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78920" y="33130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078920" y="3278160"/>
            <a:ext cx="6685560" cy="610920"/>
            <a:chOff x="1078920" y="3278160"/>
            <a:chExt cx="6685560" cy="610920"/>
          </a:xfrm>
        </p:grpSpPr>
        <p:sp>
          <p:nvSpPr>
            <p:cNvPr id="324" name=""/>
            <p:cNvSpPr/>
            <p:nvPr/>
          </p:nvSpPr>
          <p:spPr>
            <a:xfrm>
              <a:off x="1394640" y="3303720"/>
              <a:ext cx="150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apacidad h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0040" y="350352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 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32840" y="350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84280" y="330372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14040" y="3303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55720" y="330372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84040" y="3303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7240" y="3303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92280" y="330372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44640" y="3303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57200" y="327816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57200" y="327816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57200" y="327816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57200" y="327816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327816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78080" y="327816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8080" y="327816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92600" y="329868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92600" y="32986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92600" y="32781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92600" y="32781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92600" y="3278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13120" y="327816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13120" y="327816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86280" y="329868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86280" y="32986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86280" y="32781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86280" y="32781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86280" y="3278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06800" y="327816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06800" y="327816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43680" y="329868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43680" y="32986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43680" y="32781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43680" y="32781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43680" y="3278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64200" y="327816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64200" y="327816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73880" y="329868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73880" y="32986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73880" y="32781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73880" y="32781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278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94400" y="327816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94400" y="327816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43960" y="32781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43960" y="3278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43960" y="32781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43960" y="32781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43960" y="3278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57200" y="3298680"/>
              <a:ext cx="2088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57200" y="3298680"/>
              <a:ext cx="180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57200" y="374328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57200" y="374328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57200" y="374328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57200" y="374328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57200" y="374328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57200" y="374328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78080" y="374328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78080" y="3743280"/>
              <a:ext cx="151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92600" y="3298680"/>
              <a:ext cx="2052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2600" y="3298680"/>
              <a:ext cx="144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92600" y="3743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92600" y="3743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2600" y="3743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13120" y="374328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13120" y="3743280"/>
              <a:ext cx="1073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86280" y="3298680"/>
              <a:ext cx="2052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86280" y="3298680"/>
              <a:ext cx="144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86280" y="3743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86280" y="3743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86280" y="3743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06800" y="374328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06800" y="3743280"/>
              <a:ext cx="1136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43680" y="3298680"/>
              <a:ext cx="2052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43680" y="3298680"/>
              <a:ext cx="144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43680" y="3743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43680" y="3743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43680" y="3743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64200" y="374328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64200" y="3743280"/>
              <a:ext cx="1309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73880" y="3298680"/>
              <a:ext cx="2052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3880" y="3298680"/>
              <a:ext cx="144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73880" y="3743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73880" y="3743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73880" y="3743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94400" y="374328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94400" y="3743280"/>
              <a:ext cx="124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43960" y="3298680"/>
              <a:ext cx="2052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43960" y="3298680"/>
              <a:ext cx="144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43960" y="3743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43960" y="3743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3960" y="3743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43960" y="3743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743960" y="3743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43960" y="3743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78920" y="37670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078920" y="3684600"/>
            <a:ext cx="6685560" cy="609480"/>
            <a:chOff x="1078920" y="3684600"/>
            <a:chExt cx="6685560" cy="609480"/>
          </a:xfrm>
        </p:grpSpPr>
        <p:sp>
          <p:nvSpPr>
            <p:cNvPr id="422" name=""/>
            <p:cNvSpPr/>
            <p:nvPr/>
          </p:nvSpPr>
          <p:spPr>
            <a:xfrm>
              <a:off x="1378080" y="3706920"/>
              <a:ext cx="2376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68480" y="3706920"/>
              <a:ext cx="2412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78080" y="4103640"/>
              <a:ext cx="1514520" cy="46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840" y="3706920"/>
              <a:ext cx="146664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95000" y="3711600"/>
              <a:ext cx="155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apacidad del 2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01840" y="3905280"/>
              <a:ext cx="146664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0040" y="3909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 6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32840" y="3909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13120" y="3706920"/>
              <a:ext cx="237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62520" y="3706920"/>
              <a:ext cx="237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3120" y="3905280"/>
              <a:ext cx="1073160" cy="244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36880" y="3706920"/>
              <a:ext cx="102564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84280" y="371160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14040" y="371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06800" y="3706920"/>
              <a:ext cx="2232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19560" y="3706920"/>
              <a:ext cx="2412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06800" y="3905280"/>
              <a:ext cx="1136880" cy="244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29120" y="3706920"/>
              <a:ext cx="109044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55720" y="371160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84040" y="371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64200" y="3706920"/>
              <a:ext cx="237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50120" y="3706920"/>
              <a:ext cx="237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64200" y="3905280"/>
              <a:ext cx="1309680" cy="244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87960" y="3706920"/>
              <a:ext cx="12621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87240" y="371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494400" y="3706920"/>
              <a:ext cx="237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19840" y="3706920"/>
              <a:ext cx="2412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94400" y="3905280"/>
              <a:ext cx="1249560" cy="244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18160" y="3706920"/>
              <a:ext cx="120168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992280" y="371160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44640" y="371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57200" y="368460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57200" y="368460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57200" y="368460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57200" y="368460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57200" y="36846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8080" y="368460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78080" y="368460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78080" y="3705120"/>
              <a:ext cx="151452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92600" y="370512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92600" y="37051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2600" y="36846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92600" y="3684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92600" y="368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13120" y="368460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13120" y="368460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3120" y="3705120"/>
              <a:ext cx="107316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86280" y="370512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86280" y="37051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86280" y="36846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86280" y="3684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86280" y="368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06800" y="368460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06800" y="368460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06800" y="3705120"/>
              <a:ext cx="113688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43680" y="370512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43680" y="37051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43680" y="36846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43680" y="3684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43680" y="368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64200" y="368460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64200" y="368460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64200" y="3705120"/>
              <a:ext cx="130968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73880" y="370512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73880" y="37051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73880" y="36846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73880" y="3684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73880" y="368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94400" y="368460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94400" y="368460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94400" y="3705120"/>
              <a:ext cx="124956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43960" y="368460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43960" y="36846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43960" y="36846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43960" y="3684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43960" y="368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57200" y="3706920"/>
              <a:ext cx="2088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57200" y="3706920"/>
              <a:ext cx="180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57200" y="41497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57200" y="41497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57200" y="4149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57200" y="41497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57200" y="41497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57200" y="4149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78080" y="414972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78080" y="414972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92600" y="3706920"/>
              <a:ext cx="2052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92600" y="3706920"/>
              <a:ext cx="144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260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9260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9260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13120" y="414972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13120" y="414972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986280" y="3706920"/>
              <a:ext cx="2052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86280" y="3706920"/>
              <a:ext cx="144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8628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8628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8628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06800" y="414972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06800" y="414972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43680" y="3706920"/>
              <a:ext cx="2052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43680" y="3706920"/>
              <a:ext cx="144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4368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4368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4368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64200" y="414972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64200" y="414972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73880" y="3706920"/>
              <a:ext cx="2052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73880" y="3706920"/>
              <a:ext cx="144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388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7388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7388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494400" y="414972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94400" y="414972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43960" y="3706920"/>
              <a:ext cx="2052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43960" y="3706920"/>
              <a:ext cx="144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4396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4396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4396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4396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4396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4396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78920" y="41720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078920" y="4149720"/>
            <a:ext cx="6685560" cy="720360"/>
            <a:chOff x="1078920" y="4149720"/>
            <a:chExt cx="6685560" cy="720360"/>
          </a:xfrm>
        </p:grpSpPr>
        <p:sp>
          <p:nvSpPr>
            <p:cNvPr id="546" name=""/>
            <p:cNvSpPr/>
            <p:nvPr/>
          </p:nvSpPr>
          <p:spPr>
            <a:xfrm>
              <a:off x="1396080" y="4176720"/>
              <a:ext cx="1410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apacidad 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72360" y="41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92040" y="4176720"/>
              <a:ext cx="91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, SIJP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56400" y="437508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CT, C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40840" y="4375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09640" y="417672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39400" y="41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59600" y="4176720"/>
              <a:ext cx="864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JP, LC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74520" y="41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92280" y="417672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44640" y="41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57200" y="41497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57200" y="4149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57200" y="41497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57200" y="41497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57200" y="4149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78080" y="414972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78080" y="414972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92600" y="417024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92600" y="41702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9260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9260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9260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13120" y="414972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13120" y="414972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86280" y="417024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86280" y="41702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8628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8628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8628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06800" y="414972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06800" y="414972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43680" y="417024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43680" y="41702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4368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4368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4368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64200" y="414972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64200" y="414972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73880" y="417024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3880" y="41702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7388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7388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7388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94400" y="414972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94400" y="414972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4396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74396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4396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74396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4396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57200" y="4170240"/>
              <a:ext cx="20880" cy="55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57200" y="4170240"/>
              <a:ext cx="1800" cy="5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57200" y="472608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57200" y="47260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57200" y="472608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57200" y="472608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57200" y="47260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57200" y="472608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78080" y="472608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78080" y="472608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892600" y="4170240"/>
              <a:ext cx="20520" cy="55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92600" y="4170240"/>
              <a:ext cx="1440" cy="5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92600" y="47260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92600" y="4726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2600" y="4726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13120" y="472608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13120" y="472608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86280" y="4170240"/>
              <a:ext cx="20520" cy="55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86280" y="4170240"/>
              <a:ext cx="1440" cy="5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86280" y="47260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86280" y="4726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86280" y="4726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06800" y="472608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006800" y="472608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143680" y="4170240"/>
              <a:ext cx="20520" cy="55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143680" y="4170240"/>
              <a:ext cx="1440" cy="5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43680" y="47260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43680" y="4726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43680" y="4726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164200" y="472608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64200" y="472608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3880" y="4170240"/>
              <a:ext cx="20520" cy="55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73880" y="4170240"/>
              <a:ext cx="1440" cy="5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473880" y="47260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3880" y="4726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73880" y="4726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94400" y="472608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94400" y="472608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43960" y="4170240"/>
              <a:ext cx="20520" cy="55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43960" y="4170240"/>
              <a:ext cx="1440" cy="5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43960" y="47260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43960" y="4726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3960" y="4726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43960" y="47260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43960" y="4726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43960" y="4726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78920" y="47480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1078920" y="4729320"/>
            <a:ext cx="6685560" cy="763200"/>
            <a:chOff x="1078920" y="4729320"/>
            <a:chExt cx="6685560" cy="763200"/>
          </a:xfrm>
        </p:grpSpPr>
        <p:sp>
          <p:nvSpPr>
            <p:cNvPr id="645" name=""/>
            <p:cNvSpPr/>
            <p:nvPr/>
          </p:nvSpPr>
          <p:spPr>
            <a:xfrm>
              <a:off x="1378080" y="4749840"/>
              <a:ext cx="2376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68480" y="4749840"/>
              <a:ext cx="2412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78080" y="4950000"/>
              <a:ext cx="151452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401840" y="4749840"/>
              <a:ext cx="146664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9680" y="475452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er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40760" y="4754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13120" y="4749840"/>
              <a:ext cx="23760" cy="596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62520" y="4749840"/>
              <a:ext cx="23760" cy="596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36880" y="4749840"/>
              <a:ext cx="102564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092040" y="4754520"/>
              <a:ext cx="91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, SIJP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36880" y="4950000"/>
              <a:ext cx="102564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962800" y="4954680"/>
              <a:ext cx="91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CT, SV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36880" y="5148360"/>
              <a:ext cx="102564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70240" y="5153040"/>
              <a:ext cx="36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26640" y="5153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06800" y="4749840"/>
              <a:ext cx="2232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19560" y="4749840"/>
              <a:ext cx="2412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06800" y="4950000"/>
              <a:ext cx="113688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29120" y="4749840"/>
              <a:ext cx="109044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82120" y="475452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, C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966560" y="4754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64200" y="4749840"/>
              <a:ext cx="23760" cy="398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450120" y="4749840"/>
              <a:ext cx="23760" cy="398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64200" y="5148360"/>
              <a:ext cx="130968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87960" y="4749840"/>
              <a:ext cx="126216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62280" y="4754520"/>
              <a:ext cx="91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JP, LCT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87960" y="4950000"/>
              <a:ext cx="12621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44200" y="4954680"/>
              <a:ext cx="84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VO, C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93520" y="4954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94400" y="4749840"/>
              <a:ext cx="2376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9840" y="4749840"/>
              <a:ext cx="2412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494400" y="4950000"/>
              <a:ext cx="124956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18160" y="4749840"/>
              <a:ext cx="120168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64400" y="475452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, C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71440" y="4754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57200" y="47293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357200" y="47293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57200" y="47293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57200" y="47293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57200" y="47293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78080" y="472932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78080" y="472932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8080" y="4749840"/>
              <a:ext cx="1514520" cy="1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92600" y="474984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892600" y="474984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92600" y="4729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2600" y="472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92600" y="47293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13120" y="472932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13120" y="472932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13120" y="4749840"/>
              <a:ext cx="1073160" cy="1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86280" y="474984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86280" y="474984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86280" y="4729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86280" y="472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986280" y="47293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006800" y="472932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06800" y="472932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06800" y="4749840"/>
              <a:ext cx="1136880" cy="1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43680" y="474984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43680" y="474984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143680" y="4729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143680" y="472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43680" y="47293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64200" y="472932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64200" y="472932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164200" y="4749840"/>
              <a:ext cx="1309680" cy="1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73880" y="474984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73880" y="474984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73880" y="4729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473880" y="472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73880" y="47293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94400" y="472932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94400" y="472932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94400" y="4749840"/>
              <a:ext cx="1249560" cy="1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743960" y="4729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743960" y="47293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743960" y="4729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43960" y="472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43960" y="47293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357200" y="4749840"/>
              <a:ext cx="2088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57200" y="4749840"/>
              <a:ext cx="1800" cy="5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357200" y="53467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57200" y="53467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357200" y="5346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357200" y="53467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57200" y="53467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57200" y="5346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78080" y="534672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78080" y="534672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92600" y="4749840"/>
              <a:ext cx="2052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92600" y="4749840"/>
              <a:ext cx="1440" cy="5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92600" y="5346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92600" y="5346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892600" y="5346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913120" y="534672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913120" y="534672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86280" y="4749840"/>
              <a:ext cx="2052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86280" y="4749840"/>
              <a:ext cx="1440" cy="5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86280" y="5346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86280" y="5346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86280" y="5346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06800" y="534672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06800" y="534672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43680" y="4749840"/>
              <a:ext cx="2052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3680" y="4749840"/>
              <a:ext cx="1440" cy="5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43680" y="5346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43680" y="5346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43680" y="5346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64200" y="534672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64200" y="534672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73880" y="4749840"/>
              <a:ext cx="2052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73880" y="4749840"/>
              <a:ext cx="1440" cy="5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73880" y="5346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73880" y="5346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3880" y="5346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94400" y="534672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94400" y="534672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743960" y="4749840"/>
              <a:ext cx="2052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743960" y="4749840"/>
              <a:ext cx="1440" cy="5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743960" y="5346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43960" y="5346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743960" y="5346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43960" y="5346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43960" y="5346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743960" y="5346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78920" y="5370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488680" y="4005360"/>
            <a:ext cx="1864800" cy="1952640"/>
            <a:chOff x="2488680" y="4005360"/>
            <a:chExt cx="1864800" cy="1952640"/>
          </a:xfrm>
        </p:grpSpPr>
        <p:sp>
          <p:nvSpPr>
            <p:cNvPr id="773" name=""/>
            <p:cNvSpPr/>
            <p:nvPr/>
          </p:nvSpPr>
          <p:spPr>
            <a:xfrm>
              <a:off x="2700360" y="4005360"/>
              <a:ext cx="1511280" cy="1655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488680" y="5589720"/>
              <a:ext cx="186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c0000"/>
                  </a:solidFill>
                  <a:latin typeface="Arial"/>
                </a:rPr>
                <a:t>Superpos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5076720" y="3068640"/>
            <a:ext cx="1511280" cy="1152360"/>
            <a:chOff x="5076720" y="3068640"/>
            <a:chExt cx="1511280" cy="1152360"/>
          </a:xfrm>
        </p:grpSpPr>
        <p:sp>
          <p:nvSpPr>
            <p:cNvPr id="776" name=""/>
            <p:cNvSpPr/>
            <p:nvPr/>
          </p:nvSpPr>
          <p:spPr>
            <a:xfrm>
              <a:off x="5076720" y="3068640"/>
              <a:ext cx="1511280" cy="1152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89640" y="330516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c0000"/>
                  </a:solidFill>
                  <a:latin typeface="Arial"/>
                </a:rPr>
                <a:t>Vací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1116000" y="2852640"/>
            <a:ext cx="142920" cy="1800360"/>
          </a:xfrm>
          <a:custGeom>
            <a:avLst/>
            <a:gdLst>
              <a:gd name="textAreaLeft" fmla="*/ 91440 w 142920"/>
              <a:gd name="textAreaRight" fmla="*/ 143280 w 1429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57680" y="357192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nvali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1:25:14Z</dcterms:created>
  <dc:creator>ealos</dc:creator>
  <dc:description/>
  <dc:language>en-US</dc:language>
  <cp:lastModifiedBy>C.P.C.E.C.A.B.A.</cp:lastModifiedBy>
  <dcterms:modified xsi:type="dcterms:W3CDTF">2005-10-24T13:57:51Z</dcterms:modified>
  <cp:revision>5</cp:revision>
  <dc:subject/>
  <dc:title>Diapositiva 1</dc:title>
</cp:coreProperties>
</file>