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981F-AF30-44E7-880D-9A1725AF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F6CA-2D34-410B-90E0-83E05DDD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4734-812C-4518-86F1-ACFB5AC6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CA86-7ED5-4BA1-87C7-5C47EC5F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3993-EA17-4FCE-A7E9-529EB096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5F6D-C632-40EF-BAA1-CCD022F9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E614-9D6C-4409-84C7-1ED5C149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DB16-0192-42A2-858E-9074F1A9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32BC-DF2B-4004-8F27-E98FDEF9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6351-94CC-4DC7-BD9F-E3F8A355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BCC4-43BD-4784-A20C-EAE8E5CD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D9DF-0301-4FE2-BA38-B2295793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1431-33E8-464C-A0B7-39CAF362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7454-F575-402A-A4C2-723BFDB7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A0BC-694C-4C4E-BFC8-861BB57E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72F4-4BB3-4359-A2E8-BD9B1FD6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8E95-52FA-4901-AE8B-0ACFFC20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1BDA-B1C8-4A34-9379-1255503B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18AD-6931-42D2-AC46-6AF7EB71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AC7C-A7F0-4EBE-B0F7-DA7AEC4B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4FC4-2DF2-408D-85F3-30A96615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0ADD-7AF1-4CC7-93D3-A616E91A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38E0-6640-4992-8E3E-843C01D9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CB82-2D28-48CD-84F0-289CDE99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4453-6437-4E37-A429-64EC04EBE93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3B0E-313F-4EFF-A6DB-F706B2EE71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cuesta@filo.uba.ar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3141720"/>
            <a:ext cx="84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AR" sz="4000" spc="-1" strike="noStrike">
                <a:solidFill>
                  <a:srgbClr val="000000"/>
                </a:solidFill>
                <a:latin typeface="Verdana"/>
              </a:rPr>
              <a:t>El desafío de Liderar a la Generación Y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48360" y="6093000"/>
            <a:ext cx="42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Dr. Martín C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165720"/>
            <a:ext cx="50036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003640" y="5733720"/>
            <a:ext cx="538200" cy="431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51640" y="690480"/>
            <a:ext cx="2592360" cy="18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333360"/>
            <a:ext cx="609840" cy="360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32360" y="1197000"/>
            <a:ext cx="374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Noviembr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26920" y="0"/>
            <a:ext cx="370872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716000" y="3789000"/>
            <a:ext cx="42483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mentarios, sugerencias y consultas a </a:t>
            </a:r>
            <a:br>
              <a:rPr sz="2800"/>
            </a:br>
            <a:r>
              <a:rPr b="0" lang="es-ES" sz="2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cuesta@eseade.edu.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446800" y="2349360"/>
            <a:ext cx="369720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ok Antiqua"/>
              </a:rPr>
              <a:t>Muchas Gracias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27720" cy="6093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5688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ce Crikey"/>
              </a:rPr>
              <a:t>¿Qué les pasa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retende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Horari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Vestimen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Tra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Salario - Vaca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Dejan un trabajo par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Irse de viaj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Estudia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Ir a otro trabajo…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o valoran a las organiza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ueden trabajar para la competenci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659640" y="0"/>
            <a:ext cx="24843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0000"/>
                </a:solidFill>
                <a:latin typeface="Verdana"/>
              </a:rPr>
              <a:t>¿Cómo los vem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0010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Verdana"/>
              </a:rPr>
              <a:t>No se compromet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Verdana"/>
              </a:rPr>
              <a:t>No tienen val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Verdana"/>
              </a:rPr>
              <a:t>No respetan las jerarquí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Verdana"/>
              </a:rPr>
              <a:t>No se adapt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Verdana"/>
              </a:rPr>
              <a:t>Poca concentr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Verdana"/>
              </a:rPr>
              <a:t>Poca responsabil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Verdana"/>
              </a:rPr>
              <a:t>Conflictos generaciona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508464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800" spc="-1" strike="noStrike" u="sng">
                <a:solidFill>
                  <a:srgbClr val="000000"/>
                </a:solidFill>
                <a:uFillTx/>
                <a:latin typeface="Valdemar"/>
              </a:rPr>
              <a:t>En síntesis</a:t>
            </a:r>
            <a:br>
              <a:rPr sz="3800"/>
            </a:br>
            <a:r>
              <a:rPr b="0" i="1" lang="es-AR" sz="3800" spc="-1" strike="noStrike" u="sng">
                <a:solidFill>
                  <a:srgbClr val="000000"/>
                </a:solidFill>
                <a:uFillTx/>
                <a:latin typeface="Valdemar"/>
              </a:rPr>
              <a:t>“no se ponen la camiseta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340000" y="1773360"/>
            <a:ext cx="4713120" cy="3281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659640" y="0"/>
            <a:ext cx="24843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0000"/>
                </a:solidFill>
                <a:latin typeface="Verdana"/>
              </a:rPr>
              <a:t>Vi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Optimista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Pesimista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Preocupación Estratég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Estrés Organizacion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659640" y="0"/>
            <a:ext cx="24843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¿Quiénes son?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uchas hipótesis: pocas definicion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Verdana"/>
              </a:rPr>
              <a:t>Generación. 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(Del lat. </a:t>
            </a:r>
            <a:r>
              <a:rPr b="0" i="1" lang="es-ES" sz="2500" spc="-1" strike="noStrike">
                <a:solidFill>
                  <a:srgbClr val="000000"/>
                </a:solidFill>
                <a:latin typeface="Verdana"/>
              </a:rPr>
              <a:t>generatĭo, -ōnis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). </a:t>
            </a:r>
            <a:r>
              <a:rPr b="1" lang="es-ES" sz="25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f. Conjunto de todos los vivientes coetáneos. </a:t>
            </a:r>
            <a:r>
              <a:rPr b="1" lang="es-ES" sz="25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f. Conjunto de personas que por haber nacido en fechas próximas y recibido educación e influjos culturales y sociales semejantes, se comportan de manera afín o comparable en algunos sentido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Verdana"/>
              </a:rPr>
              <a:t>Contexto global, regional y TIC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Verdana"/>
              </a:rPr>
              <a:t>¿Qué cambió entre una generación y otra?¿Por qué son diferente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Verdana"/>
              </a:rPr>
              <a:t>Educación, padres y famili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659640" y="5361120"/>
            <a:ext cx="24843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1080" cy="6114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268280"/>
            <a:ext cx="464328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00720" y="1268280"/>
            <a:ext cx="44622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486400" y="3124080"/>
            <a:ext cx="1981080" cy="6858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4720" y="2565360"/>
            <a:ext cx="460836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Motivació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xtrínse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Intrínse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Trascend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olítica de Aprendizaje de Saberes (Plan de Capacitación, 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Modificación de conductas (Coaching – Mento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Inversión en RRHH (PEOPLE C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Comprometer (adaptación y adaptar a la Generación 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333360"/>
            <a:ext cx="79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squema de trabajo actual para la Generación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42920" y="184464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Desarrollo Organizacional  = Searching y Management del Tal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2565360"/>
            <a:ext cx="295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Construir las condiciones Exito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2421000"/>
            <a:ext cx="0" cy="345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5361120"/>
            <a:ext cx="2484360" cy="14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000000"/>
                </a:solidFill>
                <a:latin typeface="Verdana"/>
              </a:rPr>
              <a:t>Nuevos enfoques: generación emocional – hijos de la democraci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Problemas de los programas actual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Baja de productiv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iesgo a la rentabil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Las 4 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Verdana"/>
              </a:rPr>
              <a:t>Emo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Verdana"/>
              </a:rPr>
              <a:t>Experienc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Verdana"/>
              </a:rPr>
              <a:t>Entretenimi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Verdana"/>
              </a:rPr>
              <a:t>Empatí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659640" y="5361120"/>
            <a:ext cx="24843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916360" y="1628640"/>
            <a:ext cx="3816360" cy="1079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iderar a la Generación 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95280" y="1773360"/>
            <a:ext cx="5113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Doble ví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3213000"/>
            <a:ext cx="84326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. Conocerlos y entender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581360"/>
            <a:ext cx="8432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. “Madurarlo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16360" y="2708280"/>
            <a:ext cx="57636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4005360"/>
            <a:ext cx="71928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659640" y="5361120"/>
            <a:ext cx="24843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23:39:14Z</dcterms:created>
  <dc:creator>Martin Cuesta</dc:creator>
  <dc:description/>
  <dc:language>en-US</dc:language>
  <cp:lastModifiedBy>Martin Cuesta</cp:lastModifiedBy>
  <dcterms:modified xsi:type="dcterms:W3CDTF">2012-11-08T18:30:19Z</dcterms:modified>
  <cp:revision>45</cp:revision>
  <dc:subject/>
  <dc:title>Diapositiva 1</dc:title>
</cp:coreProperties>
</file>