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74A-2C10-466D-92E6-26CB3EAA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D25-6CC3-4035-9738-3DC9EC33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C0F-38EF-4494-9094-F12B4EDB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5A2-31EB-4AEB-AF65-52232419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1648-7B5D-456A-886B-24181A94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D56D-F657-4A78-BFAE-441C7BCC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4C9-D4D2-4A86-9F39-028FB1FC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F36E-F3F1-4D65-A1E7-004CAAD9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8642-49D0-4A1B-8920-D64D8AA6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770F-1E9E-4D2C-B7F4-F28E111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1E9-34E4-4F48-9629-2BB9E3F8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CBF-C85F-49E3-9356-B2E28B50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798-A4BF-4EB4-8472-91BE488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EBE5-65F4-4394-9101-0614D92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3EB6-6A9D-48C1-BADC-5A3937A4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883A-860A-4A9D-9C11-EE0F230E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A6BB-13BF-429D-B239-119EDF79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E51-4964-48E3-9E8A-AC90A66F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5A5-2019-4E61-A72C-F537A176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209-0FCB-4C0C-B621-B661F05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F98-FC9C-4217-92F4-034B9C7D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B05-16F4-4396-8EE0-1A2F976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FF6-9729-4AC9-993D-690CA9E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EB3-5FE1-4FAC-92F5-2B20B0D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FD1-73E4-48DB-A380-DDEF5DA5C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B4F-A7D9-4AB8-88F1-D4A5D381D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El Management en tiempos de grandes cambios</a:t>
            </a:r>
            <a:endParaRPr b="0" lang="en-US" sz="4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844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r. René Castro Berardi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or de MULTIVISION Consultoria Internacional (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de la Universidad Federal do Paran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 Bienal  de 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enos Aires 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Liderazgo sin frontera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Ejecutivos deben adaptarse al ambiente incierto, competitivo y multicultura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Gestión comparativa inter-fronter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Aprendizaje globa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Organización etnocéntrica, policéntrica, regiocéntrica y geocéntric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9520" y="15998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uevo Management Man</a:t>
            </a: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3" descr="C:\Users\Rene\Desktop\ARGENTINA\apresentacao\rene 1.jpg"/>
          <p:cNvPicPr/>
          <p:nvPr/>
        </p:nvPicPr>
        <p:blipFill>
          <a:blip r:embed="rId1"/>
          <a:stretch/>
        </p:blipFill>
        <p:spPr>
          <a:xfrm>
            <a:off x="0" y="0"/>
            <a:ext cx="39625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11"/>
          <p:cNvSpPr/>
          <p:nvPr/>
        </p:nvSpPr>
        <p:spPr>
          <a:xfrm>
            <a:off x="3352680" y="2057400"/>
            <a:ext cx="2590920" cy="358128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581280"/>
              <a:gd name="textAreaBottom" fmla="*/ 3454920 h 3581280"/>
            </a:gdLst>
            <a:ahLst/>
            <a:rect l="textAreaLeft" t="textAreaTop" r="textAreaRight" b="textAreaBottom"/>
            <a:pathLst>
              <a:path w="21600" h="29855">
                <a:moveTo>
                  <a:pt x="3600" y="0"/>
                </a:moveTo>
                <a:arcTo wR="3600" hR="3600" stAng="16200000" swAng="-5400000"/>
                <a:lnTo>
                  <a:pt x="0" y="26255"/>
                </a:lnTo>
                <a:arcTo wR="3600" hR="3600" stAng="10800000" swAng="-5400000"/>
                <a:lnTo>
                  <a:pt x="18000" y="29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eb3cb"/>
          </a:solidFill>
          <a:ln w="9360">
            <a:solidFill>
              <a:srgbClr val="005d5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44440"/>
            <a:ext cx="8076960" cy="13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ompetencias del Management Global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1" name="Group 5" descr=""/>
          <p:cNvPicPr/>
          <p:nvPr/>
        </p:nvPicPr>
        <p:blipFill>
          <a:blip r:embed="rId1"/>
          <a:stretch/>
        </p:blipFill>
        <p:spPr>
          <a:xfrm>
            <a:off x="5668920" y="2170080"/>
            <a:ext cx="3292560" cy="3700440"/>
          </a:xfrm>
          <a:prstGeom prst="rect">
            <a:avLst/>
          </a:prstGeom>
          <a:ln w="0">
            <a:noFill/>
          </a:ln>
        </p:spPr>
      </p:pic>
      <p:pic>
        <p:nvPicPr>
          <p:cNvPr id="162" name="Group 8" descr=""/>
          <p:cNvPicPr/>
          <p:nvPr/>
        </p:nvPicPr>
        <p:blipFill>
          <a:blip r:embed="rId2"/>
          <a:stretch/>
        </p:blipFill>
        <p:spPr>
          <a:xfrm>
            <a:off x="334800" y="2170080"/>
            <a:ext cx="3292560" cy="3700440"/>
          </a:xfrm>
          <a:prstGeom prst="rect">
            <a:avLst/>
          </a:prstGeom>
          <a:ln w="0">
            <a:noFill/>
          </a:ln>
        </p:spPr>
      </p:pic>
      <p:sp>
        <p:nvSpPr>
          <p:cNvPr id="163" name="Down Arrow 4"/>
          <p:cNvSpPr/>
          <p:nvPr/>
        </p:nvSpPr>
        <p:spPr>
          <a:xfrm>
            <a:off x="3429000" y="2590920"/>
            <a:ext cx="23814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156600" anchor="t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Competenci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glob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920" indent="-169920" algn="ctr">
              <a:lnSpc>
                <a:spcPct val="90000"/>
              </a:lnSpc>
              <a:spcAft>
                <a:spcPts val="37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tegración del management y  multiculturalida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eténcias Multiculturale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8080" y="1676160"/>
            <a:ext cx="7345440" cy="42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Visión cosmopoli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Habilidades de comunicación intercult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Sensibilidad cult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Rápida acultu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Estilo de gestión flex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Sinergia Cult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055C-85B2-4455-B4DA-CFD16ABDC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543800" y="5867280"/>
            <a:ext cx="9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imes New Roman"/>
              </a:rPr>
              <a:t>(p. 3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295280" y="0"/>
          <a:ext cx="6858000" cy="6858000"/>
        </p:xfrm>
        <a:graphic>
          <a:graphicData uri="http://schemas.openxmlformats.org/drawingml/2006/table">
            <a:tbl>
              <a:tblPr/>
              <a:tblGrid>
                <a:gridCol w="2960640"/>
                <a:gridCol w="3897360"/>
              </a:tblGrid>
              <a:tr h="51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42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oco del Managem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1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Visión de largo pla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Vivir en otro paí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rabajar con tecnologí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1d2"/>
                    </a:solidFill>
                  </a:tcPr>
                </a:tc>
              </a:tr>
              <a:tr h="76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uni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ra a cara e vir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a"/>
                    </a:solidFill>
                  </a:tcPr>
                </a:tc>
              </a:tr>
              <a:tr h="242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Factores de éx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1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nocimiento profundo de la cultura loc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ominio del idioma lo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nocer el ambiente empresarial lo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nocer los problemas del negocio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1d2"/>
                    </a:solidFill>
                  </a:tcPr>
                </a:tc>
              </a:tr>
              <a:tr h="173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Desafíos cultur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iopía Reg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iopía Glob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iopía Tecnológic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El Management va a continuar comandando y adaptándose, con competencia e visión global,  </a:t>
            </a:r>
            <a:br>
              <a:rPr sz="44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 a los ambientes de alta volatilidad e incertidumbre, tanto en los mercados lideres como emergentes…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né Castro Berar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Times New Roman"/>
              </a:rPr>
              <a:t>Muchas gracias</a:t>
            </a:r>
            <a:br>
              <a:rPr sz="6000"/>
            </a:b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né Castro Berard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neberardi@yahoo.com.b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uales son los nuevos escenarios en los negocio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Que están haciendo las organizaciones para adecuarse a los nuevos tiempo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mo la multiculturalidad impacta en los negocios y en el Manage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mo el Management se adapta a los nuevos escenario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Nuevo Management m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858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uales son los nuevos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scenarios en los negocios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4" name="Picture 8" descr="http://blogdoambientalismo.com/wp-content/uploads/2010/11/crise.jpg"/>
          <p:cNvPicPr/>
          <p:nvPr/>
        </p:nvPicPr>
        <p:blipFill>
          <a:blip r:embed="rId1"/>
          <a:stretch/>
        </p:blipFill>
        <p:spPr>
          <a:xfrm>
            <a:off x="1828800" y="0"/>
            <a:ext cx="5029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4"/>
          <p:cNvSpPr/>
          <p:nvPr/>
        </p:nvSpPr>
        <p:spPr>
          <a:xfrm>
            <a:off x="609480" y="5638680"/>
            <a:ext cx="8153640" cy="1067040"/>
          </a:xfrm>
          <a:prstGeom prst="rect">
            <a:avLst/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estabilidad económica en grandes mercados (EEUU, UE, Japón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recimiento sustentable en mercados internos  emergentes - AL, Brics,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estabilidad política/institu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mbios en los padrones de gobernabil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oder político de grupos sociales (virtual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dividuo: global, incertidumbre, ansiedad, obsesión al cambio y suceso person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eta para baixo 2"/>
          <p:cNvSpPr/>
          <p:nvPr/>
        </p:nvSpPr>
        <p:spPr>
          <a:xfrm>
            <a:off x="4038480" y="4952880"/>
            <a:ext cx="7621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640" y="4571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Que están haciendo las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organizaciones para adecuarse a los nuevos tiempos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9" name="Picture 3" descr="C:\Users\Rene\Desktop\ARGENTINA\apresentacao\rene 2.jpg"/>
          <p:cNvPicPr/>
          <p:nvPr/>
        </p:nvPicPr>
        <p:blipFill>
          <a:blip r:embed="rId1"/>
          <a:stretch/>
        </p:blipFill>
        <p:spPr>
          <a:xfrm>
            <a:off x="1371600" y="23760"/>
            <a:ext cx="572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Internacionalizando de los negocios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Lucro  sin fronter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Clientes globales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Abastecimiento Global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Flujos de capital internacional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Mano de obra  multicultura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50"/>
              </a:spcBef>
              <a:spcAft>
                <a:spcPts val="1426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Adquisiciones y fusion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8720" y="3962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mo la multicultur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mpacta en los negocios y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n el Management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2" name="Picture 4" descr="http://www.webislam.com/media/2010/12/27544_multilateralismo%20estadosentido(1)_big.jpg"/>
          <p:cNvPicPr/>
          <p:nvPr/>
        </p:nvPicPr>
        <p:blipFill>
          <a:blip r:embed="rId1"/>
          <a:stretch/>
        </p:blipFill>
        <p:spPr>
          <a:xfrm>
            <a:off x="3048120" y="28440"/>
            <a:ext cx="3286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reencias, valores y padrones de comportamiento diversific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hoque cultur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nteligencia cultural - adapt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igración y expatria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tnocentris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500"/>
              </a:spcAft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gualitarismo de gener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44953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mo el Management se adapta en estos nuevos escenarios?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5" name="Picture 3" descr="F:\rene 3.jpg"/>
          <p:cNvPicPr/>
          <p:nvPr/>
        </p:nvPicPr>
        <p:blipFill>
          <a:blip r:embed="rId1"/>
          <a:stretch/>
        </p:blipFill>
        <p:spPr>
          <a:xfrm>
            <a:off x="2057400" y="33480"/>
            <a:ext cx="44956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3T23:29:58Z</dcterms:created>
  <dc:creator>Ken Sublett</dc:creator>
  <dc:description/>
  <dc:language>en-US</dc:language>
  <cp:lastModifiedBy>Rene</cp:lastModifiedBy>
  <cp:lastPrinted>1997-01-15T18:23:46Z</cp:lastPrinted>
  <dcterms:modified xsi:type="dcterms:W3CDTF">2012-11-14T12:37:31Z</dcterms:modified>
  <cp:revision>119</cp:revision>
  <dc:subject/>
  <dc:title>BA 610 - Global Management</dc:title>
</cp:coreProperties>
</file>