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06F1-5ED5-4C4F-8E7B-CBBA15AB6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8144-69EF-4B92-8574-4673ABE81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3335-ECEE-481D-B98F-1ACA2F3BF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47AD-5E3B-4174-9428-046BDAB68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2B13A-1EC8-4A5F-A228-A8522959C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624AE-244C-463A-8324-9E363C4A3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693AE-A489-418C-9EC6-52BB0324A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08CFE-CAE5-4F5F-9147-BBEA3F7D3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B3940-6C04-47DD-9C46-CD99D119B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105F0-B7A8-427B-A449-C2B72C5F8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41156-F73B-4D74-BB9E-3BD536A0F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EAD5-9540-46E5-998D-55DF94C95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D4421-8741-4274-9079-49245CC56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4AC7D-ACE8-4AB0-A6D4-C7CD5B81F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915B8-6AF5-44B5-A7B3-027C825CA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B591F-414A-4A43-B180-F8AD47E2A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6D8E4-7E99-498D-A3AC-56CFF4110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821822-6FDB-4EE2-8F77-85D3ED893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AE2DDD-EBD6-4347-AA28-1FD07EF00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08AE92-F491-4566-969B-21C77ED74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2CE2E3-9A57-4347-B8CE-E655CD24D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2C0CCB-CCB4-4931-8700-5F5F2B0EF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EBAE-E115-4892-BCEE-3537B93B1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78DDF3-3D2A-4437-98FD-B476D5509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BB2A65-709D-43CF-A7FE-545A3639F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43C4F4-9C71-461C-B4AE-EE484E6FA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6B9523-7C94-4277-95BB-FC28C9C36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D18DC7-1749-4791-BFAB-A96A50E32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7441DA-482F-463F-A616-8C51E2C8A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7AB2C5-3432-4749-A6B7-F216FC72C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C82A04-3E03-4CE4-A7C4-83D815CE8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E16EBA-5A86-47EC-B42A-28E8E4855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5E6AB4-D920-4292-8848-7950B3EE6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0E6B-2022-4EEE-B53B-DC52BB418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6B29BF-DEB0-4FD7-B90B-F0A61CF70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6A4FC2-0484-4336-855C-D467E97E3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9EC3A2-BE6A-4DAE-AC8C-B286CED54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049536-D75C-457A-AAA3-1D0D14E07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D18AC9-FC64-4B1E-87D2-985EFC9B8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D2CC2A-6E28-4032-A21E-22F2B222D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FA3174-58DE-492B-8E78-A661E2ADB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E6AEF8-B7E8-4CCD-854C-D77D0C4A7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0F5F21-C4F1-47D8-BEFF-78E8E1AB2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BEA576-6A33-48CB-996D-CB8FFD472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35EE-B2BD-4A69-A38C-2672878B9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4284FE-1E9E-436C-BB09-FC8944F8D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8F100B-3D2D-45AE-B012-C920413BB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90BE9C-ED54-40DC-9448-59AF3F46C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6678C3-5DF6-4B39-BB4A-64D05AE1A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0060AD-07E5-4EE5-B895-756BAACBE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4B3001-BF71-40CD-A998-379EC6E07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C99461-3A03-4F4A-8261-75AD3C1D5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E93402-E879-43A6-AD95-B229E57F0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583825-906C-4F8A-A570-FD9D5C3CC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3F8E39-A1C0-456B-8D4C-C504D5853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D78E-DC0B-43CF-98ED-490FAE237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311880-7BAA-4E5B-A6EB-424058499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C153-3B26-4B1F-9F94-E33CEB6DA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7923-FE69-4771-A88C-AC8652E02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FD3C-485B-4612-B0AE-18CCF9451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5051520"/>
            <a:ext cx="3575160" cy="180648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5051520"/>
            <a:ext cx="9145440" cy="180648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B9705-71D9-48AE-858B-53F88ED55E1E}" type="datetime3">
              <a:rPr b="0" lang="es-AR" sz="1200" spc="-1" strike="noStrike">
                <a:solidFill>
                  <a:srgbClr val="ffffff"/>
                </a:solidFill>
                <a:latin typeface="Times New Roman"/>
              </a:rPr>
              <a:t>29 de julio de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DR.RUBEN MORCECI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E4E1C-49B5-439C-A224-CCB3B92DF1D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80F49-A38C-4FEA-AA74-FE157B36415A}" type="datetime3">
              <a:rPr b="0" lang="es-AR" sz="1200" spc="-1" strike="noStrike">
                <a:solidFill>
                  <a:srgbClr val="ffffff"/>
                </a:solidFill>
                <a:latin typeface="Times New Roman"/>
              </a:rPr>
              <a:t>29 de julio de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DR.RUBEN MORCECI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BF649-8899-445A-8E5D-AB03D9849F70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7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1C493-5B72-491B-8AB0-BEFA9936C723}" type="datetime3">
              <a:rPr b="0" lang="es-AR" sz="1200" spc="-1" strike="noStrike">
                <a:solidFill>
                  <a:srgbClr val="ffffff"/>
                </a:solidFill>
                <a:latin typeface="Times New Roman"/>
              </a:rPr>
              <a:t>29 de julio de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DR.RUBEN MORCECI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C3E27-2661-45D9-9B57-0A8639F19211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ight Triangle 1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0" name="Right Triangle 17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FD8C4-7D64-423F-B389-3EC263B346F6}" type="datetime3">
              <a:rPr b="0" lang="es-AR" sz="1200" spc="-1" strike="noStrike">
                <a:solidFill>
                  <a:srgbClr val="ffffff"/>
                </a:solidFill>
                <a:latin typeface="Times New Roman"/>
              </a:rPr>
              <a:t>29 de julio de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4343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34342"/>
                </a:solidFill>
                <a:latin typeface="Times New Roman"/>
              </a:rPr>
              <a:t>DR.RUBEN MORCECI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434342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43434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BBD5A-63BE-4163-B617-1AF7C158890A}" type="slidenum">
              <a:rPr b="0" lang="en-US" sz="1600" spc="-1" strike="noStrike">
                <a:solidFill>
                  <a:srgbClr val="434342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3" name="Freeform 9"/>
          <p:cNvSpPr/>
          <p:nvPr/>
        </p:nvSpPr>
        <p:spPr>
          <a:xfrm>
            <a:off x="0" y="5048280"/>
            <a:ext cx="3571920" cy="1809720"/>
          </a:xfrm>
          <a:custGeom>
            <a:avLst/>
            <a:gdLst/>
            <a:ahLst/>
            <a:rect l="l" t="t" r="r" b="b"/>
            <a:pathLst>
              <a:path w="3571875" h="1809750">
                <a:moveTo>
                  <a:pt x="0" y="1809750"/>
                </a:moveTo>
                <a:lnTo>
                  <a:pt x="2038350" y="0"/>
                </a:lnTo>
                <a:lnTo>
                  <a:pt x="3571875" y="1809750"/>
                </a:lnTo>
                <a:lnTo>
                  <a:pt x="0" y="1809750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752CE-6AEB-4A6A-B101-961D259F0945}" type="datetime3">
              <a:rPr b="0" lang="es-AR" sz="1200" spc="-1" strike="noStrike">
                <a:solidFill>
                  <a:srgbClr val="ffffff"/>
                </a:solidFill>
                <a:latin typeface="Times New Roman"/>
              </a:rPr>
              <a:t>29 de julio de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DR.RUBEN MORCECI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95EF1-1E6E-42DD-A5F5-ACDFF1C8FB3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 rot="19140000">
            <a:off x="520200" y="934200"/>
            <a:ext cx="5648400" cy="211140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Franklin Gothic Medium"/>
              </a:rPr>
              <a:t>III JORNADA SOBRE LEGALIDAD Y LICITUD DE SISTEMAS DE REGISTROS Y SU DOCUMENTACION.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 rot="19140000">
            <a:off x="1602720" y="2633400"/>
            <a:ext cx="6512040" cy="90468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DR. PROF.RUBEN R.MORCECIAN 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Franklin Gothic Book"/>
              </a:rPr>
              <a:t>           </a:t>
            </a:r>
            <a:r>
              <a:rPr b="1" lang="es-ES" sz="2400" spc="-1" strike="noStrike">
                <a:solidFill>
                  <a:srgbClr val="000000"/>
                </a:solidFill>
                <a:latin typeface="Franklin Gothic Book"/>
              </a:rPr>
              <a:t>MUCHAS GRACIAS POR SU ATENCION 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5" name="Marcador de pie de página 3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ranklin Gothic Book"/>
              </a:rPr>
              <a:t>DR.RUBEN MORCECIAN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73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Franklin Gothic Medium"/>
              </a:rPr>
              <a:t>Libros y registros en la teoría jurídico contable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822240" y="1100160"/>
            <a:ext cx="7521840" cy="38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Franklin Gothic Book"/>
              </a:rPr>
              <a:t>Toda teoría general detecta , individualiza y agrupa caracteres y funciones generales del instituto con una función descriptiva y heurística del mismo.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Franklin Gothic Book"/>
              </a:rPr>
              <a:t>La contabilidad en sentido básico comporta una técnica sistematizada de información económica financiera para la toma de decisiones  propias del titular de la contabilidad o de terceros.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Franklin Gothic Book"/>
              </a:rPr>
              <a:t>Carga u Obligación ? Llevar contabilidad importa una carga con consecuencias jurídicas  en orden a las pruebas en juicio.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Franklin Gothic Book"/>
              </a:rPr>
              <a:t>Objetivos de la carga: el cumplimiento de los principios juridicos de la contabilidad 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Franklin Gothic Book"/>
              </a:rPr>
              <a:t>VERACIDAD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Franklin Gothic Book"/>
              </a:rPr>
              <a:t>CERTEZA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Franklin Gothic Book"/>
              </a:rPr>
              <a:t>CLARIDAD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Franklin Gothic Book"/>
              </a:rPr>
              <a:t>VALORACION UNIFORME DE CADA ELEMENTO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9" name="Marcador de pie de página 3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ranklin Gothic Book"/>
              </a:rPr>
              <a:t>DR.RUBEN MORCECIAN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822240" y="374760"/>
            <a:ext cx="7521840" cy="45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Franklin Gothic Book"/>
              </a:rPr>
              <a:t>INTERESADOS EN LA INFORMACION CONTABLE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Franklin Gothic Book"/>
              </a:rPr>
              <a:t>EL FISCO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Franklin Gothic Book"/>
              </a:rPr>
              <a:t>LOS ACREEDORES ( el patrimonio del deudor es prenda común de sus acreedores y estos deben conocer el estado de situación patrimonial)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Franklin Gothic Book"/>
              </a:rPr>
              <a:t>LOS SOCIOS, ACCIONISTAS,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Franklin Gothic Book"/>
              </a:rPr>
              <a:t>LOS TRABAJADORES (para negociar condiciones salariales o en el caso de concursos preventivos)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Franklin Gothic Book"/>
              </a:rPr>
              <a:t>LOS TERCEROS Y ACREEDORES Y TRABAJADORES EN EL CASO DE CONCURSO O QUIEBRA (necesario para la toma de decisiones en orden a votar una propuesta, a formar una cooperativa o negociar una continuidad ,o un avenimiento)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Franklin Gothic Book"/>
              </a:rPr>
              <a:t>TERCEROS CON INTERES LEGITIMO POR DERECHOS DE INCIDENCIA COLECTIVA ( por ej el en caso de balance  de responsabilidad social  y ambiental, entes públicos y organizaciones ambientales,)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1" name="Marcador de pie de página 3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ranklin Gothic Book"/>
              </a:rPr>
              <a:t>DR.RUBEN MORCECIAN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822240" y="649080"/>
            <a:ext cx="7521840" cy="358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Franklin Gothic Book"/>
              </a:rPr>
              <a:t>CLASES Y FORMAS DE  LOS LIBROS Y REGISTROS 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Franklin Gothic Book"/>
              </a:rPr>
              <a:t>ARTS. 322 A 325 CCC  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Franklin Gothic Book"/>
              </a:rPr>
              <a:t>SI ESTAN LLEVADOS EN LA  FORMA  EXIGIDA SON ADMITIDOS EN JUICIO  COMO MEDIO DE PRUEBA ART.330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Franklin Gothic Book"/>
              </a:rPr>
              <a:t>PROBLEMA = LA FORMA ES CONSTITUTIVA O MERAMENTE PROBATORIA ?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Franklin Gothic Book"/>
              </a:rPr>
              <a:t>CCC FORMALIDAD TASADA DE LOS LIBROS AL EXIGIR REQUISITOS FORMALES  POR ELLO 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 u="sng">
                <a:solidFill>
                  <a:srgbClr val="000000"/>
                </a:solidFill>
                <a:uFillTx/>
                <a:latin typeface="Franklin Gothic Book"/>
              </a:rPr>
              <a:t>SI ES CONSTITUTIVA, SIN FORMA NO HABRIA  LIBRO NI REGISTRO 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3" name="Marcador de pie de página 3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ranklin Gothic Book"/>
              </a:rPr>
              <a:t>DR.RUBEN MORCECIAN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822240" y="536400"/>
            <a:ext cx="752184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000000"/>
                </a:solidFill>
                <a:uFillTx/>
                <a:latin typeface="Franklin Gothic Book"/>
              </a:rPr>
              <a:t>POR OTRO LADO</a:t>
            </a:r>
            <a:r>
              <a:rPr b="1" lang="is-IS" sz="1600" spc="-1" strike="noStrike" u="sng">
                <a:solidFill>
                  <a:srgbClr val="000000"/>
                </a:solidFill>
                <a:uFillTx/>
                <a:latin typeface="Franklin Gothic Book"/>
              </a:rPr>
              <a:t>…..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Franklin Gothic Book"/>
              </a:rPr>
              <a:t>A</a:t>
            </a:r>
            <a:r>
              <a:rPr b="1" lang="is-IS" sz="1600" spc="-1" strike="noStrike">
                <a:solidFill>
                  <a:srgbClr val="000000"/>
                </a:solidFill>
                <a:latin typeface="Franklin Gothic Book"/>
              </a:rPr>
              <a:t>rt.329 CCC  autoriza sustitucion de libros o de alguna formalidad (salvo libro inventario y balance) por medios mecanicos ,electronicos, informarticos, PREVIA AUTORIZACION DEL REGISTRO PUBLICO LA QUE SOLO SE PODRA CONCEDER CUANDO EXISTA EQUIVALENCIA ENTRE EL NUEVO SOPORTE Y EL ANTERIOR  EN ORDEN A :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600" spc="-1" strike="noStrike">
                <a:solidFill>
                  <a:srgbClr val="000000"/>
                </a:solidFill>
                <a:latin typeface="Franklin Gothic Book"/>
              </a:rPr>
              <a:t>INVIOLABILIDAD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600" spc="-1" strike="noStrike">
                <a:solidFill>
                  <a:srgbClr val="000000"/>
                </a:solidFill>
                <a:latin typeface="Franklin Gothic Book"/>
              </a:rPr>
              <a:t>VEROSIMILITUD 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600" spc="-1" strike="noStrike">
                <a:solidFill>
                  <a:srgbClr val="000000"/>
                </a:solidFill>
                <a:latin typeface="Franklin Gothic Book"/>
              </a:rPr>
              <a:t>COMPLETITUD 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600" spc="-1" strike="noStrike" u="sng">
                <a:solidFill>
                  <a:srgbClr val="000000"/>
                </a:solidFill>
                <a:uFillTx/>
                <a:latin typeface="Franklin Gothic Book"/>
              </a:rPr>
              <a:t>PERO ADEMAS ....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6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is-IS" sz="1600" spc="-1" strike="noStrike">
                <a:solidFill>
                  <a:srgbClr val="000000"/>
                </a:solidFill>
                <a:latin typeface="Franklin Gothic Book"/>
              </a:rPr>
              <a:t>ART.61 LGS  PRESCINDENCIA DE FORMALIDADES previa autorizacion 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Franklin Gothic Book"/>
              </a:rPr>
              <a:t>A</a:t>
            </a:r>
            <a:r>
              <a:rPr b="1" lang="is-IS" sz="1600" spc="-1" strike="noStrike">
                <a:solidFill>
                  <a:srgbClr val="000000"/>
                </a:solidFill>
                <a:latin typeface="Franklin Gothic Book"/>
              </a:rPr>
              <a:t>hora DECRETO 27/2018 – LEY 27.444 ART.21 QUE REFORMA AL 61 lgs prescidencia DE FORMAS sin necesidad de autorizacion 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5" name="Marcador de pie de página 3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ranklin Gothic Book"/>
              </a:rPr>
              <a:t>DR.RUBEN MORCECIAN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822240" y="818640"/>
            <a:ext cx="7521840" cy="38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000000"/>
                </a:solidFill>
                <a:uFillTx/>
                <a:latin typeface="Franklin Gothic Book"/>
              </a:rPr>
              <a:t>POR ESO </a:t>
            </a:r>
            <a:r>
              <a:rPr b="1" lang="is-IS" sz="1600" spc="-1" strike="noStrike" u="sng">
                <a:solidFill>
                  <a:srgbClr val="000000"/>
                </a:solidFill>
                <a:uFillTx/>
                <a:latin typeface="Franklin Gothic Book"/>
              </a:rPr>
              <a:t>…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Franklin Gothic Book"/>
              </a:rPr>
              <a:t>Art.320 CCC exigencia de formas constitutivas?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Franklin Gothic Book"/>
              </a:rPr>
              <a:t>Ley 27444 (decreto 27) prescindencia de forma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 u="sng">
                <a:solidFill>
                  <a:srgbClr val="000000"/>
                </a:solidFill>
                <a:uFillTx/>
                <a:latin typeface="Franklin Gothic Book"/>
              </a:rPr>
              <a:t>Choque normativo </a:t>
            </a:r>
            <a:r>
              <a:rPr b="1" lang="es-ES" sz="1600" spc="-1" strike="noStrike">
                <a:solidFill>
                  <a:srgbClr val="000000"/>
                </a:solidFill>
                <a:latin typeface="Franklin Gothic Book"/>
              </a:rPr>
              <a:t>que es necesario resolver , cual tiene preeminencia ?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Franklin Gothic Book"/>
              </a:rPr>
              <a:t>Art.150 CCC orden de prelación </a:t>
            </a:r>
            <a:r>
              <a:rPr b="1" lang="is-IS" sz="1600" spc="-1" strike="noStrike">
                <a:solidFill>
                  <a:srgbClr val="000000"/>
                </a:solidFill>
                <a:latin typeface="Franklin Gothic Book"/>
              </a:rPr>
              <a:t>…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600" spc="-1" strike="noStrike">
                <a:solidFill>
                  <a:srgbClr val="000000"/>
                </a:solidFill>
                <a:latin typeface="Franklin Gothic Book"/>
              </a:rPr>
              <a:t>aplicacion de la norma imperativa de la ley especial o en su defecto por las imperativas del codigo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Franklin Gothic Book"/>
              </a:rPr>
              <a:t>A</a:t>
            </a:r>
            <a:r>
              <a:rPr b="1" lang="is-IS" sz="1600" spc="-1" strike="noStrike">
                <a:solidFill>
                  <a:srgbClr val="000000"/>
                </a:solidFill>
                <a:latin typeface="Franklin Gothic Book"/>
              </a:rPr>
              <a:t>plicacion del contrato constitutivo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Franklin Gothic Book"/>
              </a:rPr>
              <a:t>A</a:t>
            </a:r>
            <a:r>
              <a:rPr b="1" lang="is-IS" sz="1600" spc="-1" strike="noStrike">
                <a:solidFill>
                  <a:srgbClr val="000000"/>
                </a:solidFill>
                <a:latin typeface="Franklin Gothic Book"/>
              </a:rPr>
              <a:t>plicacion de la norma sumpletoria de la ley especial o su defecto la del codigo. 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7" name="Marcador de pie de página 3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ranklin Gothic Book"/>
              </a:rPr>
              <a:t>DR.RUBEN MORCECIAN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785520" y="395280"/>
            <a:ext cx="7520040" cy="42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Franklin Gothic Book"/>
              </a:rPr>
              <a:t>CUESTIONES TECNOLOGICAS DE APLICACIÓN A CONSIDERAR 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Franklin Gothic Book"/>
              </a:rPr>
              <a:t>FIRMA DIGITAL Y FIRMA ELECTRÓNICA 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Franklin Gothic Book"/>
              </a:rPr>
              <a:t>LA  FIRMA DIGITAL ART.288 CCC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Franklin Gothic Book"/>
              </a:rPr>
              <a:t>RECIBOS DE SUELDOS INFORMÁTICOS 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Franklin Gothic Book"/>
              </a:rPr>
              <a:t>REMITOS ,RECIBOS Y ORDENES DE COMPRA DIGITALES 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Franklin Gothic Book"/>
              </a:rPr>
              <a:t>FACTURAS ELECTRÓNICAS 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Franklin Gothic Book"/>
              </a:rPr>
              <a:t>LA CONSERVACIÓN DE LA DOCUMENTACIÓN “RESPALDATORIA” (NO “COMPLEMENTARIA”) EN MICROFILMS, DISCOS ÓPTICOS U OTROS MEDIOS APTOS. 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Franklin Gothic Book"/>
              </a:rPr>
              <a:t>TEMA DE EMISION DIGITAL O CONVERSION DEL PAPEL A DIGITAL , HAY SEGURIDAD ?  EL NUEVO DOCUMENTO DIGITAL PODRIA PROVENIR DE UN FISICO ADULTERADO ?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Franklin Gothic Book"/>
              </a:rPr>
              <a:t>DIGITALIZACION DE RECIBOS Y REMITOS FIRMADOS, PROBLEMA DE LA FIRMA  Y DESCONOCIMIENTO O NO EN JUICIO,  NECESARIO RESPALDO FISICO DEL INSTRUMENTO DE PRUEBA.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9" name="Marcador de pie de página 3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ranklin Gothic Book"/>
              </a:rPr>
              <a:t>DR.RUBEN MORCECIAN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822240" y="776160"/>
            <a:ext cx="7521840" cy="390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Franklin Gothic Book"/>
              </a:rPr>
              <a:t>OTROS PROBLEMAS :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Franklin Gothic Book"/>
              </a:rPr>
              <a:t>CONCURSOS Y QUIEBRAS  COMO ADJUNTO LOS LIBROS DE COMERCIO?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Franklin Gothic Book"/>
              </a:rPr>
              <a:t>COMO SECUESTRO LA DOCUMENTACION ? SI ESTA EN SERVIDOR EXTERIOR/  SERVIDOR REFLEJO O ESPEJO 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Franklin Gothic Book"/>
              </a:rPr>
              <a:t>SI LOS LIBROS DEBEN ESTAR EN EL DOMICILIO (ART.325) A CUAL SE REFIERE ? ART.75 Y 151 CCC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Franklin Gothic Book"/>
              </a:rPr>
              <a:t>EN CASO DE PERICIAL CONTABLE O EXHIBICION DE LIBROS O REGISTROS , COMO SE EXHIBE?  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1" name="Marcador de pie de página 3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ranklin Gothic Book"/>
              </a:rPr>
              <a:t>DR.RUBEN MORCECIAN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822240" y="591840"/>
            <a:ext cx="7521840" cy="40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 u="sng">
                <a:solidFill>
                  <a:srgbClr val="000000"/>
                </a:solidFill>
                <a:uFillTx/>
                <a:latin typeface="Franklin Gothic Book"/>
              </a:rPr>
              <a:t>ANTE PERDIDA , EXTRAVIO O DESTRUCCION DEL REGISTRO INFORMATICO, SE RECONSTRUYE EL MISMO ?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Franklin Gothic Book"/>
              </a:rPr>
              <a:t>COMO ? ART. 1876 A 1881 CCC ?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Franklin Gothic Book"/>
              </a:rPr>
              <a:t>DENUNCIA JUDICIA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Franklin Gothic Book"/>
              </a:rPr>
              <a:t>PULBICACION EDICTOS X 5 DIAS AQUÍ Y EN EXTERIOR EN SU CASO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Franklin Gothic Book"/>
              </a:rPr>
              <a:t>DESIGNACION DE PERITO CONTADOR 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Franklin Gothic Book"/>
              </a:rPr>
              <a:t>CITACION DE PRETENSOS REGISTRADOS 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Franklin Gothic Book"/>
              </a:rPr>
              <a:t>APLICACIÓN DE PROCESO DE VERIFICACION DE CREDITOS ( arancel?) 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Franklin Gothic Book"/>
              </a:rPr>
              <a:t>TUTELA PROVISORIA DEL ACREEDOR AUN ANTES DE SENTENCIA DE RECONSTRUCCION.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Franklin Gothic Book"/>
              </a:rPr>
              <a:t>MEDIDAS DE  INTERVENCION CAUTELAR O VEEDURIA ,INCLUSO SUSPENDER ASAMBLEAS (CLARAMENNTE DE UTILIDAD PARA EL CASO DE REGISTRO DE ACCIONES POR EJEMPLO)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3" name="Marcador de pie de página 3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ranklin Gothic Book"/>
              </a:rPr>
              <a:t>DR.RUBEN MORCECIAN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19T05:38:56Z</dcterms:created>
  <dc:creator>Ruben Morcecian</dc:creator>
  <dc:description/>
  <dc:language>en-US</dc:language>
  <cp:lastModifiedBy>Rocio Seoane</cp:lastModifiedBy>
  <dcterms:modified xsi:type="dcterms:W3CDTF">2018-06-19T14:34:33Z</dcterms:modified>
  <cp:revision>10</cp:revision>
  <dc:subject/>
  <dc:title>III Jornada sobre legalidad y licitud de sistemas de registros y su documentacion.</dc:title>
</cp:coreProperties>
</file>