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8FE9-F99B-4142-BF2A-FC101D7610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E8EE-69AF-4A24-B362-F792734FE6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er en el pizarrón las dos fecha y que los alumnos digan que les par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86AE-6505-4FB5-B4E7-D1195BD2AA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conocimiento se ha convertido en mercancia. Es más importante la semilla de soja , que la tierra , en términos de generación de valor agreg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7DE6-45E5-43F6-BE5C-19057FB49A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diferencia entre cada uno de ustedes y Maradona ( antes de la droga) , o Menem ó Carrio , etc es en el 0.001 % de los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5A7B-E4AC-4990-AFC3-FDD1C44265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diferencia entre cada uno de ustedes y Maradona ( antes de la droga) , o Menem ó Carrio , etc es en el 0.001 % de los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EEE-2E7B-4418-88E9-91BD5E75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C17-3199-4CA6-BEDA-7E4961F8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D70-4A8E-4D32-8D1A-2AD31454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5EA-D6E9-4F42-B30A-5C8E6609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B0554-7574-4228-8494-BA0C97FE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70395-C454-4F08-855E-8C0166D1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374BA-1C9B-40A6-BD8B-32AE838F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E461E-6153-40B9-904C-D733C2DF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01E93-16E5-451A-BED7-DFE6E5CA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778F1-A804-426C-B2FC-20F43B8A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BF1E4-EA89-4AAF-AE78-19BC9E9C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968-5260-4CE6-9CBC-57C5FEB4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93796-5E85-43FD-8958-9A1DADB1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65337-507A-4F93-AE79-AAB5EA97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16B4F-F609-47CA-BAF7-365DD410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EA0EB-EC5F-4106-8407-E8DCB1EB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4281A-F039-47A3-A351-FE80D05B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89B-7BEC-4DD7-972E-6E61B818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42E-6092-455A-8E41-9BCF2C18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395-D41B-4FCC-9612-C7AD0F42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08C-91A5-42B1-BBAE-53F9B199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0E7-9354-4323-B79F-26E13355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396-D330-4B04-8427-BB81A233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3B7-1B3C-4379-B183-26934050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Guillermo A. Tricoci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1F2B-57BF-4DDC-81D5-34690DC2A94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F9A3-6767-4DAD-9490-F6D2B536AEF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La Sociedad del Conocimiento convertirá a la Argentina en un país rico?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uillermo A. Tricoc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1/05/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º Congreso de Tecnología de la Informació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-mail: Gatricoci@yahoo.com.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13DEF-DB52-4C26-A29C-EE2D8DD691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Aplicación del conocimiento en distintos momento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7400" indent="-321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voluci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ón Industr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5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conocimientos fueron aplicados a los procesos, instrumento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7400" indent="-321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volución de la Productiv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5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conocimientos fueron aplicados a los trabajad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7400" indent="-321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volución del Manag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5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onocimiento esta siendo aplicado al conocimiento mismo constituyéndose en un factor de produ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FA0-E138-4C21-8F03-502F458EF0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Nuevo Paradigma Tecnoeconómico que aparece con las TIC´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e concepto, desarrollado a finales de los ochenta por un conjunto de economistas de la Universidad de Sussex,  coexisten  tres element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Un nuevo esquema en la producción, con la incorporación de un nuevo factor productivo como elemento determinante de los crecimientos de productivida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Un nuevo esquema en la producción de conocimiento, con nuevos patrones en el desarrollo de la innovación tecnológic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evas pautas en la demanda que impulsen la producción de las nuevas ramas de activ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47C-DA7F-413B-9396-279010F45D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Función de prod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58920" y="198900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Q= f (K, 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Q = f (K, L, 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 = Cot + Co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 = f (Lc, K, 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4920" y="184464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unción Tradicional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ueva función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tock total de conocimiento  accesible a la socie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oducción de  conoci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7EF-790E-4731-8DF0-AAB26535BA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pital Humano 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ercado de trabajo dua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Conectados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lta especialización tecnológ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tual escasez de ofer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lta deman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uenos salari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Desconectados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ja calificació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cariedad de empleo y bajos salari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ucha ofer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0DD-D32F-4033-9824-C4B1E0D2A6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Fuga de Cerebr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demanda creciente de trabajadores extranjeros con habilidades específicas en los países desarrollados permite suponer que éstos habrán de implementar políticas para atraerlos. En consecuencia, estos países han ofrecido, t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minos y condiciones con los que no pueden competir las naciones latinoamericanas.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B79-4F8F-4DA7-8989-AA029AF9A2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478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78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784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76320" y="3049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22860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tentes e Ingresos por Regalías.</a:t>
            </a: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00000" y="1676520"/>
          <a:ext cx="7704360" cy="4333680"/>
        </p:xfrm>
        <a:graphic>
          <a:graphicData uri="http://schemas.openxmlformats.org/drawingml/2006/table">
            <a:tbl>
              <a:tblPr/>
              <a:tblGrid>
                <a:gridCol w="1541520"/>
                <a:gridCol w="1540080"/>
                <a:gridCol w="1541160"/>
                <a:gridCol w="1540080"/>
                <a:gridCol w="1541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ados Unid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e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p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gent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tentes concedidas a residentes (por 1.000.000 de habitantes)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1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resos por regalías y licencias (por 1.000 habitantes)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1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6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1066680" y="6229440"/>
            <a:ext cx="76676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Tahoma"/>
              </a:rPr>
              <a:t>Fuente</a:t>
            </a: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: Programa de las Naciones Unidas para el Desarrollo (PNUD-2001); Indicador sobre Desarrollo Humano 2001: Poner el Adelanto Tecnológico al Servicio del Desarrollo Huma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B1E-E9A0-462F-9E86-14B98CD743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íses Exportadores de Alta Tecnolog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ía </a:t>
            </a:r>
            <a:br>
              <a:rPr sz="1800"/>
            </a:b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Fuente PNUD 200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403280" y="981000"/>
          <a:ext cx="6121440" cy="5672160"/>
        </p:xfrm>
        <a:graphic>
          <a:graphicData uri="http://schemas.openxmlformats.org/drawingml/2006/table">
            <a:tbl>
              <a:tblPr/>
              <a:tblGrid>
                <a:gridCol w="998640"/>
                <a:gridCol w="1803240"/>
                <a:gridCol w="1386000"/>
                <a:gridCol w="1933560"/>
              </a:tblGrid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k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 o zo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les de mill. U$S 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ce 100= 19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ados Un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ap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e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no Uni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apu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an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r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es Baj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la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8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rl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ada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al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e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EA7-0985-4FB7-B92C-63D54F2623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íses Exportadores de Alta Tecnolog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ía (II) 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Fuente PNUD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47640" y="836640"/>
          <a:ext cx="6048720" cy="5848200"/>
        </p:xfrm>
        <a:graphic>
          <a:graphicData uri="http://schemas.openxmlformats.org/drawingml/2006/table">
            <a:tbl>
              <a:tblPr/>
              <a:tblGrid>
                <a:gridCol w="1597320"/>
                <a:gridCol w="1709640"/>
                <a:gridCol w="1144440"/>
                <a:gridCol w="15973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k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 o zo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les de mill. U$S 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ce 100= 19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iz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élg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iland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pañ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land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namar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lipi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ra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ungrí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ng Ko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. Che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3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E02-645C-45B6-B15B-F8EEEF5FFD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Informe sobre uso de TIC del Foro Económico Mundia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a valiosa y única herramienta de Benchmarking para determinar las fortalezas y debilidades de las TICs de las naciones y evaluar su progre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 informe de 2004/2005 incluyó a 104 paí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usó el NRI (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Networked Readiness Index)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a medir el grado de preparación de una comunidad para ser parte y beneficiarse con el desarrollo de las 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BF0-5F36-4DF3-AAD9-00501C2C51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Informe sobre uso de TIC del Foro Económico Mundial I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e índice esta compuesto de tres componentes y cada uno de ellos en un conjuntos de sub índi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ambiente (environment) para las 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preparación (readiness) de los individuos , las empresas y el gobi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uso (usage) entre los , individuos , las empresas y el gobi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D01-2AE2-451F-A999-8490B57029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a digital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y la mayoría de los cosas de nuestra vida forman parte del mundo digit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ubo muchos cambios de alfabetos dominantes  en la historia, hasta llegar al “ alfabeto digital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y mediante  un cambio de ceros y unos podemo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viar un correo electró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mbiar la fórmula de una bomba nucle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ivar un mis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icar pet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o o contaminación en un mapa producido con una imagen satelit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0CE-7831-4D48-996A-DC3C0BB6E0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Esquema para el NR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9280" y="1600200"/>
            <a:ext cx="864072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E3B-ED01-409F-AE35-1189F1540C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sicionamiento de Argentina en el Ranking del Foro Ecónomico Inter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905120"/>
          <a:ext cx="8229600" cy="4209840"/>
        </p:xfrm>
        <a:graphic>
          <a:graphicData uri="http://schemas.openxmlformats.org/drawingml/2006/table">
            <a:tbl>
              <a:tblPr/>
              <a:tblGrid>
                <a:gridCol w="2847960"/>
                <a:gridCol w="1344600"/>
                <a:gridCol w="1346400"/>
                <a:gridCol w="1344600"/>
                <a:gridCol w="1346040"/>
              </a:tblGrid>
              <a:tr h="81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/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/2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RI 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viro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4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di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s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8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D3F-FEAB-45F7-B652-D121802216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osicionamiento de Singapur en el Ranking del Foro Ecónomico Internac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3191040"/>
                <a:gridCol w="1260360"/>
                <a:gridCol w="1258920"/>
                <a:gridCol w="1260360"/>
                <a:gridCol w="1258920"/>
              </a:tblGrid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/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/2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RI 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viro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di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s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7A9-413F-4C56-9E56-BA2CA4E4F1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anking NRI  2004/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340000" y="907920"/>
          <a:ext cx="4478400" cy="5778720"/>
        </p:xfrm>
        <a:graphic>
          <a:graphicData uri="http://schemas.openxmlformats.org/drawingml/2006/table">
            <a:tbl>
              <a:tblPr/>
              <a:tblGrid>
                <a:gridCol w="2003400"/>
                <a:gridCol w="247500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king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apor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ce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nmark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ited State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ng Kong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witzer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re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lays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a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azi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C69-1551-4EFD-80E7-D29379441C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lgunas comparaciones sobre evolución del Ingreso por habi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197000"/>
          <a:ext cx="8229600" cy="5121360"/>
        </p:xfrm>
        <a:graphic>
          <a:graphicData uri="http://schemas.openxmlformats.org/drawingml/2006/table">
            <a:tbl>
              <a:tblPr/>
              <a:tblGrid>
                <a:gridCol w="1165320"/>
                <a:gridCol w="1163520"/>
                <a:gridCol w="1243080"/>
                <a:gridCol w="1163520"/>
                <a:gridCol w="1165320"/>
                <a:gridCol w="1163520"/>
                <a:gridCol w="1165320"/>
              </a:tblGrid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land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rl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r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apu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.E.U.U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en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nn World Table del Centro de Comparaciones Mundiales de la Unversidad de Pensilvani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C81-7731-469F-8FBD-F604A27A86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men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conocimiento es un activo y un factor de producción de alta remuner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 riqueza de los país no es sólo recursos naturales , sino la manera que crean administran y gestionan el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 requiere de la educación como motor de generación de recursos humanos y con reductor de brechas. Lograr mantener el capital humano en 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crecimiento de las TIC´S en un país. No sólo debemos mirar su crecimiento temporal , sino su velocidad de convergencia hacia el promedio de los demás país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 la actualidad hay políticas y planes a futuro ¿ serán suficientes ?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432-02E1-4245-8A69-3C4866497D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Frase fi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"T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dos los imperios del futuro van a ser imperios del conocimiento, y solamente los pueblos que entie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 cómo generar conocimientos y cómo protegerlos, cómo buscar a los jóvenes que tengan la capacidad para hacerlo y asegurarse que se queden en el país, serán los países exitos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bert  Einste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927-3788-42CD-8DA1-E7220BD1E4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Preguntas 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707-ACE2-4584-BDB6-C3499D92F5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uchas Gracias!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A03-0FF2-4B7E-8CC7-CD96DFDF8F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apositivas de resguar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228-9DEB-472C-9AD0-18A5A8BB54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ubrimient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2 de octubre de 149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2 de febrero de 200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077-2FC2-42AB-816C-A49A824FBF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457200"/>
            <a:ext cx="1371600" cy="1600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784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1541520"/>
            <a:ext cx="9144000" cy="4192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920" y="380880"/>
            <a:ext cx="129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280" y="-316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El problema de la brecha digit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6019920"/>
            <a:ext cx="76676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Tahoma"/>
              </a:rPr>
              <a:t>Fuente</a:t>
            </a: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: Programa de las Naciones Unidas para el Desarrollo (PNUD-2001); Indicador sobre Desarrollo Humano 2001: Poner el Adelanto Tecnológico al Servicio del Desarrollo Huma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D82-FFA5-47CA-A604-1667E1F441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Información y Conoci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unque los conceptos de 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información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conocimiento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utilizan indistintamente, existe una clara diferencia entre amb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La información es un flujo de mensajes, mientras que el conocimiento se crea precisamente mediante este flujo de información, anclado a las convicciones y el compromiso del sujet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información proporciona un nuevo punto de vista para interpretar acontecimientos u objetos; por tanto, la información es un medio o un material necesario para obtener y construir el conocimiento. La información influye en el conocimiento, añadiéndole algo o reestructurándolo". [Ikujiro, N.; Philippe, B. (200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366-9712-4780-9E5B-20FC898238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acto de la era digit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eleración del proceso de conversión de conocimiento tácito en explíci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l conocimiento observ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arrollo de nuevos requerimientos y hab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conocimiento se ha convertido en merca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sión de contenidos tradicionales a digit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509-0903-465D-8A27-3C20ED1210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echa digital: El problema del acces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o Men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o Mate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o de habi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o en el u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4D8-3F39-445B-A1C7-C5AF61F16D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¨Infopobreza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os problemas de analfabetismo digital y de acceso en general, provocan un nueva forma de exclusión soc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ayor brecha, mayor posibilidad de ser pob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FF7-6159-4F7C-A6B7-982C7E1A53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Educación</a:t>
            </a: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 basta con modernizar la metodología mediante la introducción e integración de TIC en los sistemas educativos ac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deben combinar nuevas herramientas donde los alumnos desarrollen funciones cognitivas más avanz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843-33FC-4707-8506-BB8CA79A6B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Rol del Esta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obierno Dig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onomía Dig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ciones para eliminar la Brecha Dig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iorizar, jerarquizar y fomentar las actividades de investigación y desarrollo a nivel de los individuos, empresas y 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4E9-3C80-4786-8575-A8E106E9FB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lación entre NRI 2002/2003 e Ingreso per cápit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84360" y="1600200"/>
            <a:ext cx="8135640" cy="506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356-B88C-4CC0-9114-42C22632DF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lación entre NRI 2003/2004 e Ingreso per cáp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28036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48F-318C-4CED-B41C-3319C709C1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osicionamiento de Argentina en el Ranking del Foro Ecónomico Internacional ( 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557360"/>
          <a:ext cx="8229600" cy="5156280"/>
        </p:xfrm>
        <a:graphic>
          <a:graphicData uri="http://schemas.openxmlformats.org/drawingml/2006/table">
            <a:tbl>
              <a:tblPr/>
              <a:tblGrid>
                <a:gridCol w="3230640"/>
                <a:gridCol w="1249200"/>
                <a:gridCol w="1251000"/>
                <a:gridCol w="1249200"/>
                <a:gridCol w="12495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/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/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nvirome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litical /  Reg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rae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Readines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divid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si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sag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divid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sines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B18-5EB4-427C-A97B-F1F4B789A78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nétic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ego del 12 de febrero de 2001 la vida , sea humana o de un ratón o un árbol se codifica  y es reproducible digital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hora podemos tomar un código y reproducirlo o modificarl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23F-6C6F-4438-BF3F-EF5F6C218A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anking NRI  2004/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258920" y="907920"/>
          <a:ext cx="6481800" cy="5778360"/>
        </p:xfrm>
        <a:graphic>
          <a:graphicData uri="http://schemas.openxmlformats.org/drawingml/2006/table">
            <a:tbl>
              <a:tblPr/>
              <a:tblGrid>
                <a:gridCol w="2003400"/>
                <a:gridCol w="2475000"/>
                <a:gridCol w="200340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king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ntaj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apor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7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ce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6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6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nmark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6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ited State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ng Kong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witzer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2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re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8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lays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a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azi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51B-EA94-4001-9719-DBFD38C9AAF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ferencia entre los seres viv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seres vivos (humanos y animales) somos muy parec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seres humanos tenemos 30.000 genes y la diferencia entre nosotros es de 0.001 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o también la diferencia con un ratón es similar magnitu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gunta es ¿ qué es lo que nos hace diferentes de los perros , gatos, ratones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¿ Por qué estamos escuchando esta exposición y no comiendo una banana arriba de un  árbol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33C-611A-47B5-9401-D6AF80FA92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Diferencia entre los seres vivos 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" Nuestra Habilidad para usar y transmitir conocimientos "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DCF-D36C-4671-863B-95C1DA23B2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Una definición de Conoci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l proceso humano y din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ico que consiste en justificar una creencia personal hacia la certez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FB5-D5AE-48C4-96C9-4EA525B8FD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Industria de la información</a:t>
            </a: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Economía del conocimiento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ociedad del conoci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A75-04BA-47BE-8603-528E26A53A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-36360" y="0"/>
            <a:ext cx="9180360" cy="2708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2133720"/>
            <a:ext cx="496908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dustria del Informaci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980000" y="1411920"/>
            <a:ext cx="576360" cy="72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>
              <a:alpha val="1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6299640" y="148500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>
              <a:alpha val="1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981000"/>
            <a:ext cx="446544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981000"/>
            <a:ext cx="280836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6360" y="2708280"/>
            <a:ext cx="9180360" cy="19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0"/>
            <a:ext cx="216036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leC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0"/>
            <a:ext cx="165564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133200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360360" y="367920"/>
            <a:ext cx="3585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>
              <a:alpha val="1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2305080" y="367920"/>
            <a:ext cx="3585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>
              <a:alpha val="1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392360" y="439560"/>
            <a:ext cx="35892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>
              <a:alpha val="1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924280"/>
            <a:ext cx="2682720" cy="642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BIOS EN LA DE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924280"/>
            <a:ext cx="2683080" cy="642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BIOS EN LA OFER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4149720"/>
            <a:ext cx="496908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ía del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2708280"/>
            <a:ext cx="505080" cy="1441440"/>
          </a:xfrm>
          <a:prstGeom prst="downArrow">
            <a:avLst>
              <a:gd name="adj1" fmla="val 50000"/>
              <a:gd name="adj2" fmla="val 7134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36360" y="4653000"/>
            <a:ext cx="9180360" cy="22050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53000"/>
            <a:ext cx="2682720" cy="368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ecto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40000" y="6329520"/>
            <a:ext cx="496872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edad del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157720"/>
            <a:ext cx="2682720" cy="368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ectos Polí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00720" y="5300640"/>
            <a:ext cx="2683080" cy="368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ectos Cultur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00720" y="4797360"/>
            <a:ext cx="2683080" cy="368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ectos Institu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971640" y="5634000"/>
            <a:ext cx="1152360" cy="1224000"/>
          </a:xfrm>
          <a:custGeom>
            <a:avLst/>
            <a:gdLst>
              <a:gd name="textAreaLeft" fmla="*/ 0 w 1152360"/>
              <a:gd name="textAreaRight" fmla="*/ 1152360 w 1152360"/>
              <a:gd name="textAreaTop" fmla="*/ 360 h 1224000"/>
              <a:gd name="textAreaBottom" fmla="*/ 122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4653000"/>
            <a:ext cx="504720" cy="1584360"/>
          </a:xfrm>
          <a:prstGeom prst="downArrow">
            <a:avLst>
              <a:gd name="adj1" fmla="val 50000"/>
              <a:gd name="adj2" fmla="val 7847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7451640" y="5734080"/>
            <a:ext cx="1152720" cy="112392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84360" y="3644280"/>
            <a:ext cx="1366560" cy="863640"/>
          </a:xfrm>
          <a:custGeom>
            <a:avLst/>
            <a:gdLst>
              <a:gd name="textAreaLeft" fmla="*/ 0 w 1366560"/>
              <a:gd name="textAreaRight" fmla="*/ 1366920 w 136656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7164360" y="3573360"/>
            <a:ext cx="1152720" cy="112392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85A-00BA-4422-A0C6-1AA4F3363A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6:55:57Z</dcterms:created>
  <dc:creator>ff</dc:creator>
  <dc:description/>
  <dc:language>en-US</dc:language>
  <cp:lastModifiedBy>C.P.C.E.C.A.B.A.</cp:lastModifiedBy>
  <dcterms:modified xsi:type="dcterms:W3CDTF">2006-05-11T17:45:45Z</dcterms:modified>
  <cp:revision>55</cp:revision>
  <dc:subject/>
  <dc:title>Sociedad del Conocimiento Amenazas y Oportunidades</dc:title>
</cp:coreProperties>
</file>