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116-6104-4DC3-A19F-BCFE284E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CC1-E069-4C3C-B91E-27B0CD85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7D3-EB67-4016-9E17-F8970511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A92-2C8B-4623-B433-A003CE9B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F3B-06FA-4713-9564-1B1F411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C2F-324C-430E-9B45-B77B64EA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D95-47EA-4459-A443-EFED20A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C2-4D38-4E86-9FD8-332226B6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121-CB89-4D0E-8B3B-D95FE07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487-5DE6-410E-A60D-CB414F9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666-E279-4520-810F-3D5C6BE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DBE-9525-4C6B-B825-B1E4E132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37A-C025-450E-990E-B88BD013BE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720"/>
            <a:ext cx="9144000" cy="1410480"/>
            <a:chOff x="0" y="-720"/>
            <a:chExt cx="9144000" cy="1410480"/>
          </a:xfrm>
        </p:grpSpPr>
        <p:sp>
          <p:nvSpPr>
            <p:cNvPr id="42" name=""/>
            <p:cNvSpPr/>
            <p:nvPr/>
          </p:nvSpPr>
          <p:spPr>
            <a:xfrm flipH="1" flipV="1" rot="16200000">
              <a:off x="4000320" y="-4001400"/>
              <a:ext cx="1143000" cy="9144000"/>
            </a:xfrm>
            <a:prstGeom prst="rect">
              <a:avLst/>
            </a:prstGeom>
            <a:solidFill>
              <a:srgbClr val="cb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143000"/>
              <a:ext cx="9144000" cy="152280"/>
            </a:xfrm>
            <a:prstGeom prst="rect">
              <a:avLst/>
            </a:prstGeom>
            <a:solidFill>
              <a:srgbClr val="e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Reunion%20Distribuidores%20imagenes" descr=""/>
            <p:cNvPicPr/>
            <p:nvPr/>
          </p:nvPicPr>
          <p:blipFill>
            <a:blip r:embed="rId1"/>
            <a:stretch/>
          </p:blipFill>
          <p:spPr>
            <a:xfrm>
              <a:off x="4691160" y="762120"/>
              <a:ext cx="4452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BAS%20MARCA%20DE%20AGUA2.ps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514600" cy="11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9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3</a:t>
            </a:r>
            <a:r>
              <a:rPr b="1" lang="es-AR" sz="3200" spc="-1" strike="noStrike" baseline="30000">
                <a:solidFill>
                  <a:srgbClr val="ff3300"/>
                </a:solidFill>
                <a:latin typeface="Arial"/>
                <a:ea typeface="Tahoma"/>
              </a:rPr>
              <a:t>er</a:t>
            </a: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 Congreso de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 </a:t>
            </a: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Tahoma"/>
              </a:rPr>
              <a:t>Expositor: Dr. C.P. Oscar Tel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Tahoma"/>
              </a:rPr>
              <a:t>Consultor Seni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 </a:t>
            </a:r>
            <a:r>
              <a:rPr b="1" lang="es-AR" sz="3200" spc="-1" strike="noStrike">
                <a:solidFill>
                  <a:srgbClr val="ff3300"/>
                </a:solidFill>
                <a:latin typeface="Arial"/>
                <a:ea typeface="Tahoma"/>
              </a:rPr>
              <a:t>Buenos Aire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4080" y="24368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4800" y="320040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er a las necesidades bajo las prem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2640" y="3951360"/>
            <a:ext cx="2469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-720"/>
            <a:ext cx="9144000" cy="1410480"/>
            <a:chOff x="0" y="-720"/>
            <a:chExt cx="9144000" cy="1410480"/>
          </a:xfrm>
        </p:grpSpPr>
        <p:sp>
          <p:nvSpPr>
            <p:cNvPr id="118" name=""/>
            <p:cNvSpPr/>
            <p:nvPr/>
          </p:nvSpPr>
          <p:spPr>
            <a:xfrm flipH="1" flipV="1" rot="16200000">
              <a:off x="4000320" y="-4001400"/>
              <a:ext cx="1143000" cy="9144000"/>
            </a:xfrm>
            <a:prstGeom prst="rect">
              <a:avLst/>
            </a:prstGeom>
            <a:solidFill>
              <a:srgbClr val="cb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1143000"/>
              <a:ext cx="9144000" cy="152280"/>
            </a:xfrm>
            <a:prstGeom prst="rect">
              <a:avLst/>
            </a:prstGeom>
            <a:solidFill>
              <a:srgbClr val="e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Reunion%20Distribuidores%20imagenes" descr=""/>
            <p:cNvPicPr/>
            <p:nvPr/>
          </p:nvPicPr>
          <p:blipFill>
            <a:blip r:embed="rId1"/>
            <a:stretch/>
          </p:blipFill>
          <p:spPr>
            <a:xfrm>
              <a:off x="4691160" y="762120"/>
              <a:ext cx="4452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BAS%20MARCA%20DE%20AGUA2.ps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514600" cy="11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3439800" y="2911320"/>
            <a:ext cx="226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50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124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1" i="1" lang="es-AR" sz="3200" spc="-1" strike="noStrike">
                <a:solidFill>
                  <a:srgbClr val="000000"/>
                </a:solidFill>
                <a:latin typeface="Arial"/>
                <a:ea typeface="Tahoma"/>
              </a:rPr>
              <a:t>El mercado ERP en la Argent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Arial"/>
                <a:ea typeface="Tahoma"/>
              </a:rPr>
              <a:t>y sus tendencias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"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1840" y="280836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01840" y="3124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7720" y="2833560"/>
            <a:ext cx="45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ción + Integ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63800" y="3733920"/>
            <a:ext cx="52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TOMA DE LAS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-720"/>
            <a:ext cx="9144000" cy="1410480"/>
            <a:chOff x="0" y="-720"/>
            <a:chExt cx="9144000" cy="1410480"/>
          </a:xfrm>
        </p:grpSpPr>
        <p:sp>
          <p:nvSpPr>
            <p:cNvPr id="61" name=""/>
            <p:cNvSpPr/>
            <p:nvPr/>
          </p:nvSpPr>
          <p:spPr>
            <a:xfrm flipH="1" flipV="1" rot="16200000">
              <a:off x="4000320" y="-4001400"/>
              <a:ext cx="1143000" cy="9144000"/>
            </a:xfrm>
            <a:prstGeom prst="rect">
              <a:avLst/>
            </a:prstGeom>
            <a:solidFill>
              <a:srgbClr val="cb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143000"/>
              <a:ext cx="9144000" cy="152280"/>
            </a:xfrm>
            <a:prstGeom prst="rect">
              <a:avLst/>
            </a:prstGeom>
            <a:solidFill>
              <a:srgbClr val="e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Reunion%20Distribuidores%20imagenes" descr=""/>
            <p:cNvPicPr/>
            <p:nvPr/>
          </p:nvPicPr>
          <p:blipFill>
            <a:blip r:embed="rId1"/>
            <a:stretch/>
          </p:blipFill>
          <p:spPr>
            <a:xfrm>
              <a:off x="4691160" y="762120"/>
              <a:ext cx="4452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BAS%20MARCA%20DE%20AGUA2.ps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514600" cy="11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457200" y="2263680"/>
            <a:ext cx="8472600" cy="4211640"/>
            <a:chOff x="457200" y="2263680"/>
            <a:chExt cx="8472600" cy="421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57200" y="2263680"/>
              <a:ext cx="847260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467160" y="2840040"/>
              <a:ext cx="647640" cy="3603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7160" y="3505320"/>
              <a:ext cx="647640" cy="3603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67160" y="4821120"/>
              <a:ext cx="647640" cy="3603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67160" y="6068880"/>
              <a:ext cx="647640" cy="3603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81560" y="3975120"/>
              <a:ext cx="647640" cy="216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81560" y="4203720"/>
              <a:ext cx="647640" cy="216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81560" y="5354640"/>
              <a:ext cx="647640" cy="3603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5853240"/>
              <a:ext cx="647640" cy="2156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80880" y="14479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RVICIOS: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valuación de la importancia de los siguientes asp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-720"/>
            <a:ext cx="9144000" cy="1410480"/>
            <a:chOff x="0" y="-720"/>
            <a:chExt cx="9144000" cy="1410480"/>
          </a:xfrm>
        </p:grpSpPr>
        <p:sp>
          <p:nvSpPr>
            <p:cNvPr id="77" name=""/>
            <p:cNvSpPr/>
            <p:nvPr/>
          </p:nvSpPr>
          <p:spPr>
            <a:xfrm flipH="1" flipV="1" rot="16200000">
              <a:off x="4000320" y="-4001400"/>
              <a:ext cx="1143000" cy="9144000"/>
            </a:xfrm>
            <a:prstGeom prst="rect">
              <a:avLst/>
            </a:prstGeom>
            <a:solidFill>
              <a:srgbClr val="cb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143000"/>
              <a:ext cx="9144000" cy="152280"/>
            </a:xfrm>
            <a:prstGeom prst="rect">
              <a:avLst/>
            </a:prstGeom>
            <a:solidFill>
              <a:srgbClr val="e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Reunion%20Distribuidores%20imagenes" descr=""/>
            <p:cNvPicPr/>
            <p:nvPr/>
          </p:nvPicPr>
          <p:blipFill>
            <a:blip r:embed="rId1"/>
            <a:stretch/>
          </p:blipFill>
          <p:spPr>
            <a:xfrm>
              <a:off x="4691160" y="762120"/>
              <a:ext cx="4452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BAS%20MARCA%20DE%20AGUA2.ps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514600" cy="11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5076720" y="3352680"/>
            <a:ext cx="3816360" cy="3213360"/>
            <a:chOff x="5076720" y="3352680"/>
            <a:chExt cx="3816360" cy="3213360"/>
          </a:xfrm>
        </p:grpSpPr>
        <p:sp>
          <p:nvSpPr>
            <p:cNvPr id="82" name=""/>
            <p:cNvSpPr/>
            <p:nvPr/>
          </p:nvSpPr>
          <p:spPr>
            <a:xfrm>
              <a:off x="5076720" y="3610080"/>
              <a:ext cx="3816360" cy="29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200" spc="-1" strike="noStrike">
                  <a:solidFill>
                    <a:srgbClr val="3333cc"/>
                  </a:solidFill>
                  <a:latin typeface="Gill Sans"/>
                </a:rPr>
                <a:t>Importan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Man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Comunicar nuevas prest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Pantallas de ayu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Sistema de ventas /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condiciones de p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76720" y="3352680"/>
              <a:ext cx="3780000" cy="32133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6320" y="2006640"/>
            <a:ext cx="4643280" cy="4321080"/>
            <a:chOff x="76320" y="2006640"/>
            <a:chExt cx="4643280" cy="4321080"/>
          </a:xfrm>
        </p:grpSpPr>
        <p:sp>
          <p:nvSpPr>
            <p:cNvPr id="85" name=""/>
            <p:cNvSpPr/>
            <p:nvPr/>
          </p:nvSpPr>
          <p:spPr>
            <a:xfrm>
              <a:off x="457200" y="2143080"/>
              <a:ext cx="3816360" cy="38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200" spc="-1" strike="noStrike">
                  <a:solidFill>
                    <a:srgbClr val="3333cc"/>
                  </a:solidFill>
                  <a:latin typeface="Gill Sans"/>
                </a:rPr>
                <a:t>Muy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200" spc="-1" strike="noStrike">
                  <a:solidFill>
                    <a:srgbClr val="3333cc"/>
                  </a:solidFill>
                  <a:latin typeface="Gill Sans"/>
                </a:rPr>
                <a:t>Importan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Confiabilidad / facilidad de uso / versatilidad del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Asistencia Téc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Desarrollo de nuevas prestaciones / actuali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Gill Sans"/>
                </a:rPr>
                <a:t>Comunicación con la empre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320" y="2006640"/>
              <a:ext cx="4643280" cy="4321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971800" y="1752480"/>
            <a:ext cx="7761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rvicios más valo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mpromiso" descr=""/>
          <p:cNvPicPr/>
          <p:nvPr/>
        </p:nvPicPr>
        <p:blipFill>
          <a:blip r:embed="rId1"/>
          <a:stretch/>
        </p:blipFill>
        <p:spPr>
          <a:xfrm>
            <a:off x="914400" y="2957400"/>
            <a:ext cx="800100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eunion%20Distribuidores%20imagenes" descr=""/>
          <p:cNvPicPr/>
          <p:nvPr/>
        </p:nvPicPr>
        <p:blipFill>
          <a:blip r:embed="rId2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BAS%20MARCA%20DE%20AGUA2.psd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pic>
        <p:nvPicPr>
          <p:cNvPr id="93" name="muñequito" descr=""/>
          <p:cNvPicPr/>
          <p:nvPr/>
        </p:nvPicPr>
        <p:blipFill>
          <a:blip r:embed="rId4"/>
          <a:stretch/>
        </p:blipFill>
        <p:spPr>
          <a:xfrm>
            <a:off x="838080" y="1662120"/>
            <a:ext cx="63439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7010640" cy="497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3440" y="327672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an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pic>
        <p:nvPicPr>
          <p:cNvPr id="104" name="RTE" descr=""/>
          <p:cNvPicPr/>
          <p:nvPr/>
        </p:nvPicPr>
        <p:blipFill>
          <a:blip r:embed="rId3"/>
          <a:stretch/>
        </p:blipFill>
        <p:spPr>
          <a:xfrm>
            <a:off x="587520" y="1600200"/>
            <a:ext cx="78706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H="1" flipV="1" rot="16200000">
            <a:off x="4000320" y="-4001400"/>
            <a:ext cx="1143000" cy="9144000"/>
          </a:xfrm>
          <a:prstGeom prst="rect">
            <a:avLst/>
          </a:prstGeom>
          <a:solidFill>
            <a:srgbClr val="cb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e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eunion%20Distribuidores%20imagenes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45284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BAS%20MARCA%20DE%20AGUA2.psd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00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1880" y="2684520"/>
            <a:ext cx="82202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04:29Z</dcterms:created>
  <dc:creator>egbarberis</dc:creator>
  <dc:description/>
  <dc:language>en-US</dc:language>
  <cp:lastModifiedBy>C.P.C.E.C.A.B.A.</cp:lastModifiedBy>
  <dcterms:modified xsi:type="dcterms:W3CDTF">2006-05-11T17:45:03Z</dcterms:modified>
  <cp:revision>27</cp:revision>
  <dc:subject/>
  <dc:title>Presentación de PowerPoint</dc:title>
</cp:coreProperties>
</file>