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7080" y="326880"/>
            <a:ext cx="6226200" cy="467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8760" y="5326200"/>
            <a:ext cx="5551560" cy="3908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9559800"/>
            <a:ext cx="65390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AF0BDE6-F92C-4027-A759-1E56E0B8BF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7800" y="4670280"/>
            <a:ext cx="532620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 respecto a la aplicación de clase mundial, Sap provee al empleado herramientas que le permiten potenciarse logrando una mayor productividad en su puesto de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p provee en sus soluciones las mejores practicas del mercado adaptadas a cada una de las industrias, brindando integración y colaboración con su e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solución de Negocios SAP permite obtener los mas bajos costos de propiedad gracias a su escalabilidad, integración, soporte premium y la mayor oferta de consultores certificados del el mercado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7800" y="4670280"/>
            <a:ext cx="532620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 respecto a la aplicación de clase mundial, Sap provee al empleado herramientas que le permiten potenciarse logrando una mayor productividad en su puesto de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p provee en sus soluciones las mejores practicas del mercado adaptadas a cada una de las industrias, brindando integración y colaboración con su e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solución de Negocios SAP permite obtener los mas bajos costos de propiedad gracias a su escalabilidad, integración, soporte premium y la mayor oferta de consultores certificados del el mercado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7800" y="4670280"/>
            <a:ext cx="532620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destacar los logros de SAP , podamos resaltar su gran cantidad de instalaciones, las mas de 36000 compañías que confiaron sus procesos de negocios en SAP, y fundamentalmente la red de Socios de Negocios con que el mercado puede contar para llevar adelante una implementación exitosa de S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7800" y="4670280"/>
            <a:ext cx="532620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 respecto a la aplicación de clase mundial, Sap provee al empleado herramientas que le permiten potenciarse logrando una mayor productividad en su puesto de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p provee en sus soluciones las mejores practicas del mercado adaptadas a cada una de las industrias, brindando integración y colaboración con su e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solución de Negocios SAP permite obtener los mas bajos costos de propiedad gracias a su escalabilidad, integración, soporte premium y la mayor oferta de consultores certificados del el mercado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7800" y="4670280"/>
            <a:ext cx="532620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 respecto a la aplicación de clase mundial, Sap provee al empleado herramientas que le permiten potenciarse logrando una mayor productividad en su puesto de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p provee en sus soluciones las mejores practicas del mercado adaptadas a cada una de las industrias, brindando integración y colaboración con su e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75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solución de Negocios SAP permite obtener los mas bajos costos de propiedad gracias a su escalabilidad, integración, soporte premium y la mayor oferta de consultores certificados del el mercado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96880" cy="596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96880" y="0"/>
            <a:ext cx="8547120" cy="59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03200" y="198360"/>
            <a:ext cx="193680" cy="1983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2805120" cy="3164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5120" y="0"/>
            <a:ext cx="6338880" cy="316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78240" y="1127160"/>
            <a:ext cx="326880" cy="35244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20600" y="0"/>
            <a:ext cx="6124680" cy="2671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 Black"/>
              </a:rPr>
              <a:t>Como se prepara una PyME para un cambio al ERP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2096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tIns="180000" anchor="t">
            <a:noAutofit/>
          </a:bodyPr>
          <a:p>
            <a:pPr indent="0">
              <a:lnSpc>
                <a:spcPct val="8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actores de éxito en la implementación de un ER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 Región S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río Laiol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Gerente de Proyect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98440" y="1527840"/>
            <a:ext cx="85932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4. Metodología de Implementación: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ses de implemen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cumen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eleradores: herramientas y técnicas de implemen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5. Rol fuerte de Gerenciamiento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oco en administrar el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LCANCE – TIEMPO – COSTO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Implemen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IESGO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l proyec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6. Asegurar la Transferencia de Conocimientos post proyec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yor autonomía y menos depend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 Black"/>
              </a:rPr>
              <a:t>Factores de exito para una Implementación ERP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53200" y="649440"/>
            <a:ext cx="3531960" cy="17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Preguntas…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598320"/>
          <a:ext cx="9144000" cy="53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914400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0" y="5486400"/>
            <a:ext cx="40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080" y="797040"/>
            <a:ext cx="425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0a000"/>
                </a:solidFill>
                <a:latin typeface="Arial Black"/>
              </a:rPr>
              <a:t>Gracias por su atención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511360"/>
            <a:ext cx="9144000" cy="434664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0582400">
            <a:off x="2698920" y="1628640"/>
            <a:ext cx="4679640" cy="256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582400">
            <a:off x="4397400" y="1423800"/>
            <a:ext cx="261000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río Lai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te. De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 Black"/>
              </a:rPr>
              <a:t>SAP Región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v. L N Alem 855, piso 9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orre Alem Pla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uenos Aires -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11)  4891 32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rio.laiolo@sap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www.sap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0582400">
            <a:off x="3041640" y="2960640"/>
            <a:ext cx="1442880" cy="67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55640" y="6021360"/>
            <a:ext cx="3841920" cy="39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08360" y="3962520"/>
            <a:ext cx="6335640" cy="35280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actores de éxito en la implementación de un E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53720" y="1046160"/>
            <a:ext cx="2190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08360" y="3579840"/>
            <a:ext cx="6335640" cy="35280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ySAP ERP Baseline &amp; mySAP All-In-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1880" y="3192480"/>
            <a:ext cx="6335640" cy="35280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AP 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08360" y="3962520"/>
            <a:ext cx="6335640" cy="35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tores de éxito en la implementación de un E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53720" y="1046160"/>
            <a:ext cx="2190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8360" y="3579840"/>
            <a:ext cx="6335640" cy="35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SAP ERP Baseline &amp; mySAP All-In-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01880" y="3192480"/>
            <a:ext cx="6335640" cy="35280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AP 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 Black"/>
              </a:rPr>
              <a:t>Alcanzando el éxito en tiempos actual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767120" y="2459160"/>
            <a:ext cx="44672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0a000"/>
                </a:solidFill>
                <a:latin typeface="Arial Black"/>
                <a:ea typeface="Arial"/>
              </a:rPr>
              <a:t>Tecnología de Clase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e estándares abi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sca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eg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nf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7680" y="2459160"/>
            <a:ext cx="447840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0a000"/>
                </a:solidFill>
                <a:latin typeface="Arial Black"/>
                <a:ea typeface="Arial"/>
              </a:rPr>
              <a:t>Aplicaciones de Clase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rear valor para s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xperiencia y conocimientos sobre la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ara empresas de todo tama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Mejores prácticas a nivel mun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Funcionalidad apropi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" y="1257480"/>
            <a:ext cx="4172040" cy="885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62360" y="1287360"/>
            <a:ext cx="0" cy="4442040"/>
          </a:xfrm>
          <a:prstGeom prst="line">
            <a:avLst/>
          </a:prstGeom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160" t="0" r="0" b="0"/>
          <a:stretch/>
        </p:blipFill>
        <p:spPr>
          <a:xfrm>
            <a:off x="4991040" y="1257480"/>
            <a:ext cx="4175280" cy="88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SAP en Región Sur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3520" y="1820520"/>
            <a:ext cx="8572680" cy="4027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 fontScale="99000"/>
          </a:bodyPr>
          <a:p>
            <a:pPr indent="0">
              <a:lnSpc>
                <a:spcPct val="95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0a000"/>
                </a:solidFill>
                <a:latin typeface="Arial Black"/>
              </a:rPr>
              <a:t>Resultados en SAP Región S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556 instal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428 Clientes en 20 industrias con + de 65,000 usuar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 Compañía ofrece 28 Soluciones de Industri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0a000"/>
                </a:solidFill>
                <a:latin typeface="Arial Black"/>
              </a:rPr>
              <a:t>Presentes desde el año 199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gentina, Bolivia, Chile, Paraguay y Urugu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 oficinas en Buenos Aires y Santiago de Ch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xtender sus funcionalidades competitiv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btener un mejor rendimiento sobre la inversión, a un menor costo total de propie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0a000"/>
                </a:solidFill>
                <a:latin typeface="Arial Black"/>
              </a:rPr>
              <a:t>Ecosistema de socios de nego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+ de 35 Socios de Servic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89080">
              <a:lnSpc>
                <a:spcPct val="95000"/>
              </a:lnSpc>
              <a:spcBef>
                <a:spcPts val="400"/>
              </a:spcBef>
              <a:spcAft>
                <a:spcPts val="99"/>
              </a:spcAft>
              <a:buClr>
                <a:srgbClr val="f0a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+ de 750 consultores certificad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628560"/>
            <a:ext cx="53118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08360" y="3962520"/>
            <a:ext cx="6335640" cy="35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tores de éxito en la implementación de un E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53720" y="1046160"/>
            <a:ext cx="2190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8360" y="3579840"/>
            <a:ext cx="6335640" cy="35280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ySAP ERP Baseline &amp; mySAP All-In-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01880" y="3192480"/>
            <a:ext cx="6335640" cy="35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P 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 Black"/>
              </a:rPr>
              <a:t>SAP apunta en el 2006 al mercado medio (PyME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233280" y="2509920"/>
            <a:ext cx="891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AP Región Sur obtuvo 93 nuevas cuentas en el sector PyME durante el año pasado, creció un 50% con respecto del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33% de la facturación de SAP Argentina provino del sector Py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ySAP All-in-One y mySAP ERP Baseline forman parte de la estrategia global de SAP en el sector Py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a estrategia está soportada por socios de canal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ercialización, implementación y soporte de ope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54040" y="873000"/>
            <a:ext cx="608040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08360" y="3962520"/>
            <a:ext cx="6335640" cy="35280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actores de éxito en la implementación de un E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53720" y="1046160"/>
            <a:ext cx="2190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08360" y="3579840"/>
            <a:ext cx="6335640" cy="35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SAP ERP Baseline &amp; mySAP All-In-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01880" y="3192480"/>
            <a:ext cx="6335640" cy="35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P 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 Black"/>
              </a:rPr>
              <a:t>Factores de éxito para una Implementación ERP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09600" y="1670400"/>
            <a:ext cx="8593200" cy="44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Administrar Expectativa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s cla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cance del trabajo detall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ón (stakeholders).</a:t>
            </a:r>
            <a:br>
              <a:rPr sz="1600"/>
            </a:br>
            <a:br>
              <a:rPr sz="1600"/>
            </a:b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Fuerte Sponsorship de la Dirección G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s alineados con la Dirección y el nego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NO subestimar el tamaño de un Proyecto ERP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segurar el staffing del Proyecto: recursos, dedicación, roles y responsabi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ejo del Cambio: impacto del negocio (procesos y recursos), comunicación y capaci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ingeniería de procesos: aprovechamiento de las mejores prácticas del 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89560" y="649440"/>
            <a:ext cx="3543480" cy="184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6:51:03Z</dcterms:created>
  <dc:creator/>
  <dc:description/>
  <dc:language>en-US</dc:language>
  <cp:lastModifiedBy>C.P.C.E.C.A.B.A.</cp:lastModifiedBy>
  <dcterms:modified xsi:type="dcterms:W3CDTF">2006-05-11T18:16:44Z</dcterms:modified>
  <cp:revision>340</cp:revision>
  <dc:subject/>
  <dc:title>Cont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9245720</vt:r8>
  </property>
  <property fmtid="{D5CDD505-2E9C-101B-9397-08002B2CF9AE}" pid="3" name="_AuthorEmail">
    <vt:lpwstr>lis.grandinetti@sap.com</vt:lpwstr>
  </property>
  <property fmtid="{D5CDD505-2E9C-101B-9397-08002B2CF9AE}" pid="4" name="_AuthorEmailDisplayName">
    <vt:lpwstr>Grandinetti, Lis</vt:lpwstr>
  </property>
  <property fmtid="{D5CDD505-2E9C-101B-9397-08002B2CF9AE}" pid="5" name="_EmailSubject">
    <vt:lpwstr>Presentación de SAP Dario Laiolo</vt:lpwstr>
  </property>
  <property fmtid="{D5CDD505-2E9C-101B-9397-08002B2CF9AE}" pid="6" name="_NewReviewCycle">
    <vt:lpwstr/>
  </property>
  <property fmtid="{D5CDD505-2E9C-101B-9397-08002B2CF9AE}" pid="7" name="_PreviousAdHocReviewCycleID">
    <vt:r8>192328000</vt:r8>
  </property>
</Properties>
</file>