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5CD-2118-49BC-8E2A-0D5F47A5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0AF-8257-4706-9B3E-8F78E960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A94-66C1-4091-B001-C0707060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80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778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982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380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778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716-0A56-4811-8296-B5B30F8D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BEAC-7702-4408-90F4-B9057F06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3E6-BAC9-4A88-A61E-1B8AA4B5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3C45-CCBA-4180-A30B-6295EE6D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E9B3-7A82-4C5A-BCA2-6D1B1045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34C1-011A-409E-8FDB-8A7FA0D9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7F4B-E064-441B-8752-AA23702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066F-29C1-4CF5-A4BF-8AA2B53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EFD-414F-43D0-BA97-A3F80633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3362-4165-45CC-AAD3-31F37827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E784-2ABD-44BD-8DAA-97DEE609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311D-0E50-4A3B-BBE2-2E7AAFCF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DE6D-2F64-40BE-B1BC-E7E5BB3B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380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9778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982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380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9778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C1A8-0D56-4E49-9298-FC86375A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EE2-86BC-4E39-AA33-B9E819E2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5A4-6B90-4444-B4F9-7C291221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CE5-2041-4A3A-9198-B9009692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32A-B257-464A-A38E-FC3598A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914-56B4-4BFD-8F64-4EECAA5E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80E-F016-453A-A0E4-2CED989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8EB-824B-4978-A4EF-5034253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1" name=""/>
            <p:cNvSpPr/>
            <p:nvPr/>
          </p:nvSpPr>
          <p:spPr>
            <a:xfrm>
              <a:off x="1733400" y="0"/>
              <a:ext cx="8172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33400" cy="685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90576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7330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20984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598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BBF7-F69A-4CA1-A069-DE00EF4ABDD4}" type="slidenum">
              <a:rPr b="0" lang="en-US" sz="1400" spc="-1" strike="noStrike">
                <a:solidFill>
                  <a:srgbClr val="9966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46" name=""/>
            <p:cNvSpPr/>
            <p:nvPr/>
          </p:nvSpPr>
          <p:spPr>
            <a:xfrm>
              <a:off x="1733400" y="0"/>
              <a:ext cx="8172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733400" cy="685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90576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16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292640" y="6400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65D-3B86-47E7-8D1B-0845885ACBF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c1c1c"/>
                </a:solidFill>
                <a:latin typeface="Tahoma"/>
              </a:rPr>
              <a:t>PROCESOS Y CERTIFICACIÓN DE LA CALIDAD. UN ENFOQUE PRÁCTICO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98280" y="1752120"/>
            <a:ext cx="7512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60036"/>
                </a:solidFill>
                <a:latin typeface="Tahoma"/>
              </a:rPr>
              <a:t>PRESENTACIÓN EN EL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60036"/>
                </a:solidFill>
                <a:latin typeface="Tahoma"/>
              </a:rPr>
              <a:t>3° CONGRESO DE TI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Consejo Profesional de Ciencias Económicas de la Ciudad de Buenos Aire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Por Alejandro González Escudero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mailto:alejandro@alejandrogonzalez.com.ar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10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de mayo de 2006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1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Buenos Aires, Argentin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1CB-4B53-498E-B68D-AC71858F81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GESTIÓN DE RECURSO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67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La organización debe asegura provisión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or parte de proveed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Recursos human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Infraestructura: edificios, hard, soft, servicios de apoy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30840" y="1981080"/>
            <a:ext cx="367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Deben efectuarse revisiones sobre controles de calidad de los proveed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Hacer capacitación y documentar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9C6-C7DB-4ED0-B826-9C3882EAE0E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PROCESOS OPERATIVO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9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La norma requiere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lanificar su realizac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nocer requerimientos de clientes, en la entrega y posteriore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Requisitos normativos y de buen us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rocedimiento de compra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3760" y="1295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stablecer controles de calidad en producto y en proceso ¿qué técnica emplear?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Diseño y desarrollo, ¿cómo hacerlo?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stablecer compra, producción o servicio, criterios de aceptación del product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001-DC3D-41A1-876C-EBF9326A78E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PROCESOS OPERATIVOS (cont)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9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La norma incluye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Identificación y trazabil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uidado de la propiedad del client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reservación del producto a través de la logística de distribuc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Herramientas para trazabil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¿Cómo asegurar calidad en la cadena logística?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C95-37B7-4669-9A87-7573C0BEF80C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MEDICIÓN Y CONTROL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413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Documentar evidencia de que los productos satisfacen los requerimient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Los resultados de las mediciones se muestran con: Gráficos de control, diagramas de Pareto, histogramas, análisis de dispersión y correlac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5000" y="1143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Instrumental de medición también debe calibrarse y controlars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rocedimiento para tratar no conformidad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Acciones correctiv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Acciones preventiv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B1D-340F-483D-9159-B69DA6062B91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MEDICIÓN Y CONTROL (cont)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Norma pide medir la satisfacción del client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74320" indent="-2743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ero, esa medida es más subjetiva porque en ella la calidad se vuelve una expectativ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74320" indent="-2743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Variables interrelacionada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74320" indent="-2743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recio, diseño, marca, marketing, diferenciación, servicio postvent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74320" indent="-2743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Buscar la mejora continua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14640" y="1143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ultura” de la calidad en el personal y en proveed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Mediciones cuantitativas no deben afectar aspectos cualitativ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Trabajo en equip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842-475D-47C3-BCA7-5A3530DE11B7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MANTENIMIENTO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La norma requiere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Auditar internamente que el sistema funcion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Monitorear los proceso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Monitorear product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Analizar datos: Satisfacción cliente, conformidad productos, tendencias, acciones preventiv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90960" y="1295280"/>
            <a:ext cx="367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Auditor (aún interno) debe ser independiente. No revisa su propio trabaj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Mantener evidencia de los controles y de la conformidad de los product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03B-B76D-4C4B-94DA-26F2FB0DA8E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CERTIFICACIÓN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ntidades certificantes realizan auditorías para aprobación y luego mantenimiento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xtienden un certificado que indica que el proceso cumple con la norma y la vigencia temporal de la certificac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38680" y="10666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 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Las entidades certificantes acreditan su condición en el OA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l sistema de certificación-acreditación puede reemplazar a los organismos regulad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062-10E7-401F-9C1C-2C8793A41E5B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c1c1c"/>
                </a:solidFill>
                <a:latin typeface="Tahoma"/>
              </a:rPr>
              <a:t>PRODUCCIÓN VS. SERVICIO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7512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En producción de bienes es más efectiva la supervisión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Muchos servicios se dan en “tiempo real”, hay muchos puntos de contacto con el cliente, entonces, no pueden ser supervisados en su totalidad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En producción, se detectan fallas interna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En los servicios en “tiempo real”, las fallas directamente las recibe el cliente, son externa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os servicios post venta y de garantía ayudan a descubrir fallas externa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En servicios, solamente si hay reclamo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003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CF0-1F61-4791-9F78-10953B6F54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c1c1c"/>
                </a:solidFill>
                <a:latin typeface="Tahoma"/>
              </a:rPr>
              <a:t>COSTO-BENEFICIO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5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Hay costos de implantación: Diseño del sistema, capacitación y prueb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Generalmente, parte interna y extern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Hay costos de certificación: A la entidad certificant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Hay costos de mantenimiento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Interno y auditorías periódica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ISO no contempla resultados económico financieros. Premios a la Calidad sí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a calidad cuando está establecida permite reducir costos porque se reducen fallas (“hacerlo bien la primera vez”, “cero defecto”) y porque reduce la necesidad de supervisión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0036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740-F1DA-4165-91A6-B093302028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c1c1c"/>
                </a:solidFill>
                <a:latin typeface="Tahoma"/>
              </a:rPr>
              <a:t>CALIDAD Y TI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Software para control de cal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Software para normas de cal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Módulos en ERP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Dificultades para obtener dat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Interfases ajustadas a cada proceso productiv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Procesamiento de datos de calidad que varían según las mediciones a realizar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Método de autodiagnóstico D-14. Ver libro “Práctica de la calidad…..”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400-D5DC-41D5-8456-4861E37E66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c1c1c"/>
                </a:solidFill>
                <a:latin typeface="Tahoma"/>
              </a:rPr>
              <a:t>ENFOQUES HACIA LA CALIDAD.</a:t>
            </a:r>
            <a:endParaRPr b="0" lang="en-US" sz="3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Calidad de diseño vs. Calidad de conform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Control estadístico de cal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Normas de calidad. Por ejemplo, Normas IS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Premios a la calidad. Por ejemplo, Premio Nacional a la Cal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Calidad desde la perspectiva de gest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Calidad, excelencia y competitiv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0B9-D1C1-4A9C-8152-11DAFA6C8E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c1c1c"/>
                </a:solidFill>
                <a:latin typeface="Tahoma"/>
              </a:rPr>
              <a:t>PARA SEGUIR LEYENDO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3716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Clásicos” de la calidad.</a:t>
            </a:r>
            <a:endParaRPr b="0" lang="en-US" sz="2800" spc="-1" strike="noStrike">
              <a:solidFill>
                <a:srgbClr val="360036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Calidad, productividad y competitividad, W. Edwards Deming, Ed. Díaz de Santos, Madrid, 1989.</a:t>
            </a:r>
            <a:endParaRPr b="0" lang="en-US" sz="2800" spc="-1" strike="noStrike">
              <a:solidFill>
                <a:srgbClr val="360036"/>
              </a:solidFill>
              <a:latin typeface="Times New Roman"/>
            </a:endParaRPr>
          </a:p>
          <a:p>
            <a:pPr marL="291600" indent="-29160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Manual de Calidad, Joseph M. </a:t>
            </a:r>
            <a:r>
              <a:rPr b="0" lang="es-AR" sz="2800" spc="-1" strike="noStrike">
                <a:solidFill>
                  <a:srgbClr val="360036"/>
                </a:solidFill>
                <a:latin typeface="Tahoma"/>
              </a:rPr>
              <a:t>Juran, 5° edición, McGraw Hill, Madrid, 2001.</a:t>
            </a:r>
            <a:endParaRPr b="0" lang="en-US" sz="2800" spc="-1" strike="noStrike">
              <a:solidFill>
                <a:srgbClr val="360036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Resumen de temas:</a:t>
            </a:r>
            <a:endParaRPr b="0" lang="en-US" sz="2800" spc="-1" strike="noStrike">
              <a:solidFill>
                <a:srgbClr val="360036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Práctica de la calidad para la gestión de excelencia, Avedisian, Castillo, Chahin, Ferrari y González Escudero, Editorial del Consejo, Buenos Aires, 2006.</a:t>
            </a:r>
            <a:endParaRPr b="0" lang="en-US" sz="2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BAA-3CDF-4EA3-8DDC-D17B405328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alidad y relación producción/mercado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27160" y="1751040"/>
          <a:ext cx="698976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751040"/>
                    <a:ext cx="698976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8E4-8B6D-4F55-A77F-C090C58659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c1c1c"/>
                </a:solidFill>
                <a:latin typeface="Tahoma"/>
              </a:rPr>
              <a:t>PRINCIPIOS DE GESTIÓN DE LA CALIDAD EN LAS NORMAS ISO 9000 (ver ISO 9004:2000, 4.3).</a:t>
            </a:r>
            <a:endParaRPr b="0" lang="en-US" sz="4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Enfoque al client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Liderazg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Compromiso del personal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Enfoque basado en proces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Enfoque de sistema para la gest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Mejora continu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Basarse en hechos para tomar decision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Relaciones de beneficio mutuo con proveed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0F4-53B2-4DF1-80DF-22A135F7BA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ELEGIR PROCESOS PRODUCTIVOS A CERTIFICAR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89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riterios para elegir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rincipales para la organizac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Requerimientos de client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xigencias para acceder a mercado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30840" y="1981080"/>
            <a:ext cx="367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No incluye funciones comerciales, apoyo o backoffic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¿Requiere la mejor tecnología, cuidado medio ambiente, responsabilidad social? 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459-DF42-41F3-8807-39BA71FD308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SISTEMA DE GESTIÓN DE LA CALIDAD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89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l sistema asegura,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nocimiento de los proces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stándares a cumplir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Medición y control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Acciones correctiv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Documentación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30840" y="1981080"/>
            <a:ext cx="367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Sistema en cualquier format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lementos: Política calidad, objetivos, manual, procedimientos, registros de control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008-B9DF-49DD-A0FB-B54D96E147C5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DOCUMENTACIÓN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4273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Según la norma, los documentos deben controlars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Elementos: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Título e identificació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Alcance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Descripción: códigos, acciones, responsables, frecuenci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Aprobación: responsable, fech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Comunicación y distribución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Disponibilidad y utilización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5880" y="1295280"/>
            <a:ext cx="339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quilibrio entre rigidez y flexibilidad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ntre formalismo y efectiv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¿Los sistemas de calidad son “burocráticos”?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152-98A5-4D3E-BC2D-4987967DC68F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DOCUMENTACIÓN (cont.)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98280" y="1447560"/>
            <a:ext cx="4273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Revisión: responsable y frecuenci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Identificación documentos externo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Resguardo de versiones anteriore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Registro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60036"/>
                </a:solidFill>
                <a:latin typeface="Tahoma"/>
              </a:rPr>
              <a:t>Evidencia de que el sistema de calidad funciona, incluyendo controles realizados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19560" y="1981080"/>
            <a:ext cx="339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 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vitar que los procesos cambien y no lo reflejen los document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3D1-27F3-43C3-BFA3-22AD43E8E551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1c1c1c"/>
                </a:solidFill>
                <a:latin typeface="Tahoma"/>
              </a:rPr>
              <a:t>COMPROMISO DE LA DIRECCIÓN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67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Implica fijar la política de calidad y los objetivos de la cal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nfocada al client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unicar y participar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Proveer recurs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Revisar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5000" y="1371600"/>
            <a:ext cx="367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Comentarios prácticos: 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vitar que políticas sean solo buenas intencion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Objetivos deben ser medibl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El compromiso de la dirección “creíble”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60036"/>
                </a:solidFill>
                <a:latin typeface="Tahoma"/>
              </a:rPr>
              <a:t>Recursos disponibl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OS Y CERTIF. DE LA CALIDAD..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55C-C290-4C6F-9274-6276A9D73AF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5/2006</a:t>
            </a: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3:21:04Z</dcterms:created>
  <dc:creator>Alejandro González Escudero.</dc:creator>
  <dc:description>para presentar en la Universidad de La Matanza.</dc:description>
  <dc:language>en-US</dc:language>
  <cp:lastModifiedBy>C.P.C.E.C.A.B.A.</cp:lastModifiedBy>
  <cp:lastPrinted>2002-10-18T19:20:42Z</cp:lastPrinted>
  <dcterms:modified xsi:type="dcterms:W3CDTF">2006-05-10T19:07:09Z</dcterms:modified>
  <cp:revision>50</cp:revision>
  <dc:subject/>
  <dc:title>Calidad en el management actual</dc:title>
</cp:coreProperties>
</file>