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383A-92E2-4479-87EE-EF59BC755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e009e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229600" cy="162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e009e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" y="4564080"/>
            <a:ext cx="8229600" cy="162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e009e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B61E-C0E2-4F5B-B43D-59A0507A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e009e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4015800" cy="162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e009e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2781000"/>
            <a:ext cx="4015800" cy="162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e009e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4564080"/>
            <a:ext cx="4015800" cy="162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e009e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5400" y="4564080"/>
            <a:ext cx="4015800" cy="162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e009e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97C5-A609-4DC7-B727-E84AB46C2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e009e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2649600" cy="162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e009e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50800" y="2781000"/>
            <a:ext cx="2649600" cy="162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e009e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33240" y="2781000"/>
            <a:ext cx="2649600" cy="162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e009e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8360" y="4564080"/>
            <a:ext cx="2649600" cy="162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e009e"/>
              </a:solidFill>
              <a:latin typeface="Trebuchet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50800" y="4564080"/>
            <a:ext cx="2649600" cy="162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e009e"/>
              </a:solidFill>
              <a:latin typeface="Trebuchet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33240" y="4564080"/>
            <a:ext cx="2649600" cy="162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e009e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A694-FA1D-4D1D-80BD-99E97BD7F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e009e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68360" y="278100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e009e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03AF-3D04-4473-A85B-D910315E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e009e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e009e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1FEB-E17B-4DE3-AB49-A83B9BF5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e009e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40158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e009e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2781000"/>
            <a:ext cx="40158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e009e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6C26-F8DE-4820-B6F7-99DA45A0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e009e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7806-C605-4B7A-B02D-3BFA3D51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95280" y="1341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e009e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B3A6-C9E8-487C-87B3-64B300D7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e009e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4015800" cy="162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e009e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2781000"/>
            <a:ext cx="40158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e009e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4564080"/>
            <a:ext cx="4015800" cy="162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e009e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BA5A-D632-48A4-A462-EE95B959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e009e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40158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e009e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2781000"/>
            <a:ext cx="4015800" cy="162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e009e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5400" y="4564080"/>
            <a:ext cx="4015800" cy="162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e009e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6159-AFC4-4914-AEEB-84E6678F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e009e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4015800" cy="162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e009e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2781000"/>
            <a:ext cx="4015800" cy="162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e009e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4564080"/>
            <a:ext cx="8229600" cy="162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e009e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8E9B-5BAD-4BD7-9D37-5EFD49A1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e009e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5e009e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78100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e009e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e009e"/>
                </a:solidFill>
                <a:latin typeface="Trebuchet MS"/>
              </a:rPr>
              <a:t>Click to edit the outline text format</a:t>
            </a:r>
            <a:endParaRPr b="1" lang="en-US" sz="2400" spc="-1" strike="noStrike">
              <a:solidFill>
                <a:srgbClr val="5e009e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5e009e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e009e"/>
                </a:solidFill>
                <a:latin typeface="Trebuchet MS"/>
              </a:rPr>
              <a:t>Second Outline Level</a:t>
            </a:r>
            <a:endParaRPr b="1" lang="en-US" sz="2400" spc="-1" strike="noStrike">
              <a:solidFill>
                <a:srgbClr val="5e009e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5e009e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e009e"/>
                </a:solidFill>
                <a:latin typeface="Trebuchet MS"/>
              </a:rPr>
              <a:t>Third Outline Level</a:t>
            </a:r>
            <a:endParaRPr b="1" lang="en-US" sz="2400" spc="-1" strike="noStrike">
              <a:solidFill>
                <a:srgbClr val="5e009e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5e009e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e009e"/>
                </a:solidFill>
                <a:latin typeface="Trebuchet MS"/>
              </a:rPr>
              <a:t>Fourth Outline Level</a:t>
            </a:r>
            <a:endParaRPr b="1" lang="en-US" sz="2400" spc="-1" strike="noStrike">
              <a:solidFill>
                <a:srgbClr val="5e009e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5e009e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e009e"/>
                </a:solidFill>
                <a:latin typeface="Trebuchet MS"/>
              </a:rPr>
              <a:t>Fifth Outline Level</a:t>
            </a:r>
            <a:endParaRPr b="1" lang="en-US" sz="2400" spc="-1" strike="noStrike">
              <a:solidFill>
                <a:srgbClr val="5e009e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e009e"/>
                </a:solidFill>
                <a:latin typeface="Trebuchet MS"/>
              </a:rPr>
              <a:t>Sixth Outline Level</a:t>
            </a:r>
            <a:endParaRPr b="1" lang="en-US" sz="2400" spc="-1" strike="noStrike">
              <a:solidFill>
                <a:srgbClr val="5e009e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e009e"/>
                </a:solidFill>
                <a:latin typeface="Trebuchet MS"/>
              </a:rPr>
              <a:t>Seventh Outline Level</a:t>
            </a:r>
            <a:endParaRPr b="1" lang="en-US" sz="2400" spc="-1" strike="noStrike">
              <a:solidFill>
                <a:srgbClr val="5e009e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2F66-A4A1-42C8-A88D-8EACC24ECC2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93680" cy="6899400"/>
            <a:chOff x="0" y="0"/>
            <a:chExt cx="9193680" cy="689940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6200640"/>
              <a:ext cx="9144000" cy="6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554520" y="6521040"/>
              <a:ext cx="263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rebuchet MS"/>
                  <a:ea typeface="Times New Roman"/>
                </a:rPr>
                <a:t> </a:t>
              </a:r>
              <a:r>
                <a:rPr b="0" lang="en-US" sz="800" spc="-1" strike="noStrike">
                  <a:solidFill>
                    <a:srgbClr val="808080"/>
                  </a:solidFill>
                  <a:latin typeface="Trebuchet MS"/>
                  <a:ea typeface="Times New Roman"/>
                </a:rPr>
                <a:t>VeloCom Argentina S.A. | Tel.: +54.11 4103-13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rebuchet MS"/>
                  <a:ea typeface="Times New Roman"/>
                </a:rPr>
                <a:t>San Martin 640 (C1004AAN) | www.velocom.com.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807320" y="6021360"/>
              <a:ext cx="138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777777"/>
                  </a:solidFill>
                  <a:latin typeface="Trebuchet MS"/>
                </a:rPr>
                <a:t>Mayo de 20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" name="" descr=""/>
            <p:cNvPicPr/>
            <p:nvPr/>
          </p:nvPicPr>
          <p:blipFill>
            <a:blip r:embed="rId4"/>
            <a:stretch/>
          </p:blipFill>
          <p:spPr>
            <a:xfrm>
              <a:off x="179280" y="85680"/>
              <a:ext cx="2160720" cy="6732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image" Target="../media/image18.png"/><Relationship Id="rId9" Type="http://schemas.openxmlformats.org/officeDocument/2006/relationships/image" Target="../media/image19.jpe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95240" y="4027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e009e"/>
                </a:solidFill>
                <a:latin typeface="Trebuchet MS"/>
              </a:rPr>
              <a:t>VeloCom WiMAX</a:t>
            </a:r>
            <a:endParaRPr b="1" lang="en-US" sz="4400" spc="-1" strike="noStrike">
              <a:solidFill>
                <a:srgbClr val="5e009e"/>
              </a:solidFill>
              <a:latin typeface="Trebuchet MS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2403360"/>
            <a:ext cx="8406000" cy="16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333399"/>
                </a:solidFill>
                <a:latin typeface="Trebuchet MS"/>
              </a:rPr>
              <a:t>Comunicaciones inalámbricas: Potencialidades y debilidad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2040" y="5238720"/>
            <a:ext cx="333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e009e"/>
                </a:solidFill>
                <a:latin typeface="Trebuchet MS"/>
              </a:rPr>
              <a:t>Ariel Di Stefano</a:t>
            </a:r>
            <a:br>
              <a:rPr sz="2000"/>
            </a:br>
            <a:r>
              <a:rPr b="1" lang="en-US" sz="2000" spc="-1" strike="noStrike">
                <a:solidFill>
                  <a:srgbClr val="5e009e"/>
                </a:solidFill>
                <a:latin typeface="Trebuchet MS"/>
              </a:rPr>
              <a:t>ariel.distefano@datco.net</a:t>
            </a:r>
            <a:br>
              <a:rPr sz="2000"/>
            </a:br>
            <a:r>
              <a:rPr b="1" lang="en-US" sz="2000" spc="-1" strike="noStrike">
                <a:solidFill>
                  <a:srgbClr val="5e009e"/>
                </a:solidFill>
                <a:latin typeface="Trebuchet MS"/>
              </a:rPr>
              <a:t>Gerente de Marketing</a:t>
            </a:r>
            <a:br>
              <a:rPr sz="2000"/>
            </a:br>
            <a:r>
              <a:rPr b="1" lang="en-US" sz="2000" spc="-1" strike="noStrike">
                <a:solidFill>
                  <a:srgbClr val="5e009e"/>
                </a:solidFill>
                <a:latin typeface="Trebuchet MS"/>
              </a:rPr>
              <a:t>VeloCom Argenti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8360" y="1206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e009e"/>
                </a:solidFill>
                <a:latin typeface="Trebuchet MS"/>
              </a:rPr>
              <a:t>III Congreso T.I.</a:t>
            </a:r>
            <a:br>
              <a:rPr sz="4400"/>
            </a:br>
            <a:r>
              <a:rPr b="1" lang="en-US" sz="4400" spc="-1" strike="noStrike">
                <a:solidFill>
                  <a:srgbClr val="5e009e"/>
                </a:solidFill>
                <a:latin typeface="Trebuchet MS"/>
              </a:rPr>
              <a:t>CPCE de la </a:t>
            </a:r>
            <a:r>
              <a:rPr b="1" lang="es-ES" sz="4400" spc="-1" strike="noStrike">
                <a:solidFill>
                  <a:srgbClr val="5e009e"/>
                </a:solidFill>
                <a:latin typeface="Trebuchet MS"/>
              </a:rPr>
              <a:t>C.A.B.A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e009e"/>
                </a:solidFill>
                <a:latin typeface="Trebuchet MS"/>
              </a:rPr>
              <a:t>Agenda</a:t>
            </a:r>
            <a:endParaRPr b="1" lang="en-US" sz="4400" spc="-1" strike="noStrike">
              <a:solidFill>
                <a:srgbClr val="5e009e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26840" y="2573280"/>
            <a:ext cx="8321400" cy="32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  <a:ea typeface="Arial"/>
              </a:rPr>
              <a:t>¿Que es WiMAX?</a:t>
            </a:r>
            <a:endParaRPr b="1" lang="en-US" sz="2400" spc="-1" strike="noStrike">
              <a:solidFill>
                <a:srgbClr val="5e009e"/>
              </a:solidFill>
              <a:latin typeface="Trebuchet MS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  <a:ea typeface="Arial"/>
              </a:rPr>
              <a:t>Beneficios de WiMAX</a:t>
            </a:r>
            <a:endParaRPr b="1" lang="en-US" sz="2400" spc="-1" strike="noStrike">
              <a:solidFill>
                <a:srgbClr val="5e009e"/>
              </a:solidFill>
              <a:latin typeface="Trebuchet MS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  <a:ea typeface="Arial"/>
              </a:rPr>
              <a:t>Video Presentación VeloCom WiMAX</a:t>
            </a:r>
            <a:endParaRPr b="1" lang="en-US" sz="2400" spc="-1" strike="noStrike">
              <a:solidFill>
                <a:srgbClr val="5e009e"/>
              </a:solidFill>
              <a:latin typeface="Trebuchet MS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  <a:ea typeface="Arial"/>
              </a:rPr>
              <a:t>Esquema de Conectividad Típico</a:t>
            </a:r>
            <a:endParaRPr b="1" lang="en-US" sz="2400" spc="-1" strike="noStrike">
              <a:solidFill>
                <a:srgbClr val="5e009e"/>
              </a:solidFill>
              <a:latin typeface="Trebuchet MS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Verdana"/>
                <a:ea typeface="Arial"/>
              </a:rPr>
              <a:t>Caso de Éxito: </a:t>
            </a:r>
            <a:endParaRPr b="1" lang="en-US" sz="2400" spc="-1" strike="noStrike">
              <a:solidFill>
                <a:srgbClr val="5e009e"/>
              </a:solidFill>
              <a:latin typeface="Trebuchet MS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Verdana"/>
                <a:ea typeface="Arial"/>
              </a:rPr>
              <a:t>	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  <a:ea typeface="Arial"/>
              </a:rPr>
              <a:t>Despliegue red VeloCom WiMAX</a:t>
            </a:r>
            <a:endParaRPr b="1" lang="en-US" sz="2400" spc="-1" strike="noStrike">
              <a:solidFill>
                <a:srgbClr val="5e009e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7800" y="2627280"/>
            <a:ext cx="859176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rebuchet MS"/>
              </a:rPr>
              <a:t>Es una nueva tecnología de acceso wireless de banda ancha basada en estándares (IEEE 802.16)</a:t>
            </a:r>
            <a:r>
              <a:rPr b="1" lang="es-ES" sz="2000" spc="-1" strike="noStrike">
                <a:solidFill>
                  <a:srgbClr val="333399"/>
                </a:solidFill>
                <a:latin typeface="Trebuchet MS"/>
              </a:rPr>
              <a:t>.</a:t>
            </a:r>
            <a:endParaRPr b="1" lang="en-US" sz="2000" spc="-1" strike="noStrike">
              <a:solidFill>
                <a:srgbClr val="5e009e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99"/>
                </a:solidFill>
                <a:latin typeface="Trebuchet MS"/>
              </a:rPr>
              <a:t>Desarrollada por empresas que cooperan en el WiMAX Forum, entre quiénes se encuentran: INTEL, Motorola, Samsung, AT&amp;T, Alvarion, Fujitsu, Aperto y otras 300 compañías.</a:t>
            </a:r>
            <a:endParaRPr b="1" lang="en-US" sz="2000" spc="-1" strike="noStrike">
              <a:solidFill>
                <a:srgbClr val="5e009e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AR" sz="2000" spc="-1" strike="noStrike">
                <a:solidFill>
                  <a:srgbClr val="333399"/>
                </a:solidFill>
                <a:latin typeface="Trebuchet MS"/>
              </a:rPr>
              <a:t>Esta estandarización, permitirá contar con dispositivos móviles con costos accesibles y mayor penetración de dicha tecnología en la vida cotidiana.</a:t>
            </a:r>
            <a:endParaRPr b="1" lang="en-US" sz="2000" spc="-1" strike="noStrike">
              <a:solidFill>
                <a:srgbClr val="5e009e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99"/>
                </a:solidFill>
                <a:latin typeface="Trebuchet MS"/>
              </a:rPr>
              <a:t>Soluciona y complementa las necesidades no cubiertas por WIFI (ancho de banda, alcance, portabilidad)</a:t>
            </a:r>
            <a:endParaRPr b="1" lang="en-US" sz="2000" spc="-1" strike="noStrike">
              <a:solidFill>
                <a:srgbClr val="5e009e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Mas información: http://www.wimaxforum.org/technology/faq/</a:t>
            </a:r>
            <a:endParaRPr b="1" lang="en-US" sz="2000" spc="-1" strike="noStrike">
              <a:solidFill>
                <a:srgbClr val="5e009e"/>
              </a:solidFill>
              <a:latin typeface="Trebuchet MS"/>
            </a:endParaRPr>
          </a:p>
        </p:txBody>
      </p:sp>
      <p:sp>
        <p:nvSpPr>
          <p:cNvPr id="54" name=""/>
          <p:cNvSpPr/>
          <p:nvPr/>
        </p:nvSpPr>
        <p:spPr>
          <a:xfrm>
            <a:off x="758880" y="836640"/>
            <a:ext cx="770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rebuchet MS"/>
              </a:rPr>
              <a:t>¿Que es WiMA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78040" y="1916280"/>
            <a:ext cx="765792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WIMAX (World Interoperability for Microwave Acces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050480"/>
            <a:ext cx="822960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rebuchet MS"/>
              </a:rPr>
              <a:t>Beneficios de WiMAX</a:t>
            </a:r>
            <a:endParaRPr b="1" lang="en-US" sz="4400" spc="-1" strike="noStrike">
              <a:solidFill>
                <a:srgbClr val="5e009e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1120" y="1846080"/>
            <a:ext cx="87328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rebuchet MS"/>
              </a:rPr>
              <a:t>Permite transferencias de hasta 10 Mbps, alcanzando distancias de hasta 40 km desde la radio base.</a:t>
            </a:r>
            <a:endParaRPr b="1" lang="en-US" sz="2400" spc="-1" strike="noStrike">
              <a:solidFill>
                <a:srgbClr val="5e009e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rebuchet MS"/>
              </a:rPr>
              <a:t>No necesita línea de vista con la radio base, y permite cubrir zonas alejadas.</a:t>
            </a:r>
            <a:endParaRPr b="1" lang="en-US" sz="2400" spc="-1" strike="noStrike">
              <a:solidFill>
                <a:srgbClr val="5e009e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99"/>
                </a:solidFill>
                <a:latin typeface="Trebuchet MS"/>
              </a:rPr>
              <a:t>Reduce costos y tiempos de instalación e implementación.</a:t>
            </a:r>
            <a:endParaRPr b="1" lang="en-US" sz="2400" spc="-1" strike="noStrike">
              <a:solidFill>
                <a:srgbClr val="5e009e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rebuchet MS"/>
              </a:rPr>
              <a:t>Permite garantizar calidad de servicio. (CIR)</a:t>
            </a:r>
            <a:endParaRPr b="1" lang="en-US" sz="2400" spc="-1" strike="noStrike">
              <a:solidFill>
                <a:srgbClr val="5e009e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rebuchet MS"/>
              </a:rPr>
              <a:t>Soporta aplicaciones de valor agregado (VoIP, Cámaras de Seguridad IP, IPTV, VPN).</a:t>
            </a:r>
            <a:endParaRPr b="1" lang="en-US" sz="2400" spc="-1" strike="noStrike">
              <a:solidFill>
                <a:srgbClr val="5e009e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rebuchet MS"/>
              </a:rPr>
              <a:t>A partir del 2007 (IEEE 802.16n) permitirá movilidad y portabilidad.</a:t>
            </a:r>
            <a:endParaRPr b="1" lang="en-US" sz="2400" spc="-1" strike="noStrike">
              <a:solidFill>
                <a:srgbClr val="5e009e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03440" y="2060640"/>
            <a:ext cx="775620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rebuchet MS"/>
              </a:rPr>
              <a:t>WiMAX en Acción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rebuchet MS"/>
              </a:rPr>
              <a:t>Video Presentación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rebuchet MS"/>
              </a:rPr>
              <a:t>VeloCom WiM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7640" y="9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rebuchet MS"/>
              </a:rPr>
              <a:t>Esquema de Conectividad</a:t>
            </a:r>
            <a:endParaRPr b="1" lang="en-US" sz="4400" spc="-1" strike="noStrike">
              <a:solidFill>
                <a:srgbClr val="5e009e"/>
              </a:solidFill>
              <a:latin typeface="Trebuchet M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871560" y="1916280"/>
            <a:ext cx="7841880" cy="4439880"/>
            <a:chOff x="871560" y="1916280"/>
            <a:chExt cx="7841880" cy="4439880"/>
          </a:xfrm>
        </p:grpSpPr>
        <p:grpSp>
          <p:nvGrpSpPr>
            <p:cNvPr id="61" name=""/>
            <p:cNvGrpSpPr/>
            <p:nvPr/>
          </p:nvGrpSpPr>
          <p:grpSpPr>
            <a:xfrm>
              <a:off x="7236000" y="2145600"/>
              <a:ext cx="548280" cy="1855800"/>
              <a:chOff x="7236000" y="2145600"/>
              <a:chExt cx="548280" cy="1855800"/>
            </a:xfrm>
          </p:grpSpPr>
          <p:sp>
            <p:nvSpPr>
              <p:cNvPr id="62" name=""/>
              <p:cNvSpPr/>
              <p:nvPr/>
            </p:nvSpPr>
            <p:spPr>
              <a:xfrm>
                <a:off x="7302600" y="2330280"/>
                <a:ext cx="432360" cy="1671120"/>
              </a:xfrm>
              <a:custGeom>
                <a:avLst/>
                <a:gdLst/>
                <a:ahLst/>
                <a:rect l="l" t="t" r="r" b="b"/>
                <a:pathLst>
                  <a:path w="52" h="272">
                    <a:moveTo>
                      <a:pt x="0" y="249"/>
                    </a:moveTo>
                    <a:lnTo>
                      <a:pt x="26" y="227"/>
                    </a:lnTo>
                    <a:lnTo>
                      <a:pt x="52" y="249"/>
                    </a:lnTo>
                    <a:moveTo>
                      <a:pt x="26" y="0"/>
                    </a:moveTo>
                    <a:lnTo>
                      <a:pt x="26" y="272"/>
                    </a:lnTo>
                    <a:lnTo>
                      <a:pt x="0" y="249"/>
                    </a:lnTo>
                    <a:lnTo>
                      <a:pt x="26" y="0"/>
                    </a:lnTo>
                    <a:lnTo>
                      <a:pt x="52" y="249"/>
                    </a:lnTo>
                    <a:lnTo>
                      <a:pt x="26" y="272"/>
                    </a:lnTo>
                    <a:moveTo>
                      <a:pt x="19" y="62"/>
                    </a:moveTo>
                    <a:lnTo>
                      <a:pt x="26" y="67"/>
                    </a:lnTo>
                    <a:lnTo>
                      <a:pt x="32" y="62"/>
                    </a:lnTo>
                    <a:moveTo>
                      <a:pt x="17" y="83"/>
                    </a:moveTo>
                    <a:lnTo>
                      <a:pt x="26" y="90"/>
                    </a:lnTo>
                    <a:lnTo>
                      <a:pt x="34" y="83"/>
                    </a:lnTo>
                    <a:moveTo>
                      <a:pt x="15" y="103"/>
                    </a:moveTo>
                    <a:lnTo>
                      <a:pt x="26" y="113"/>
                    </a:lnTo>
                    <a:lnTo>
                      <a:pt x="36" y="103"/>
                    </a:lnTo>
                    <a:moveTo>
                      <a:pt x="13" y="125"/>
                    </a:moveTo>
                    <a:lnTo>
                      <a:pt x="26" y="135"/>
                    </a:lnTo>
                    <a:lnTo>
                      <a:pt x="39" y="125"/>
                    </a:lnTo>
                    <a:moveTo>
                      <a:pt x="10" y="145"/>
                    </a:moveTo>
                    <a:lnTo>
                      <a:pt x="26" y="158"/>
                    </a:lnTo>
                    <a:lnTo>
                      <a:pt x="41" y="145"/>
                    </a:lnTo>
                    <a:moveTo>
                      <a:pt x="8" y="166"/>
                    </a:moveTo>
                    <a:lnTo>
                      <a:pt x="26" y="181"/>
                    </a:lnTo>
                    <a:lnTo>
                      <a:pt x="43" y="166"/>
                    </a:lnTo>
                    <a:moveTo>
                      <a:pt x="6" y="186"/>
                    </a:moveTo>
                    <a:lnTo>
                      <a:pt x="26" y="204"/>
                    </a:lnTo>
                    <a:lnTo>
                      <a:pt x="46" y="186"/>
                    </a:lnTo>
                    <a:moveTo>
                      <a:pt x="3" y="208"/>
                    </a:moveTo>
                    <a:lnTo>
                      <a:pt x="26" y="227"/>
                    </a:lnTo>
                    <a:lnTo>
                      <a:pt x="48" y="208"/>
                    </a:lnTo>
                    <a:moveTo>
                      <a:pt x="1" y="229"/>
                    </a:moveTo>
                    <a:lnTo>
                      <a:pt x="26" y="249"/>
                    </a:lnTo>
                    <a:lnTo>
                      <a:pt x="49" y="22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517880" y="2366640"/>
                <a:ext cx="26640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7236000" y="2145600"/>
                <a:ext cx="430560" cy="546120"/>
                <a:chOff x="7236000" y="2145600"/>
                <a:chExt cx="430560" cy="5461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7408800" y="2495520"/>
                  <a:ext cx="84600" cy="172800"/>
                </a:xfrm>
                <a:custGeom>
                  <a:avLst/>
                  <a:gdLst/>
                  <a:ahLst/>
                  <a:rect l="l" t="t" r="r" b="b"/>
                  <a:pathLst>
                    <a:path w="10" h="28">
                      <a:moveTo>
                        <a:pt x="1" y="5"/>
                      </a:moveTo>
                      <a:lnTo>
                        <a:pt x="5" y="0"/>
                      </a:lnTo>
                      <a:lnTo>
                        <a:pt x="8" y="5"/>
                      </a:lnTo>
                      <a:lnTo>
                        <a:pt x="10" y="22"/>
                      </a:lnTo>
                      <a:lnTo>
                        <a:pt x="5" y="28"/>
                      </a:lnTo>
                      <a:lnTo>
                        <a:pt x="0" y="22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7236000" y="2194200"/>
                  <a:ext cx="430560" cy="234000"/>
                </a:xfrm>
                <a:custGeom>
                  <a:avLst/>
                  <a:gdLst/>
                  <a:ahLst/>
                  <a:rect l="l" t="t" r="r" b="b"/>
                  <a:pathLst>
                    <a:path w="52" h="38">
                      <a:moveTo>
                        <a:pt x="19" y="38"/>
                      </a:moveTo>
                      <a:lnTo>
                        <a:pt x="6" y="37"/>
                      </a:lnTo>
                      <a:lnTo>
                        <a:pt x="13" y="30"/>
                      </a:lnTo>
                      <a:lnTo>
                        <a:pt x="0" y="30"/>
                      </a:lnTo>
                      <a:moveTo>
                        <a:pt x="52" y="30"/>
                      </a:moveTo>
                      <a:lnTo>
                        <a:pt x="39" y="38"/>
                      </a:lnTo>
                      <a:lnTo>
                        <a:pt x="43" y="28"/>
                      </a:lnTo>
                      <a:lnTo>
                        <a:pt x="29" y="38"/>
                      </a:lnTo>
                      <a:moveTo>
                        <a:pt x="26" y="34"/>
                      </a:moveTo>
                      <a:lnTo>
                        <a:pt x="22" y="12"/>
                      </a:lnTo>
                      <a:lnTo>
                        <a:pt x="29" y="22"/>
                      </a:lnTo>
                      <a:lnTo>
                        <a:pt x="26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7284600" y="2145600"/>
                  <a:ext cx="9360" cy="2829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7617600" y="2145600"/>
                  <a:ext cx="7200" cy="2829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318440" y="2268000"/>
                  <a:ext cx="26496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450200" y="2268000"/>
                  <a:ext cx="936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1" name=""/>
            <p:cNvSpPr/>
            <p:nvPr/>
          </p:nvSpPr>
          <p:spPr>
            <a:xfrm>
              <a:off x="3646440" y="2788920"/>
              <a:ext cx="124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02.16a/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614720" y="4013280"/>
              <a:ext cx="820440" cy="1231560"/>
            </a:xfrm>
            <a:prstGeom prst="line">
              <a:avLst/>
            </a:prstGeom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" name="" descr=""/>
            <p:cNvPicPr/>
            <p:nvPr/>
          </p:nvPicPr>
          <p:blipFill>
            <a:blip r:embed="rId1"/>
            <a:stretch/>
          </p:blipFill>
          <p:spPr>
            <a:xfrm>
              <a:off x="5644800" y="5487120"/>
              <a:ext cx="1820880" cy="86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 flipV="1">
              <a:off x="7131960" y="5677920"/>
              <a:ext cx="1045440" cy="201600"/>
            </a:xfrm>
            <a:prstGeom prst="line">
              <a:avLst/>
            </a:prstGeom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8149320" y="5342760"/>
              <a:ext cx="56412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4187160" y="5440680"/>
              <a:ext cx="1206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INTERN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BACKB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21840" y="4782600"/>
              <a:ext cx="1520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lica (Fiber) Net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147840" y="1916280"/>
              <a:ext cx="2079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unto - Multi-pu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so de ULTIMA MIL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3624120" y="2102040"/>
              <a:ext cx="3543480" cy="2079000"/>
              <a:chOff x="3624120" y="2102040"/>
              <a:chExt cx="3543480" cy="2079000"/>
            </a:xfrm>
          </p:grpSpPr>
          <p:sp>
            <p:nvSpPr>
              <p:cNvPr id="80" name=""/>
              <p:cNvSpPr/>
              <p:nvPr/>
            </p:nvSpPr>
            <p:spPr>
              <a:xfrm rot="350400">
                <a:off x="3672360" y="3001320"/>
                <a:ext cx="2242800" cy="1068120"/>
              </a:xfrm>
              <a:custGeom>
                <a:avLst/>
                <a:gdLst/>
                <a:ahLst/>
                <a:rect l="l" t="t" r="r" b="b"/>
                <a:pathLst>
                  <a:path w="149" h="247">
                    <a:moveTo>
                      <a:pt x="111" y="28"/>
                    </a:moveTo>
                    <a:lnTo>
                      <a:pt x="116" y="30"/>
                    </a:lnTo>
                    <a:lnTo>
                      <a:pt x="128" y="0"/>
                    </a:lnTo>
                    <a:lnTo>
                      <a:pt x="149" y="5"/>
                    </a:lnTo>
                    <a:lnTo>
                      <a:pt x="0" y="247"/>
                    </a:lnTo>
                    <a:lnTo>
                      <a:pt x="111" y="28"/>
                    </a:lnTo>
                    <a:close/>
                  </a:path>
                </a:pathLst>
              </a:custGeom>
              <a:solidFill>
                <a:srgbClr val="f2bd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350400">
                <a:off x="5162760" y="2198520"/>
                <a:ext cx="1955880" cy="1056960"/>
              </a:xfrm>
              <a:custGeom>
                <a:avLst/>
                <a:gdLst/>
                <a:ahLst/>
                <a:rect l="l" t="t" r="r" b="b"/>
                <a:pathLst>
                  <a:path w="130" h="244">
                    <a:moveTo>
                      <a:pt x="0" y="239"/>
                    </a:moveTo>
                    <a:lnTo>
                      <a:pt x="130" y="0"/>
                    </a:lnTo>
                    <a:lnTo>
                      <a:pt x="35" y="216"/>
                    </a:lnTo>
                    <a:lnTo>
                      <a:pt x="32" y="216"/>
                    </a:lnTo>
                    <a:lnTo>
                      <a:pt x="18" y="244"/>
                    </a:lnTo>
                    <a:lnTo>
                      <a:pt x="0" y="239"/>
                    </a:lnTo>
                    <a:close/>
                  </a:path>
                </a:pathLst>
              </a:custGeom>
              <a:solidFill>
                <a:srgbClr val="f2bd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3001320" y="3273480"/>
              <a:ext cx="1444320" cy="1547280"/>
            </a:xfrm>
            <a:prstGeom prst="ellipse">
              <a:avLst/>
            </a:prstGeom>
            <a:gradFill rotWithShape="0">
              <a:gsLst>
                <a:gs pos="0">
                  <a:srgbClr val="abc7ff"/>
                </a:gs>
                <a:gs pos="100000">
                  <a:srgbClr val="4e5b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604400" y="3387960"/>
              <a:ext cx="218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ectividad VeloCom WiMAX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871560" y="3550680"/>
              <a:ext cx="2976840" cy="1976760"/>
              <a:chOff x="871560" y="3550680"/>
              <a:chExt cx="2976840" cy="1976760"/>
            </a:xfrm>
          </p:grpSpPr>
          <p:sp>
            <p:nvSpPr>
              <p:cNvPr id="85" name=""/>
              <p:cNvSpPr/>
              <p:nvPr/>
            </p:nvSpPr>
            <p:spPr>
              <a:xfrm>
                <a:off x="1207080" y="3828600"/>
                <a:ext cx="2368440" cy="1694880"/>
              </a:xfrm>
              <a:custGeom>
                <a:avLst/>
                <a:gdLst/>
                <a:ahLst/>
                <a:rect l="l" t="t" r="r" b="b"/>
                <a:pathLst>
                  <a:path w="1764" h="1287">
                    <a:moveTo>
                      <a:pt x="0" y="1278"/>
                    </a:moveTo>
                    <a:lnTo>
                      <a:pt x="9" y="594"/>
                    </a:lnTo>
                    <a:lnTo>
                      <a:pt x="882" y="0"/>
                    </a:lnTo>
                    <a:lnTo>
                      <a:pt x="1764" y="639"/>
                    </a:lnTo>
                    <a:lnTo>
                      <a:pt x="1746" y="1287"/>
                    </a:lnTo>
                    <a:lnTo>
                      <a:pt x="0" y="1278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71560" y="3550680"/>
                <a:ext cx="2976840" cy="197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508920" y="3972240"/>
                <a:ext cx="199800" cy="58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"/>
              <p:cNvSpPr/>
              <p:nvPr/>
            </p:nvSpPr>
            <p:spPr>
              <a:xfrm>
                <a:off x="1293120" y="4999320"/>
                <a:ext cx="1075320" cy="368640"/>
              </a:xfrm>
              <a:prstGeom prst="ellipse">
                <a:avLst/>
              </a:prstGeom>
              <a:gradFill rotWithShape="0">
                <a:gsLst>
                  <a:gs pos="0">
                    <a:srgbClr val="002094"/>
                  </a:gs>
                  <a:gs pos="100000">
                    <a:srgbClr val="000e44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271960" y="4686120"/>
                <a:ext cx="991080" cy="325080"/>
              </a:xfrm>
              <a:prstGeom prst="ellipse">
                <a:avLst/>
              </a:prstGeom>
              <a:gradFill rotWithShape="0">
                <a:gsLst>
                  <a:gs pos="0">
                    <a:srgbClr val="002094"/>
                  </a:gs>
                  <a:gs pos="100000">
                    <a:srgbClr val="000e44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405240" y="5152320"/>
                <a:ext cx="177120" cy="28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" name=""/>
              <p:cNvSpPr/>
              <p:nvPr/>
            </p:nvSpPr>
            <p:spPr>
              <a:xfrm flipH="1">
                <a:off x="3030840" y="4467240"/>
                <a:ext cx="576000" cy="213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441600" y="5295600"/>
                <a:ext cx="80640" cy="8676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924280" y="4689720"/>
                <a:ext cx="549000" cy="684720"/>
              </a:xfrm>
              <a:custGeom>
                <a:avLst/>
                <a:gdLst/>
                <a:ahLst/>
                <a:rect l="l" t="t" r="r" b="b"/>
                <a:pathLst>
                  <a:path w="462" h="240">
                    <a:moveTo>
                      <a:pt x="462" y="213"/>
                    </a:moveTo>
                    <a:cubicBezTo>
                      <a:pt x="371" y="226"/>
                      <a:pt x="280" y="240"/>
                      <a:pt x="270" y="210"/>
                    </a:cubicBezTo>
                    <a:cubicBezTo>
                      <a:pt x="260" y="180"/>
                      <a:pt x="427" y="66"/>
                      <a:pt x="399" y="33"/>
                    </a:cubicBezTo>
                    <a:cubicBezTo>
                      <a:pt x="371" y="0"/>
                      <a:pt x="168" y="3"/>
                      <a:pt x="102" y="9"/>
                    </a:cubicBezTo>
                    <a:cubicBezTo>
                      <a:pt x="36" y="15"/>
                      <a:pt x="18" y="42"/>
                      <a:pt x="0" y="69"/>
                    </a:cubicBez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446560" y="4383000"/>
                <a:ext cx="668520" cy="557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5" name=""/>
              <p:cNvGrpSpPr/>
              <p:nvPr/>
            </p:nvGrpSpPr>
            <p:grpSpPr>
              <a:xfrm>
                <a:off x="1395000" y="4525200"/>
                <a:ext cx="942120" cy="790920"/>
                <a:chOff x="1395000" y="4525200"/>
                <a:chExt cx="942120" cy="790920"/>
              </a:xfrm>
            </p:grpSpPr>
            <p:pic>
              <p:nvPicPr>
                <p:cNvPr id="9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511280" y="4525200"/>
                  <a:ext cx="480600" cy="660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95000" y="4677840"/>
                  <a:ext cx="942120" cy="638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" name=""/>
              <p:cNvSpPr/>
              <p:nvPr/>
            </p:nvSpPr>
            <p:spPr>
              <a:xfrm>
                <a:off x="2040840" y="4442400"/>
                <a:ext cx="651240" cy="222480"/>
              </a:xfrm>
              <a:custGeom>
                <a:avLst/>
                <a:gdLst/>
                <a:ahLst/>
                <a:rect l="l" t="t" r="r" b="b"/>
                <a:pathLst>
                  <a:path w="485" h="169">
                    <a:moveTo>
                      <a:pt x="485" y="0"/>
                    </a:moveTo>
                    <a:lnTo>
                      <a:pt x="203" y="63"/>
                    </a:lnTo>
                    <a:lnTo>
                      <a:pt x="289" y="70"/>
                    </a:lnTo>
                    <a:lnTo>
                      <a:pt x="98" y="117"/>
                    </a:lnTo>
                    <a:lnTo>
                      <a:pt x="173" y="117"/>
                    </a:lnTo>
                    <a:lnTo>
                      <a:pt x="0" y="169"/>
                    </a:lnTo>
                    <a:lnTo>
                      <a:pt x="326" y="105"/>
                    </a:lnTo>
                    <a:lnTo>
                      <a:pt x="200" y="108"/>
                    </a:lnTo>
                    <a:lnTo>
                      <a:pt x="431" y="51"/>
                    </a:lnTo>
                    <a:lnTo>
                      <a:pt x="311" y="54"/>
                    </a:lnTo>
                    <a:lnTo>
                      <a:pt x="4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2160720" y="5518440"/>
              <a:ext cx="149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02.11  WiF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87280" y="2922120"/>
              <a:ext cx="218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ogar / Oficin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rebuchet MS"/>
              </a:rPr>
              <a:t>Caso de Éxito</a:t>
            </a:r>
            <a:endParaRPr b="1" lang="en-US" sz="4400" spc="-1" strike="noStrike">
              <a:solidFill>
                <a:srgbClr val="5e009e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10760" y="1866960"/>
            <a:ext cx="828684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rebuchet MS"/>
              </a:rPr>
              <a:t>La flexibilidad de esta nueva tecnología, permitió a VeloCom:</a:t>
            </a:r>
            <a:endParaRPr b="1" lang="en-US" sz="2400" spc="-1" strike="noStrike">
              <a:solidFill>
                <a:srgbClr val="5e009e"/>
              </a:solidFill>
              <a:latin typeface="Trebuchet MS"/>
            </a:endParaRPr>
          </a:p>
          <a:p>
            <a:pPr lvl="1" marL="914400" indent="-457200">
              <a:spcBef>
                <a:spcPts val="550"/>
              </a:spcBef>
              <a:buClr>
                <a:srgbClr val="333399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3399"/>
                </a:solidFill>
                <a:latin typeface="Trebuchet MS"/>
              </a:rPr>
              <a:t>Implementar Banda Ancha en 15 nodos distribuidos en todo el país, en menos de 6 meses.</a:t>
            </a:r>
            <a:endParaRPr b="0" lang="en-US" sz="2200" spc="-1" strike="noStrike">
              <a:solidFill>
                <a:srgbClr val="5e009e"/>
              </a:solidFill>
              <a:latin typeface="Trebuchet MS"/>
            </a:endParaRPr>
          </a:p>
          <a:p>
            <a:pPr lvl="1" marL="914400" indent="-457200">
              <a:spcBef>
                <a:spcPts val="550"/>
              </a:spcBef>
              <a:buClr>
                <a:srgbClr val="333399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333399"/>
                </a:solidFill>
                <a:latin typeface="Trebuchet MS"/>
              </a:rPr>
              <a:t>Alcanzar los 180 clientes en AMBA y Capital Federal en menos de 4 meses.</a:t>
            </a:r>
            <a:endParaRPr b="0" lang="en-US" sz="2200" spc="-1" strike="noStrike">
              <a:solidFill>
                <a:srgbClr val="5e009e"/>
              </a:solidFill>
              <a:latin typeface="Trebuchet MS"/>
            </a:endParaRPr>
          </a:p>
          <a:p>
            <a:pPr lvl="1" marL="914400" indent="-457200">
              <a:spcBef>
                <a:spcPts val="550"/>
              </a:spcBef>
              <a:buClr>
                <a:srgbClr val="333399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3399"/>
                </a:solidFill>
                <a:latin typeface="Trebuchet MS"/>
              </a:rPr>
              <a:t>Implementar soluciones de Internet y VoIP en menos de 48 hs. en lugares dónde antes no existía cobertura de ningún proveedor.</a:t>
            </a:r>
            <a:endParaRPr b="0" lang="en-US" sz="2200" spc="-1" strike="noStrike">
              <a:solidFill>
                <a:srgbClr val="5e009e"/>
              </a:solidFill>
              <a:latin typeface="Trebuchet MS"/>
            </a:endParaRPr>
          </a:p>
          <a:p>
            <a:pPr lvl="1" marL="914400" indent="-457200">
              <a:spcBef>
                <a:spcPts val="550"/>
              </a:spcBef>
              <a:buClr>
                <a:srgbClr val="333399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3399"/>
                </a:solidFill>
                <a:latin typeface="Trebuchet MS"/>
              </a:rPr>
              <a:t>Reducir costos para las empresas, brindando convergencia de Internet y Telefonía con un solo proveedor .</a:t>
            </a:r>
            <a:endParaRPr b="0" lang="en-US" sz="2200" spc="-1" strike="noStrike">
              <a:solidFill>
                <a:srgbClr val="5e009e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6040" y="268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rebuchet MS"/>
              </a:rPr>
              <a:t>MUCHAS GRACIAS!</a:t>
            </a:r>
            <a:endParaRPr b="1" lang="en-US" sz="4400" spc="-1" strike="noStrike">
              <a:solidFill>
                <a:srgbClr val="5e009e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698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203640" y="487440"/>
            <a:ext cx="2376360" cy="1717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36600" y="5051520"/>
            <a:ext cx="468360" cy="3967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324000" y="3352680"/>
            <a:ext cx="468000" cy="3952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4932360" y="3341520"/>
            <a:ext cx="468360" cy="3924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6"/>
          <a:srcRect l="0" t="0" r="0" b="-248"/>
          <a:stretch/>
        </p:blipFill>
        <p:spPr>
          <a:xfrm>
            <a:off x="4946760" y="4132440"/>
            <a:ext cx="468360" cy="3981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4960800" y="5070600"/>
            <a:ext cx="468360" cy="3888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828720" y="3259080"/>
            <a:ext cx="324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5e009e"/>
                </a:solidFill>
                <a:latin typeface="Trebuchet MS"/>
              </a:rPr>
              <a:t>Argentina </a:t>
            </a:r>
            <a:r>
              <a:rPr b="0" lang="es-ES" sz="1000" spc="-1" strike="noStrike">
                <a:solidFill>
                  <a:srgbClr val="5e009e"/>
                </a:solidFill>
                <a:latin typeface="Trebuchet MS"/>
              </a:rPr>
              <a:t>| San Martín 638 | Buenos Aires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5e009e"/>
                </a:solidFill>
                <a:latin typeface="Trebuchet MS"/>
              </a:rPr>
              <a:t>Tel.: (54) 11.4103.1300   |  Fax: (54) 11.4103.147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5e009e"/>
                </a:solidFill>
                <a:latin typeface="Trebuchet MS"/>
              </a:rPr>
              <a:t>ventas@datco.net</a:t>
            </a:r>
            <a:r>
              <a:rPr b="0" lang="es-ES" sz="1000" spc="-1" strike="noStrike">
                <a:solidFill>
                  <a:srgbClr val="5e009e"/>
                </a:solidFill>
                <a:latin typeface="Trebuchet MS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57160" y="4979880"/>
            <a:ext cx="3340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5e009e"/>
                </a:solidFill>
                <a:latin typeface="Trebuchet MS"/>
              </a:rPr>
              <a:t>Chile </a:t>
            </a:r>
            <a:r>
              <a:rPr b="0" lang="es-ES" sz="1000" spc="-1" strike="noStrike">
                <a:solidFill>
                  <a:srgbClr val="5e009e"/>
                </a:solidFill>
                <a:latin typeface="Trebuchet MS"/>
              </a:rPr>
              <a:t>| M. Sanchez Fontecilla 310 P.7 | Las Condes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5e009e"/>
                </a:solidFill>
                <a:latin typeface="Trebuchet MS"/>
              </a:rPr>
              <a:t>Tel.: (562) 362.0444  |  Fax: (562) 362.11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5e009e"/>
                </a:solidFill>
                <a:latin typeface="Trebuchet MS"/>
              </a:rPr>
              <a:t>ventas@datco.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08720" y="3309840"/>
            <a:ext cx="30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5e009e"/>
                </a:solidFill>
                <a:latin typeface="Trebuchet MS"/>
              </a:rPr>
              <a:t>Perú </a:t>
            </a:r>
            <a:r>
              <a:rPr b="0" lang="es-ES" sz="1000" spc="-1" strike="noStrike">
                <a:solidFill>
                  <a:srgbClr val="5e009e"/>
                </a:solidFill>
                <a:latin typeface="Trebuchet MS"/>
              </a:rPr>
              <a:t>| Victor Maúrtua 140 Of. 502 | San Isid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5e009e"/>
                </a:solidFill>
                <a:latin typeface="Trebuchet MS"/>
              </a:rPr>
              <a:t>Tel.: (511) 421.6237  |  Fax: (511) 421.623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94320" y="4060800"/>
            <a:ext cx="3397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5e009e"/>
                </a:solidFill>
                <a:latin typeface="Trebuchet MS"/>
              </a:rPr>
              <a:t>Uruguay </a:t>
            </a:r>
            <a:r>
              <a:rPr b="0" lang="es-ES" sz="1000" spc="-1" strike="noStrike">
                <a:solidFill>
                  <a:srgbClr val="5e009e"/>
                </a:solidFill>
                <a:latin typeface="Trebuchet MS"/>
              </a:rPr>
              <a:t>| Pza Independencia 831 P.12  | Montevide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5e009e"/>
                </a:solidFill>
                <a:latin typeface="Trebuchet MS"/>
              </a:rPr>
              <a:t>Tel.: (598.2) 902.6292  |  Fax: (598.2) 902.65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5e009e"/>
                </a:solidFill>
                <a:latin typeface="Trebuchet MS"/>
              </a:rPr>
              <a:t>ventas@datco.com.u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22760" y="5040360"/>
            <a:ext cx="3621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5e009e"/>
                </a:solidFill>
                <a:latin typeface="Trebuchet MS"/>
              </a:rPr>
              <a:t>España</a:t>
            </a:r>
            <a:r>
              <a:rPr b="0" lang="es-AR" sz="1000" spc="-1" strike="noStrike">
                <a:solidFill>
                  <a:srgbClr val="5e009e"/>
                </a:solidFill>
                <a:latin typeface="Trebuchet MS"/>
              </a:rPr>
              <a:t> | Calle de José Bergamín 56, 10°A</a:t>
            </a:r>
            <a:r>
              <a:rPr b="0" lang="es-ES" sz="1000" spc="-1" strike="noStrike">
                <a:solidFill>
                  <a:srgbClr val="5e009e"/>
                </a:solidFill>
                <a:latin typeface="Trebuchet MS"/>
              </a:rPr>
              <a:t> | </a:t>
            </a:r>
            <a:r>
              <a:rPr b="0" lang="es-AR" sz="1000" spc="-1" strike="noStrike">
                <a:solidFill>
                  <a:srgbClr val="5e009e"/>
                </a:solidFill>
                <a:latin typeface="Trebuchet MS"/>
              </a:rPr>
              <a:t>28030 Madri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5e009e"/>
                </a:solidFill>
                <a:latin typeface="Trebuchet MS"/>
              </a:rPr>
              <a:t>Tel/Fax: +34 91 751 3895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8"/>
          <a:stretch/>
        </p:blipFill>
        <p:spPr>
          <a:xfrm>
            <a:off x="612720" y="4476600"/>
            <a:ext cx="335160" cy="2797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9"/>
          <a:stretch/>
        </p:blipFill>
        <p:spPr>
          <a:xfrm>
            <a:off x="612720" y="3959280"/>
            <a:ext cx="336600" cy="2779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1044720" y="3892680"/>
            <a:ext cx="25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5e009e"/>
                </a:solidFill>
                <a:latin typeface="Trebuchet MS"/>
              </a:rPr>
              <a:t>Buenos Aires</a:t>
            </a:r>
            <a:r>
              <a:rPr b="0" lang="es-ES" sz="1000" spc="-1" strike="noStrike">
                <a:solidFill>
                  <a:srgbClr val="5e009e"/>
                </a:solidFill>
                <a:latin typeface="Trebuchet MS"/>
              </a:rPr>
              <a:t>  | 13 N° 857 </a:t>
            </a:r>
            <a:r>
              <a:rPr b="0" lang="es-MX" sz="1000" spc="-1" strike="noStrike">
                <a:solidFill>
                  <a:srgbClr val="5e009e"/>
                </a:solidFill>
                <a:latin typeface="Trebuchet MS"/>
              </a:rPr>
              <a:t>| La</a:t>
            </a:r>
            <a:r>
              <a:rPr b="0" lang="es-ES" sz="1000" spc="-1" strike="noStrike">
                <a:solidFill>
                  <a:srgbClr val="5e009e"/>
                </a:solidFill>
                <a:latin typeface="Trebuchet MS"/>
              </a:rPr>
              <a:t> Pl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5e009e"/>
                </a:solidFill>
                <a:latin typeface="Trebuchet MS"/>
              </a:rPr>
              <a:t>Tel.: (0221) 423.7594 | (0221) 423.7594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44720" y="4424400"/>
            <a:ext cx="273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5e009e"/>
                </a:solidFill>
                <a:latin typeface="Trebuchet MS"/>
              </a:rPr>
              <a:t>Córdoba</a:t>
            </a:r>
            <a:r>
              <a:rPr b="0" lang="es-ES" sz="1000" spc="-1" strike="noStrike">
                <a:solidFill>
                  <a:srgbClr val="5e009e"/>
                </a:solidFill>
                <a:latin typeface="Trebuchet MS"/>
              </a:rPr>
              <a:t>  | Independencia 212 </a:t>
            </a:r>
            <a:r>
              <a:rPr b="0" lang="es-MX" sz="1000" spc="-1" strike="noStrike">
                <a:solidFill>
                  <a:srgbClr val="5e009e"/>
                </a:solidFill>
                <a:latin typeface="Trebuchet MS"/>
              </a:rPr>
              <a:t>| Córdo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5e009e"/>
                </a:solidFill>
                <a:latin typeface="Trebuchet MS"/>
              </a:rPr>
              <a:t>Tel.: (0351) 411.4357 | (0351) 411.5489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0"/>
          <a:stretch/>
        </p:blipFill>
        <p:spPr>
          <a:xfrm>
            <a:off x="0" y="5997600"/>
            <a:ext cx="9144000" cy="384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1"/>
          <a:stretch/>
        </p:blipFill>
        <p:spPr>
          <a:xfrm>
            <a:off x="3733920" y="6335640"/>
            <a:ext cx="1201680" cy="331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2"/>
          <a:stretch/>
        </p:blipFill>
        <p:spPr>
          <a:xfrm>
            <a:off x="5148360" y="6323040"/>
            <a:ext cx="1081080" cy="382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3"/>
          <a:stretch/>
        </p:blipFill>
        <p:spPr>
          <a:xfrm>
            <a:off x="2517840" y="6332400"/>
            <a:ext cx="90180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8T14:26:03Z</dcterms:created>
  <dc:creator>Ariel Di Stefano</dc:creator>
  <dc:description/>
  <dc:language>en-US</dc:language>
  <cp:lastModifiedBy>C.P.C.E.C.A.B.A.</cp:lastModifiedBy>
  <dcterms:modified xsi:type="dcterms:W3CDTF">2006-05-11T18:12:54Z</dcterms:modified>
  <cp:revision>17</cp:revision>
  <dc:subject>WiMAX</dc:subject>
  <dc:title>Comunicaciones inalámbricas: Potencialidades y debilidades </dc:title>
</cp:coreProperties>
</file>