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DAC-B6C3-4366-9CEC-DB9F2EC7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096-7809-4F80-A9FA-204A3039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7D3D-ED18-4B1B-8292-420B84E2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38C-B4E5-4544-ADEC-4B0D176C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C13-21E9-4D34-AE47-3277CD7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CC0-C696-4D3D-97BF-375B1E16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7F3-A95F-4346-A1AB-4441951E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303-0820-4752-BDC5-FA08E5FD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30C-8F02-4A09-87F0-098024F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9D5-105B-423F-9C39-DEE11C3C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5E6-F39F-411D-A539-D550168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E6B-0801-4344-A970-DE876598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C76-FE6E-47CB-B8DE-76CC64F8E7EA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308320"/>
            <a:ext cx="7342200" cy="12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958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Bs. As., 10 y 11 de mayo de 2.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0"/>
            <a:ext cx="7162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Tahoma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1240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640" y="2498760"/>
            <a:ext cx="856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“</a:t>
            </a: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Procesos y Certificación de la Calida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Un enfoque práctico”</a:t>
            </a:r>
            <a:br>
              <a:rPr sz="2800"/>
            </a:br>
            <a:r>
              <a:rPr b="0" lang="es-CL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CL" sz="3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s-CL" sz="2800" spc="-1" strike="noStrike">
                <a:solidFill>
                  <a:srgbClr val="003399"/>
                </a:solidFill>
                <a:latin typeface="Tahoma"/>
              </a:rPr>
              <a:t>Lic. Carlos Crespo                        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6920" y="549360"/>
            <a:ext cx="8363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3er Congreso de Tecnología de la Información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andare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143000"/>
            <a:ext cx="830556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ISO 9000:2000, ISO 90003:2004, ISO 12207, Tick IT, IEEE 1074, ISO 15504(Spice), SEI SW-CMM, CMMI, Trilliu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Son demasiada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4800" y="5943600"/>
            <a:ext cx="749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En Argentina foco en ISO 9000, CMMI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048120"/>
            <a:ext cx="716292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Versiones actuales y sin plan de re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Tick IT, V5.0 (20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Trillium, V3.0 (199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SW-CMM V2.0 Draft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rfil 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19320"/>
            <a:ext cx="88390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CMMI </a:t>
            </a:r>
            <a:r>
              <a:rPr b="1" lang="es-AR" sz="2800" spc="-1" strike="noStrike">
                <a:solidFill>
                  <a:srgbClr val="003399"/>
                </a:solidFill>
                <a:latin typeface="Arial"/>
                <a:ea typeface="Arial"/>
              </a:rPr>
              <a:t>(Capability Maturity Model Integration)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Mide la capacidad del proceso para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desarrollar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 </a:t>
            </a: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software con c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Arial Unicode MS"/>
              </a:rPr>
              <a:t>M</a:t>
            </a: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 Unicode MS"/>
              </a:rPr>
              <a:t>odelos de referencia de la madurez de las practicas en una disciplina especifica, son utilizados para valorar o evaluar la capacidad de los grupos para ejecutar o llevar a cabo esta discipl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Arial Unicode MS"/>
              </a:rPr>
              <a:t>2 arquitecturas, por fases o contin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Arial Unicode MS"/>
              </a:rPr>
              <a:t>Reingenieria de SW-CMM, 2.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Arial Unicode MS"/>
              </a:rPr>
              <a:t>Es evaluado por el SEI. SCAMP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762156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ndencias mundiales 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080" y="1227240"/>
            <a:ext cx="38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bril 2002 – Dic.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762156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ndencias mundiales 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762156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Tendencias mundiales SW-CMM, 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000" y="1125000"/>
            <a:ext cx="8064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W-CM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sde 1987 hasta Diciembre/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.746 Organ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esde Abril/2002 hasta Diciembre/2004</a:t>
            </a:r>
            <a:r>
              <a:rPr b="0" lang="es-AR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567 Organ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a Organizacion es el actor de la evaluacion, a quien se certifica, sin considerar cuantas reevaluaciones se ejecuta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A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7621560" cy="2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MMI, por tamaño de las organ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981000"/>
            <a:ext cx="8229600" cy="587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volucion SW-CMM a CM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8000" y="1267920"/>
            <a:ext cx="8280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l projecto CMMI es esponsoreado p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.S. Department of  Defense office of the under Secretary of Defense, Acquisition, Technology and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Systems Engineering Committee of the National Defense Industrial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ersión 1.0 es liberada en Agosto del 2000, Versión 1.1 es liberada en Enero del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20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8610480" cy="55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MMI es la reingenieria y mejora de SW-C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Un juego de productos, incluy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Modelos de madurez CMMI, metodos de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valuación, y capacit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 el resultado de la colaboración entre Industria, Gobierno y Univers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mpatible con principios, requisitos y recomendaciones de ISO 9000: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ándar de mayor calidad (SW-CM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romiso SEI, mantenerse alineado con Spic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287360"/>
            <a:ext cx="670572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ode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 Discipli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P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upplier Acqui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Representat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Sta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99"/>
                </a:solidFill>
                <a:latin typeface="Arial"/>
              </a:rPr>
              <a:t>Integrado por una variedad de modelos fu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 SW-CMM (software), V2.0 Draft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 EIA/IS-731 (systems enginee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-  IPD-CMM (integrated product development), V0.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48480" y="22860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1295280"/>
            <a:ext cx="4572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CMMI SE/SW for systems engineering and software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 Unicode MS"/>
              </a:rPr>
              <a:t>CMMI SE/SW/IPPD with Integrated product and proces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MMI SE/SW with IPPD and Supplier Sour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7925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-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roduction to C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rmediat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-  Instructo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Lead Assessor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pprais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-    Assessment Requirements for CMMI (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-    SCAMPI Method Description Document (MD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48480" y="22860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l desafio d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52764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411280" y="4149720"/>
            <a:ext cx="367344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55344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53040" y="30492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53040" y="30492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84360" y="907920"/>
            <a:ext cx="439272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53040" y="304920"/>
            <a:ext cx="41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MI otros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4343400" cy="60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442600" y="31284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tructura C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1527120"/>
          <a:ext cx="8136000" cy="492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27120"/>
                    <a:ext cx="8136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86120" y="236520"/>
            <a:ext cx="34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campi, concep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3240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CAMPI (Standard CMMI Appraisal Method for Process Improv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3 clases A, B, 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Formacion de Team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Gap Analisis - Metodología de evaluación del SCAMPI C. (sin team).</a:t>
            </a: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Evaluar objetivamente el estado actual del proceso de desarrollo d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Permite determinar fortalezas y debilidades del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0040" y="228600"/>
            <a:ext cx="803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dicadores de implementacion de prac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324080"/>
            <a:ext cx="424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Arial"/>
              </a:rPr>
              <a:t>Artefactos Dir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Arial"/>
              </a:rPr>
              <a:t>Artefactos Indir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Arial"/>
              </a:rPr>
              <a:t>Afirm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457000" y="228600"/>
            <a:ext cx="42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jemplo de indic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324080"/>
            <a:ext cx="8893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PP SP 1.1-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Establecer un WBS (Work Breakdown Structure) para estimar el alcance de un proye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Artefactos Directos, WBS de alto nivel, Descripcion de tareas, Descripcion de agrupamiento de tarea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Artefactos indirectos, Minutas de reuniones, Organigrama del team, notas de desarrollo de WB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99"/>
                </a:solidFill>
                <a:latin typeface="Arial"/>
              </a:rPr>
              <a:t>Afirmaciones, “Yo trabaje en el team WBS”, “Nosotros usamos WBS para generar estimaciones”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9640" y="228600"/>
            <a:ext cx="79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jemplo resumen de cobertura Metas C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835280" y="1130400"/>
          <a:ext cx="705780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30400"/>
                    <a:ext cx="705780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1916280"/>
            <a:ext cx="2089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G2 Institucionalizar un proceso administr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1 Establecer una política organizaci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2 Planear los proc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3 Proveer recur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4 Asignar responsabilida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5 Entrenar al perso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6 Gestionar las configuraci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7 Identificar e involucrar parte interesadas releva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8 Monitorear y controlar el 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9 Evaluar la adhesión objetivam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00" spc="-1" strike="noStrike">
                <a:solidFill>
                  <a:srgbClr val="000000"/>
                </a:solidFill>
                <a:latin typeface="Arial"/>
              </a:rPr>
              <a:t>GP 2.10 Revisar el estado con un nivel mayor de administ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22200" y="22860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Beneficios C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34136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Los beneficios tangibles e intangibles a obtener son lo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presupuestos y cron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ciclo de vid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la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la calidad (medida en defec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la satisfacción d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la moral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Mejora en 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Disminució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Incrementa la buena reput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16240" y="228600"/>
            <a:ext cx="63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Riesgos tipicos de iniciativas C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289160"/>
            <a:ext cx="820728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Centrarse en “certificacion” y no en beneficios 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Subestimar el esfuerzo y cambio cultural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Complacencia con logros men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Conocimiento poco profundo de CM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Construir en periodos de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Desligar mejoramiento de objetivos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99"/>
                </a:solidFill>
                <a:latin typeface="Arial"/>
              </a:rPr>
              <a:t>Gerencia poco comprometida con el 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l desafio de 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105000" cy="3800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342900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22200" y="22860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Beneficios CM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268280"/>
            <a:ext cx="741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ff"/>
                </a:solidFill>
                <a:latin typeface="Arial"/>
                <a:ea typeface="Arial"/>
              </a:rPr>
              <a:t>Categoría     Promedio    Muestra</a:t>
            </a:r>
            <a:r>
              <a:rPr b="1" lang="es-ES_tradnl" sz="20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366ff"/>
                </a:solidFill>
                <a:latin typeface="Arial"/>
                <a:ea typeface="Arial"/>
              </a:rPr>
              <a:t>Min</a:t>
            </a:r>
            <a:r>
              <a:rPr b="1" lang="es-ES_tradnl" sz="20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366ff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Costo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38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14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4.5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8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Cronogramas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50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14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20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Productividad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50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13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11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37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Calidad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50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16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29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9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Satisfaccion 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14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  5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10%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ROI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3:1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          8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2:1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3f7f65"/>
                </a:solidFill>
                <a:latin typeface="Arial"/>
                <a:ea typeface="Arial"/>
              </a:rPr>
              <a:t>1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581360"/>
            <a:ext cx="7848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Se resume la información cuantitativa provista por 18 organizaciones que reportan resultados expresados como cambios de funcionamiento que se mantienen en un cierto plaz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79640" y="2286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Beneficios CMMI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777080" cy="3946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9640" y="5229360"/>
            <a:ext cx="820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f7f65"/>
                </a:solidFill>
                <a:latin typeface="Arial"/>
                <a:ea typeface="Arial"/>
              </a:rPr>
              <a:t>Los costos cayeron un 48 % desde una medición previa al nivel 2 de madurez de SW-CMM, hasta que la organización llego al nivel 3 de madurez CMMI. 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B Systems Gamb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3200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Beneficios CMMI - Calend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90160" cy="3936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00000" y="5373720"/>
            <a:ext cx="7632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f7f65"/>
                </a:solidFill>
                <a:latin typeface="Arial"/>
                <a:ea typeface="Times New Roman"/>
              </a:rPr>
              <a:t>La variación media en días, del plan de desarrollo, se redujo de unos 130 días a menos de 20 días un año después de alcanzar el nivel 2 de madurez CMMI.</a:t>
            </a:r>
            <a:r>
              <a:rPr b="1" lang="es-ES" sz="1800" spc="-1" strike="noStrike">
                <a:solidFill>
                  <a:srgbClr val="3f7f65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C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3f7f65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32000" y="260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  <a:ea typeface="Arial"/>
              </a:rPr>
              <a:t>Beneficios CMMI - 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37160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064360" cy="4321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5516640"/>
            <a:ext cx="82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f7f65"/>
                </a:solidFill>
                <a:latin typeface="Verdana"/>
              </a:rPr>
              <a:t>La mejora en la productividad de software medida en 1992, creció aproximadamente 60 % en el nivel 5 de madurez de SW-CMM y mas de 140 % en el nivel 5 de madurez CMMI.</a:t>
            </a:r>
            <a:r>
              <a:rPr b="1" lang="es-ES" sz="1600" spc="-1" strike="noStrike">
                <a:solidFill>
                  <a:srgbClr val="3f7f65"/>
                </a:solidFill>
                <a:latin typeface="Verdana"/>
                <a:ea typeface="Arial Unicode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Lockheed Martin Systems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Arial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Arial"/>
              </a:rPr>
              <a:t>Lic. Carlos Cres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3399"/>
                </a:solidFill>
                <a:latin typeface="Arial"/>
              </a:rPr>
              <a:t>Carlos.crespo@procesix.com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Debemos lograr certez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En costos de constr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En plazos de constr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En calidad del producto fi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La calidad, concepto multidimensional sinonimo de eficiencia, flexibilidad, correccion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Expresada en estos terminos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podemos medirla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66680"/>
            <a:ext cx="91440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Manera de fabricar software, simil a la fabricacion de productos en un entorno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Planificacion, coordinacion, secuencia de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Elementos intervinientes en la construccion de softw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Factor humano, herramientas/tecnologias,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Determi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Que se debe ha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Cuando debe hacer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Como debe hacer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3399"/>
                </a:solidFill>
                <a:latin typeface="Tahoma"/>
              </a:rPr>
              <a:t>y quien debe hace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28800"/>
            <a:ext cx="914400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En los 90, surge la aplicacion de Estandares o Modelos para la mejora de los procesos de soft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Mide la capacidad del proceso para desarrollar</a:t>
            </a: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003399"/>
                </a:solidFill>
                <a:latin typeface="Tahoma"/>
              </a:rPr>
              <a:t>software con c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  <a:ea typeface="Times New Roman"/>
              </a:rPr>
              <a:t>Propo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522936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Obtener mayor </a:t>
            </a:r>
            <a:r>
              <a:rPr b="1" lang="es-AR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predictibilidad en costos,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 duracion, y niveles de calidad previ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8900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Beneficios de aplicar modelos en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Un punto de p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El beneficio de la experiencia de 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Un lenguaje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Una visión compart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Un marco para priorizar ac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Un modo de definir el significado de 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“mejoramiento” en una orga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Reconociento del mercado, sustent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9000"/>
            <a:ext cx="91440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Proceso de Mej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Esquema simpl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Determinar donde est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Determinar donde queremos e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Generar un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Ejecut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Tahoma"/>
              </a:rPr>
              <a:t>Aprender la lección y repetirlo (mejorar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0320" y="453960"/>
            <a:ext cx="7623360" cy="2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alidad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08900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Variables de selecc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erfil 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stos de entre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stos de implement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ostos de Certificacion/Evalu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uracion del proceso de 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Escenario a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iferen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ercado objetivo, que prefier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13:45:41Z</dcterms:created>
  <dc:creator>tino</dc:creator>
  <dc:description/>
  <dc:language>en-US</dc:language>
  <cp:lastModifiedBy>C.P.C.E.C.A.B.A.</cp:lastModifiedBy>
  <cp:lastPrinted>2002-09-17T17:43:04Z</cp:lastPrinted>
  <dcterms:modified xsi:type="dcterms:W3CDTF">2006-05-10T19:07:57Z</dcterms:modified>
  <cp:revision>464</cp:revision>
  <dc:subject/>
  <dc:title>Nessun titolo diapositiva</dc:title>
</cp:coreProperties>
</file>