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wmf" ContentType="image/x-wmf"/>
  <Override PartName="/ppt/media/image15.jpeg" ContentType="image/jpeg"/>
  <Override PartName="/ppt/media/image13.jpeg" ContentType="image/jpeg"/>
  <Override PartName="/ppt/media/image2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212263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56F23-4810-4DE3-A63C-99A78EB62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1C8F-47AF-424F-8970-E7823D9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27D2-2569-4972-8625-27500A75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D205-B211-46E1-9A5A-426C891A5F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3016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183E-ECE9-4966-B922-75EEB52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78CE-8E5A-4021-BC6D-D933301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77EC-2980-416B-B5B2-E5B4721C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3BCC-BA7E-48E4-8D31-A46E6B8E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3016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2DE5-5436-4E9E-8671-6274A23D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295A-19F0-417C-8172-60DF0867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E677-ADDA-466B-B012-E4FC7A66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3DFA-DDC2-4776-A60E-0B1B984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52280"/>
            <a:ext cx="32018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01840" y="152280"/>
            <a:ext cx="2740320" cy="76320"/>
          </a:xfrm>
          <a:prstGeom prst="rect">
            <a:avLst/>
          </a:prstGeom>
          <a:solidFill>
            <a:srgbClr val="8932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176040" indent="-176040">
              <a:spcBef>
                <a:spcPts val="700"/>
              </a:spcBef>
              <a:buClr>
                <a:srgbClr val="8932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81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200400" y="605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AR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7BA-EA5C-4206-95EF-CA88CB96A46F}" type="slidenum">
              <a:rPr b="1" lang="es-ES_tradnl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64000" y="6058080"/>
            <a:ext cx="31053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000000"/>
                </a:solidFill>
                <a:latin typeface="EY Tagline"/>
              </a:rPr>
              <a:t>#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16680" y="6072120"/>
            <a:ext cx="25876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EY Tagline"/>
              </a:rPr>
              <a:t>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43600" y="0"/>
            <a:ext cx="3198960" cy="54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9145440" cy="228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16320"/>
            <a:ext cx="9142560" cy="40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58080" y="4286160"/>
            <a:ext cx="2259000" cy="514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290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90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ministración de Riesgos de TI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2463840"/>
            <a:ext cx="86868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ejo Profesional de Ciencias Económica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 la Ciudad Autónoma de Buenos Ai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er Congreso de Tecnología de la Inform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yo 2006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-25920"/>
            <a:ext cx="2895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echnology &amp; Security Risk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51640" y="2546280"/>
            <a:ext cx="709560" cy="831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38960" y="2536920"/>
            <a:ext cx="709560" cy="849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128080" y="2544840"/>
            <a:ext cx="71424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Administración de Riesgos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280" y="998640"/>
            <a:ext cx="49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990000"/>
                </a:solidFill>
                <a:latin typeface="Arial Narrow"/>
              </a:rPr>
              <a:t>¿Quién es responsable de administrar los riesgos de TI en las empresa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4800" y="1955880"/>
            <a:ext cx="5946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Aft>
                <a:spcPts val="6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Seguridad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Aft>
                <a:spcPts val="6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Gerencia de Sistemas / 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2000" y="3564000"/>
            <a:ext cx="459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990000"/>
                </a:solidFill>
                <a:latin typeface="Arial Narrow"/>
              </a:rPr>
              <a:t>¿Cómo realizan la administracíon de riesgos de TI las empresas ho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2000" y="4521240"/>
            <a:ext cx="652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En la mayoría de los casos la administración de riesgos de TI se realiza en forma independiente a otros riesgos generales de la organización, si se efectú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1640" y="1851120"/>
            <a:ext cx="81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1640" y="4419720"/>
            <a:ext cx="657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9B60-7F84-4385-964D-5A752C16BC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¿Cómo está la Administración de Riesgos de 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10240" y="2371680"/>
            <a:ext cx="969840" cy="39852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10240" y="1882800"/>
            <a:ext cx="1658880" cy="39852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05200" y="1794960"/>
            <a:ext cx="1800" cy="106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05200" y="28972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70520" y="28972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5480" y="28972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9000" y="28972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64320" y="28972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29280" y="28972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94600" y="28972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5200" y="2897280"/>
            <a:ext cx="1589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54440" y="304956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32160" y="304956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62440" y="304956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92720" y="304956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4160" y="249876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37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3200" y="2008080"/>
            <a:ext cx="29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6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75000" y="2503440"/>
            <a:ext cx="17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9040" y="201456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S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16280" y="1224000"/>
            <a:ext cx="3600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Narrow"/>
              </a:rPr>
              <a:t>¿Qué porcentaje de organizaciones poseen un Oficial de Seguridad Informát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3320" y="5248440"/>
            <a:ext cx="527040" cy="16344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3320" y="5045040"/>
            <a:ext cx="959040" cy="16020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3320" y="4838760"/>
            <a:ext cx="1658880" cy="16020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3320" y="4633920"/>
            <a:ext cx="1389240" cy="16200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3320" y="4429080"/>
            <a:ext cx="743040" cy="16056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898640" y="4389480"/>
            <a:ext cx="1440" cy="10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9864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66840" y="5492880"/>
            <a:ext cx="1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540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5040" y="5492880"/>
            <a:ext cx="1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504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4324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324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98640" y="5492880"/>
            <a:ext cx="1614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47880" y="56419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16080" y="56419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352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808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7960" y="524196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09600" y="503712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1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480528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3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38360" y="460224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2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3960" y="439596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3480" y="5221440"/>
            <a:ext cx="48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Grado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3480" y="5016600"/>
            <a:ext cx="48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Grado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3480" y="4809960"/>
            <a:ext cx="48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Grado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3480" y="4606920"/>
            <a:ext cx="48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Grado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3480" y="4400640"/>
            <a:ext cx="48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Grado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560" y="5448240"/>
            <a:ext cx="799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5 = Integ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640" y="3473280"/>
            <a:ext cx="423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Narrow"/>
              </a:rPr>
              <a:t>¿Qué grado de integración posee el Oficial de Seguridad Informática con el proceso global de administración de riesgos de la organiz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77000" y="5119560"/>
            <a:ext cx="98640" cy="27000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77000" y="4786200"/>
            <a:ext cx="169920" cy="26856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77000" y="4449600"/>
            <a:ext cx="1660680" cy="27000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772320" y="4389480"/>
            <a:ext cx="1440" cy="10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7232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3268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8980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0160" y="54928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07280" y="5492880"/>
            <a:ext cx="1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72320" y="5492880"/>
            <a:ext cx="143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21560" y="5641920"/>
            <a:ext cx="8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2936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8828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4684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0576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81480" y="5159520"/>
            <a:ext cx="19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54560" y="481824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1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59720" y="4497480"/>
            <a:ext cx="27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9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92520" y="5165640"/>
            <a:ext cx="262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O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78520" y="4826160"/>
            <a:ext cx="157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Unidades de nego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5160" y="4465800"/>
            <a:ext cx="55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Sistem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37120" y="3608280"/>
            <a:ext cx="309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 Narrow"/>
              </a:rPr>
              <a:t>¿Qué sector es responsable por la Gestión de la Seguridad Informát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360" y="5700600"/>
            <a:ext cx="100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1 = No integ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3760" y="564192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56484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 Narrow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90760" y="2747880"/>
            <a:ext cx="76536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2703600"/>
            <a:ext cx="76680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12000" y="2903400"/>
            <a:ext cx="371520" cy="225720"/>
          </a:xfrm>
          <a:prstGeom prst="rect">
            <a:avLst/>
          </a:prstGeom>
          <a:solidFill>
            <a:srgbClr val="ff99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60760" y="2903400"/>
            <a:ext cx="371520" cy="225720"/>
          </a:xfrm>
          <a:prstGeom prst="rect">
            <a:avLst/>
          </a:prstGeom>
          <a:solidFill>
            <a:srgbClr val="003d7d"/>
          </a:solidFill>
          <a:ln w="9360">
            <a:solidFill>
              <a:srgbClr val="003d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 Narrow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06640" y="1538280"/>
            <a:ext cx="1179360" cy="15303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06280" y="131292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00000"/>
                </a:solidFill>
                <a:latin typeface="Arial Narrow"/>
              </a:rPr>
              <a:t>Fuente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3198-94E1-44A7-93E4-EAC33ED4C7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232000" y="2033640"/>
            <a:ext cx="4854600" cy="2049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654200" y="1989000"/>
            <a:ext cx="2143080" cy="175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Cumplir con las políticas y procedimientos corpora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Facilitar las iniciativas estratég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Mejorar el servicio y el lanzamiento y entrega de 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Facilitar las fusiones y  adquisi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Rol de la Administración de Riesgos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8280" y="4508640"/>
            <a:ext cx="8659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 Narrow"/>
              </a:rPr>
              <a:t>Para la mayoría de las organizaciones, el rol más importante de la Administración de Riesgos de TI está relacionado con temas tácticos y operacion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 Narrow"/>
              </a:rPr>
              <a:t>Sólo la mitad de las organizaciones consideran que su papel es más estraté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11280" y="1933560"/>
            <a:ext cx="5607000" cy="2170080"/>
          </a:xfrm>
          <a:prstGeom prst="rect">
            <a:avLst/>
          </a:prstGeom>
          <a:noFill/>
          <a:ln w="9360">
            <a:solidFill>
              <a:srgbClr val="f66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22360" y="110664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143b7b"/>
                </a:solidFill>
                <a:latin typeface="Arial Narrow"/>
              </a:rPr>
              <a:t>¿Cuál es el rol más importante de la Administración de Riesgos de TI para las empresas ho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A0B4-ED44-4136-8AED-E1414A82BA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68280" y="1627200"/>
            <a:ext cx="393372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 Narrow"/>
              </a:rPr>
              <a:t>Más de la mitad del tiempo y de los presupuestos se destina a operaciones de rutina y respuesta ante incide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 Narrow"/>
              </a:rPr>
              <a:t>Sólo el 22% del tiempo y el 17% de los presupuestos son destinados a temas estratég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Arial Narrow"/>
              </a:rPr>
              <a:t>Menos de un tercio se reúnen mensualmente con auditoría interna, área de control de cumplimiento y líderes de unidades de negoc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889520" y="2185920"/>
            <a:ext cx="4048200" cy="2638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38520" y="2060640"/>
            <a:ext cx="4391280" cy="2755800"/>
          </a:xfrm>
          <a:prstGeom prst="rect">
            <a:avLst/>
          </a:prstGeom>
          <a:noFill/>
          <a:ln w="9360">
            <a:solidFill>
              <a:srgbClr val="f66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iempo y presupuesto de la Administración de Riesgos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73520" y="2246400"/>
            <a:ext cx="944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73520" y="2549520"/>
            <a:ext cx="1440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Operaciones de Ru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86480" y="2903400"/>
            <a:ext cx="1336320" cy="3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Respuesta frente           a un ata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73520" y="3281400"/>
            <a:ext cx="148608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Cumplimiento con regulaciones y audito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80000" y="3654360"/>
            <a:ext cx="62208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3DEC2-02A1-4DD9-8BF4-6A2BB17D70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Interdependencia con Clientes y Proveedor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297000" y="1179360"/>
            <a:ext cx="79660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1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990000"/>
                </a:solidFill>
                <a:latin typeface="Arial Narrow"/>
              </a:rPr>
              <a:t>Las necesidades de ser cada vez más competitivos impulsa a las empresas a depender más de sus socios de negoci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2360" y="3816360"/>
            <a:ext cx="796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ta relación ofrece a las empresas ventajas competitivas, pero puede producir varios de los principales riesgos de TI presentados anterior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1640" y="3249720"/>
            <a:ext cx="81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8688-D348-4FAD-8E2B-6BDA0742EA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5920" y="1943280"/>
            <a:ext cx="3151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 Narrow"/>
              </a:rPr>
              <a:t>Una quinta parte no considera en absoluto la administración de riesgo de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 Narrow"/>
              </a:rPr>
              <a:t>Sólo una tercera parte  tiene implementados procedimientos informales para hacer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1512720"/>
            <a:ext cx="501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333399"/>
                </a:solidFill>
                <a:latin typeface="Arial Narrow"/>
              </a:rPr>
              <a:t>¿Cómo las organizaciones están tomando en cuenta la administración de riesgo de proveedor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032360" y="2500200"/>
            <a:ext cx="4854600" cy="2094120"/>
          </a:xfrm>
          <a:prstGeom prst="rect">
            <a:avLst/>
          </a:prstGeom>
          <a:ln w="12600">
            <a:solidFill>
              <a:srgbClr val="f66708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4321080" y="2719440"/>
            <a:ext cx="13906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EY Gothic Cond Medium"/>
              </a:rPr>
              <a:t>No la toman en cu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4840" y="3071880"/>
            <a:ext cx="13906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EY Gothic Cond Medium"/>
              </a:rPr>
              <a:t>Procedimientos infor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30800" y="3471840"/>
            <a:ext cx="13906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EY Gothic Cond Medium"/>
              </a:rPr>
              <a:t>Procedimientos for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05440" y="3828960"/>
            <a:ext cx="16160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EY Gothic Cond Medium"/>
              </a:rPr>
              <a:t>Procedimientos formales validados por un terc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Interdependencia con Clientes y Proveedore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81ABC-6319-4958-8E48-4EC76D4547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4854600" cy="2679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411280" y="1152360"/>
            <a:ext cx="625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143b7b"/>
                </a:solidFill>
                <a:latin typeface="Arial Narrow"/>
              </a:rPr>
              <a:t>¿Cómo administran las organizaciones el riesgo de proveedores? ¿Qué les exigen a sus socios de negoc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08280" y="2030400"/>
            <a:ext cx="185724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Los proveedores tienen la capacidad de soportar sus propias políticas y estánd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46520" y="2459160"/>
            <a:ext cx="1720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Los proveedores cuentan con sus propias políticas y proced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57560" y="3056040"/>
            <a:ext cx="1405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Los proveedores       son certific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17920" y="3597120"/>
            <a:ext cx="1944720" cy="77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Terceras partes han revisado las prácticas de Seguridad Informática de los proveedores y las han comparado con las mejores práct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36880" y="4371840"/>
            <a:ext cx="139392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4000" y="4689360"/>
            <a:ext cx="87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 importante evaluar los riesgos asociados con el trabajo con socios de negocio, y con la tercerización de servicios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a evaluación debe ser realizada antes de establecer una relación contractua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Interdependencia con Clientes y Proveedore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37000" y="1943280"/>
            <a:ext cx="5130720" cy="2476440"/>
          </a:xfrm>
          <a:prstGeom prst="rect">
            <a:avLst/>
          </a:prstGeom>
          <a:noFill/>
          <a:ln w="9360">
            <a:solidFill>
              <a:srgbClr val="f66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4C51C-DE08-4CA8-AD0F-B1F28EE97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l valor de los estándares reconoc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040" y="1089000"/>
            <a:ext cx="83473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Según los resultados de la encuesta, durante el próximo año aumentará la cantidad de organizaciones que adoptarán algunos de los siguientes estánd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4880" y="2847960"/>
            <a:ext cx="166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</a:rPr>
              <a:t>ISO 177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Seguridad Informá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90720" y="2665440"/>
            <a:ext cx="170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</a:rPr>
              <a:t>I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frastructure Libra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73440" y="3738600"/>
            <a:ext cx="166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</a:rPr>
              <a:t>BS 77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Seguridad Informát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18440" y="2619360"/>
            <a:ext cx="1599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</a:rPr>
              <a:t>CO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Control Objective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form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lated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59840" y="3873600"/>
            <a:ext cx="171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 Narrow"/>
              </a:rPr>
              <a:t>C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sarrollo de Softwa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038560"/>
            <a:ext cx="864216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Si bien más del 66% reconoció que los estándares demuestran a los clientes un compromiso con buenas prácticas de administración de riesgos y seguridad informática,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 Narrow"/>
              </a:rPr>
              <a:t>en muchos casos no se aprovechan los beneficios que se pueden obtener por el cumplimiento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2360" y="2384280"/>
            <a:ext cx="7920000" cy="2305080"/>
          </a:xfrm>
          <a:prstGeom prst="rect">
            <a:avLst/>
          </a:prstGeom>
          <a:noFill/>
          <a:ln w="9360">
            <a:solidFill>
              <a:srgbClr val="f66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3686040"/>
            <a:ext cx="297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 Narrow"/>
              </a:rPr>
              <a:t>C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Narrow"/>
              </a:rPr>
              <a:t>(Committee of Sponsoring Organisation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 Narrow"/>
              </a:rPr>
              <a:t>Treadway Commission-Internal Contr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A6B3-3B22-4362-BF03-6A67758837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122720" y="1494000"/>
            <a:ext cx="48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143b7b"/>
                </a:solidFill>
                <a:latin typeface="Arial Narrow"/>
              </a:rPr>
              <a:t>Porcentaje de organizaciones que han adoptado alguno de los siguientes estándares o planean hacer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2960" y="1628640"/>
            <a:ext cx="32544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25% afirman estar usando las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ISO 17.799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y otro 30% está planeando hac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5920" y="3475080"/>
            <a:ext cx="31716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Casi un cuarto afirmó estar aplicando actualmente </a:t>
            </a:r>
            <a:r>
              <a:rPr b="0" lang="es-AR" sz="2400" spc="-1" strike="noStrike" u="sng">
                <a:solidFill>
                  <a:srgbClr val="000000"/>
                </a:solidFill>
                <a:uFillTx/>
                <a:latin typeface="Arial Narrow"/>
              </a:rPr>
              <a:t>ITIL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. Otro 22% está planeando hace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El valor de los estándares reconocido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257720" y="2419200"/>
            <a:ext cx="4619520" cy="2695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167360" y="2359080"/>
            <a:ext cx="4814640" cy="2790720"/>
          </a:xfrm>
          <a:prstGeom prst="rect">
            <a:avLst/>
          </a:prstGeom>
          <a:noFill/>
          <a:ln w="9360">
            <a:solidFill>
              <a:srgbClr val="f66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D314-ED77-45F0-9726-DF07A58299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762360" y="2800440"/>
            <a:ext cx="735120" cy="8046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Tecnologías Emerg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14320" y="1133640"/>
            <a:ext cx="731376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990000"/>
                </a:solidFill>
                <a:latin typeface="Arial Narrow"/>
              </a:rPr>
              <a:t>Las necesidades de negocio impulsan la adopción de nuevas tecnolog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2670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do que el entorno actual de negocios está impulsando el desarrollo y uso de estas tecnologías emergent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los riesgos asociados con la inacción aumentarán y serán cada vez más grav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1640" y="2619360"/>
            <a:ext cx="81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3789360"/>
            <a:ext cx="810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276640" y="2844720"/>
            <a:ext cx="502920" cy="741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657360" y="3035160"/>
            <a:ext cx="1509480" cy="304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7182000" y="2952720"/>
            <a:ext cx="765000" cy="522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5832360" y="2689200"/>
            <a:ext cx="1146240" cy="1030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4421160" y="2889360"/>
            <a:ext cx="1006560" cy="26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598A-56AA-418C-B632-18CA507F7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Índic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701640" y="954000"/>
            <a:ext cx="524196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55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Int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55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Administración de Riesg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¿Por qué es tan import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Un Enfoque 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¿Dónde se encuentran los riesgos de 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Principales Riesgos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275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Entorno act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¿Cómo está la Administración de Riesgos de TI ho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Rol de la Administración de Riesgos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iempo y presupuesto de la Administración de Riesgos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Interdependencia con Clientes y Prov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El valor de los estándares reconoc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ecnologías Emer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esarrollo de Apl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ercerización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Aft>
                <a:spcPts val="201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2200" y="4005360"/>
            <a:ext cx="2585880" cy="189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3040" y="1403280"/>
            <a:ext cx="49860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82520" y="2664000"/>
            <a:ext cx="527040" cy="630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800680" y="1339920"/>
            <a:ext cx="3151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75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Situación dese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1360">
              <a:lnSpc>
                <a:spcPct val="100000"/>
              </a:lnSpc>
              <a:spcBef>
                <a:spcPts val="201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Administrador de Riesgos de 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1360"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Acciones a Consid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171360">
              <a:lnSpc>
                <a:spcPct val="100000"/>
              </a:lnSpc>
              <a:spcAft>
                <a:spcPts val="4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 Narrow"/>
                <a:ea typeface="Arial"/>
              </a:rPr>
              <a:t>Conclu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55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 Narrow"/>
                <a:ea typeface="Arial"/>
              </a:rPr>
              <a:t>Pregun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292720" y="1405080"/>
            <a:ext cx="501480" cy="58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C4C8-5ED8-4EE0-9B98-1A9738437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41280" y="2124000"/>
            <a:ext cx="346572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 Narrow"/>
              </a:rPr>
              <a:t>42% indican que las nuevas tecnologías van a tener impacto sobre la Administración de Riesgos de TI dentro de los próximos 12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 Narrow"/>
              </a:rPr>
              <a:t>Entre un cuarto y un tercio sostienen que no planean, al menos en los próximos doce meses, tomar acciones sobre las preocupaciones de seguridad de las nuevas tecnolog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99864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90000"/>
                </a:solidFill>
                <a:latin typeface="Arial Narrow"/>
              </a:rPr>
              <a:t>De acuerdo con la encuesta, muy pocas empresas cuentan con planes inmediatos para manejar los riesgos reacionados con las nuevas tecnolog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160880" y="2679840"/>
            <a:ext cx="4854600" cy="3365280"/>
          </a:xfrm>
          <a:prstGeom prst="rect">
            <a:avLst/>
          </a:prstGeom>
          <a:ln w="12600">
            <a:solidFill>
              <a:srgbClr val="f66708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4211640" y="2038320"/>
            <a:ext cx="48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143b7b"/>
                </a:solidFill>
                <a:latin typeface="Arial Narrow"/>
              </a:rPr>
              <a:t>¿Cuándo planean manejar las preocupaciones relacionadas con las nuevas tecnología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7560" y="2913120"/>
            <a:ext cx="134208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Computación mó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45000" y="3322800"/>
            <a:ext cx="12254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Disposi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remov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09280" y="3807000"/>
            <a:ext cx="136044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Redes inalám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99120" y="4178160"/>
            <a:ext cx="146664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Telefonía de Vo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sobre 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63880" y="4711680"/>
            <a:ext cx="1009800" cy="2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Software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32320" y="5049720"/>
            <a:ext cx="1371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Virtu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 Narrow"/>
              </a:rPr>
              <a:t>de servi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65840" y="5638680"/>
            <a:ext cx="44748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 Narrow"/>
              </a:rPr>
              <a:t>Ah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57760" y="5638680"/>
            <a:ext cx="7905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 Narrow"/>
              </a:rPr>
              <a:t>6-12 me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19840" y="5638680"/>
            <a:ext cx="166680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 Narrow"/>
              </a:rPr>
              <a:t>Más de 12 me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ogías Emergente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9CE1-FA74-497F-949D-6BFE85B597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546280" y="2565360"/>
            <a:ext cx="5024520" cy="2259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85920" y="4992840"/>
            <a:ext cx="823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Las organizaciones deberían incluir a la Administración de Riesgos desde el inicio de cualquier proyecto informá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641680" y="2705040"/>
            <a:ext cx="1714320" cy="186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 Narrow"/>
              </a:rPr>
              <a:t>Implementar Seguridad Informática en el proceso de desarrollo de aplicac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 Narrow"/>
              </a:rPr>
              <a:t>Administración de riesgo de 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 Narrow"/>
              </a:rPr>
              <a:t>Entrenamiento y conscient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4280" y="1224000"/>
            <a:ext cx="814536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Sólo el 56% considera formalmente la Administración de Riesgos en su proceso de </a:t>
            </a: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desarrollo de aplicaciones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, pese a que la mayoría afirmó que las aplicaciones web son una preocupación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esarrollo de Aplic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5C6A-502C-482F-B09B-619120A96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97000" y="1089000"/>
            <a:ext cx="839124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Más de la mitad sostuvo que la </a:t>
            </a: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disponibilidad de especialistas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de TI y seguridad informática es su mayor desafío para ejecutar proyectos estratégicos de Administración de Riesgos. Sin embarg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La mayoría continúa manejando estas actividades intern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Cerca de tres cuartos afirmaron que todavía manejan la respuesta ante incidentes intern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1728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Cerca del 85% afirmó hacer lo mismo con la administración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rcerización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1640" y="4419720"/>
            <a:ext cx="853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Tanto la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 Narrow"/>
              </a:rPr>
              <a:t>respuesta ante incidentes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 como la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 Narrow"/>
              </a:rPr>
              <a:t>administración de proyectos</a:t>
            </a:r>
            <a:r>
              <a:rPr b="0" lang="en-US" sz="2000" spc="-1" strike="noStrike">
                <a:solidFill>
                  <a:srgbClr val="990000"/>
                </a:solidFill>
                <a:latin typeface="Arial Narrow"/>
              </a:rPr>
              <a:t> (PM) son áreas que puede tercerizar la Administración de Riesgos. En el caso de PM se tiene la ventaja de poder acceder a especialistas en el tema que habitualmente suelen no estar disponible en l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69EA-8F91-45E2-9572-8E43C48816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3960" y="2463840"/>
            <a:ext cx="317196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6040" indent="-176040">
              <a:lnSpc>
                <a:spcPct val="100000"/>
              </a:lnSpc>
              <a:spcBef>
                <a:spcPts val="1349"/>
              </a:spcBef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Narrow"/>
              </a:rPr>
              <a:t>Dos terceras partes dijeron que ofrecen capacitación ejecutiva a la gerencia sobre riesgos y el impacto de los temas de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349"/>
              </a:spcBef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Narrow"/>
              </a:rPr>
              <a:t>Sólo un tercio provee a la gerencia entrenamiento sobre cómo responder frente a incidentes de segur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spcBef>
                <a:spcPts val="1349"/>
              </a:spcBef>
              <a:buClr>
                <a:srgbClr val="89323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Narrow"/>
              </a:rPr>
              <a:t>Menos de la mitad provee este entrenamiento a los grupos de usuarios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851280" y="2827440"/>
            <a:ext cx="5246640" cy="32572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998880" y="1927080"/>
            <a:ext cx="477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236d"/>
                </a:solidFill>
                <a:latin typeface="Arial Narrow"/>
              </a:rPr>
              <a:t>Programas de Entrenamiento y Conciencia sobre Riesgos y Seguridad Informática ofrecidos a la gerencia y a los grupos de usuarios en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64320" y="5359320"/>
            <a:ext cx="140148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PE" sz="1200" spc="-1" strike="noStrike">
                <a:solidFill>
                  <a:srgbClr val="000000"/>
                </a:solidFill>
                <a:latin typeface="Arial Narrow"/>
              </a:rPr>
              <a:t>G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89720" y="5359320"/>
            <a:ext cx="11606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PE" sz="1200" spc="-1" strike="noStrike">
                <a:solidFill>
                  <a:srgbClr val="000000"/>
                </a:solidFill>
                <a:latin typeface="Arial Narrow"/>
              </a:rPr>
              <a:t>Usuarios e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Capac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99864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90000"/>
                </a:solidFill>
                <a:latin typeface="Arial Narrow"/>
              </a:rPr>
              <a:t>Es necesario contar con un Administrador de Riesgos y con dueños de los procesos de TI capacitados y con exper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984E-3259-4412-B66B-DEFC9AD482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797360" y="954000"/>
            <a:ext cx="4319640" cy="5040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41280" y="4008600"/>
            <a:ext cx="46134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Veamos cómo debería s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51280" y="863640"/>
            <a:ext cx="4392720" cy="5221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1280" y="2079720"/>
            <a:ext cx="465768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0000"/>
                </a:solidFill>
                <a:latin typeface="Arial"/>
              </a:rPr>
              <a:t>Sit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0000"/>
                </a:solidFill>
                <a:latin typeface="Arial"/>
              </a:rPr>
              <a:t>des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8B7D-DA64-4CEA-AB2C-2E70E9729C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dministrador de Riesgos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000" y="1708200"/>
            <a:ext cx="846108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cc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Proveer una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base sólida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para desarrollar e implementar en forma exitosa una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estrategia, cultura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procesos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para la administración de riesgos de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cc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Desarrollar una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estrategia común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para la administración de riesgos de TI alineada con la estrategia de administración de riesgos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250"/>
              </a:spcAft>
              <a:buClr>
                <a:srgbClr val="cc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Centralizar la administración de riesgos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para asegurar metodologías de medición y un marco de trabajo común para todos los procesos de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cc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Instalar y mantener un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nivel de conscientización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sobre los riesgos de TI a través de toda la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cc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Medir los riesgos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de TI,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reportar exposiciones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y analizar en forma proactiva su impacto y relación con el riesgo operativo y de cump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0200" y="112716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¿Cuál debería ser su r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328E-92CC-4029-AD8E-C18E48F3BC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dministrador de Riesgos de TI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000" y="1712880"/>
            <a:ext cx="8324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cc33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Proveer un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único punto de contacto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para definir, comunicar e implementar la estrategia de administración de riesgos de 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cc33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Participar en el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Comité de Administración de Riesgos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de la organización integrado por los distintos dueños de los procesos y responsables de TI (Comunicaciones, Administradores de plataforma, Administradores de Sistemas, DBA, Soporte técnico y Help Desk, Operadores, ot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0200" y="112716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¿Cuál debería ser su r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AFAA-290A-41B5-A78F-E3613DA11E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53960" y="1808280"/>
            <a:ext cx="82234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Aprovechar la oportunidad que los cumplimientos legales, contractuales y regulatorios ofrecen para promover la Administración de Riesgos de TI como una parte integral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Evaluar y mitigar los riesgos propios de trabajar con ter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Considerar revisiones de terceros independientes, o requerir certificaciones para minimizar los riesgos que puedan existir como consecuencia de realizar negocios con ter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licar estándares de seguridad pa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000" indent="-185040">
              <a:lnSpc>
                <a:spcPct val="100000"/>
              </a:lnSpc>
              <a:spcBef>
                <a:spcPts val="224"/>
              </a:spcBef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ostrar a socios y clientes el compromiso con la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000" indent="-185040">
              <a:lnSpc>
                <a:spcPct val="100000"/>
              </a:lnSpc>
              <a:spcBef>
                <a:spcPts val="224"/>
              </a:spcBef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lang="es-AR" sz="1800" spc="-1" strike="noStrike">
                <a:solidFill>
                  <a:srgbClr val="000000"/>
                </a:solidFill>
                <a:latin typeface="Arial Narrow"/>
              </a:rPr>
              <a:t>roveer mejores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000" indent="-185040">
              <a:lnSpc>
                <a:spcPct val="100000"/>
              </a:lnSpc>
              <a:spcBef>
                <a:spcPts val="224"/>
              </a:spcBef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 Narrow"/>
              </a:rPr>
              <a:t>Mejorar el alineamiento de la Administración de Riesgos y Seguridad Informatica, con los objetivos de negocio de la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cciones a consider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9540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990000"/>
                </a:solidFill>
                <a:latin typeface="Arial Narrow"/>
              </a:rPr>
              <a:t>En función a la situación actual, enumeramos algunas acciones que creemos deben ser consider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C8F5-E956-4F24-9667-54766B00DE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3960" y="1289160"/>
            <a:ext cx="822348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 Narrow"/>
              </a:rPr>
              <a:t>Tomar medidas que permitan al negocio ser conducido de manera más segura con las nuev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valuar la exposición a los riesgos relacionados con las nuevas tecnologías, especialmente aquellas con controles inmaduros o de aquellas cuya seguridad depende en gran manera del comportamiento y conciencia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rticipar desde el inicio en el desarrollo de los proyectos aplicativos, aportando la visión de seguridad y control in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mplementar programas de capacitación y concientización sobre los riesgos de TI y la responsabilidad de los usuarios de seguridad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Reasignar recursos y presupuesto en áreas estratégicas automatizando y/o tercerizando tare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cciones a considerar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A697-2841-43EE-B98C-080E9A10E1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e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1224000"/>
            <a:ext cx="859608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El rol de Administrador de Riesgo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 Narrow"/>
              </a:rPr>
              <a:t>no</a:t>
            </a: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 es un rol operativo. Es un rol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La responsabilidad por gestionar en forma activa y mitigar los riesgos en forma diaria sigue siendo de los dueños de cada uno de los procesos o del oficial de 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Es fundamental contar con un enfoque de administración de riesgos de TI alineado con la estrategia de administración de riesgos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El nivel de conciencia de los empleados es importante para asegurar la continuidad y consistencia en el manejo de riesgos a lo largo de toda la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1500"/>
              </a:spcAft>
              <a:buClr>
                <a:srgbClr val="cc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Es importante conocer los riesgos que existen y el nivel de exposición de la organización para definir cuales se evitarán, cuales se mitigarán y cuales se aceptarán, en función de los costos relacionados con cada uno de los controles que deben implement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E7C7-B1A3-40DE-8ACF-496D7C952D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09800" y="1589040"/>
            <a:ext cx="5857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lnSpc>
                <a:spcPct val="120000"/>
              </a:lnSpc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 Narrow"/>
              </a:rPr>
              <a:t>Empresas Grandes y Py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1009800" y="2529000"/>
            <a:ext cx="6757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lnSpc>
                <a:spcPct val="120000"/>
              </a:lnSpc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 Narrow"/>
              </a:rPr>
              <a:t>Administración de Riesgos Tecnológ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09800" y="3384720"/>
            <a:ext cx="52416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3600" indent="-363600">
              <a:lnSpc>
                <a:spcPct val="120000"/>
              </a:lnSpc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 Narrow"/>
              </a:rPr>
              <a:t>Enfoque empírico </a:t>
            </a:r>
            <a:r>
              <a:rPr b="1" lang="es-AR" sz="3000" spc="-1" strike="noStrike">
                <a:solidFill>
                  <a:srgbClr val="990000"/>
                </a:solidFill>
                <a:latin typeface="Arial Narrow"/>
              </a:rPr>
              <a:t>(Encuest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640480"/>
            <a:ext cx="6166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 Narrow"/>
              </a:rPr>
              <a:t>Para obtener una copia de la Encuesta sitio web </a:t>
            </a:r>
            <a:r>
              <a:rPr b="0" lang="es-AR" sz="2000" spc="-1" strike="noStrike">
                <a:solidFill>
                  <a:srgbClr val="990000"/>
                </a:solidFill>
                <a:latin typeface="Arial Narrow"/>
              </a:rPr>
              <a:t>www.ey.com/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23A4-36B7-457B-B560-B365F670A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egunta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170160" y="1947960"/>
            <a:ext cx="2952720" cy="25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4ED3-566D-481F-A13B-17BFCDC56D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701640" y="2529000"/>
            <a:ext cx="387036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 Narrow"/>
              </a:rPr>
              <a:t>Fernando R. Conesa</a:t>
            </a:r>
            <a:br>
              <a:rPr sz="3600"/>
            </a:br>
            <a:r>
              <a:rPr b="1" lang="es-PE" sz="2400" spc="-1" strike="noStrike">
                <a:solidFill>
                  <a:srgbClr val="000000"/>
                </a:solidFill>
                <a:latin typeface="Arial Narrow"/>
              </a:rPr>
              <a:t>Socio </a:t>
            </a:r>
            <a:br>
              <a:rPr sz="3700"/>
            </a:br>
            <a:r>
              <a:rPr b="1" lang="es-PE" sz="2400" spc="-1" strike="noStrike">
                <a:solidFill>
                  <a:srgbClr val="990000"/>
                </a:solidFill>
                <a:latin typeface="Arial Narrow"/>
              </a:rPr>
              <a:t>fernando.conesa@ar.ey.com</a:t>
            </a:r>
            <a:br>
              <a:rPr sz="2400"/>
            </a:br>
            <a:r>
              <a:rPr b="1" lang="es-PE" sz="2400" spc="-1" strike="noStrike">
                <a:solidFill>
                  <a:srgbClr val="990000"/>
                </a:solidFill>
                <a:latin typeface="Arial Narrow"/>
              </a:rPr>
              <a:t>4318-17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192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tacto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5195880" y="2529000"/>
            <a:ext cx="33368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 Narrow"/>
              </a:rPr>
              <a:t>Pablo Dandois</a:t>
            </a:r>
            <a:br>
              <a:rPr sz="3600"/>
            </a:br>
            <a:r>
              <a:rPr b="1" lang="es-PE" sz="2400" spc="-1" strike="noStrike">
                <a:solidFill>
                  <a:srgbClr val="000000"/>
                </a:solidFill>
                <a:latin typeface="Arial Narrow"/>
              </a:rPr>
              <a:t>Director Ejecutivo </a:t>
            </a:r>
            <a:br>
              <a:rPr sz="3700"/>
            </a:br>
            <a:r>
              <a:rPr b="1" lang="es-PE" sz="2400" spc="-1" strike="noStrike">
                <a:solidFill>
                  <a:srgbClr val="990000"/>
                </a:solidFill>
                <a:latin typeface="Arial Narrow"/>
              </a:rPr>
              <a:t>pablo.dandois@ar.ey.com</a:t>
            </a:r>
            <a:br>
              <a:rPr sz="2400"/>
            </a:br>
            <a:r>
              <a:rPr b="1" lang="es-PE" sz="2400" spc="-1" strike="noStrike">
                <a:solidFill>
                  <a:srgbClr val="990000"/>
                </a:solidFill>
                <a:latin typeface="Arial Narrow"/>
              </a:rPr>
              <a:t>4318-17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A924-7E25-4BFE-8CA0-299E97D373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97360" y="930240"/>
            <a:ext cx="4318200" cy="5059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51280" y="863640"/>
            <a:ext cx="4392720" cy="5221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280" y="2259000"/>
            <a:ext cx="46576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176040" indent="-176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0000"/>
                </a:solidFill>
                <a:latin typeface="Arial"/>
              </a:rPr>
              <a:t>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0000"/>
                </a:solidFill>
                <a:latin typeface="Arial"/>
              </a:rPr>
              <a:t>de Riesg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1280" y="4286160"/>
            <a:ext cx="4613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Veamos algunos concepto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12E0-570E-4DC8-A08B-416974F989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¿Por qué es tan importante administrar los riesg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280" y="1403280"/>
            <a:ext cx="73357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umento de la complejidad de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Velocidad del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cremento de la complejidad de la economía 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ayores expectativas de los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ensificación de la competi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ambios tecnológico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Frecuencia en la ocurrencia de actividades fraudul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001"/>
              </a:spcAft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cremento de los riesgos que se a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8680" y="4987800"/>
            <a:ext cx="85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990000"/>
                </a:solidFill>
                <a:latin typeface="Arial"/>
              </a:rPr>
              <a:t>Estos factores están llevando a las organizaciones a desarrollar </a:t>
            </a:r>
            <a:r>
              <a:rPr b="1" lang="es-AR" sz="2000" spc="-1" strike="noStrike" u="sng">
                <a:solidFill>
                  <a:srgbClr val="990000"/>
                </a:solidFill>
                <a:uFillTx/>
                <a:latin typeface="Arial"/>
              </a:rPr>
              <a:t>procesos más sofisticados para evaluar y controlar los riesgos</a:t>
            </a:r>
            <a:r>
              <a:rPr b="1" lang="es-AR" sz="2000" spc="-1" strike="noStrike">
                <a:solidFill>
                  <a:srgbClr val="990000"/>
                </a:solidFill>
                <a:latin typeface="Arial"/>
              </a:rPr>
              <a:t> a fin de anticiparlos y actuar con mayor precaución y no por rea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EF4C-642D-4B30-AE1E-C2893F46E0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flipH="1">
            <a:off x="2287080" y="2789280"/>
            <a:ext cx="428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1984320"/>
            <a:ext cx="1298520" cy="154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28880" y="2027160"/>
            <a:ext cx="1180800" cy="419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02760" y="2130480"/>
            <a:ext cx="8031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Identific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28880" y="2530440"/>
            <a:ext cx="1180800" cy="417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3440" y="2606760"/>
            <a:ext cx="1106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38240" y="3048120"/>
            <a:ext cx="1181160" cy="419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26600" y="3117960"/>
            <a:ext cx="5058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Med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9440" y="4448160"/>
            <a:ext cx="1463760" cy="150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Continuamente medir el desempeño del proceso con las mejores prácticas a fin de identificar y reducir los riesg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91920" y="3362400"/>
            <a:ext cx="6523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Acept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10400" y="3513240"/>
            <a:ext cx="1755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Si el riesgo se transfi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1160" y="3497400"/>
            <a:ext cx="1703160" cy="250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1160" y="3833640"/>
            <a:ext cx="1703160" cy="33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Si el riesgo se redu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a un  nivel acep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1680" y="3618000"/>
            <a:ext cx="203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55880" y="200484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43320" y="3125520"/>
            <a:ext cx="0" cy="36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1520" y="2120760"/>
            <a:ext cx="0" cy="363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27040" y="1023840"/>
            <a:ext cx="6256440" cy="372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2000" spc="-1" strike="noStrike">
                <a:solidFill>
                  <a:srgbClr val="990000"/>
                </a:solidFill>
                <a:latin typeface="Arial Narrow"/>
              </a:rPr>
              <a:t>Continuamente evaluar los riesgos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41480" y="1852560"/>
            <a:ext cx="902160" cy="23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Inacep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02000" y="1793880"/>
            <a:ext cx="7527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Rechaz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8120" y="2519280"/>
            <a:ext cx="1274760" cy="585720"/>
          </a:xfrm>
          <a:prstGeom prst="hexagon">
            <a:avLst>
              <a:gd name="adj" fmla="val 54399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Análisi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Riesgo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1200" y="3459240"/>
            <a:ext cx="850320" cy="256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Acep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38560" y="3154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052960" y="1985760"/>
            <a:ext cx="1800" cy="360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302080" y="4032360"/>
            <a:ext cx="565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52880" y="2789280"/>
            <a:ext cx="368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89560" y="2390760"/>
            <a:ext cx="1206360" cy="704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Continuam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monitor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02080" y="3367080"/>
            <a:ext cx="0" cy="66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4307040"/>
            <a:ext cx="0" cy="7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302520" y="5133960"/>
            <a:ext cx="522000" cy="4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71280" y="4309920"/>
            <a:ext cx="680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35360" y="5553000"/>
            <a:ext cx="31752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40080" y="5046840"/>
            <a:ext cx="43632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4440" y="4572000"/>
            <a:ext cx="1293840" cy="108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¿Existen y funcionan procesos de contro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de riesgo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del negocio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991800" y="5054760"/>
            <a:ext cx="15228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16080" y="4346640"/>
            <a:ext cx="714600" cy="388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54240" y="5400720"/>
            <a:ext cx="716040" cy="3650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79640" y="4552920"/>
            <a:ext cx="0" cy="103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9640" y="5567400"/>
            <a:ext cx="17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5303880"/>
            <a:ext cx="1832040" cy="49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Diseñar e instalar un proceso de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00720" y="4570560"/>
            <a:ext cx="1800" cy="9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886360" y="5562360"/>
            <a:ext cx="41616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79640" y="4537080"/>
            <a:ext cx="17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77280" y="4037040"/>
            <a:ext cx="19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6800" y="4568760"/>
            <a:ext cx="254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773840" y="40179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4400" y="3089160"/>
            <a:ext cx="1703160" cy="331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Al nivel de riesg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1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05320" y="3375000"/>
            <a:ext cx="565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n Enfoque Integ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7F22A-D01D-4E2D-ABCB-AC7C06FDA4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97360" y="2168640"/>
            <a:ext cx="1162080" cy="449280"/>
          </a:xfrm>
          <a:prstGeom prst="rect">
            <a:avLst/>
          </a:prstGeom>
          <a:solidFill>
            <a:srgbClr val="bae8ba"/>
          </a:solidFill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6600"/>
                </a:solidFill>
                <a:latin typeface="Arial"/>
              </a:rPr>
              <a:t>Ries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6600"/>
                </a:solidFill>
                <a:latin typeface="Arial"/>
              </a:rPr>
              <a:t>Crédi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9760" y="1359000"/>
            <a:ext cx="1162080" cy="449280"/>
          </a:xfrm>
          <a:prstGeom prst="rect">
            <a:avLst/>
          </a:prstGeom>
          <a:solidFill>
            <a:srgbClr val="ffc9ff"/>
          </a:solidFill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800080"/>
                </a:solidFill>
                <a:latin typeface="Arial"/>
              </a:rPr>
              <a:t>Ries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48080" y="2168640"/>
            <a:ext cx="1162080" cy="449280"/>
          </a:xfrm>
          <a:prstGeom prst="rect">
            <a:avLst/>
          </a:prstGeom>
          <a:solidFill>
            <a:srgbClr val="ffeea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cc9900"/>
                </a:solidFill>
                <a:latin typeface="Arial"/>
              </a:rPr>
              <a:t>Ries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cc9900"/>
                </a:solidFill>
                <a:latin typeface="Arial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48440" y="2168640"/>
            <a:ext cx="1161720" cy="449280"/>
          </a:xfrm>
          <a:prstGeom prst="rect">
            <a:avLst/>
          </a:prstGeom>
          <a:solidFill>
            <a:srgbClr val="c1e0ff"/>
          </a:solidFill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Ries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7000" y="2168640"/>
            <a:ext cx="1162080" cy="449280"/>
          </a:xfrm>
          <a:prstGeom prst="rect">
            <a:avLst/>
          </a:prstGeom>
          <a:solidFill>
            <a:srgbClr val="ffb3b3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cc3300"/>
                </a:solidFill>
                <a:latin typeface="Arial"/>
              </a:rPr>
              <a:t>Riesg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cc3300"/>
                </a:solidFill>
                <a:latin typeface="Arial"/>
              </a:rPr>
              <a:t>Nego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4" idx="2"/>
            <a:endCxn id="163" idx="0"/>
          </p:cNvCxnSpPr>
          <p:nvPr/>
        </p:nvCxnSpPr>
        <p:spPr>
          <a:xfrm flipH="1" rot="16200000">
            <a:off x="3970440" y="1644120"/>
            <a:ext cx="329040" cy="687960"/>
          </a:xfrm>
          <a:prstGeom prst="bentConnector3">
            <a:avLst>
              <a:gd name="adj1" fmla="val 497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4" idx="2"/>
            <a:endCxn id="166" idx="0"/>
          </p:cNvCxnSpPr>
          <p:nvPr/>
        </p:nvCxnSpPr>
        <p:spPr>
          <a:xfrm flipH="1" rot="16200000">
            <a:off x="4645080" y="968400"/>
            <a:ext cx="329040" cy="2039400"/>
          </a:xfrm>
          <a:prstGeom prst="bentConnector3">
            <a:avLst>
              <a:gd name="adj1" fmla="val 497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4" idx="2"/>
            <a:endCxn id="165" idx="0"/>
          </p:cNvCxnSpPr>
          <p:nvPr/>
        </p:nvCxnSpPr>
        <p:spPr>
          <a:xfrm rot="5400000">
            <a:off x="3293640" y="1658880"/>
            <a:ext cx="332280" cy="662400"/>
          </a:xfrm>
          <a:prstGeom prst="bentConnector3">
            <a:avLst>
              <a:gd name="adj1" fmla="val 492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4" idx="2"/>
            <a:endCxn id="167" idx="0"/>
          </p:cNvCxnSpPr>
          <p:nvPr/>
        </p:nvCxnSpPr>
        <p:spPr>
          <a:xfrm rot="5400000">
            <a:off x="2617920" y="983160"/>
            <a:ext cx="332280" cy="2013480"/>
          </a:xfrm>
          <a:prstGeom prst="bentConnector3">
            <a:avLst>
              <a:gd name="adj1" fmla="val 492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572000" y="2800440"/>
            <a:ext cx="1162080" cy="31248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Cumpl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9920" y="3203640"/>
            <a:ext cx="1162080" cy="31284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608280"/>
            <a:ext cx="1162080" cy="31284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Impu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67360" y="2798640"/>
            <a:ext cx="1162080" cy="31284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62680" y="3206880"/>
            <a:ext cx="1162080" cy="31248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7360" y="3608280"/>
            <a:ext cx="1162080" cy="31284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66" idx="2"/>
            <a:endCxn id="172" idx="3"/>
          </p:cNvCxnSpPr>
          <p:nvPr/>
        </p:nvCxnSpPr>
        <p:spPr>
          <a:xfrm rot="5400000">
            <a:off x="5623920" y="2752200"/>
            <a:ext cx="324360" cy="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6" idx="2"/>
            <a:endCxn id="173" idx="3"/>
          </p:cNvCxnSpPr>
          <p:nvPr/>
        </p:nvCxnSpPr>
        <p:spPr>
          <a:xfrm rot="5400000">
            <a:off x="5426280" y="2957760"/>
            <a:ext cx="727560" cy="78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" name=""/>
          <p:cNvCxnSpPr>
            <a:stCxn id="166" idx="2"/>
            <a:endCxn id="174" idx="3"/>
          </p:cNvCxnSpPr>
          <p:nvPr/>
        </p:nvCxnSpPr>
        <p:spPr>
          <a:xfrm rot="5400000">
            <a:off x="5219640" y="3156480"/>
            <a:ext cx="1132560" cy="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7" idx="1"/>
          </p:cNvCxnSpPr>
          <p:nvPr/>
        </p:nvCxnSpPr>
        <p:spPr>
          <a:xfrm flipH="1" rot="16200000">
            <a:off x="5326920" y="3135240"/>
            <a:ext cx="113256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6" idx="1"/>
          </p:cNvCxnSpPr>
          <p:nvPr/>
        </p:nvCxnSpPr>
        <p:spPr>
          <a:xfrm flipH="1" rot="16200000">
            <a:off x="5525280" y="2936880"/>
            <a:ext cx="730800" cy="124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166" idx="2"/>
            <a:endCxn id="175" idx="1"/>
          </p:cNvCxnSpPr>
          <p:nvPr/>
        </p:nvCxnSpPr>
        <p:spPr>
          <a:xfrm flipH="1" rot="16200000">
            <a:off x="5731560" y="2730240"/>
            <a:ext cx="32292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1068480" y="2709720"/>
            <a:ext cx="189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Entorno de Nego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iclos Econó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Tendencias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Indust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000000"/>
                </a:solidFill>
                <a:latin typeface="Arial"/>
              </a:rPr>
              <a:t>Visión estratég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95920" y="2720880"/>
            <a:ext cx="1666800" cy="852480"/>
          </a:xfrm>
          <a:prstGeom prst="ellipse">
            <a:avLst/>
          </a:prstGeom>
          <a:noFill/>
          <a:ln w="316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407360" y="2527200"/>
            <a:ext cx="404640" cy="27144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37360" y="2184480"/>
            <a:ext cx="14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cc3300"/>
                </a:solidFill>
                <a:latin typeface="Arial"/>
              </a:rPr>
              <a:t>Riesgos de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7360" y="4013280"/>
            <a:ext cx="1162080" cy="312480"/>
          </a:xfrm>
          <a:prstGeom prst="rect">
            <a:avLst/>
          </a:prstGeom>
          <a:solidFill>
            <a:srgbClr val="c1e0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333399"/>
                </a:solidFill>
                <a:latin typeface="Arial"/>
              </a:rPr>
              <a:t>Transac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66" idx="2"/>
            <a:endCxn id="188" idx="1"/>
          </p:cNvCxnSpPr>
          <p:nvPr/>
        </p:nvCxnSpPr>
        <p:spPr>
          <a:xfrm flipH="1" rot="16200000">
            <a:off x="5124600" y="3337560"/>
            <a:ext cx="153720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¿Donde se encuentran los riesgos de 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6680" y="513252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 Narrow"/>
              </a:rPr>
              <a:t>Veamos cuáles son los principales riesgos de 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B331-6B26-4D51-855A-B52D423D17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301680"/>
            <a:ext cx="8915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</a:rPr>
              <a:t>Principales Riesgos de 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4640" y="1628640"/>
            <a:ext cx="8623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Falta de alineamiento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de los objetivos de TI con los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Incumplimiento con regulaciones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locales e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Fraudes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a través de los sistemas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Imposibilidad de adaptarse a los </a:t>
            </a: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cambios tecnológico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Robo de información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confid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1500"/>
              </a:spcAft>
              <a:buClr>
                <a:srgbClr val="99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Falta de </a:t>
            </a:r>
            <a:r>
              <a:rPr b="0" lang="es-AR" sz="2400" spc="-1" strike="noStrike">
                <a:solidFill>
                  <a:srgbClr val="990000"/>
                </a:solidFill>
                <a:latin typeface="Arial Narrow"/>
              </a:rPr>
              <a:t>concientización y conocimiento</a:t>
            </a:r>
            <a:r>
              <a:rPr b="0" lang="es-AR" sz="2400" spc="-1" strike="noStrike">
                <a:solidFill>
                  <a:srgbClr val="000000"/>
                </a:solidFill>
                <a:latin typeface="Arial Narrow"/>
              </a:rPr>
              <a:t> de l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1C4D-995F-4520-8D1E-FB0432AE4A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41280" y="2611440"/>
            <a:ext cx="46576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4000"/>
          </a:bodyPr>
          <a:p>
            <a:pPr marL="165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990000"/>
                </a:solidFill>
                <a:latin typeface="Arial"/>
              </a:rPr>
              <a:t>Entorno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280" y="4006800"/>
            <a:ext cx="4613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000000"/>
                </a:solidFill>
                <a:latin typeface="Arial"/>
              </a:rPr>
              <a:t>Veamos cómo estamos ho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886280" y="954000"/>
            <a:ext cx="4210200" cy="5040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51280" y="863640"/>
            <a:ext cx="4392720" cy="5221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3C6E-F52C-44CB-8C0B-B07FE4C14C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0:34:31Z</dcterms:created>
  <dc:creator/>
  <dc:description/>
  <dc:language>en-US</dc:language>
  <cp:lastModifiedBy>C.P.C.E.C.A.B.A.</cp:lastModifiedBy>
  <dcterms:modified xsi:type="dcterms:W3CDTF">2006-05-11T17:48:18Z</dcterms:modified>
  <cp:revision>1479</cp:revision>
  <dc:subject/>
  <dc:title>PowerPoint Presentation</dc:title>
</cp:coreProperties>
</file>