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924680" y="628560"/>
            <a:ext cx="10764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H="1">
            <a:off x="0" y="914400"/>
            <a:ext cx="7848720" cy="0"/>
          </a:xfrm>
          <a:prstGeom prst="line">
            <a:avLst/>
          </a:prstGeom>
          <a:ln w="9360">
            <a:solidFill>
              <a:srgbClr val="2478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93320" y="6553080"/>
            <a:ext cx="166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PCECABA –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Mayo de 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198840" y="6597720"/>
            <a:ext cx="2737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1" lang="en-US" sz="9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er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greso de Tecnología de la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682200" y="762120"/>
            <a:ext cx="3126600" cy="1465560"/>
            <a:chOff x="682200" y="762120"/>
            <a:chExt cx="3126600" cy="146556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073160" y="762120"/>
              <a:ext cx="23068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82200" y="1828800"/>
              <a:ext cx="31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Open Solutions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57840" y="555480"/>
            <a:ext cx="3994200" cy="1044720"/>
          </a:xfrm>
          <a:prstGeom prst="rect">
            <a:avLst/>
          </a:prstGeom>
          <a:ln w="0">
            <a:noFill/>
          </a:ln>
        </p:spPr>
      </p:pic>
      <p:pic>
        <p:nvPicPr>
          <p:cNvPr id="44" name="Rueda" descr=""/>
          <p:cNvPicPr/>
          <p:nvPr/>
        </p:nvPicPr>
        <p:blipFill>
          <a:blip r:embed="rId4"/>
          <a:stretch/>
        </p:blipFill>
        <p:spPr>
          <a:xfrm>
            <a:off x="-50760" y="3875040"/>
            <a:ext cx="5003640" cy="2982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81560" y="1905120"/>
            <a:ext cx="4952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greso de Tecnología de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808080"/>
                </a:solidFill>
                <a:latin typeface="Arial"/>
                <a:ea typeface="Times New Roman"/>
              </a:rPr>
              <a:t>“</a:t>
            </a:r>
            <a:r>
              <a:rPr b="1" lang="es-AR" sz="2700" spc="-1" strike="noStrike">
                <a:solidFill>
                  <a:srgbClr val="808080"/>
                </a:solidFill>
                <a:latin typeface="Arial"/>
                <a:ea typeface="Times New Roman"/>
              </a:rPr>
              <a:t>Como se prepara una PyME para un cambio al ERP”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7520" y="5486400"/>
            <a:ext cx="425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r. Miguel Angel Calello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CP – UB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8200" y="325440"/>
            <a:ext cx="6065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La Contabilidad como Herrami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905120"/>
            <a:ext cx="761976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Diná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Integ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Conf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33640" y="1981080"/>
            <a:ext cx="3238560" cy="2895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8200" y="325440"/>
            <a:ext cx="6065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La Contabilidad como Herrami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162920" y="4419720"/>
            <a:ext cx="1523880" cy="1295280"/>
            <a:chOff x="7162920" y="4419720"/>
            <a:chExt cx="1523880" cy="1295280"/>
          </a:xfrm>
        </p:grpSpPr>
        <p:sp>
          <p:nvSpPr>
            <p:cNvPr id="69" name=""/>
            <p:cNvSpPr/>
            <p:nvPr/>
          </p:nvSpPr>
          <p:spPr>
            <a:xfrm>
              <a:off x="7162920" y="4419720"/>
              <a:ext cx="1218960" cy="99036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Form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15200" y="4572000"/>
              <a:ext cx="121932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Form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67480" y="4724280"/>
              <a:ext cx="121932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Form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162920" y="2819520"/>
            <a:ext cx="1523880" cy="1294920"/>
            <a:chOff x="7162920" y="2819520"/>
            <a:chExt cx="1523880" cy="1294920"/>
          </a:xfrm>
        </p:grpSpPr>
        <p:sp>
          <p:nvSpPr>
            <p:cNvPr id="73" name=""/>
            <p:cNvSpPr/>
            <p:nvPr/>
          </p:nvSpPr>
          <p:spPr>
            <a:xfrm>
              <a:off x="7162920" y="2819520"/>
              <a:ext cx="1218960" cy="99036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Unidade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Nego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15200" y="2971800"/>
              <a:ext cx="1219320" cy="99000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Unidade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Nego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67480" y="3124080"/>
              <a:ext cx="1219320" cy="99036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Unidade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Nego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162920" y="1219320"/>
            <a:ext cx="1523880" cy="1295280"/>
            <a:chOff x="7162920" y="1219320"/>
            <a:chExt cx="1523880" cy="1295280"/>
          </a:xfrm>
        </p:grpSpPr>
        <p:sp>
          <p:nvSpPr>
            <p:cNvPr id="77" name=""/>
            <p:cNvSpPr/>
            <p:nvPr/>
          </p:nvSpPr>
          <p:spPr>
            <a:xfrm>
              <a:off x="7162920" y="1219320"/>
              <a:ext cx="1218960" cy="99036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entro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Resul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15200" y="1371600"/>
              <a:ext cx="121932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entro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Resul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67480" y="1523880"/>
              <a:ext cx="121932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entro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Resul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880" y="4038480"/>
            <a:ext cx="1676520" cy="1447920"/>
            <a:chOff x="380880" y="4038480"/>
            <a:chExt cx="1676520" cy="1447920"/>
          </a:xfrm>
        </p:grpSpPr>
        <p:sp>
          <p:nvSpPr>
            <p:cNvPr id="81" name=""/>
            <p:cNvSpPr/>
            <p:nvPr/>
          </p:nvSpPr>
          <p:spPr>
            <a:xfrm>
              <a:off x="380880" y="4038480"/>
              <a:ext cx="121932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u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orr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4191120"/>
              <a:ext cx="1218960" cy="99036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u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orr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800" y="4343400"/>
              <a:ext cx="121932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u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orr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4495680"/>
              <a:ext cx="121932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u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orr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0880" y="1523880"/>
            <a:ext cx="1676520" cy="1447920"/>
            <a:chOff x="380880" y="1523880"/>
            <a:chExt cx="1676520" cy="1447920"/>
          </a:xfrm>
        </p:grpSpPr>
        <p:sp>
          <p:nvSpPr>
            <p:cNvPr id="86" name=""/>
            <p:cNvSpPr/>
            <p:nvPr/>
          </p:nvSpPr>
          <p:spPr>
            <a:xfrm>
              <a:off x="380880" y="1523880"/>
              <a:ext cx="121932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de Cu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160" y="1676520"/>
              <a:ext cx="1219320" cy="99036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de Cu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800" y="1828800"/>
              <a:ext cx="121896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de Cu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1981080"/>
              <a:ext cx="1219320" cy="990720"/>
            </a:xfrm>
            <a:prstGeom prst="foldedCorner">
              <a:avLst>
                <a:gd name="adj" fmla="val 12500"/>
              </a:avLst>
            </a:prstGeom>
            <a:solidFill>
              <a:srgbClr val="cc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de Cu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933640" y="1981080"/>
            <a:ext cx="3238560" cy="2895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.R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429000" y="2743200"/>
            <a:ext cx="2286000" cy="1447920"/>
            <a:chOff x="3429000" y="2743200"/>
            <a:chExt cx="2286000" cy="1447920"/>
          </a:xfrm>
        </p:grpSpPr>
        <p:sp>
          <p:nvSpPr>
            <p:cNvPr id="92" name=""/>
            <p:cNvSpPr/>
            <p:nvPr/>
          </p:nvSpPr>
          <p:spPr>
            <a:xfrm>
              <a:off x="3429000" y="2743200"/>
              <a:ext cx="1676520" cy="8384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Transa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640" y="2895840"/>
              <a:ext cx="1676160" cy="838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Transa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33920" y="3048120"/>
              <a:ext cx="1676520" cy="838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Transa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86200" y="3200400"/>
              <a:ext cx="1676520" cy="8384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Transa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840" y="3353040"/>
              <a:ext cx="1676160" cy="838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Transa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2286000"/>
            <a:ext cx="5029200" cy="2743200"/>
            <a:chOff x="2133720" y="2286000"/>
            <a:chExt cx="5029200" cy="2743200"/>
          </a:xfrm>
        </p:grpSpPr>
        <p:sp>
          <p:nvSpPr>
            <p:cNvPr id="98" name=""/>
            <p:cNvSpPr/>
            <p:nvPr/>
          </p:nvSpPr>
          <p:spPr>
            <a:xfrm flipV="1">
              <a:off x="2133720" y="4038480"/>
              <a:ext cx="1295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60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2362320"/>
              <a:ext cx="121896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60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867280" y="2286000"/>
              <a:ext cx="12956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60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3600" y="358128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91320" y="4267080"/>
              <a:ext cx="129528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60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276720" y="4800600"/>
            <a:ext cx="2590560" cy="1599840"/>
            <a:chOff x="3276720" y="4800600"/>
            <a:chExt cx="2590560" cy="1599840"/>
          </a:xfrm>
        </p:grpSpPr>
        <p:sp>
          <p:nvSpPr>
            <p:cNvPr id="104" name=""/>
            <p:cNvSpPr/>
            <p:nvPr/>
          </p:nvSpPr>
          <p:spPr>
            <a:xfrm>
              <a:off x="3276720" y="5527800"/>
              <a:ext cx="2590560" cy="872640"/>
            </a:xfrm>
            <a:prstGeom prst="flowChartInternalStorag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0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Tablero de Coma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0" y="4800600"/>
              <a:ext cx="0" cy="72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60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5680" y="325440"/>
            <a:ext cx="148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133720"/>
            <a:ext cx="761976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Open Solutions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La Contabilidad como Herramienta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El Valor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4600" y="325440"/>
            <a:ext cx="474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El “Valor”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133720"/>
            <a:ext cx="761976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Gasto vs.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Ayuda a Mejor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Saber Disting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Buscar Ayuda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4600" y="325440"/>
            <a:ext cx="474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El “Valor”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286000"/>
            <a:ext cx="69343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Una vez que se advierte el Valor que la Tecnología aporta a la Organización recién se puede evaluar el “Prec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5680" y="325440"/>
            <a:ext cx="148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133720"/>
            <a:ext cx="761976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Open Solutions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La Contabilidad como Herramienta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El Valor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4960" y="325440"/>
            <a:ext cx="335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El Cambio Cul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752480"/>
            <a:ext cx="79246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Misiones y Fu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División de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Toma de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Información Sensible – Dinámica – Suficiente – Oport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I N V O L U C R A R S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4960" y="325440"/>
            <a:ext cx="335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El Cambio Cul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9810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Compromiso de la 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Lider de primer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Coaching con toda la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Planificación 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Ejecución Discipl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4d4d4d"/>
                </a:solidFill>
                <a:latin typeface="Verdana"/>
              </a:rPr>
              <a:t>Seguimiento 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5680" y="325440"/>
            <a:ext cx="148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133720"/>
            <a:ext cx="761976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Open Solutions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La Contabilidad como Herramienta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El Valor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682200" y="762120"/>
            <a:ext cx="3126600" cy="1465560"/>
            <a:chOff x="682200" y="762120"/>
            <a:chExt cx="3126600" cy="14655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073160" y="762120"/>
              <a:ext cx="23068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82200" y="1828800"/>
              <a:ext cx="31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Open Solutions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857840" y="555480"/>
            <a:ext cx="3994200" cy="1044720"/>
          </a:xfrm>
          <a:prstGeom prst="rect">
            <a:avLst/>
          </a:prstGeom>
          <a:ln w="0">
            <a:noFill/>
          </a:ln>
        </p:spPr>
      </p:pic>
      <p:pic>
        <p:nvPicPr>
          <p:cNvPr id="124" name="Rueda" descr=""/>
          <p:cNvPicPr/>
          <p:nvPr/>
        </p:nvPicPr>
        <p:blipFill>
          <a:blip r:embed="rId4"/>
          <a:stretch/>
        </p:blipFill>
        <p:spPr>
          <a:xfrm>
            <a:off x="-50760" y="3875040"/>
            <a:ext cx="5003640" cy="2982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81560" y="1905120"/>
            <a:ext cx="4952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greso de Tecnología de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808080"/>
                </a:solidFill>
                <a:latin typeface="Arial"/>
                <a:ea typeface="Times New Roman"/>
              </a:rPr>
              <a:t>“</a:t>
            </a:r>
            <a:r>
              <a:rPr b="1" lang="es-AR" sz="2700" spc="-1" strike="noStrike">
                <a:solidFill>
                  <a:srgbClr val="808080"/>
                </a:solidFill>
                <a:latin typeface="Arial"/>
                <a:ea typeface="Times New Roman"/>
              </a:rPr>
              <a:t>Como se prepara una PyME para un cambio al ERP”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7520" y="5486400"/>
            <a:ext cx="425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r. Miguel Angel Calello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CP – UB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5680" y="325440"/>
            <a:ext cx="148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133720"/>
            <a:ext cx="761976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Open Solutions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La Contabilidad como Herramienta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El Valor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689120" y="1817640"/>
            <a:ext cx="5765760" cy="3289320"/>
            <a:chOff x="1689120" y="1817640"/>
            <a:chExt cx="5765760" cy="32893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1689120" y="1817640"/>
              <a:ext cx="576576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896840" y="4586400"/>
              <a:ext cx="534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Open Solutions Argentina S.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5680" y="325440"/>
            <a:ext cx="148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133720"/>
            <a:ext cx="761976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Open Solutions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La Contabilidad como Herramienta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El Valor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1587600"/>
            <a:ext cx="761976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16 años de trayectoria en 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Profesionales de Ciencias Econó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Orientada a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Primer Oracle partner en Argentina (199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Más de 80 clientes en Argentina y LAT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Segmento medianas y grande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Régimen de Promoción ley 25.9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Certificación CMMi + ISO 9001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Línea de Productos CONDOR</a:t>
            </a:r>
            <a:r>
              <a:rPr b="0" lang="es-MX" sz="1400" spc="-1" strike="noStrike" baseline="42000">
                <a:solidFill>
                  <a:srgbClr val="4d4d4d"/>
                </a:solidFill>
                <a:latin typeface="Verdana"/>
              </a:rPr>
              <a:t>®</a:t>
            </a: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7840" y="325440"/>
            <a:ext cx="456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Open Solutions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7840" y="325440"/>
            <a:ext cx="456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Open Solutions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enuenterprise" descr=""/>
          <p:cNvPicPr/>
          <p:nvPr/>
        </p:nvPicPr>
        <p:blipFill>
          <a:blip r:embed="rId2"/>
          <a:stretch/>
        </p:blipFill>
        <p:spPr>
          <a:xfrm>
            <a:off x="1366920" y="1219320"/>
            <a:ext cx="6405480" cy="4854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7840" y="325440"/>
            <a:ext cx="456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Open Solutions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enulight" descr=""/>
          <p:cNvPicPr/>
          <p:nvPr/>
        </p:nvPicPr>
        <p:blipFill>
          <a:blip r:embed="rId2"/>
          <a:stretch/>
        </p:blipFill>
        <p:spPr>
          <a:xfrm>
            <a:off x="1362240" y="1219320"/>
            <a:ext cx="6410160" cy="4898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7840" y="325440"/>
            <a:ext cx="456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Open Solutions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menuwork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10160" cy="4898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5680" y="325440"/>
            <a:ext cx="148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133720"/>
            <a:ext cx="761976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Open Solutions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4d4d4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La Contabilidad como Herramienta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El Valor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8200" y="325440"/>
            <a:ext cx="6065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La Contabilidad como Herrami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209680"/>
            <a:ext cx="76197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600" bIns="4428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Predicción o Autops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A quién si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4d4d4d"/>
                </a:solidFill>
                <a:latin typeface="Verdana"/>
              </a:rPr>
              <a:t>Una Carga o una Ayu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0:06:11Z</dcterms:created>
  <dc:creator>Miguel Calello</dc:creator>
  <dc:description/>
  <dc:language>en-US</dc:language>
  <cp:lastModifiedBy>C.P.C.E.C.A.B.A.</cp:lastModifiedBy>
  <dcterms:modified xsi:type="dcterms:W3CDTF">2006-05-11T17:46:56Z</dcterms:modified>
  <cp:revision>60</cp:revision>
  <dc:subject/>
  <dc:title>Presentación de PowerPoint</dc:title>
</cp:coreProperties>
</file>