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6480"/>
            <a:ext cx="91504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mailto:cameijeiras@iplan.com.ar" TargetMode="External"/><Relationship Id="rId3" Type="http://schemas.openxmlformats.org/officeDocument/2006/relationships/hyperlink" Target="mailto:ventas@iplan.com.ar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95280" y="1700280"/>
            <a:ext cx="820908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Voz sobre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Comunicación a través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Internet</a:t>
            </a:r>
            <a:r>
              <a:rPr b="1" lang="en-US" sz="4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24000" y="4815000"/>
            <a:ext cx="853416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udio Ameijei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yo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520720" cy="1000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78487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El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040" y="1844640"/>
            <a:ext cx="69058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CELULAR: MOVILIDA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DENTRO DE LA CASA / OFICINA: P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MUCHO ANCHO DE BANDA !!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LLAMADAS INTERNACIONALES: </a:t>
            </a:r>
            <a:r>
              <a:rPr b="1" lang="es-AR" sz="2900" spc="-1" strike="noStrike">
                <a:solidFill>
                  <a:srgbClr val="ff3300"/>
                </a:solidFill>
                <a:latin typeface="Tahoma"/>
              </a:rPr>
              <a:t>$0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El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4440" y="1566720"/>
            <a:ext cx="4584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CELULAR: MOVILIDA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81200" y="2662200"/>
            <a:ext cx="628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El celular será utilizado con altísimas penetr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con énfasis en la movilidad y facilidad de uso y 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vez más pres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Terminales duales GSM/WiFi = convergencia ent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las redes fijas (IP) y móv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70120" y="2374920"/>
            <a:ext cx="153036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El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6840" y="1695600"/>
            <a:ext cx="6156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LA PC EN EL HOGAR u OFICIN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2790720"/>
            <a:ext cx="55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La PC cada vez tomará más importancia co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“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centro técnológico” dentro del ho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Teléfonos y agendas integradas + PBX virt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Muchas 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Portabilidad num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719440"/>
            <a:ext cx="21589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El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6320" y="1685880"/>
            <a:ext cx="5907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BANDA ANCHA, MUY ANCHA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03560" y="2781360"/>
            <a:ext cx="557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La telefonía es parte del ancho de 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Se necesita capacidad en serio, simé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La ventaja es de los que inventan l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Sobre el Softswitch, más y más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Tecnologías de acceso cada vez más desarroll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14480" y="2565360"/>
            <a:ext cx="1368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639240" y="3933720"/>
            <a:ext cx="185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onquista 8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54-11) 5031-6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80680" y="2133720"/>
            <a:ext cx="167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órdoba 18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0341) 530-6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9240" y="2205000"/>
            <a:ext cx="167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rigoyen 1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0351) 568-6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931080" y="1917720"/>
            <a:ext cx="158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SARI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627360" y="3625920"/>
            <a:ext cx="1944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ENOS AI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5880" y="1962000"/>
            <a:ext cx="171936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ÓRDOB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3744720" cy="2826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154320" y="4862520"/>
            <a:ext cx="28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meijeiras@iplan.com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entas@iplan.com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www.iplan.com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4797360"/>
            <a:ext cx="6842160" cy="136836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El siglo pasado… Año 19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51200" y="2151000"/>
            <a:ext cx="696384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REDES TDM ESTÁNDAR: TOD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TELEFONÍA IP? UNA UTOPÍ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TELEFONÍA POR INTERNET: POCO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H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18640" y="1913040"/>
            <a:ext cx="756864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REDES TDM LEGAC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TELEFONÍA IP? TOD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900" spc="-1" strike="noStrike">
                <a:solidFill>
                  <a:srgbClr val="000000"/>
                </a:solidFill>
                <a:latin typeface="Tahoma"/>
              </a:rPr>
              <a:t>TELEFONÍA POR INTERNET: UN HECH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La historia rec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187280" y="134100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5661000"/>
            <a:ext cx="7490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0160" y="1197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73800" y="50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5084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2276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364500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6160" y="20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5520" y="344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720" y="4773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2276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364500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5084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760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-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2012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-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2376360" cy="2028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19848000">
            <a:off x="5366880" y="2491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774200">
            <a:off x="1265400" y="3146400"/>
            <a:ext cx="6121080" cy="873000"/>
          </a:xfrm>
          <a:prstGeom prst="rightArrow">
            <a:avLst>
              <a:gd name="adj1" fmla="val 50000"/>
              <a:gd name="adj2" fmla="val 175289"/>
            </a:avLst>
          </a:prstGeom>
          <a:solidFill>
            <a:srgbClr val="008000">
              <a:alpha val="61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La historia rec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187280" y="134100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5661000"/>
            <a:ext cx="7490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0160" y="1197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5084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276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364500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6160" y="20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520" y="344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720" y="4773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2276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364500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5084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9892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7236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760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-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2012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-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43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8000" y="4869000"/>
            <a:ext cx="1656000" cy="412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19640" y="3716280"/>
            <a:ext cx="3384360" cy="100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er intento de comun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r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chat parlante a trav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 la 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73800" y="50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La historia rec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187280" y="134100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5661000"/>
            <a:ext cx="7490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160" y="1197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5084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2276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364500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6160" y="20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520" y="344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720" y="4773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2276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364500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5084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9892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2760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-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2012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-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4869000"/>
            <a:ext cx="1656000" cy="41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30440" y="1771560"/>
            <a:ext cx="530280" cy="100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32000" y="2924280"/>
            <a:ext cx="3384720" cy="100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undación de ip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era red de telefonía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rpora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50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La historia rec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187280" y="134100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5661000"/>
            <a:ext cx="7490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0160" y="1197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084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2276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64500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160" y="20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5520" y="344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720" y="4773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2276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364500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5084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892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7236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2760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-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2012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-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43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4869000"/>
            <a:ext cx="1656000" cy="412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30440" y="1771560"/>
            <a:ext cx="530280" cy="100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1224000" cy="444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27640" y="2276640"/>
            <a:ext cx="3384360" cy="100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er desarrollo de i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 comun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r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8920" y="386064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3419640" y="386064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4051440"/>
            <a:ext cx="160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ndres – Bs. As. $5 el min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73800" y="50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79840" y="4051440"/>
            <a:ext cx="160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ndres – Bs. As. $0.02 el min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La historia rec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187280" y="134100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5661000"/>
            <a:ext cx="7490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0160" y="1197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5084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276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364500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160" y="20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520" y="344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720" y="4773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276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364500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5084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9892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2760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-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2012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-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8000" y="4869000"/>
            <a:ext cx="1656000" cy="412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96000" y="3648240"/>
            <a:ext cx="1276200" cy="572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530440" y="1771560"/>
            <a:ext cx="530280" cy="100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224000" cy="444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940360" y="3071880"/>
            <a:ext cx="1079640" cy="428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716360" y="1700280"/>
            <a:ext cx="3384720" cy="100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unicaciones por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sidenciales y Corpora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RATI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73800" y="50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1280" y="260280"/>
            <a:ext cx="712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Tahoma"/>
              </a:rPr>
              <a:t>La historia rec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187280" y="134100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5661000"/>
            <a:ext cx="7490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0160" y="1197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5084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227664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3645000"/>
            <a:ext cx="43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6160" y="20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5520" y="344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720" y="4773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2276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364500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50846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892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5445000"/>
            <a:ext cx="144360" cy="360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2760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-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20120" y="580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-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71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1916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8000" y="4869000"/>
            <a:ext cx="1656000" cy="412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796000" y="3648240"/>
            <a:ext cx="1276200" cy="572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30440" y="1771560"/>
            <a:ext cx="530280" cy="100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156360" y="4653000"/>
            <a:ext cx="681120" cy="706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851280" y="3429000"/>
            <a:ext cx="1224000" cy="44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940360" y="3071880"/>
            <a:ext cx="1079640" cy="428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6877080" y="4508640"/>
            <a:ext cx="297000" cy="442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7093080" y="4365720"/>
            <a:ext cx="296640" cy="442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7299360" y="4210200"/>
            <a:ext cx="297000" cy="442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173800" y="50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4:48:30Z</dcterms:created>
  <dc:creator>Claudio Ameijeiras</dc:creator>
  <dc:description/>
  <dc:language>en-US</dc:language>
  <cp:lastModifiedBy>C.P.C.E.C.A.B.A.</cp:lastModifiedBy>
  <dcterms:modified xsi:type="dcterms:W3CDTF">2006-05-11T18:10:40Z</dcterms:modified>
  <cp:revision>536</cp:revision>
  <dc:subject/>
  <dc:title>Casos de negoci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4596327</vt:r8>
  </property>
  <property fmtid="{D5CDD505-2E9C-101B-9397-08002B2CF9AE}" pid="3" name="_AuthorEmail">
    <vt:lpwstr>cameijeiras@iplan.com.ar</vt:lpwstr>
  </property>
  <property fmtid="{D5CDD505-2E9C-101B-9397-08002B2CF9AE}" pid="4" name="_AuthorEmailDisplayName">
    <vt:lpwstr>Claudio Ameijeiras</vt:lpwstr>
  </property>
  <property fmtid="{D5CDD505-2E9C-101B-9397-08002B2CF9AE}" pid="5" name="_EmailSubject">
    <vt:lpwstr>Presentación</vt:lpwstr>
  </property>
</Properties>
</file>