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D6E-2557-4507-9278-F2B5F378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FC1-236C-489E-8B2B-9E3EDC9F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4E5-63DE-495F-B738-1A078FE9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59D-DE2B-455C-9AA8-8AC41DDF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9CEA-849B-40E2-869C-B3A75140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200C-E3B3-4294-8E24-BDA166A6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A7EC-B9F9-455F-90DC-88A2CE8F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F99F-7218-4D07-808B-EA4950CD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A557-2251-4747-8AA0-99B93F07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2E2A-2F33-4BC5-B9B4-CDEA1FE6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7B60-B826-419F-89DC-251C5E80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493-0DA3-49B2-873A-C0523B90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5457-9796-4CC3-8504-944B11F7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AA5A-52A0-4F61-B54D-2D60DBFC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D872-5567-4CBD-9481-D1110514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67ED-074F-4639-AC07-FEF46909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463D-A248-4E5E-9E7D-911E339A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F74-81E5-4D12-A64D-041C1E79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C74-BEE0-4F57-8C78-E4179ADF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83A-6073-4550-995A-CCD890D9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557-E6E4-42AE-9E38-52DAD393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FAF-FF10-421B-AA33-CD82972D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694-2FA1-42FC-BC07-733691E5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4B5-11D8-482D-A241-AF40019E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A7D2-B003-4A2B-A2E6-46A0CEE3F1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A147-82B1-407B-8858-2A7A5E352D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2743200"/>
            <a:ext cx="809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L OBJETIVO DE LAS UNIONES ECONÓMICAS. LA POLÍTICA FIS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2670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800" spc="-1" strike="noStrike">
                <a:solidFill>
                  <a:srgbClr val="3333cc"/>
                </a:solidFill>
                <a:latin typeface="Times New Roman"/>
              </a:rPr>
              <a:t>Luiz Villela y Alberto Barre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02040" y="5715000"/>
            <a:ext cx="681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3er. Seminario Inter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Reforma Tributaria y Crecimiento Económic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Ciudad Autónoma de Buenos Aires, 9 de septiembre de 20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723924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185-28D3-42C1-B9AE-513DE77769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14400" y="457200"/>
            <a:ext cx="780084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ff"/>
                </a:solidFill>
                <a:latin typeface="Tahoma"/>
              </a:rPr>
              <a:t>TRIBUTACIÓN EN EL MERCOSUR: PRINCIPALES DI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480" y="1828800"/>
            <a:ext cx="9137160" cy="5024160"/>
            <a:chOff x="6480" y="1828800"/>
            <a:chExt cx="9137160" cy="5024160"/>
          </a:xfrm>
        </p:grpSpPr>
        <p:grpSp>
          <p:nvGrpSpPr>
            <p:cNvPr id="177" name=""/>
            <p:cNvGrpSpPr/>
            <p:nvPr/>
          </p:nvGrpSpPr>
          <p:grpSpPr>
            <a:xfrm>
              <a:off x="6480" y="1833480"/>
              <a:ext cx="2068200" cy="290520"/>
              <a:chOff x="6480" y="1833480"/>
              <a:chExt cx="2068200" cy="290520"/>
            </a:xfrm>
          </p:grpSpPr>
          <p:sp>
            <p:nvSpPr>
              <p:cNvPr id="178" name=""/>
              <p:cNvSpPr/>
              <p:nvPr/>
            </p:nvSpPr>
            <p:spPr>
              <a:xfrm>
                <a:off x="106920" y="1833480"/>
                <a:ext cx="186696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rumen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80" y="1833480"/>
                <a:ext cx="2068200" cy="29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75040" y="1828800"/>
              <a:ext cx="2620440" cy="295200"/>
              <a:chOff x="2075040" y="1828800"/>
              <a:chExt cx="2620440" cy="295200"/>
            </a:xfrm>
          </p:grpSpPr>
          <p:sp>
            <p:nvSpPr>
              <p:cNvPr id="181" name=""/>
              <p:cNvSpPr/>
              <p:nvPr/>
            </p:nvSpPr>
            <p:spPr>
              <a:xfrm>
                <a:off x="2177640" y="1828800"/>
                <a:ext cx="241452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75040" y="1828800"/>
                <a:ext cx="2620440" cy="295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4695840" y="1828800"/>
              <a:ext cx="4447800" cy="295200"/>
              <a:chOff x="4695840" y="1828800"/>
              <a:chExt cx="4447800" cy="295200"/>
            </a:xfrm>
          </p:grpSpPr>
          <p:sp>
            <p:nvSpPr>
              <p:cNvPr id="184" name=""/>
              <p:cNvSpPr/>
              <p:nvPr/>
            </p:nvSpPr>
            <p:spPr>
              <a:xfrm>
                <a:off x="4800240" y="1828800"/>
                <a:ext cx="423792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rapu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95840" y="1828800"/>
                <a:ext cx="4447800" cy="295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480" y="2124000"/>
              <a:ext cx="2068200" cy="1849320"/>
              <a:chOff x="6480" y="2124000"/>
              <a:chExt cx="2068200" cy="184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106920" y="2124000"/>
                <a:ext cx="1866960" cy="184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particip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480" y="2124000"/>
                <a:ext cx="2068200" cy="1849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075040" y="2124000"/>
              <a:ext cx="2620440" cy="1849320"/>
              <a:chOff x="2075040" y="2124000"/>
              <a:chExt cx="2620440" cy="1849320"/>
            </a:xfrm>
          </p:grpSpPr>
          <p:sp>
            <p:nvSpPr>
              <p:cNvPr id="190" name=""/>
              <p:cNvSpPr/>
              <p:nvPr/>
            </p:nvSpPr>
            <p:spPr>
              <a:xfrm>
                <a:off x="2177640" y="2124000"/>
                <a:ext cx="2414520" cy="184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co relevante en Uruguay y Paraguay, estados unitario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075040" y="2124000"/>
                <a:ext cx="2620440" cy="1849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695840" y="2124000"/>
              <a:ext cx="4447800" cy="1849320"/>
              <a:chOff x="4695840" y="2124000"/>
              <a:chExt cx="4447800" cy="1849320"/>
            </a:xfrm>
          </p:grpSpPr>
          <p:sp>
            <p:nvSpPr>
              <p:cNvPr id="193" name=""/>
              <p:cNvSpPr/>
              <p:nvPr/>
            </p:nvSpPr>
            <p:spPr>
              <a:xfrm>
                <a:off x="4800240" y="2124000"/>
                <a:ext cx="4237920" cy="184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uy importante en Argentina y Brasil,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rgentina: Provincias y municipios recaudan 4,5% del PBI y reciben 8% del PBI de coparticipacione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rasil: Estados y municipios recaudan  11% del PBI y reciben de la Unión 3.5% del PBI por transferenci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95840" y="2124000"/>
                <a:ext cx="4447800" cy="1849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480" y="3973680"/>
              <a:ext cx="2068200" cy="1360080"/>
              <a:chOff x="6480" y="3973680"/>
              <a:chExt cx="2068200" cy="1360080"/>
            </a:xfrm>
          </p:grpSpPr>
          <p:sp>
            <p:nvSpPr>
              <p:cNvPr id="196" name=""/>
              <p:cNvSpPr/>
              <p:nvPr/>
            </p:nvSpPr>
            <p:spPr>
              <a:xfrm>
                <a:off x="106920" y="3973680"/>
                <a:ext cx="1866960" cy="136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at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80" y="3973680"/>
                <a:ext cx="2068200" cy="1360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075040" y="3973680"/>
              <a:ext cx="2620440" cy="1360080"/>
              <a:chOff x="2075040" y="3973680"/>
              <a:chExt cx="2620440" cy="1360080"/>
            </a:xfrm>
          </p:grpSpPr>
          <p:sp>
            <p:nvSpPr>
              <p:cNvPr id="199" name=""/>
              <p:cNvSpPr/>
              <p:nvPr/>
            </p:nvSpPr>
            <p:spPr>
              <a:xfrm>
                <a:off x="2177640" y="3973680"/>
                <a:ext cx="2414520" cy="136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rgentina (24) y Brasil (18) tienen un tratado tributario entre ellos y legislaciones de precios de transferenc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75040" y="3973680"/>
                <a:ext cx="2620440" cy="1360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695840" y="3973680"/>
              <a:ext cx="4447800" cy="1360080"/>
              <a:chOff x="4695840" y="3973680"/>
              <a:chExt cx="4447800" cy="1360080"/>
            </a:xfrm>
          </p:grpSpPr>
          <p:sp>
            <p:nvSpPr>
              <p:cNvPr id="202" name=""/>
              <p:cNvSpPr/>
              <p:nvPr/>
            </p:nvSpPr>
            <p:spPr>
              <a:xfrm>
                <a:off x="4800240" y="3973680"/>
                <a:ext cx="4237920" cy="136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ruguay y Paraguay no tienen tratados con países de América Latina y muy pocos con países desarrollado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95840" y="3973680"/>
                <a:ext cx="4447800" cy="1360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6480" y="5334120"/>
              <a:ext cx="2068200" cy="1518840"/>
              <a:chOff x="6480" y="5334120"/>
              <a:chExt cx="2068200" cy="1518840"/>
            </a:xfrm>
          </p:grpSpPr>
          <p:sp>
            <p:nvSpPr>
              <p:cNvPr id="205" name=""/>
              <p:cNvSpPr/>
              <p:nvPr/>
            </p:nvSpPr>
            <p:spPr>
              <a:xfrm>
                <a:off x="106920" y="5334120"/>
                <a:ext cx="1866960" cy="151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ministración Tributa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480" y="5334120"/>
                <a:ext cx="2068200" cy="1518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2075040" y="5334120"/>
              <a:ext cx="2620440" cy="1518840"/>
              <a:chOff x="2075040" y="5334120"/>
              <a:chExt cx="2620440" cy="1518840"/>
            </a:xfrm>
          </p:grpSpPr>
          <p:sp>
            <p:nvSpPr>
              <p:cNvPr id="208" name=""/>
              <p:cNvSpPr/>
              <p:nvPr/>
            </p:nvSpPr>
            <p:spPr>
              <a:xfrm>
                <a:off x="2177640" y="5334120"/>
                <a:ext cx="2414520" cy="151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rgentina, Brasil y Paraguay tienen aduanas y administración de tributos internos en un mismo organism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75040" y="5334120"/>
                <a:ext cx="2620440" cy="1518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695840" y="5334120"/>
              <a:ext cx="4447800" cy="1518840"/>
              <a:chOff x="4695840" y="5334120"/>
              <a:chExt cx="4447800" cy="1518840"/>
            </a:xfrm>
          </p:grpSpPr>
          <p:sp>
            <p:nvSpPr>
              <p:cNvPr id="211" name=""/>
              <p:cNvSpPr/>
              <p:nvPr/>
            </p:nvSpPr>
            <p:spPr>
              <a:xfrm>
                <a:off x="4800240" y="5334120"/>
                <a:ext cx="4237920" cy="151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ruguay tiene la Aduana y la Administración Tributaria como entidades separada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695840" y="5334120"/>
                <a:ext cx="4447800" cy="1518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111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D33-E462-413F-907D-A1229E325C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ff"/>
                </a:solidFill>
                <a:latin typeface="Tahoma"/>
              </a:rPr>
              <a:t>Posibilidad de una Armonización    Tributaria Efec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s Tratados de Asunción y de Ouro Preto NO establecen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ínim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concesión de soberanía en favor de reglas comunitarias como en la CAN y EU, don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ff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 Derecho supranacional (derecho comunitario) constituye en esencia un instrumento de coordinación tributaria (lengua franca, debido proceso legal, y “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forcement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”)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22C-BF30-4369-8A23-58C7A9C39D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ff"/>
                </a:solidFill>
                <a:latin typeface="Tahoma"/>
              </a:rPr>
              <a:t>Posibilidad de una Armonización    Tributaria Efec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692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Times New Roman"/>
              </a:rPr>
              <a:t>1</a:t>
            </a:r>
            <a:r>
              <a:rPr b="1" lang="es-ES" sz="2600" spc="-1" strike="noStrike">
                <a:solidFill>
                  <a:srgbClr val="ff0000"/>
                </a:solidFill>
                <a:latin typeface="Tahoma"/>
                <a:ea typeface="Times New Roman"/>
              </a:rPr>
              <a:t>. </a:t>
            </a:r>
            <a:r>
              <a:rPr b="1" lang="es-E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Ajuste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acional</a:t>
            </a:r>
            <a:r>
              <a:rPr b="1" lang="es-E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 de la Tributación Indirect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BR: ICMS, Cofins AR: Ing Br. UR: Cof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600" spc="-1" strike="noStrike">
                <a:solidFill>
                  <a:srgbClr val="ff3300"/>
                </a:solidFill>
                <a:latin typeface="Tahoma"/>
                <a:ea typeface="Times New Roman"/>
              </a:rPr>
              <a:t>2.</a:t>
            </a:r>
            <a:r>
              <a:rPr b="1" lang="es-E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 Desarme mutuo en las cuestiones de inversiones y ahorro. (País chico vs. País grande, ventajas comparativas)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Tahoma"/>
                <a:ea typeface="Times New Roman"/>
              </a:rPr>
              <a:t>3. </a:t>
            </a:r>
            <a:r>
              <a:rPr b="1" lang="es-E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Incentivos a las Inversiones. Políticas regionales y sectorial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) Moratoria. ii) Comisión o GT para evaluar competición predatoria. iii) Calendario para eliminación o substitu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641-0941-464C-A255-2B9C5AE151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852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ff"/>
                </a:solidFill>
                <a:latin typeface="Tahoma"/>
              </a:rPr>
              <a:t>Posibilidad de una Armonización    Tributaria Efec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69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94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ministración Tributar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4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) Establecer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acuerdos mínimos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en Tributación Internacional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i) Mayor cooperación entre Administraciones Tributaria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4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5.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fundizar la institucionalización de los procesos de resolución de controversias para reducir incertidumbres de los inversionistas (fortalecer potestad del Tribunal Arbitral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4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4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6.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apel crucial de las Aduanas, promoviendo efectiva comunicación entre los diferentes sistemas informát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981080"/>
            <a:ext cx="834552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0379-1BA5-4849-AA31-53A50735CB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ff"/>
                </a:solidFill>
                <a:latin typeface="Tahoma"/>
              </a:rPr>
              <a:t>Efectos Tributarios de la Integración y Triberalización Comercial y Financiera</a:t>
            </a:r>
            <a:r>
              <a:rPr b="1" lang="es-ES" sz="36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9906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5560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29052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</a:t>
            </a:r>
            <a:r>
              <a:rPr b="1" lang="en-US" sz="3000" spc="-1" strike="noStrike">
                <a:solidFill>
                  <a:srgbClr val="006600"/>
                </a:solidFill>
                <a:latin typeface="Bookman Old Style"/>
                <a:ea typeface="Times New Roman"/>
              </a:rPr>
              <a:t>3 factores determinantes en tributación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255600" indent="0">
              <a:lnSpc>
                <a:spcPct val="7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29052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1" lang="en-US" sz="30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Tipo de Inserción Inter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5600" indent="0">
              <a:lnSpc>
                <a:spcPct val="7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29052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Bookman Old Style"/>
                <a:ea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istribución Sectorial y Paradigma de Desarrol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5600" indent="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29052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Bookman Old Style"/>
                <a:ea typeface="Times New Roman"/>
              </a:rPr>
              <a:t>b.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Mobilidad del Capital Financiero y Aumento de las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ctividades Interna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5600" indent="0">
              <a:lnSpc>
                <a:spcPct val="7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29052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Bookman Old Style"/>
                <a:ea typeface="Times New Roman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Substitución de Políticas Sectoriales por Incentivos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ributarios y Deterioro de la Calidad del Sistemas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5600" indent="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29052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man Old Style"/>
                <a:ea typeface="Times New Roman"/>
              </a:rPr>
              <a:t>  </a:t>
            </a:r>
            <a:r>
              <a:rPr b="1" lang="en-US" sz="30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Nivel y Calidad de las Erogaciones Públ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5600" indent="0">
              <a:lnSpc>
                <a:spcPct val="5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29052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Bookman Old Style"/>
                <a:ea typeface="Times New Roman"/>
              </a:rPr>
              <a:t>i)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Voz política, </a:t>
            </a:r>
            <a:r>
              <a:rPr b="1" lang="en-US" sz="2400" spc="-1" strike="noStrike">
                <a:solidFill>
                  <a:srgbClr val="006600"/>
                </a:solidFill>
                <a:latin typeface="Bookman Old Style"/>
                <a:ea typeface="Times New Roman"/>
              </a:rPr>
              <a:t>ii)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Globalización, </a:t>
            </a:r>
            <a:r>
              <a:rPr b="1" lang="en-US" sz="2400" spc="-1" strike="noStrike">
                <a:solidFill>
                  <a:srgbClr val="006600"/>
                </a:solidFill>
                <a:latin typeface="Bookman Old Style"/>
                <a:ea typeface="Times New Roman"/>
              </a:rPr>
              <a:t>iii)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Demografí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5600" indent="0">
              <a:lnSpc>
                <a:spcPct val="5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29052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Bookman Old Style"/>
                <a:ea typeface="Times New Roman"/>
              </a:rPr>
              <a:t>iv)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Mobilidad Social y </a:t>
            </a:r>
            <a:r>
              <a:rPr b="1" lang="en-US" sz="2400" spc="-1" strike="noStrike">
                <a:solidFill>
                  <a:srgbClr val="006600"/>
                </a:solidFill>
                <a:latin typeface="Bookman Old Style"/>
                <a:ea typeface="Times New Roman"/>
              </a:rPr>
              <a:t>v)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Homogeneidad Etn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5600" indent="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29052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</a:t>
            </a:r>
            <a:r>
              <a:rPr b="1" lang="en-US" sz="30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Administración Tributaria en sent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5600" indent="0">
              <a:lnSpc>
                <a:spcPct val="3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29052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mplio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DGI, Aduanas, Justicia, Registros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3ED-4E47-4534-B7F4-289DE7E9D2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Bell MT"/>
              </a:rPr>
              <a:t>Acuerdo comercial versus </a:t>
            </a:r>
            <a:br>
              <a:rPr sz="3600"/>
            </a:br>
            <a:r>
              <a:rPr b="1" lang="es-ES" sz="3600" spc="-1" strike="noStrike">
                <a:solidFill>
                  <a:srgbClr val="0000ff"/>
                </a:solidFill>
                <a:latin typeface="Bell MT"/>
              </a:rPr>
              <a:t>Unión Aduanera y Económ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91720" cy="5791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120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Bell MT"/>
              </a:rPr>
              <a:t>i)</a:t>
            </a: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 Grandes espacios económicos (Teoría </a:t>
            </a:r>
            <a:r>
              <a:rPr b="1" i="1" lang="es-ES" sz="2800" spc="-1" strike="noStrike">
                <a:solidFill>
                  <a:srgbClr val="000000"/>
                </a:solidFill>
                <a:latin typeface="Bell MT"/>
              </a:rPr>
              <a:t>Bassols)</a:t>
            </a: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; </a:t>
            </a:r>
            <a:r>
              <a:rPr b="1" lang="es-ES" sz="2800" spc="-1" strike="noStrike">
                <a:solidFill>
                  <a:srgbClr val="0000ff"/>
                </a:solidFill>
                <a:latin typeface="Bell MT"/>
              </a:rPr>
              <a:t>ii)</a:t>
            </a: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 s. XVII EEUU (federal) y s. XX EU (estado-nación) y </a:t>
            </a:r>
            <a:r>
              <a:rPr b="1" lang="es-ES" sz="2800" spc="-1" strike="noStrike">
                <a:solidFill>
                  <a:srgbClr val="0000ff"/>
                </a:solidFill>
                <a:latin typeface="Bell MT"/>
              </a:rPr>
              <a:t>iii)</a:t>
            </a: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 Al ALCA por el MERCOS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120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UE # MERCO o TLC:  </a:t>
            </a:r>
            <a:r>
              <a:rPr b="1" lang="es-ES" sz="2800" spc="-1" strike="noStrike">
                <a:solidFill>
                  <a:srgbClr val="0000ff"/>
                </a:solidFill>
                <a:latin typeface="Bell MT"/>
              </a:rPr>
              <a:t>a)</a:t>
            </a: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 Institucionalidad, </a:t>
            </a:r>
            <a:r>
              <a:rPr b="1" lang="es-ES" sz="2800" spc="-1" strike="noStrike">
                <a:solidFill>
                  <a:srgbClr val="0000ff"/>
                </a:solidFill>
                <a:latin typeface="Bell MT"/>
              </a:rPr>
              <a:t>b)</a:t>
            </a: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 Fondos de compensación y </a:t>
            </a:r>
            <a:r>
              <a:rPr b="1" lang="es-ES" sz="2800" spc="-1" strike="noStrike">
                <a:solidFill>
                  <a:srgbClr val="0000ff"/>
                </a:solidFill>
                <a:latin typeface="Bell MT"/>
              </a:rPr>
              <a:t>c)</a:t>
            </a: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 Coordin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por las 3 </a:t>
            </a:r>
            <a:r>
              <a:rPr b="1" i="1" lang="es-ES" sz="2800" spc="-1" strike="noStrike">
                <a:solidFill>
                  <a:srgbClr val="000000"/>
                </a:solidFill>
                <a:latin typeface="Bell MT"/>
              </a:rPr>
              <a:t>Libertades:  </a:t>
            </a: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1.</a:t>
            </a:r>
            <a:r>
              <a:rPr b="1" lang="es-ES" sz="2400" spc="-1" strike="noStrike">
                <a:solidFill>
                  <a:srgbClr val="008000"/>
                </a:solidFill>
                <a:latin typeface="Bell MT"/>
              </a:rPr>
              <a:t> monetario/cambiaria, </a:t>
            </a: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2.</a:t>
            </a:r>
            <a:r>
              <a:rPr b="1" lang="es-ES" sz="2400" spc="-1" strike="noStrike">
                <a:solidFill>
                  <a:srgbClr val="008000"/>
                </a:solidFill>
                <a:latin typeface="Bell MT"/>
              </a:rPr>
              <a:t> comercial y </a:t>
            </a: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3.</a:t>
            </a:r>
            <a:r>
              <a:rPr b="1" lang="es-ES" sz="2400" spc="-1" strike="noStrike">
                <a:solidFill>
                  <a:srgbClr val="008000"/>
                </a:solidFill>
                <a:latin typeface="Bell MT"/>
              </a:rPr>
              <a:t> fisc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Bell MT"/>
              </a:rPr>
              <a:t>3.</a:t>
            </a: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Coordinación e Institucionalidad: </a:t>
            </a:r>
            <a:r>
              <a:rPr b="1" lang="es-ES" sz="2600" spc="-1" strike="noStrike">
                <a:solidFill>
                  <a:srgbClr val="0000ff"/>
                </a:solidFill>
                <a:latin typeface="Bell MT"/>
              </a:rPr>
              <a:t>a)</a:t>
            </a:r>
            <a:r>
              <a:rPr b="1" lang="es-ES" sz="2600" spc="-1" strike="noStrike">
                <a:solidFill>
                  <a:srgbClr val="000000"/>
                </a:solidFill>
                <a:latin typeface="Bell MT"/>
              </a:rPr>
              <a:t> M</a:t>
            </a:r>
            <a:r>
              <a:rPr b="1" i="1" lang="es-ES" sz="2600" spc="-1" strike="noStrike">
                <a:solidFill>
                  <a:srgbClr val="000000"/>
                </a:solidFill>
                <a:latin typeface="Bell MT"/>
              </a:rPr>
              <a:t>acroeco</a:t>
            </a:r>
            <a:r>
              <a:rPr b="1" lang="es-ES" sz="2600" spc="-1" strike="noStrike">
                <a:solidFill>
                  <a:srgbClr val="000000"/>
                </a:solidFill>
                <a:latin typeface="Bell MT"/>
              </a:rPr>
              <a:t>; </a:t>
            </a:r>
            <a:r>
              <a:rPr b="1" lang="es-ES" sz="2600" spc="-1" strike="noStrike">
                <a:solidFill>
                  <a:srgbClr val="0000ff"/>
                </a:solidFill>
                <a:latin typeface="Bell MT"/>
              </a:rPr>
              <a:t>b)</a:t>
            </a:r>
            <a:r>
              <a:rPr b="1" lang="es-ES" sz="26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1" i="1" lang="es-ES" sz="2600" spc="-1" strike="noStrike">
                <a:solidFill>
                  <a:srgbClr val="000000"/>
                </a:solidFill>
                <a:latin typeface="Bell MT"/>
              </a:rPr>
              <a:t>resolución de controversias;</a:t>
            </a:r>
            <a:r>
              <a:rPr b="1" lang="es-ES" sz="26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1" lang="es-ES" sz="2600" spc="-1" strike="noStrike">
                <a:solidFill>
                  <a:srgbClr val="0000ff"/>
                </a:solidFill>
                <a:latin typeface="Bell MT"/>
              </a:rPr>
              <a:t>c)</a:t>
            </a:r>
            <a:r>
              <a:rPr b="1" lang="es-ES" sz="2600" spc="-1" strike="noStrike">
                <a:solidFill>
                  <a:srgbClr val="000000"/>
                </a:solidFill>
                <a:latin typeface="Bell MT"/>
              </a:rPr>
              <a:t> Aranceles (política); </a:t>
            </a:r>
            <a:r>
              <a:rPr b="1" lang="es-ES" sz="2600" spc="-1" strike="noStrike">
                <a:solidFill>
                  <a:srgbClr val="0000ff"/>
                </a:solidFill>
                <a:latin typeface="Bell MT"/>
              </a:rPr>
              <a:t>d)</a:t>
            </a:r>
            <a:r>
              <a:rPr b="1" lang="es-ES" sz="2600" spc="-1" strike="noStrike">
                <a:solidFill>
                  <a:srgbClr val="000000"/>
                </a:solidFill>
                <a:latin typeface="Bell MT"/>
              </a:rPr>
              <a:t> coordinación impositiva. y </a:t>
            </a:r>
            <a:r>
              <a:rPr b="1" lang="es-ES" sz="2600" spc="-1" strike="noStrike">
                <a:solidFill>
                  <a:srgbClr val="0000ff"/>
                </a:solidFill>
                <a:latin typeface="Bell MT"/>
              </a:rPr>
              <a:t>e)</a:t>
            </a:r>
            <a:r>
              <a:rPr b="1" lang="es-ES" sz="2600" spc="-1" strike="noStrike">
                <a:solidFill>
                  <a:srgbClr val="ffcf01"/>
                </a:solidFill>
                <a:latin typeface="Bell MT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Bell MT"/>
              </a:rPr>
              <a:t>Adm. de aduanas</a:t>
            </a:r>
            <a:r>
              <a:rPr b="1" lang="es-ES" sz="2800" spc="-1" strike="noStrike">
                <a:solidFill>
                  <a:srgbClr val="000000"/>
                </a:solidFill>
                <a:latin typeface="Bell MT"/>
              </a:rPr>
              <a:t>      Fondos </a:t>
            </a:r>
            <a:r>
              <a:rPr b="1" lang="es-ES" sz="2400" spc="-1" strike="noStrike">
                <a:solidFill>
                  <a:srgbClr val="000000"/>
                </a:solidFill>
                <a:latin typeface="Bell MT"/>
              </a:rPr>
              <a:t>(Multilaterales, Cooperación y Sector Privad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5CA-F177-4B95-B57E-4A023B0484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97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1" lang="pt-BR" sz="34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r>
              <a:rPr b="1" lang="pt-BR" sz="3400" spc="-1" strike="noStrike">
                <a:solidFill>
                  <a:srgbClr val="333399"/>
                </a:solidFill>
                <a:latin typeface="Tahoma"/>
                <a:ea typeface="Times New Roman"/>
              </a:rPr>
              <a:t>Ingreso Público Disponible 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07732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4271-A289-47A1-AFB3-59FD304582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924680" cy="4953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-152280" y="380880"/>
            <a:ext cx="8597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1" lang="pt-BR" sz="34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r>
              <a:rPr b="1" lang="pt-BR" sz="3400" spc="-1" strike="noStrike">
                <a:solidFill>
                  <a:srgbClr val="333399"/>
                </a:solidFill>
                <a:latin typeface="Tahoma"/>
                <a:ea typeface="Times New Roman"/>
              </a:rPr>
              <a:t>Deuda Públic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485-E6DE-4467-BA2C-4908A05247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ahoma"/>
              </a:rPr>
              <a:t>La Experiencia Europea en Coordinación Tribut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692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   </a:t>
            </a:r>
            <a:r>
              <a:rPr b="1" lang="es-AR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1337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3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ctores Principales</a:t>
            </a:r>
            <a:r>
              <a:rPr b="1" lang="es-E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 (Cesión de soberanía, Solución de controversias y Cooperación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300" spc="-1" strike="noStrike">
                <a:solidFill>
                  <a:srgbClr val="0000ff"/>
                </a:solidFill>
                <a:latin typeface="Tahoma"/>
                <a:ea typeface="Times New Roman"/>
              </a:rPr>
              <a:t>a)</a:t>
            </a:r>
            <a:r>
              <a:rPr b="1" lang="es-E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Organización Institucional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(conjunto de políticas comunes y organizaciones supranacion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300" spc="-1" strike="noStrike">
                <a:solidFill>
                  <a:srgbClr val="0000ff"/>
                </a:solidFill>
                <a:latin typeface="Tahoma"/>
                <a:ea typeface="Times New Roman"/>
              </a:rPr>
              <a:t>b)</a:t>
            </a:r>
            <a:r>
              <a:rPr b="1" lang="es-E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Tributación Indirect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requisito desde fines de los años 6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IVA—bases-- y selectivos—rango de tasas--para lograr el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ercado ún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300" spc="-1" strike="noStrike">
                <a:solidFill>
                  <a:srgbClr val="0000ff"/>
                </a:solidFill>
                <a:latin typeface="Tahoma"/>
                <a:ea typeface="Times New Roman"/>
              </a:rPr>
              <a:t>c)</a:t>
            </a:r>
            <a:r>
              <a:rPr b="1" lang="es-E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Sistema de compensaciones fiscales sectorial y </a:t>
            </a:r>
            <a:r>
              <a:rPr b="1" lang="es-E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regionales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financiado por aranceles y luego 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300" spc="-1" strike="noStrike">
                <a:solidFill>
                  <a:srgbClr val="0000ff"/>
                </a:solidFill>
                <a:latin typeface="Tahoma"/>
                <a:ea typeface="Times New Roman"/>
              </a:rPr>
              <a:t>d)</a:t>
            </a:r>
            <a:r>
              <a:rPr b="1" lang="es-E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Tributación Direct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 con énfasis desde mediados los 90.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9900"/>
                </a:solidFill>
                <a:latin typeface="Tahoma"/>
                <a:ea typeface="Times New Roman"/>
              </a:rPr>
              <a:t>i)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Código de Conducta y </a:t>
            </a:r>
            <a:r>
              <a:rPr b="1" lang="es-ES" sz="2000" spc="-1" strike="noStrike">
                <a:solidFill>
                  <a:srgbClr val="009900"/>
                </a:solidFill>
                <a:latin typeface="Tahoma"/>
                <a:ea typeface="Times New Roman"/>
              </a:rPr>
              <a:t>ii)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irectiva sobre Intereses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92F-6556-4AF6-AB34-4B1D400B53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057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ff"/>
                </a:solidFill>
                <a:latin typeface="Tahoma"/>
                <a:ea typeface="Times New Roman"/>
              </a:rPr>
              <a:t>ESTRUCTURA  TRIBUTARIA  del  MERCOSUR, por Jurisdicción</a:t>
            </a:r>
            <a:br>
              <a:rPr sz="2400"/>
            </a:br>
            <a:r>
              <a:rPr b="0" lang="es-AR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 </a:t>
            </a:r>
            <a:r>
              <a:rPr b="1" lang="es-AR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Año 2003 en % del Total</a:t>
            </a:r>
            <a:r>
              <a:rPr b="0" lang="es-PE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8040" y="2060640"/>
          <a:ext cx="7893000" cy="436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2060640"/>
                    <a:ext cx="7893000" cy="43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276-0631-4FF6-9276-A5DE62B9E2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457200"/>
            <a:ext cx="780084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ff"/>
                </a:solidFill>
                <a:latin typeface="Tahoma"/>
              </a:rPr>
              <a:t>TRIBUTACIÓN EN EL MERCOSUR: PRINCIPALES DI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480" y="1917720"/>
            <a:ext cx="9136800" cy="4939920"/>
            <a:chOff x="6480" y="1917720"/>
            <a:chExt cx="9136800" cy="4939920"/>
          </a:xfrm>
        </p:grpSpPr>
        <p:grpSp>
          <p:nvGrpSpPr>
            <p:cNvPr id="118" name=""/>
            <p:cNvGrpSpPr/>
            <p:nvPr/>
          </p:nvGrpSpPr>
          <p:grpSpPr>
            <a:xfrm>
              <a:off x="6480" y="1917720"/>
              <a:ext cx="2474280" cy="527040"/>
              <a:chOff x="6480" y="1917720"/>
              <a:chExt cx="2474280" cy="527040"/>
            </a:xfrm>
          </p:grpSpPr>
          <p:sp>
            <p:nvSpPr>
              <p:cNvPr id="119" name=""/>
              <p:cNvSpPr/>
              <p:nvPr/>
            </p:nvSpPr>
            <p:spPr>
              <a:xfrm>
                <a:off x="109800" y="1917720"/>
                <a:ext cx="226692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rument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80" y="1917720"/>
                <a:ext cx="2474280" cy="52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481120" y="1917720"/>
              <a:ext cx="2716560" cy="527040"/>
              <a:chOff x="2481120" y="1917720"/>
              <a:chExt cx="2716560" cy="527040"/>
            </a:xfrm>
          </p:grpSpPr>
          <p:sp>
            <p:nvSpPr>
              <p:cNvPr id="122" name=""/>
              <p:cNvSpPr/>
              <p:nvPr/>
            </p:nvSpPr>
            <p:spPr>
              <a:xfrm>
                <a:off x="2584080" y="1917720"/>
                <a:ext cx="250992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n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481120" y="1917720"/>
                <a:ext cx="2716560" cy="52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198400" y="1917720"/>
              <a:ext cx="3944880" cy="527040"/>
              <a:chOff x="5198400" y="1917720"/>
              <a:chExt cx="3944880" cy="527040"/>
            </a:xfrm>
          </p:grpSpPr>
          <p:sp>
            <p:nvSpPr>
              <p:cNvPr id="125" name=""/>
              <p:cNvSpPr/>
              <p:nvPr/>
            </p:nvSpPr>
            <p:spPr>
              <a:xfrm>
                <a:off x="5301360" y="1917720"/>
                <a:ext cx="373824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rapun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98400" y="1917720"/>
                <a:ext cx="3944880" cy="52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6480" y="2444760"/>
              <a:ext cx="2474280" cy="2057040"/>
              <a:chOff x="6480" y="2444760"/>
              <a:chExt cx="2474280" cy="2057040"/>
            </a:xfrm>
          </p:grpSpPr>
          <p:sp>
            <p:nvSpPr>
              <p:cNvPr id="128" name=""/>
              <p:cNvSpPr/>
              <p:nvPr/>
            </p:nvSpPr>
            <p:spPr>
              <a:xfrm>
                <a:off x="109800" y="2444760"/>
                <a:ext cx="2266920" cy="20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IVA e ICM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80" y="2444760"/>
                <a:ext cx="2474280" cy="205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481120" y="2444760"/>
              <a:ext cx="2716560" cy="2057040"/>
              <a:chOff x="2481120" y="2444760"/>
              <a:chExt cx="2716560" cy="2057040"/>
            </a:xfrm>
          </p:grpSpPr>
          <p:sp>
            <p:nvSpPr>
              <p:cNvPr id="131" name=""/>
              <p:cNvSpPr/>
              <p:nvPr/>
            </p:nvSpPr>
            <p:spPr>
              <a:xfrm>
                <a:off x="2584080" y="2444760"/>
                <a:ext cx="2509920" cy="20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VA, nacional, base amplia, pocas alícuotas, total aprovechamiento de créditos (deducción financiera: Argentina, Paraguay y Urugua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81120" y="2444760"/>
                <a:ext cx="2716560" cy="205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198400" y="2444760"/>
              <a:ext cx="3944880" cy="2057040"/>
              <a:chOff x="5198400" y="2444760"/>
              <a:chExt cx="3944880" cy="2057040"/>
            </a:xfrm>
          </p:grpSpPr>
          <p:sp>
            <p:nvSpPr>
              <p:cNvPr id="134" name=""/>
              <p:cNvSpPr/>
              <p:nvPr/>
            </p:nvSpPr>
            <p:spPr>
              <a:xfrm>
                <a:off x="5301360" y="2444760"/>
                <a:ext cx="3738240" cy="20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CMS, estadual, limitado a mercaderías y unos pocos servicios, gran número de alícuotas, con limitaciones al aprovechamiento de ciertos créditos de etapas anteriores: Brasil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98400" y="2444760"/>
                <a:ext cx="3944880" cy="205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480" y="4502160"/>
              <a:ext cx="2474280" cy="2355480"/>
              <a:chOff x="6480" y="4502160"/>
              <a:chExt cx="2474280" cy="2355480"/>
            </a:xfrm>
          </p:grpSpPr>
          <p:sp>
            <p:nvSpPr>
              <p:cNvPr id="137" name=""/>
              <p:cNvSpPr/>
              <p:nvPr/>
            </p:nvSpPr>
            <p:spPr>
              <a:xfrm>
                <a:off x="109800" y="4502160"/>
                <a:ext cx="2266920" cy="235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ibutos en Casca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480" y="4502160"/>
                <a:ext cx="2474280" cy="2355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2481120" y="4502160"/>
              <a:ext cx="2716560" cy="2355480"/>
              <a:chOff x="2481120" y="4502160"/>
              <a:chExt cx="2716560" cy="2355480"/>
            </a:xfrm>
          </p:grpSpPr>
          <p:sp>
            <p:nvSpPr>
              <p:cNvPr id="140" name=""/>
              <p:cNvSpPr/>
              <p:nvPr/>
            </p:nvSpPr>
            <p:spPr>
              <a:xfrm>
                <a:off x="2584080" y="4502160"/>
                <a:ext cx="2509920" cy="235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ruguay y Paraguay no tiene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481120" y="4502160"/>
                <a:ext cx="2716560" cy="2355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198400" y="4502160"/>
              <a:ext cx="3944880" cy="2355480"/>
              <a:chOff x="5198400" y="4502160"/>
              <a:chExt cx="3944880" cy="2355480"/>
            </a:xfrm>
          </p:grpSpPr>
          <p:sp>
            <p:nvSpPr>
              <p:cNvPr id="143" name=""/>
              <p:cNvSpPr/>
              <p:nvPr/>
            </p:nvSpPr>
            <p:spPr>
              <a:xfrm>
                <a:off x="5301360" y="4502160"/>
                <a:ext cx="3738240" cy="235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rasil: Cofins* y CPMF, recaudan 5,3% del PB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rgentina: Impuesto a los Ingresos Brutos, recauda 60% de los ingresos propios de las provincias (2,2% del PBI) e Impuesto a los Débitos y Créditos Bancarios (1,6% del PBI).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8400" y="4502160"/>
                <a:ext cx="3944880" cy="2355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24B-E7E3-485B-968A-D2E3DC78B8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14400" y="457200"/>
            <a:ext cx="780084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ff"/>
                </a:solidFill>
                <a:latin typeface="Tahoma"/>
              </a:rPr>
              <a:t>TRIBUTACIÓN EN EL MERCOSUR: PRINCIPALES DI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1911240"/>
            <a:ext cx="9137160" cy="4946400"/>
            <a:chOff x="0" y="1911240"/>
            <a:chExt cx="9137160" cy="4946400"/>
          </a:xfrm>
        </p:grpSpPr>
        <p:grpSp>
          <p:nvGrpSpPr>
            <p:cNvPr id="147" name=""/>
            <p:cNvGrpSpPr/>
            <p:nvPr/>
          </p:nvGrpSpPr>
          <p:grpSpPr>
            <a:xfrm>
              <a:off x="0" y="1911240"/>
              <a:ext cx="2474280" cy="527040"/>
              <a:chOff x="0" y="1911240"/>
              <a:chExt cx="2474280" cy="527040"/>
            </a:xfrm>
          </p:grpSpPr>
          <p:sp>
            <p:nvSpPr>
              <p:cNvPr id="148" name=""/>
              <p:cNvSpPr/>
              <p:nvPr/>
            </p:nvSpPr>
            <p:spPr>
              <a:xfrm>
                <a:off x="103320" y="1911240"/>
                <a:ext cx="226692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rument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911240"/>
                <a:ext cx="2474280" cy="52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474640" y="1911240"/>
              <a:ext cx="2717640" cy="527040"/>
              <a:chOff x="2474640" y="1911240"/>
              <a:chExt cx="2717640" cy="527040"/>
            </a:xfrm>
          </p:grpSpPr>
          <p:sp>
            <p:nvSpPr>
              <p:cNvPr id="151" name=""/>
              <p:cNvSpPr/>
              <p:nvPr/>
            </p:nvSpPr>
            <p:spPr>
              <a:xfrm>
                <a:off x="2577600" y="1911240"/>
                <a:ext cx="251100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n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74640" y="1911240"/>
                <a:ext cx="2717640" cy="52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192640" y="1911240"/>
              <a:ext cx="3944520" cy="527040"/>
              <a:chOff x="5192640" y="1911240"/>
              <a:chExt cx="3944520" cy="527040"/>
            </a:xfrm>
          </p:grpSpPr>
          <p:sp>
            <p:nvSpPr>
              <p:cNvPr id="154" name=""/>
              <p:cNvSpPr/>
              <p:nvPr/>
            </p:nvSpPr>
            <p:spPr>
              <a:xfrm>
                <a:off x="5295600" y="1911240"/>
                <a:ext cx="373788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rapun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92640" y="1911240"/>
                <a:ext cx="3944520" cy="52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0" y="2438280"/>
              <a:ext cx="2474280" cy="2514240"/>
              <a:chOff x="0" y="2438280"/>
              <a:chExt cx="2474280" cy="2514240"/>
            </a:xfrm>
          </p:grpSpPr>
          <p:sp>
            <p:nvSpPr>
              <p:cNvPr id="157" name=""/>
              <p:cNvSpPr/>
              <p:nvPr/>
            </p:nvSpPr>
            <p:spPr>
              <a:xfrm>
                <a:off x="103320" y="2438280"/>
                <a:ext cx="2266920" cy="25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a la Renta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2438280"/>
                <a:ext cx="2474280" cy="2514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474640" y="2438280"/>
              <a:ext cx="2717640" cy="2514240"/>
              <a:chOff x="2474640" y="2438280"/>
              <a:chExt cx="2717640" cy="2514240"/>
            </a:xfrm>
          </p:grpSpPr>
          <p:sp>
            <p:nvSpPr>
              <p:cNvPr id="160" name=""/>
              <p:cNvSpPr/>
              <p:nvPr/>
            </p:nvSpPr>
            <p:spPr>
              <a:xfrm>
                <a:off x="2577600" y="2438280"/>
                <a:ext cx="2511000" cy="25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AR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rasil y Argentina tributan las personas físic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rasil y Argentina aplican el criterio de renta mundial y los dividendos no se incorporan en la base del impuesto personal para evitar doble tributación.</a:t>
                </a:r>
                <a:r>
                  <a:rPr b="0" lang="es-PE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araguay aprobó recien una imposición a la renta tipo cash flow a tasa fija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74640" y="2438280"/>
                <a:ext cx="2717640" cy="2514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192640" y="2438280"/>
              <a:ext cx="3944520" cy="2514240"/>
              <a:chOff x="5192640" y="2438280"/>
              <a:chExt cx="3944520" cy="2514240"/>
            </a:xfrm>
          </p:grpSpPr>
          <p:sp>
            <p:nvSpPr>
              <p:cNvPr id="163" name=""/>
              <p:cNvSpPr/>
              <p:nvPr/>
            </p:nvSpPr>
            <p:spPr>
              <a:xfrm>
                <a:off x="5295600" y="2438280"/>
                <a:ext cx="3737880" cy="25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 </a:t>
                </a: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ruguay no tributan las personas físicas, aplicando un impuesto cedular que grava rentas de actividades empresariales individuales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ruguay y Paraguay aplican el criterio de fuente, gravando residentes o no residentes exclusivamente por sus rentas de fuente naciona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ruguay no retiene impuestos sobre intereses de no residentes.</a:t>
                </a:r>
                <a:r>
                  <a:rPr b="0" lang="es-PE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192640" y="2438280"/>
                <a:ext cx="3944520" cy="2514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4959360"/>
              <a:ext cx="2474280" cy="1898280"/>
              <a:chOff x="0" y="4959360"/>
              <a:chExt cx="2474280" cy="1898280"/>
            </a:xfrm>
          </p:grpSpPr>
          <p:sp>
            <p:nvSpPr>
              <p:cNvPr id="166" name=""/>
              <p:cNvSpPr/>
              <p:nvPr/>
            </p:nvSpPr>
            <p:spPr>
              <a:xfrm>
                <a:off x="103320" y="4959360"/>
                <a:ext cx="2266920" cy="18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4959360"/>
                <a:ext cx="2474280" cy="189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474640" y="4952880"/>
              <a:ext cx="2717640" cy="1898280"/>
              <a:chOff x="2474640" y="4952880"/>
              <a:chExt cx="2717640" cy="1898280"/>
            </a:xfrm>
          </p:grpSpPr>
          <p:sp>
            <p:nvSpPr>
              <p:cNvPr id="169" name=""/>
              <p:cNvSpPr/>
              <p:nvPr/>
            </p:nvSpPr>
            <p:spPr>
              <a:xfrm>
                <a:off x="2577600" y="4952880"/>
                <a:ext cx="2511000" cy="18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rasil y Paraguay no tienen</a:t>
                </a:r>
                <a:r>
                  <a:rPr b="0" lang="es-PE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74640" y="4952880"/>
                <a:ext cx="2717640" cy="189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5192640" y="4952880"/>
              <a:ext cx="3944520" cy="1898280"/>
              <a:chOff x="5192640" y="4952880"/>
              <a:chExt cx="3944520" cy="1898280"/>
            </a:xfrm>
          </p:grpSpPr>
          <p:sp>
            <p:nvSpPr>
              <p:cNvPr id="172" name=""/>
              <p:cNvSpPr/>
              <p:nvPr/>
            </p:nvSpPr>
            <p:spPr>
              <a:xfrm>
                <a:off x="5295600" y="4952880"/>
                <a:ext cx="3737880" cy="18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rgentina y Uruguay aplican impuestos generales al patrimonio o activos de las personas físicas y empresas. Argentina grava incluso los bienes ubicados en el exterior.</a:t>
                </a:r>
                <a:r>
                  <a:rPr b="0" lang="es-PE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92640" y="4952880"/>
                <a:ext cx="3944520" cy="189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" name=""/>
          <p:cNvSpPr/>
          <p:nvPr/>
        </p:nvSpPr>
        <p:spPr>
          <a:xfrm>
            <a:off x="0" y="5062680"/>
            <a:ext cx="2438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puestos a los Activos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A47-04B0-4FEE-8556-D56FF6E655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21:03:57Z</dcterms:created>
  <dc:creator>CarlaS</dc:creator>
  <dc:description/>
  <dc:language>en-US</dc:language>
  <cp:lastModifiedBy>C.P.C.E.C.A.B.A.</cp:lastModifiedBy>
  <cp:lastPrinted>2005-09-09T13:37:39Z</cp:lastPrinted>
  <dcterms:modified xsi:type="dcterms:W3CDTF">2005-09-12T15:00:03Z</dcterms:modified>
  <cp:revision>442</cp:revision>
  <dc:subject/>
  <dc:title>PowerPoint Presentation</dc:title>
</cp:coreProperties>
</file>