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2A9-D18E-42B1-90A8-B99182FD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D45A-5E73-4764-9C79-752B3496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4B7-9617-47E4-8544-658A7C42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38C-5443-45BF-9FDC-496552A4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61E7-E14B-4C96-BF65-B001678C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52F6-72CB-475D-8ADF-61118905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BEE7-7741-4C90-BE3A-7B9C2ED7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3854-B28C-452C-AE9E-C1619FEA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2FE2-12B3-4FBE-B807-79EB710C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C24D-5ED9-4801-87D6-5846A1F3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9ECE-6F33-493E-B3DD-5516DF8B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F25-F4AF-410A-9246-E2F3E186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AE7C-9FC4-42C7-A42C-42E57E2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A9E8-E331-466B-B086-41DC6875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F561-BC97-4D28-82D5-259CB76C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792D-4783-4277-8E4A-5A1BC238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4A04-3C8F-4938-9D09-80325697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48F-C617-4432-B2E0-1A6C6735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6D1-8C77-494C-9CCC-13AE1EC7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9AF-5A16-442D-9708-32435062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F5A-75C5-478E-B6B0-FE03476E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365-BA54-41CD-ADE5-FBA85EA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FCF-D949-4711-A9A4-630EFDBE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088-48F5-442D-AAD0-77972FF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78E7-30AA-408B-B0CF-B57FC09ADF6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CC9F-F592-452D-9787-80BF669585F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TEMA 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QU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NEUTR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LOS SISTEMAS TRIBUTARIOS MODER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La neutralidad: tendencias actuale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neutralidad en la fiscalidad internacional: abandono de la N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 la legislación española sobre rentas (dividendos, ganancias de capital, EP) de fuente extranjera (21 y 22 L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 d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xen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: participación 5%, actividad empresarial, impuesto equivalente en EF (CDI con intercambio de informac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cción de la Doble Imposición de Dividendos: entre la Hacienda española y cualquier otra europe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4876920"/>
            <a:ext cx="1981080" cy="1828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enefici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2133720"/>
            <a:ext cx="1981440" cy="1828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ivid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4191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685800" y="4038120"/>
            <a:ext cx="99072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0" y="2057400"/>
            <a:ext cx="2133720" cy="1828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ci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añ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resid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la Matri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57400" y="2590920"/>
            <a:ext cx="137160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896120" y="3702600"/>
            <a:ext cx="1637280" cy="2008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3148800">
            <a:off x="2209680" y="4494600"/>
            <a:ext cx="16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R.N.R.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4343400"/>
            <a:ext cx="2133720" cy="2514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ra Haci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resi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la Fil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uente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riz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60600" y="2209680"/>
            <a:ext cx="1052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.S.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21 L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71760" y="60199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S. 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057400" y="6400800"/>
            <a:ext cx="14479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02920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3) Se elimina la Doble imposición económica internacional:                0 “A”+ 30 “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3505320"/>
            <a:ext cx="281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) Se elimina la Doble imposición jurídica internacional: doble exención: 0 “A”+ 0 “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1981080"/>
            <a:ext cx="259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Se elimina la Doble imposición económica interna: 30 “B”+ 0 “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rrección de la Doble Imposición de Dividendos: entre la Hacienda española y otra Hacienda no europe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4876920"/>
            <a:ext cx="1981080" cy="1828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enefici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133720"/>
            <a:ext cx="1981440" cy="1828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ivid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41911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685800" y="4038120"/>
            <a:ext cx="990720" cy="76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057400"/>
            <a:ext cx="2133720" cy="1828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ci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añ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resid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la Matri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057400" y="2590920"/>
            <a:ext cx="137160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896120" y="3702600"/>
            <a:ext cx="1637280" cy="2008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3148800">
            <a:off x="2209680" y="4494600"/>
            <a:ext cx="16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R.N.R.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4343400"/>
            <a:ext cx="2133720" cy="2514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ra Haci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u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resi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la Fil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uente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riz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133720"/>
            <a:ext cx="1212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.S. (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21 L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1760" y="601992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S. 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057400" y="6400800"/>
            <a:ext cx="1447920" cy="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5029200"/>
            <a:ext cx="304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3) Se elimina la Doble imposición económica internacional:                0 “A”+ 30 “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3505320"/>
            <a:ext cx="2819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) Se elimina la Doble imposición jurídica internacional:             0 “A”+ 10 “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1981080"/>
            <a:ext cx="259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Se mantiene la Doble imposición económica interna: 30 “B”+ 10 “B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s-ES" sz="4400" spc="-1" strike="noStrike">
                <a:solidFill>
                  <a:srgbClr val="333399"/>
                </a:solidFill>
                <a:latin typeface="Tahoma"/>
              </a:rPr>
              <a:t>El régimen de las ET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entajas fiscales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(arts. 117 y 118 L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TVE: exención de los dividendos y plusvalías procedentes de las filiales extranje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cionistas de la ET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Sociedades) residentes: deducción D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residentes: los dividendos y plusvalías no se consideran rentas obtenidas en Españ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5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Régimen de las Entidades de Tenencia de Valores Extranjeros (ETV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057400"/>
            <a:ext cx="2133360" cy="19051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iales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1981080"/>
            <a:ext cx="2133720" cy="19051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648320"/>
            <a:ext cx="2133720" cy="19047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Hol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pañ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4343400"/>
            <a:ext cx="83059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739000">
            <a:off x="2400120" y="3771720"/>
            <a:ext cx="1523880" cy="838080"/>
          </a:xfrm>
          <a:prstGeom prst="rightArrow">
            <a:avLst>
              <a:gd name="adj1" fmla="val 50000"/>
              <a:gd name="adj2" fmla="val 454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458600">
            <a:off x="4932000" y="3757320"/>
            <a:ext cx="1600200" cy="838080"/>
          </a:xfrm>
          <a:prstGeom prst="rightArrow">
            <a:avLst>
              <a:gd name="adj1" fmla="val 50000"/>
              <a:gd name="adj2" fmla="val 4773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2209680"/>
            <a:ext cx="2666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NJ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49568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dendos obtenidos por la ET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54705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xent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en el I.S. (art. 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7 y 21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44956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idendos repartidos por la ET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54100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o sujet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 I.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.N.R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(art. 1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8-1º-c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a simplicidad: tendencias actual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reducción de la presión fiscal indirec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plificación del orden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tilización de nuevas tecnologí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aciones Administración/contribuy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plicación de técnicas conven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Los principios:</a:t>
            </a:r>
            <a:br>
              <a:rPr sz="4400"/>
            </a:b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relaciones y confli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ficiencia/Neutr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flic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quidad/neutr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quidad/simplic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eutralidad/Simpli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sistema tributario ópti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La equidad: tipologí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tre individu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orizontal/vertical (no discrimin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dicción de la arbitrarie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tre reg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sión fiscal equival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olida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tre Es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La equidad: tendencias actuale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incipio de capacidad económica: la crisis de la progresiv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debate sobre el tipo ún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tratamiento desigual de las r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debate sobre la supresión del Impuesto suces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La equidad: tendencias actuale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percepción de la justicia tributaria (antes/después de impuest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doctrina del “mito de la propied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pacidad de pago/equival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auge de los tributos basados en el principio del benefici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La equidad: tendencias actuales (I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equidad interregional/interfed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utonomía y corresponsabilidad fiscal v. solidar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posición de los contribuyentes: equivalencia v. diferencia de presión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La equidad: tendencias actuales (IV)</a:t>
            </a: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equidad entre Es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crisis del principio de resid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crítica al “imperialismo fisca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yor exigencia de no discriminación entre contribuyen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experiencia en la Unión Europea en esta última decada y su previsible evolu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La neutralidad: tendencias actuales (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competitividad actual acentúa un dilema básico de la política fiscal ent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eutralidad (no distors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eligerancia (incentivos fisca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competencia fiscal como nuevo factor de distor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Tahoma"/>
              </a:rPr>
              <a:t>La neutralidad: tendencias actuales (I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eutralidad y mercado único (la experiencia en la Unión Europe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principio de no restricción al ejercicio de las libertades que garantizan la unidad de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normativas y tratamiento jurisprudenc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ía Teresa Soler Roch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14:23:55Z</dcterms:created>
  <dc:creator>x</dc:creator>
  <dc:description/>
  <dc:language>en-US</dc:language>
  <cp:lastModifiedBy>C.P.C.E.C.A.B.A.</cp:lastModifiedBy>
  <cp:lastPrinted>2004-02-17T10:57:18Z</cp:lastPrinted>
  <dcterms:modified xsi:type="dcterms:W3CDTF">2005-09-12T15:00:53Z</dcterms:modified>
  <cp:revision>360</cp:revision>
  <dc:subject/>
  <dc:title>THE TEACHING OF TAX LAW IN THE BACHELOR-MASTER STRUCTURE  AS REQUIRED  BY THE BOLOGNA DECLARATION</dc:title>
</cp:coreProperties>
</file>