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02B-D7D2-4006-B8E7-DC52D509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DE3-E34A-4C0C-ACB0-9FD4D63E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F3F-30A7-405A-9EAE-1CFC4EC3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6A15-8E7E-4EE2-8031-644AC661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23E9-4CC2-4306-9D16-A6EF27C7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A652-73AC-417C-BC8F-1AA45D1B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6E38-5653-45C1-8F54-C0D89B24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30CC-D11D-4FDF-90D9-645DB3E5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B1CF-64BA-405C-8932-2723F1D9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4C82-C615-420D-A895-774EFC89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E6B0-0B8B-4795-9491-A8BAE583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372-D0BC-474C-A0ED-46F78BBF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7AD0-729E-4DAC-AF8D-81BEC96D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34CE-095A-483F-8EE5-8354FE12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1A8C-2986-4433-9D58-741C3FA7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76C4-071D-4D95-A199-808D9D9C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CEBD-6C4C-4107-992A-61291C36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D54-EDA0-4D65-884B-B39A5B05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544-084C-4534-B786-EE7F15D2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578-D77D-435E-AE44-CF8FD991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67A-DD2E-410C-953C-4F7F888E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7C3-D877-41BD-8A6C-10DA8281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90B-FF24-474B-A844-92396551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A4D-B3AF-4CFB-99D8-2EA2688E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EBA4-44FE-467D-8EFB-B906AFCFD0CC}" type="slidenum"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7027-5095-42EC-9CD3-B99FCA1B7739}" type="slidenum">
              <a:rPr b="0" lang="en-US" sz="10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762120"/>
            <a:ext cx="7488000" cy="48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EL OBJETIVO DE LAS UNIONES ECONÓMICAS. LA POLÍTICA FISCA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ccecff"/>
                </a:solidFill>
                <a:latin typeface="Tahoma"/>
              </a:rPr>
              <a:t>EL PROCESO DE ARMONIZACIÓN TRIBUTARI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ccecff"/>
                </a:solidFill>
                <a:latin typeface="Tahoma"/>
              </a:rPr>
              <a:t>La experiencia de la UE y las lecciones para los procesos latinoamericano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463D-9727-4C93-92B1-C70400FB91EE}" type="slidenum">
              <a:t>1</a:t>
            </a:fld>
          </a:p>
        </p:txBody>
      </p:sp>
    </p:spTree>
  </p:cSld>
  <p:transition spd="slow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3581280"/>
            <a:ext cx="78390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2590920"/>
            <a:ext cx="748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EL PROCESO DE ARMONIZACIÓN TRIBUTARIA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EN LA UNIÓN EUROPE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738-95DA-4B8D-A1DE-D326A036AC2C}" type="slidenum">
              <a:t>10</a:t>
            </a:fld>
          </a:p>
        </p:txBody>
      </p:sp>
    </p:spTree>
  </p:cSld>
  <p:transition spd="slow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LA UNIÓN ECONÓMICA EUROPEA Y SU EVOLUCIÓN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Comunidad Económica Europea (CEE), creada  1957 Tratado de Rom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22840" indent="-22284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inicio Unión Aduanera, eliminación restricciones cuantitativas 60 y derechos en 1968 (6 paíse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22840" indent="-22284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Unión Europea (Maastricht 1992) a partir 01/01/93 supresión fronteras interiores físicas, técnicas y fiscales (12 países) MC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22840" indent="-222840">
              <a:lnSpc>
                <a:spcPct val="8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desde 01/05/04 espacio sin fronteras (25 países) en la Unión Económica Europe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087E-83AD-4376-A40C-5326A3B8C389}" type="slidenum">
              <a:t>11</a:t>
            </a:fld>
          </a:p>
        </p:txBody>
      </p:sp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Tahoma"/>
              </a:rPr>
              <a:t>EL INFORME NEUMARK (1962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objeto de la AT no es la estructura del sistema tributario sino sus efectos s/integración y crecimiento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señaló como acciones indispensables para MC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- unificar imposición indirecta, impuesto semejante al IV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- unificar impuesto sobre sociedad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- armonizar imposición sobre dividendos e interes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a largo plazo preveía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- se armonizarán impuestos sobre la renta de PF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- sistema de compensación financiera entre estado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- tribunal a nivel de comunidad para resolver conflicto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23A1-343F-4D37-9F42-21612BBB638F}" type="slidenum">
              <a:t>12</a:t>
            </a:fld>
          </a:p>
        </p:txBody>
      </p:sp>
    </p:spTree>
  </p:cSld>
  <p:transition spd="slow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Tahoma"/>
              </a:rPr>
              <a:t>LAS PREMISAS PARA LA ARMONIZACIÓN TRIBUTARIA EN LA U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Unanimidad 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(Decisiones Consejo s/tributo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Subsidiariedad 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(Art. 99  TR si necesaria para mercado interno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Falta de política común de armonizació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BC1-30E9-4426-8A37-591932A8C59B}" type="slidenum">
              <a:t>13</a:t>
            </a:fld>
          </a:p>
        </p:txBody>
      </p:sp>
    </p:spTree>
  </p:cSld>
  <p:transition spd="slow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LA TRIBUTACIÓN INDIRECTA Y LA LIBRE CIRCULACIÓN DE MERCANCÍAS (IVA centro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Art. 93 Tratado de Ámsterdam</a:t>
            </a:r>
            <a:r>
              <a:rPr b="0" i="1" lang="es-ES_tradnl" sz="2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(art. 99 Tratado de Roma)</a:t>
            </a:r>
            <a:r>
              <a:rPr b="0" i="1" lang="es-ES_tradnl" sz="2800" spc="-1" strike="noStrike">
                <a:solidFill>
                  <a:srgbClr val="ccec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los impuestos sobre el volumen de negocios,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los impuestos sobre consumos específicos y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otros impuestos indirectos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deben ser armonizados </a:t>
            </a:r>
            <a:r>
              <a:rPr b="0" i="1" lang="es-ES_tradnl" sz="2400" spc="-1" strike="noStrike" u="sng">
                <a:solidFill>
                  <a:srgbClr val="ccecff"/>
                </a:solidFill>
                <a:uFillTx/>
                <a:latin typeface="Tahoma"/>
              </a:rPr>
              <a:t>en la medida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 que así sea necesario para garantizar el establecimiento y el funcionamiento del mercado interior”(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subsidiaridad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FBC0-CB5D-451D-B55C-16A6C8039FE3}" type="slidenum">
              <a:t>14</a:t>
            </a:fld>
          </a:p>
        </p:txBody>
      </p:sp>
    </p:spTree>
  </p:cSld>
  <p:transition spd="slow"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421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ecff"/>
                </a:solidFill>
                <a:latin typeface="Tahoma"/>
              </a:rPr>
              <a:t>1ra. (60/70) Supresión derechos aduaneros e impuestos acumulativos, adopción arancel ext.común e IVA (67/227/CEE) aunque sin base imponible común, destino y ajustes en fronteras (67/228/CEE)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ecff"/>
                </a:solidFill>
                <a:latin typeface="Tahoma"/>
              </a:rPr>
              <a:t>2da. (70/80) Adopción base imponible común del IVA,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Sexta Directiva IVA  “una base imponible común”, «Recursos Propios de la Comunidad» (77/388/CEE) 1%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ccecff"/>
                </a:solidFill>
                <a:latin typeface="Tahoma"/>
              </a:rPr>
              <a:t>3ra. (90/00) C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ambiar 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país destino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por 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país origen</a:t>
            </a:r>
            <a:r>
              <a:rPr b="0" lang="pt-PT" sz="2400" spc="-1" strike="noStrike">
                <a:solidFill>
                  <a:srgbClr val="ccecff"/>
                </a:solidFill>
                <a:latin typeface="Tahoma"/>
              </a:rPr>
              <a:t> Régimen de transición 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destino”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para transacciones intracomunitarias entre sujetos pasivos de IV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380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ETAPAS PROCESO DE ARMONIZACIÓN DEL IV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4280400" y="900720"/>
            <a:ext cx="381240" cy="712800"/>
          </a:xfrm>
          <a:custGeom>
            <a:avLst/>
            <a:gdLst>
              <a:gd name="textAreaLeft" fmla="*/ 59400 w 381240"/>
              <a:gd name="textAreaRight" fmla="*/ 333720 w 381240"/>
              <a:gd name="textAreaTop" fmla="*/ 178200 h 712800"/>
              <a:gd name="textAreaBottom" fmla="*/ 534600 h 71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6F6-F23B-4628-A647-CB9372C8B802}" type="slidenum">
              <a:t>15</a:t>
            </a:fld>
          </a:p>
        </p:txBody>
      </p:sp>
    </p:spTree>
  </p:cSld>
  <p:transition spd="slow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Tahoma"/>
              </a:rPr>
              <a:t>3RA. ETAPA </a:t>
            </a:r>
            <a:r>
              <a:rPr b="0" lang="pt-PT" sz="2800" spc="-1" strike="noStrike">
                <a:solidFill>
                  <a:srgbClr val="ccffff"/>
                </a:solidFill>
                <a:latin typeface="Tahoma"/>
              </a:rPr>
              <a:t>(90/00)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supresión controles fronteras, registros compras/ventas a sujetos pasivos de Estados miembros, 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(VIES y cooperación administrativa mutua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aproximación tipos IVA </a:t>
            </a:r>
            <a:r>
              <a:rPr b="0" i="1" lang="es-ES_tradnl" sz="2000" spc="-1" strike="noStrike">
                <a:solidFill>
                  <a:srgbClr val="ccecff"/>
                </a:solidFill>
                <a:latin typeface="Tahoma"/>
              </a:rPr>
              <a:t>(número, nivel y bienes):</a:t>
            </a: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tipo normalizado mínimo de 15%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1 o 2 tipos reducidos no inferiores al 5%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supresión  del tipo aumentado, bienes de “lujo”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régimen de transición 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(“entregas comunitarias entre inscriptos” destino pero sin ajuste en frontera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AC2-661D-41D0-9993-BF2EC9836C45}" type="slidenum">
              <a:t>16</a:t>
            </a:fld>
          </a:p>
        </p:txBody>
      </p:sp>
    </p:spTree>
  </p:cSld>
  <p:transition spd="slow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LA 4TA. ETAPA, 2000,“ESTRATEGIA PARA MEJORAR EL FUNCIONAMIENTO DEL RÉGIMEN IVA EN EL MARCO DEL MERCADO INTERIOR”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deja para largo plazo </a:t>
            </a:r>
            <a:r>
              <a:rPr b="0" i="1" lang="es-ES_tradnl" sz="2800" spc="-1" strike="noStrike">
                <a:solidFill>
                  <a:srgbClr val="ccecff"/>
                </a:solidFill>
                <a:latin typeface="Tahoma"/>
              </a:rPr>
              <a:t>«régimen definitivo de tributación del país de origen»</a:t>
            </a: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 y propone una prioridades para mejorar “</a:t>
            </a:r>
            <a:r>
              <a:rPr b="0" i="1" lang="es-ES_tradnl" sz="2800" spc="-1" strike="noStrike">
                <a:solidFill>
                  <a:srgbClr val="ccecff"/>
                </a:solidFill>
                <a:latin typeface="Tahoma"/>
              </a:rPr>
              <a:t>tributación en el país de destino”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simplificar y modernizar el régimen del IV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reforzar la cooperación administrativa </a:t>
            </a:r>
            <a:r>
              <a:rPr b="0" i="1" lang="es-ES_tradnl" sz="2000" spc="-1" strike="noStrike">
                <a:solidFill>
                  <a:srgbClr val="ccecff"/>
                </a:solidFill>
                <a:latin typeface="Tahoma"/>
              </a:rPr>
              <a:t>(fraude declaración de entregas comunitarias ficticias, no declaración operaciones intra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aplicar la legislación del IVA de forma más uniform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A7C-B7B7-446F-9BE0-D86674362D07}" type="slidenum">
              <a:t>17</a:t>
            </a:fld>
          </a:p>
        </p:txBody>
      </p:sp>
    </p:spTree>
  </p:cSld>
  <p:transition spd="slow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60948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ARMONIZACIÓN DE LA TRIBUTACIÓN DIRECTA </a:t>
            </a:r>
            <a:r>
              <a:rPr b="0" i="1" lang="pt-PT" sz="2400" spc="-1" strike="noStrike">
                <a:solidFill>
                  <a:srgbClr val="ccecff"/>
                </a:solidFill>
                <a:latin typeface="Tahoma"/>
              </a:rPr>
              <a:t>(tema presente pero no comtemplado explícitamente en TR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55560" y="3657600"/>
            <a:ext cx="780408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las propuestas de la Comisión Europea no han sido bien acogidas a pesar de la necesidad de eliminar obstáculos al desarrollo de la actividad de las empresa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037040" y="2167560"/>
            <a:ext cx="1067040" cy="115092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287640 h 1150920"/>
              <a:gd name="textAreaBottom" fmla="*/ 863280 h 1150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21D-8D34-42CC-B3C3-337A55F294AF}" type="slidenum">
              <a:t>18</a:t>
            </a:fld>
          </a:p>
        </p:txBody>
      </p:sp>
    </p:spTree>
  </p:cSld>
  <p:transition spd="slow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14320" y="9111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L PAQUETE FISCA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55560" y="3573360"/>
            <a:ext cx="7804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buClr>
                <a:srgbClr val="006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Código de Conduct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buClr>
                <a:srgbClr val="006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buClr>
                <a:srgbClr val="006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Directiva intereses y cánones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buClr>
                <a:srgbClr val="006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buClr>
                <a:srgbClr val="006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Directiva del ahorr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4092480" y="2187360"/>
            <a:ext cx="936360" cy="828720"/>
          </a:xfrm>
          <a:custGeom>
            <a:avLst/>
            <a:gdLst>
              <a:gd name="textAreaLeft" fmla="*/ 146160 w 936360"/>
              <a:gd name="textAreaRight" fmla="*/ 819360 w 936360"/>
              <a:gd name="textAreaTop" fmla="*/ 207000 h 828720"/>
              <a:gd name="textAreaBottom" fmla="*/ 621720 h 82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91A-5E4D-44AA-A1BA-355F43FE60CE}" type="slidenum">
              <a:t>19</a:t>
            </a:fld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ccffff"/>
                </a:solidFill>
                <a:latin typeface="Tahoma"/>
              </a:rPr>
              <a:t>ESTRUCTURA DE LA PRESENTACIÓN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ccecff"/>
                </a:solidFill>
                <a:latin typeface="Tahoma"/>
              </a:rPr>
              <a:t>INTEGRACIÓN ECONÓMICA Y TRIBUTACIÓ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ccecff"/>
                </a:solidFill>
                <a:latin typeface="Tahoma"/>
              </a:rPr>
              <a:t>LA ARMONIZACIÓN TRIBUTARIA EN EUROP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ccecff"/>
                </a:solidFill>
                <a:latin typeface="Tahoma"/>
              </a:rPr>
              <a:t>LECCIONES Y CONCLUSION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955-A619-4032-8CCC-3B9E95DFAB78}" type="slidenum">
              <a:t>2</a:t>
            </a:fld>
          </a:p>
        </p:txBody>
      </p:sp>
    </p:spTree>
  </p:cSld>
  <p:transition spd="slow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080" y="304920"/>
            <a:ext cx="748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CÓDIGO DE CONDUCTA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ccecff"/>
                </a:solidFill>
                <a:latin typeface="Tahoma"/>
              </a:rPr>
              <a:t>Grupo de alto nivel “Primarolo” 1998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655560" y="2666880"/>
            <a:ext cx="780408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buClr>
                <a:srgbClr val="006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Identificación de 66 medidas perjudicial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>
              <a:buClr>
                <a:srgbClr val="006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>
              <a:buClr>
                <a:srgbClr val="006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Desmantelamiento progresivo de las medidas perjudiciales hasta 31 diciembre 2005 (</a:t>
            </a:r>
            <a:r>
              <a:rPr b="0" i="1" lang="pt-PT" sz="2800" spc="-1" strike="noStrike">
                <a:solidFill>
                  <a:srgbClr val="ccecff"/>
                </a:solidFill>
                <a:latin typeface="Tahoma"/>
              </a:rPr>
              <a:t>rollback</a:t>
            </a: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>
              <a:buClr>
                <a:srgbClr val="006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>
              <a:buClr>
                <a:srgbClr val="006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No introducción de nuevas medidas perjudiciales (</a:t>
            </a:r>
            <a:r>
              <a:rPr b="0" i="1" lang="pt-PT" sz="2800" spc="-1" strike="noStrike">
                <a:solidFill>
                  <a:srgbClr val="ccecff"/>
                </a:solidFill>
                <a:latin typeface="Tahoma"/>
              </a:rPr>
              <a:t>standstill</a:t>
            </a: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4255920" y="1490400"/>
            <a:ext cx="609480" cy="828720"/>
          </a:xfrm>
          <a:custGeom>
            <a:avLst/>
            <a:gdLst>
              <a:gd name="textAreaLeft" fmla="*/ 95040 w 609480"/>
              <a:gd name="textAreaRight" fmla="*/ 533520 w 609480"/>
              <a:gd name="textAreaTop" fmla="*/ 207000 h 828720"/>
              <a:gd name="textAreaBottom" fmla="*/ 621720 h 82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D9EF-6E19-4778-B69C-98F909B693BB}" type="slidenum">
              <a:t>20</a:t>
            </a:fld>
          </a:p>
        </p:txBody>
      </p:sp>
    </p:spTree>
  </p:cSld>
  <p:transition spd="slow"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080" y="685800"/>
            <a:ext cx="748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DIRECTIVA INTERES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Y CÁNONES (2003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55560" y="3200400"/>
            <a:ext cx="78040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buClr>
                <a:srgbClr val="006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Exención de impuesto en el Estado Miembro en que se generam los intereses o los cánon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buClr>
                <a:srgbClr val="006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buClr>
                <a:srgbClr val="006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Tributación en el Estado Miembro de la sociedad matriz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399560" y="2167560"/>
            <a:ext cx="322200" cy="828720"/>
          </a:xfrm>
          <a:custGeom>
            <a:avLst/>
            <a:gdLst>
              <a:gd name="textAreaLeft" fmla="*/ 50400 w 322200"/>
              <a:gd name="textAreaRight" fmla="*/ 282240 w 322200"/>
              <a:gd name="textAreaTop" fmla="*/ 207000 h 828720"/>
              <a:gd name="textAreaBottom" fmla="*/ 621720 h 82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EEFF-8052-4E0F-9061-B4AF2E599A7A}" type="slidenum">
              <a:t>21</a:t>
            </a:fld>
          </a:p>
        </p:txBody>
      </p:sp>
    </p:spTree>
  </p:cSld>
  <p:transition spd="slow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14320" y="9111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DIRECTIVA DEL AHORRO (2003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200400"/>
            <a:ext cx="7804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Garantizar un mínimo de imposición efectiva de los rendimientos del ahorro en forma de pago de intereses en la Unión Europe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La Directiva se aplica a partir de 1 de julio 2005 </a:t>
            </a:r>
            <a:r>
              <a:rPr b="0" i="1" lang="pt-PT" sz="2800" spc="-1" strike="noStrike">
                <a:solidFill>
                  <a:srgbClr val="ccecff"/>
                </a:solidFill>
                <a:latin typeface="Tahoma"/>
              </a:rPr>
              <a:t>(pagos a PF)</a:t>
            </a:r>
            <a:r>
              <a:rPr b="0" i="1" lang="pt-PT" sz="28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092480" y="1969920"/>
            <a:ext cx="936360" cy="828720"/>
          </a:xfrm>
          <a:custGeom>
            <a:avLst/>
            <a:gdLst>
              <a:gd name="textAreaLeft" fmla="*/ 146160 w 936360"/>
              <a:gd name="textAreaRight" fmla="*/ 819360 w 936360"/>
              <a:gd name="textAreaTop" fmla="*/ 207000 h 828720"/>
              <a:gd name="textAreaBottom" fmla="*/ 621720 h 82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688-DF9E-49C7-9509-4194E8D18F15}" type="slidenum">
              <a:t>22</a:t>
            </a:fld>
          </a:p>
        </p:txBody>
      </p:sp>
    </p:spTree>
  </p:cSld>
  <p:transition spd="slow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ccffff"/>
                </a:solidFill>
                <a:latin typeface="Tahoma"/>
              </a:rPr>
              <a:t>OBJETIVO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Posibilitar que los rendimientos del ahorro, en forma de intereses pagados en un Estado miembro a los beneficiarios residentes en otro Estado miembro, puedan estar sujetos a imposición de conformidad con la legislación de este último Estad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Tahoma"/>
              </a:rPr>
              <a:t>Evitar la fuga de capitales hacia terceros país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DC0-5626-414F-8FFE-4531DD322452}" type="slidenum">
              <a:t>23</a:t>
            </a:fld>
          </a:p>
        </p:txBody>
      </p:sp>
    </p:spTree>
  </p:cSld>
  <p:transition spd="slow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Tahoma"/>
              </a:rPr>
              <a:t>LAS SALVAGUARDA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Para evitar la fuga de capitales hacia terceros países necesario contemplar salvaguardas y extender el compromiso de II a esos terceros países (al menos a los de mayor riesgo)</a:t>
            </a: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1AC-A9AC-44DA-853B-D8CD3E15FAF1}" type="slidenum">
              <a:t>24</a:t>
            </a:fld>
          </a:p>
        </p:txBody>
      </p:sp>
    </p:spTree>
  </p:cSld>
  <p:transition spd="slow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45720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DIRECTIVA DEL AHORR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655560" y="2133720"/>
            <a:ext cx="78040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BÉLGICA, AUSTRIA y LUXEMBURGO van hacer una retención del impuesto (15;20 y 35%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Los otros Estados Miembros intercambio automático de informació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ADOPCIÓN D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MEDIDAS EQUIVALENTES”</a:t>
            </a:r>
            <a:r>
              <a:rPr b="1" lang="pt-PT" sz="2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SUIZA, ANDORRA, LIECHTENSTEIN, MONÁCO y SAN MARIN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4300560" y="957240"/>
            <a:ext cx="457200" cy="828720"/>
          </a:xfrm>
          <a:custGeom>
            <a:avLst/>
            <a:gdLst>
              <a:gd name="textAreaLeft" fmla="*/ 71280 w 457200"/>
              <a:gd name="textAreaRight" fmla="*/ 400320 w 457200"/>
              <a:gd name="textAreaTop" fmla="*/ 207000 h 828720"/>
              <a:gd name="textAreaBottom" fmla="*/ 621720 h 82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6DA3-CF50-4A19-A71D-B2A7C1946832}" type="slidenum">
              <a:t>25</a:t>
            </a:fld>
          </a:p>
        </p:txBody>
      </p:sp>
    </p:spTree>
  </p:cSld>
  <p:transition spd="slow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14320" y="91116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FORO CONJUNTO DE LA UNIÓN EUROPEA SOBRE LOS PRECIOS DE TRANSFERENCIA (2002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55560" y="4076640"/>
            <a:ext cx="780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Busca soluciones prácticas para aplicación más uniforme del Convenio de Arbitrag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Código de Conducta sobre el Convenio de Arbitraj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4092480" y="2833560"/>
            <a:ext cx="936720" cy="828720"/>
          </a:xfrm>
          <a:custGeom>
            <a:avLst/>
            <a:gdLst>
              <a:gd name="textAreaLeft" fmla="*/ 146160 w 936720"/>
              <a:gd name="textAreaRight" fmla="*/ 819720 w 936720"/>
              <a:gd name="textAreaTop" fmla="*/ 207000 h 828720"/>
              <a:gd name="textAreaBottom" fmla="*/ 621720 h 82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63D-D624-4BDE-9FC6-873F6219C086}" type="slidenum">
              <a:t>26</a:t>
            </a:fld>
          </a:p>
        </p:txBody>
      </p:sp>
    </p:spTree>
  </p:cSld>
  <p:transition spd="slow">
    <p:cover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14320" y="911160"/>
            <a:ext cx="74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BASE IMPONIBLE COMÚN CONSOLIDADA DEL IMPUESTO DE SOCIEDADES CON ACTIVIDAD A ESCALA COMUNITARI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655560" y="4076640"/>
            <a:ext cx="780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Proyecto a mediano o largo plaz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El estudio comparativo de la legislación aplicable en los 25 Estados Miembros se inició en 2005 </a:t>
            </a:r>
            <a:r>
              <a:rPr b="0" i="1" lang="pt-PT" sz="2400" spc="-1" strike="noStrike">
                <a:solidFill>
                  <a:srgbClr val="ccecff"/>
                </a:solidFill>
                <a:latin typeface="Tahoma"/>
              </a:rPr>
              <a:t>(CONCLUSIÓN EN 2 AÑO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4092480" y="2833560"/>
            <a:ext cx="936720" cy="828720"/>
          </a:xfrm>
          <a:custGeom>
            <a:avLst/>
            <a:gdLst>
              <a:gd name="textAreaLeft" fmla="*/ 146160 w 936720"/>
              <a:gd name="textAreaRight" fmla="*/ 819720 w 936720"/>
              <a:gd name="textAreaTop" fmla="*/ 207000 h 828720"/>
              <a:gd name="textAreaBottom" fmla="*/ 621720 h 82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8A1-6449-41E3-A99F-79B79F82A00C}" type="slidenum">
              <a:t>27</a:t>
            </a:fld>
          </a:p>
        </p:txBody>
      </p:sp>
    </p:spTree>
  </p:cSld>
  <p:transition spd="slow"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53352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IMPUESTOS ESPECIALES (bebidas, tabaco, hidrocarburos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133720"/>
            <a:ext cx="7804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Armonización de las estructuras en 1992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Tributación mínima, específic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4380480" y="1448280"/>
            <a:ext cx="352440" cy="712800"/>
          </a:xfrm>
          <a:custGeom>
            <a:avLst/>
            <a:gdLst>
              <a:gd name="textAreaLeft" fmla="*/ 55080 w 352440"/>
              <a:gd name="textAreaRight" fmla="*/ 308520 w 352440"/>
              <a:gd name="textAreaTop" fmla="*/ 178200 h 712800"/>
              <a:gd name="textAreaBottom" fmla="*/ 534600 h 71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09880"/>
            <a:ext cx="71582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bienes pueden circular libremente entre los Estados Miembros en régimen suspensivo de impuesto tributando en el destino, o con el impuesto pagado en el origen cuando adquiridos por particulares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733920"/>
            <a:ext cx="6985080" cy="2514600"/>
          </a:xfrm>
          <a:prstGeom prst="rect">
            <a:avLst/>
          </a:prstGeom>
          <a:noFill/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BE6F-DC31-4E0D-843C-1C90EDD459BB}" type="slidenum">
              <a:t>28</a:t>
            </a:fld>
          </a:p>
        </p:txBody>
      </p:sp>
    </p:spTree>
  </p:cSld>
  <p:transition spd="slow">
    <p:cover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600" spc="-1" strike="noStrike">
                <a:solidFill>
                  <a:srgbClr val="ccffff"/>
                </a:solidFill>
                <a:latin typeface="Tahoma"/>
              </a:rPr>
              <a:t>LECCIONES Y CONCLUSIONE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1A7-13FC-44D1-BF3E-ECD129291655}" type="slidenum">
              <a:t>29</a:t>
            </a:fld>
          </a:p>
        </p:txBody>
      </p:sp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Tahoma"/>
              </a:rPr>
              <a:t>EVOLUCIÓN DE LA I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acuerdos de base eliminación obstáculos a  intercambios comerciales 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(preferencias, progresiva liberación del comercio, unión aduanera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eficacia factores de producción e implementación políticas económicas comunes y de cooperación 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(mercado común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necesidad instrumentos jurídicos, organismos coordinación y autoridades supranacionales 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(unión económica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E09-AF61-4228-961E-E3918C8FEB2B}" type="slidenum">
              <a:t>3</a:t>
            </a:fld>
          </a:p>
        </p:txBody>
      </p:sp>
    </p:spTree>
  </p:cSld>
  <p:transition spd="slow">
    <p:cover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ccffff"/>
                </a:solidFill>
                <a:latin typeface="Tahoma"/>
              </a:rPr>
              <a:t>LECCIONES APRENDIDAS (UE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la ArTr es un proceso lento y, a pesar del avance cualitativo en 45 años, no es satisfactorio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como consecuencia de carencia de visión global, las decisiones en materia fiscal continúan siendo tomadas por unanimidad, lo que condiciona los progresos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ecff"/>
                </a:solidFill>
                <a:latin typeface="Tahoma"/>
              </a:rPr>
              <a:t>la principal cuestión que se plantea es la soberanía de los Estados miembros en un ámbito que no se desea ceder, cuando las dificultades presupuestarias afectan cada vez a un mayor número de ellos, los cuales tienen la obligación de contención del déficit presupuestario para cumplir con el Pacto de Estabilidad y Crecimiento (Dublin 1996, déficit excesivo 3%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B91-5995-4D73-B0B3-360A48666111}" type="slidenum">
              <a:t>30</a:t>
            </a:fld>
          </a:p>
        </p:txBody>
      </p:sp>
    </p:spTree>
  </p:cSld>
  <p:transition spd="slow">
    <p:cover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Tahoma"/>
              </a:rPr>
              <a:t>CONCLUSIONES (AL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La revitalización de estrategias integracionistas, replantea problemática armonización tributari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50200" indent="-2502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La experiencia latinoamericana es incipiente y carente de una acción continua y sistematizada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50200" indent="-2502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Preferente atención para evitar prácticas tributarias nocivas y “guerras de incentivos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50200" indent="-2502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cecff"/>
                </a:solidFill>
                <a:latin typeface="Tahoma"/>
              </a:rPr>
              <a:t>Posible estrategia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ccecff"/>
                </a:solidFill>
                <a:latin typeface="Tahoma"/>
              </a:rPr>
              <a:t>Importancia de diferenciar estructura técnico formal de niveles tributació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ccecff"/>
                </a:solidFill>
                <a:latin typeface="Tahoma"/>
              </a:rPr>
              <a:t>Proceso de la tributación aduaner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ccecff"/>
                </a:solidFill>
                <a:latin typeface="Tahoma"/>
              </a:rPr>
              <a:t>Beneficios con o sin avance de la integración (racionalizaciónde los STs)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6F8-1E95-4610-8A18-55A269E17D7D}" type="slidenum">
              <a:t>31</a:t>
            </a:fld>
          </a:p>
        </p:txBody>
      </p:sp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Tahoma"/>
              </a:rPr>
              <a:t>LOS EFECTOS DE LA TRIBUTACIÓN EN LOS PROCESOS DE INTEGRACIÓN ECONÓMIC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discriminación contra los bienes procedentes del exterior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distorsiones en las condiciones de competencia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distorsiones en la localización de las inversione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A54-D235-47B0-A2BC-0E0392DA5407}" type="slidenum">
              <a:t>4</a:t>
            </a:fld>
          </a:p>
        </p:txBody>
      </p:sp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Tahoma"/>
              </a:rPr>
              <a:t>OBJETO DE LA ARMONIZACIÓN TRIBUTARI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La armonización tributaria se inicia para eliminar asimetrías en los tributos que dificultan la integración y, conforme el avance de ese proceso, puede demandar que se coordinen también las políticas tributaria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dinámica, 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(conforme etapas de integración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progresiva 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(creciente)</a:t>
            </a: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 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1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instrumental</a:t>
            </a:r>
            <a:r>
              <a:rPr b="0" lang="es-PA" sz="24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i="1" lang="es-PA" sz="2400" spc="-1" strike="noStrike">
                <a:solidFill>
                  <a:srgbClr val="ccecff"/>
                </a:solidFill>
                <a:latin typeface="Tahoma"/>
              </a:rPr>
              <a:t>(al servicio de objetivos de la integración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46A-7B4C-4266-B090-5D265D921DAC}" type="slidenum">
              <a:t>5</a:t>
            </a:fld>
          </a:p>
        </p:txBody>
      </p:sp>
    </p:spTree>
  </p:cSld>
  <p:transition spd="slow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ASPECTOS PRIORITARIOS PARA LA ARMONIZACIÓN TRIBUTARI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tributación aduanera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impuestos al consumo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impuestos utilidades empresariales y rentas y ganancias de capital</a:t>
            </a:r>
            <a:r>
              <a:rPr b="0" lang="es-PA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E2D-ABDC-44CB-B24F-8B28BB96ACAD}" type="slidenum">
              <a:t>6</a:t>
            </a:fld>
          </a:p>
        </p:txBody>
      </p:sp>
    </p:spTree>
  </p:cSld>
  <p:transition spd="slow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Tahoma"/>
              </a:rPr>
              <a:t>TRIBUTACIÓN ADUANER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abolición barreras aduaneras y equivalent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pérdida de recaudación cuya importancia se relaciona con: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participación relativa en total recursos tributario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ecff"/>
                </a:solidFill>
                <a:latin typeface="Tahoma"/>
              </a:rPr>
              <a:t>estructura de las importaciones por país de origen</a:t>
            </a:r>
            <a:r>
              <a:rPr b="0" lang="es-PA" sz="2400" spc="-1" strike="noStrike">
                <a:solidFill>
                  <a:srgbClr val="ccec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ecff"/>
                </a:solidFill>
                <a:latin typeface="Tahoma"/>
              </a:rPr>
              <a:t>arancel externo común </a:t>
            </a:r>
            <a:r>
              <a:rPr b="0" i="1" lang="es-ES_tradnl" sz="2400" spc="-1" strike="noStrike">
                <a:solidFill>
                  <a:srgbClr val="ccecff"/>
                </a:solidFill>
                <a:latin typeface="Tahoma"/>
              </a:rPr>
              <a:t>(normas de origen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63A-B2A0-4199-9D06-F29801526E42}" type="slidenum">
              <a:t>7</a:t>
            </a:fld>
          </a:p>
        </p:txBody>
      </p:sp>
    </p:spTree>
  </p:cSld>
  <p:transition spd="slow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Tahoma"/>
              </a:rPr>
              <a:t>IMPUESTOS AL CONSUM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ccecff"/>
                </a:solidFill>
                <a:latin typeface="Tahoma"/>
              </a:rPr>
              <a:t>evitar distorsiones en las condiciones de competenci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66ff"/>
              </a:buClr>
              <a:buSzPct val="1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ccecff"/>
                </a:solidFill>
                <a:latin typeface="Tahoma"/>
              </a:rPr>
              <a:t>necesidad de compatibilizació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66ff"/>
              </a:buClr>
              <a:buSzPct val="1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ccecff"/>
                </a:solidFill>
                <a:latin typeface="Tahoma"/>
              </a:rPr>
              <a:t>estructura que permita “ajustes fiscales en frontera”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66ff"/>
              </a:buClr>
              <a:buSzPct val="1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ccecff"/>
                </a:solidFill>
                <a:latin typeface="Tahoma"/>
              </a:rPr>
              <a:t>armonización del IV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2B8-B169-43C5-BCAA-0ABAF15DE81B}" type="slidenum">
              <a:t>8</a:t>
            </a:fld>
          </a:p>
        </p:txBody>
      </p:sp>
    </p:spTree>
  </p:cSld>
  <p:transition spd="slow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ffff"/>
                </a:solidFill>
                <a:latin typeface="Tahoma"/>
              </a:rPr>
              <a:t>IMPUESTOS UTILIDADES EMPRESARIALES Y RENTAS Y GANANCIAS DE CAPITAL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ccecff"/>
                </a:solidFill>
                <a:latin typeface="Tahoma"/>
              </a:rPr>
              <a:t>atenuar distorsiones en la localización de las inversion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ccecff"/>
                </a:solidFill>
                <a:latin typeface="Tahoma"/>
              </a:rPr>
              <a:t>impuestos a la rent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ccecff"/>
                </a:solidFill>
                <a:latin typeface="Tahoma"/>
              </a:rPr>
              <a:t>tratados tributario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ccecff"/>
                </a:solidFill>
                <a:latin typeface="Tahoma"/>
              </a:rPr>
              <a:t>incentivos tributario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B095-2263-4933-AAA8-607370A43AF4}" type="slidenum">
              <a:t>9</a:t>
            </a:fld>
          </a:p>
        </p:txBody>
      </p:sp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00:38:14Z</dcterms:created>
  <dc:creator>Ana</dc:creator>
  <dc:description/>
  <dc:language>en-US</dc:language>
  <cp:lastModifiedBy>C.P.C.E.C.A.B.A.</cp:lastModifiedBy>
  <cp:lastPrinted>2005-09-07T22:20:50Z</cp:lastPrinted>
  <dcterms:modified xsi:type="dcterms:W3CDTF">2005-09-12T14:57:48Z</dcterms:modified>
  <cp:revision>9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83257528</vt:r8>
  </property>
  <property fmtid="{D5CDD505-2E9C-101B-9397-08002B2CF9AE}" pid="3" name="_AuthorEmail">
    <vt:lpwstr>filipaalexandre@netcabo.pt</vt:lpwstr>
  </property>
  <property fmtid="{D5CDD505-2E9C-101B-9397-08002B2CF9AE}" pid="4" name="_AuthorEmailDisplayName">
    <vt:lpwstr>Ana</vt:lpwstr>
  </property>
  <property fmtid="{D5CDD505-2E9C-101B-9397-08002B2CF9AE}" pid="5" name="_EmailSubject">
    <vt:lpwstr/>
  </property>
</Properties>
</file>