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22BF-CC0B-4F47-ADF4-17BF227B8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CB10-6A28-45C8-B421-128DDF29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3202-74A1-4CFF-B865-EB9151D43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C564-0464-478B-A12C-3DBDEFEBE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EDCFD-05BF-44EE-B70A-220706DE3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F03A-CE1A-49AF-AFE0-99FDF4BC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8A922-DF92-465C-BFBA-EE533B47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07F5-A2D6-4FEC-900D-181117CD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A4AF3-3579-4BD9-876F-FEFD2861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8D54-181C-4A51-B6BA-E877955A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AC8B5-950C-43D9-BD7D-1FEE87AC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577C-D0A1-4875-925F-DA83D2DD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AFC3-D116-4165-AA01-86F3D8FC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5D921-8817-4D5A-A390-72A71D79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2EF4-5622-4A75-97CC-BA398344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6831-E9EA-43B6-99A3-2CBF0D7FE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B6AA-8777-499E-AD16-9DB4827B3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132A-1528-436E-B824-C3A92804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3E21-CDB1-4FE8-BB70-C73581F6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41D5-A0A5-48A7-B388-73D208D8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E7D3-FAC6-4FC4-A28C-0E89ED4C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5D22-A41C-4921-8138-A04722E5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06FE-DA49-41E5-B20E-B4F1EC83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E3CB-E23F-4003-8B88-9AE24744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3da8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3a49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5F8C-1AEA-4542-9E6B-FD1C6DB85E0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3da8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3a49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4CC4-DEF6-4C21-8331-C0799066CA4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Arial"/>
              </a:rPr>
              <a:t>NEUTRALIDAD, EFICIENCIA Y EQUIDAD EN EL DERECHO TRIBUTARIO COLOMBIANO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860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NEUTRALIDA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Se debe evitar que los tributos determinen comportamientos, salvo que exista una razón constitucionalmente válid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NEUTRALIDA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El 30% del valor invertido en activos fijos productivos de renta, constituye una deducción adicional al gasto por depreciació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NEUTRALIDA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3164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La Corte Constitucional ha resuelto los conflictos originados por las normas de incentivo en relación con los principios de igualdad y/o capacidad contributiva, tomando en cuenta los siguientes elementos de juicio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°Legitimidad e importancia del fin buscad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°Que el medio utilizado no esté prohibido y sea conducente para conseguir el fi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°Proporcionalidad/razonabilidad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EFICIENC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Consagrado expresamente como principio orientador del sistema tributario en el art. 363 de la Constitución Política de Colombi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EFICIENC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Estructuración del tribut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Gravamen a los Movimientos Finanancieros. Predominio de lo puramente tributario, sobre el DERECHO tributari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EFICIENC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Costos mínimos de fiscalización y recaudo (acreedor o sujeto activo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Costos mínimos de cumplimient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EFICIENC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31640" y="1719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Eficiencia vs. Equidad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Esta tensión se presenta particularmente en relación con las disposiciones que contemplan mecanismos para enfrentar la evasión. Se mira además la necesidad del medio escogid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Eficiencia vs. Derecho de defens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EQUIDA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Consagrado expresamente en la Constitución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2900" spc="-1" strike="noStrike">
                <a:solidFill>
                  <a:srgbClr val="000000"/>
                </a:solidFill>
                <a:latin typeface="Verdana"/>
              </a:rPr>
              <a:t>ARTICULO 363. 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El sistema tributario se funda en los principios de equidad, eficiencia y progresividad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EQUIDA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ARTICULO 95. (…) Son deberes de la persona y el ciudadan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(…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9. Contribuir al financiamiento de los gastos e inversiones del Estado dentro de conceptos de justicia y equida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EQUIDA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La Corte Constitucional ha dicho que el principio de equidad tributaria se desenvuelve como DERECHO A LA IGUALDAD dentro del campo fiscal, en íntima correspondencia con el principio de generalidad del tributo, que de suyo constituye basamento del derecho a la igualdad frente a las cargas públic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EQUIDA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CO" sz="2900" spc="-1" strike="noStrike">
                <a:solidFill>
                  <a:srgbClr val="000000"/>
                </a:solidFill>
                <a:latin typeface="Verdana"/>
              </a:rPr>
              <a:t>Así, la equidad tributaria </a:t>
            </a:r>
            <a:r>
              <a:rPr b="0" i="1" lang="es-CO" sz="2900" spc="-1" strike="noStrike">
                <a:solidFill>
                  <a:srgbClr val="000000"/>
                </a:solidFill>
                <a:latin typeface="Verdana"/>
              </a:rPr>
              <a:t>es un criterio con base en el cual se pondera la distribución de las cargas y de los beneficios o la imposición de gravámenes entre los contribuyentes para evitar que haya cargas excesivas o beneficios  exagerados”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NEUTRALIDA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Si bien la función esencial de los tributos es financiar la realización de los fines del Estado, también constituyen una herramienta de política económic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EQUIDA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Amnistías (eficiencia vs equidad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La equidad como argumento ante un tributo confiscatori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La equidad como sustento para que prime lo sustancial sobre lo formal (la “intentio juris deberá ser desplazada por la “intentio facti”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NEUTRALIDA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Fines extrafiscales del tribut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Derecho Promocional” (Norberto Bobbio). “El Derecho no es un fin en sí mismo, sino un instrumento para el logro de objetivos socialmente deseados”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NEUTRALIDA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Es frecuente que las normas a través de las cuales se realizan fines extrafiscales, entren en conflicto con los principios de capacidad económica y/o igualda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NEUTRALIDA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El Estado es el director de la economía…”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Son fines esenciales del Estado…promover la prosperidad general y garantizar la efectividad de los principios, derechos y deberes consagrados en la Constitución…”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NEUTRALIDA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El Estado protegerá especialmente a aquellas personas que por su su condición económica…se encuentren en circunstancias de debilidad manifiesta…”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El Estado…estimulará el desarrollo empresarial…”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NEUTRALIDA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El Estado de manera especial, intervendrá para dar pleno empleo a los recursos humanos y asegurar que todas las personas, en especial las de menores ingresos, tengan acceso efectivo a los bienes y servicios básicos. También promoverá la productividad y competitividad y el desarrollo armónico de las regiones”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NEUTRALIDA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La utilidad en venta de acciones en Bolsa no constituye renta ni ganancia ocasional hasta un tope anual del 10% de las acciones en circulació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Hasta el 30% anual del ahorro para fines de pensión o adquisición de vivienda no constituye ingreso gravad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NEUTRALIDA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Las inversiones en investigación científica y desarrollo tecnológico son deducibles en un 125%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Las empresas editoriales se encuentran exentas del impuesto de renta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Devolución de dos puntos del IVA a quienes paguen con tarjetas de crédito, débito o medios equivalent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01:30:49Z</dcterms:created>
  <dc:creator>hp</dc:creator>
  <dc:description/>
  <dc:language>en-US</dc:language>
  <cp:lastModifiedBy>C.P.C.E.C.A.B.A.</cp:lastModifiedBy>
  <dcterms:modified xsi:type="dcterms:W3CDTF">2005-09-29T12:40:08Z</dcterms:modified>
  <cp:revision>40</cp:revision>
  <dc:subject/>
  <dc:title>INCENTIVOS – IMPUESTO DE RENTA</dc:title>
</cp:coreProperties>
</file>