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7E4D-5CCA-450E-8BD6-C7E021C6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E265-D4B4-46CB-8830-E1B48F20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EBE-5C2B-40E6-A05E-BA9B6A8E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7923-D6B8-468E-A4D2-9ABBDEBA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19B6-85E8-4A31-8312-A0D7F381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977F-2111-4A08-842E-6F1BE576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81B-15E6-4CAF-92D0-D341EB4C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7D5-8B8F-4DFF-B706-157ACE34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6E93-D060-4A45-8C08-04620EE3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B78-2E00-4D2B-9182-90EC2A04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6817-A99C-45E7-867D-F41FF190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85A-F80A-4695-BD19-2B6BE88A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4F77-D200-4554-9475-C1657AF882D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6765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ffc9f3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SPECTOS FUNDAMENTALES DE LAS REFORMAS FISCALES DE LAS ULTIMAS DECAD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7848720" cy="3429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lbertus Medium"/>
              </a:rPr>
              <a:t>Seminario so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lbertus Medium"/>
              </a:rPr>
              <a:t> “</a:t>
            </a:r>
            <a:r>
              <a:rPr b="0" lang="en-US" sz="2400" spc="-1" strike="noStrike">
                <a:solidFill>
                  <a:srgbClr val="000066"/>
                </a:solidFill>
                <a:latin typeface="Albertus Medium"/>
              </a:rPr>
              <a:t>Reforma Tributaria y Crecimiento Económic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lbertus Medium"/>
              </a:rPr>
              <a:t>Buenos Aires. Septiembre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lbertus Medium"/>
              </a:rPr>
              <a:t>	</a:t>
            </a:r>
            <a:r>
              <a:rPr b="0" lang="en-US" sz="1900" spc="-1" strike="noStrike">
                <a:solidFill>
                  <a:srgbClr val="000066"/>
                </a:solidFill>
                <a:latin typeface="Albertus Medium"/>
              </a:rPr>
              <a:t>	</a:t>
            </a:r>
            <a:r>
              <a:rPr b="0" lang="en-US" sz="1900" spc="-1" strike="noStrike">
                <a:solidFill>
                  <a:srgbClr val="000066"/>
                </a:solidFill>
                <a:latin typeface="Albertus Medium"/>
              </a:rPr>
              <a:t>	</a:t>
            </a:r>
            <a:r>
              <a:rPr b="0" lang="en-US" sz="1900" spc="-1" strike="noStrike">
                <a:solidFill>
                  <a:srgbClr val="000066"/>
                </a:solidFill>
                <a:latin typeface="Albertus Medium"/>
              </a:rPr>
              <a:t>	</a:t>
            </a:r>
            <a:r>
              <a:rPr b="0" lang="en-US" sz="1900" spc="-1" strike="noStrike">
                <a:solidFill>
                  <a:srgbClr val="000066"/>
                </a:solidFill>
                <a:latin typeface="Albertus Medium"/>
              </a:rPr>
              <a:t>   </a:t>
            </a:r>
            <a:r>
              <a:rPr b="0" lang="en-US" sz="1800" spc="-1" strike="noStrike">
                <a:solidFill>
                  <a:srgbClr val="000066"/>
                </a:solidFill>
                <a:latin typeface="Albertus Medium"/>
              </a:rPr>
              <a:t>TEODORO CORDON EZQUER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lbertus Medium"/>
              </a:rPr>
              <a:t>    </a:t>
            </a:r>
            <a:r>
              <a:rPr b="0" lang="en-US" sz="1800" spc="-1" strike="noStrike">
                <a:solidFill>
                  <a:srgbClr val="000066"/>
                </a:solidFill>
                <a:latin typeface="Albertus Medium"/>
              </a:rPr>
              <a:t>Ministerio de Economía y Hacie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lbertus Medium"/>
              </a:rPr>
              <a:t>	</a:t>
            </a:r>
            <a:r>
              <a:rPr b="0" lang="en-US" sz="1900" spc="-1" strike="noStrike">
                <a:solidFill>
                  <a:srgbClr val="000066"/>
                </a:solidFill>
                <a:latin typeface="Albertus Medium"/>
              </a:rPr>
              <a:t>Madri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440" y="380520"/>
            <a:ext cx="7924680" cy="6248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Albertus Medium"/>
              </a:rPr>
              <a:t>9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. Estrategia fiscal en la Unión Europe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Armonización en los impuestos indirec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Competencia fiscal entre los Estados en los directos: Impuesto de Sociedades; IRPF y Seguridad So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Albertus Medium"/>
              </a:rPr>
              <a:t>10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. Evolución armonizadora en la imposición direct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Directiva 88/361/CEE que permite la libre circulación de capit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Directiva 90/435/CEE sobre relaciones matriz-fil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Directiva 90/436/CEE sobre fusiones y absor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Convenio de arbitraje para evitar la doble imposición por corrección de beneficios en operaciones vincul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Informe Ruding (1990) sobre Impuesto de Socie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Recomendaciones (1994) sobre régimen fiscal de las pequeñas y medianas empresas y su transmi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440" y="380520"/>
            <a:ext cx="7924680" cy="6248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Paquete Fiscal (1997) para reducir distorsiones fiscales, frenar la desfiscalización del capital y reducir los efectos negativos sobre el empleo y los ingresos de los Est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Albertus Medium"/>
              </a:rPr>
              <a:t>	</a:t>
            </a:r>
            <a:r>
              <a:rPr b="0" lang="es-ES_tradnl" sz="1900" spc="-1" strike="noStrike">
                <a:solidFill>
                  <a:srgbClr val="000066"/>
                </a:solidFill>
                <a:latin typeface="Albertus Medium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Albertus Medium"/>
              </a:rPr>
              <a:t>	</a:t>
            </a:r>
            <a:r>
              <a:rPr b="0" lang="es-ES_tradnl" sz="1900" spc="-1" strike="noStrike">
                <a:solidFill>
                  <a:srgbClr val="000066"/>
                </a:solidFill>
                <a:latin typeface="Albertus Medium"/>
              </a:rPr>
              <a:t>	</a:t>
            </a:r>
            <a:r>
              <a:rPr b="0" lang="es-ES_tradnl" sz="1900" spc="-1" strike="noStrike">
                <a:solidFill>
                  <a:srgbClr val="000066"/>
                </a:solidFill>
                <a:latin typeface="Albertus Medium"/>
              </a:rPr>
              <a:t>Medidas que lo integran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1900" spc="-1" strike="noStrike">
                <a:solidFill>
                  <a:srgbClr val="000066"/>
                </a:solidFill>
                <a:latin typeface="Albertus Medium"/>
              </a:rPr>
              <a:t>a)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  Código de conduct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1900" spc="-1" strike="noStrike">
                <a:solidFill>
                  <a:srgbClr val="000066"/>
                </a:solidFill>
                <a:latin typeface="Albertus Medium"/>
              </a:rPr>
              <a:t>b)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  Directiva sobre fiscalidad del Ahorro 2003/48/CE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Albertus Medium"/>
              </a:rPr>
              <a:t>	</a:t>
            </a:r>
            <a:r>
              <a:rPr b="0" lang="es-ES_tradnl" sz="1900" spc="-1" strike="noStrike">
                <a:solidFill>
                  <a:srgbClr val="000066"/>
                </a:solidFill>
                <a:latin typeface="Albertus Medium"/>
              </a:rPr>
              <a:t>	</a:t>
            </a:r>
            <a:r>
              <a:rPr b="0" lang="es-ES_tradnl" sz="1900" spc="-1" strike="noStrike">
                <a:solidFill>
                  <a:srgbClr val="000066"/>
                </a:solidFill>
                <a:latin typeface="Albertus Medium"/>
              </a:rPr>
              <a:t>c)  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Directiva 2003/49/CE del Consejo de 3 de junio sobre intereses 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      y cánon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440" y="380520"/>
            <a:ext cx="7924680" cy="6248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Informe (2001) de la Comisión sobre el Impuesto de Socied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 algn="just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Font typeface="Monotype Sorts" charset="2"/>
              <a:buChar char="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Si las diferencias en los Impuestos de Sociedades afectan a la localización de las actividades económica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 algn="just">
              <a:lnSpc>
                <a:spcPct val="110000"/>
              </a:lnSpc>
              <a:spcBef>
                <a:spcPts val="476"/>
              </a:spcBef>
              <a:buClr>
                <a:srgbClr val="000066"/>
              </a:buClr>
              <a:buFont typeface="Monotype Sorts" charset="2"/>
              <a:buChar char="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Cuales son los obstáculos fiscales para las actividades transfronterizas y las medidas concretas para su eliminació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Los principales obstáculos afectan 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Font typeface="CG 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Precios de transferenc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Font typeface="CG 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Flujos de renta transfronterizos entre empresas asociada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Font typeface="CG 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Compensación transfronteriza de pérdida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Font typeface="CG 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Operaciones transfronterizas de reestructuración empresari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Font typeface="CG 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Convenios de doble imposició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Font typeface="CG 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Costes de cumplimient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440" y="380520"/>
            <a:ext cx="7924680" cy="6248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 algn="just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Font typeface="Monotype Sorts" charset="2"/>
              <a:buChar char="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Medidas generales y a largo plazo propuestas por la Comisión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 algn="just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Font typeface="CG 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 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Un impuesto Europeo sobre la Renta de las personas jurídicas con  dos variante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Albertus Medium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Albertus Medium"/>
              </a:rPr>
              <a:t>a)</a:t>
            </a:r>
            <a:r>
              <a:rPr b="0" lang="es-ES_tradnl" sz="1500" spc="-1" strike="noStrike">
                <a:solidFill>
                  <a:srgbClr val="000066"/>
                </a:solidFill>
                <a:latin typeface="CG Times"/>
              </a:rPr>
              <a:t> 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La recaudación pasa al Presupuesto Comunitario con pérdida total de soberanía nacion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  </a:t>
            </a:r>
            <a:r>
              <a:rPr b="0" lang="es-ES_tradnl" sz="2000" spc="-1" strike="noStrike">
                <a:solidFill>
                  <a:srgbClr val="000066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Albertus Medium"/>
              </a:rPr>
              <a:t>   </a:t>
            </a:r>
            <a:r>
              <a:rPr b="0" lang="es-ES_tradnl" sz="1900" spc="-1" strike="noStrike">
                <a:solidFill>
                  <a:srgbClr val="000066"/>
                </a:solidFill>
                <a:latin typeface="Albertus Medium"/>
              </a:rPr>
              <a:t>b)</a:t>
            </a:r>
            <a:r>
              <a:rPr b="0" lang="es-ES_tradnl" sz="1500" spc="-1" strike="noStrike">
                <a:solidFill>
                  <a:srgbClr val="000066"/>
                </a:solidFill>
                <a:latin typeface="CG Times"/>
              </a:rPr>
              <a:t> 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A los Estados se les asigna su base y aplican cada uno su tip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— 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Imposición según el Estado origen de la sede principal de la socieda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— 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Armonizar los Impuestos de Sociedades nacionales para lograr una base imponible única y armonizad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440" y="380520"/>
            <a:ext cx="7924680" cy="6248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66"/>
                </a:solidFill>
                <a:latin typeface="CG Times"/>
              </a:rPr>
              <a:t>— 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Intentos armonizadores en relación con la renta de las personas fís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    </a:t>
            </a:r>
            <a:r>
              <a:rPr b="0" lang="es-ES_tradnl" sz="2000" spc="-1" strike="noStrike">
                <a:solidFill>
                  <a:srgbClr val="000066"/>
                </a:solidFill>
                <a:latin typeface="Albertus Medium"/>
              </a:rPr>
              <a:t>1.   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 Propuesta de Directiva (1979) en relación con el gravamen de las    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rentas salariales de los trabajadores transfronteriz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Albertus Medium"/>
              </a:rPr>
              <a:t>2.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 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Recomendación de la Comisión (1994) para evitar las  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discriminaciones entre Estados cuando un trabajador obtiene al 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menos el 75% de sus ingresos en otro Estado distinto del de 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resid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Albertus Medium"/>
              </a:rPr>
              <a:t>3.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   Comunicación de la Comisión (2001) sobre discriminaciones en 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las pensiones transfronteriz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Albertus Medium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Albertus Medium"/>
              </a:rPr>
              <a:t>4.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 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Comunicación de la Comisión (2004) sobre imposición de los 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dividendos percibidos por personas físicas residentes en un 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Estado de sociedades residentes en otro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Albertus Medium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Albertus Medium"/>
              </a:rPr>
              <a:t>5.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 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Informe de la Comisión (2004) sobre los regímenes especiales 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para evitar la fuga de cerebros y los de repatriados y expatria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lbertus Medium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96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G Times"/>
              </a:rPr>
              <a:t>La experiencia española de reformas fiscales, IS (1995) e IRPF (1999 y 2003) ha sido positiva en términos de crecimiento económico, empleo y recaud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G Times"/>
              </a:rPr>
              <a:t>Irlanda el país que más ha reducido la presión fiscal, en términos de coste de uso del factor capital y trabajo, ha conseguido el mayor crecimiento en los últimos 10 añ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G Times"/>
              </a:rPr>
              <a:t>Los 10 países recién incorporados utilizan una estrategia competitiva con los tipos nominales del Impuesto de Sociedad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ts val="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7924680" cy="59436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G Times"/>
              </a:rPr>
              <a:t>Los grandes países de la Unión Europea: Alemania, Francia e Italia, mantienen su elevada presión fiscal con estancamiento económic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G Times"/>
              </a:rPr>
              <a:t>En la Unión Europea, pese a las reformas fiscales de rebajas de tipos nominales en IRPF e Impuesto de Sociedades, la presión fiscal se mantiene ligeramente al alz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G Times"/>
              </a:rPr>
              <a:t>Los países nórdicos, con la mayor presión fiscal, han sido pioneros en las reformas de las rentas del capital (modelo dual IRPF) y en las reformas medioambientales (como forma de reducción de la presión fiscal sobre el trabajo y penalizar la contamin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7924680" cy="59436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CG Times"/>
              </a:rPr>
              <a:t>No resulta posible extraer un modelo o paradigma de política tributaria del conjunto de país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CG Times"/>
              </a:rPr>
              <a:t>Irlanda, Reino Uni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CG Times"/>
              </a:rPr>
              <a:t>Suecia, Dinamarca, Finland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CG Times"/>
              </a:rPr>
              <a:t>Francia, Alemania, Ital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CG Times"/>
              </a:rPr>
              <a:t>pues cada uno presenta sus particularidades que son significativas para 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ts val="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CG Times"/>
              </a:rPr>
              <a:t>Cada país, a través de las decisiones políticas más acertadas, debe buscar el equilibrio entre las exigencias del mercado y las necesidades sociales. Los impuestos son un instrumento útil para esos objetivo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ffc9f3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Monotype Corsiva"/>
              </a:rPr>
              <a:t>INCIDENCIA DEL ENTORNO ECONÓMICO Y POLÍTICO: </a:t>
            </a:r>
            <a:r>
              <a:rPr b="0" lang="en-US" sz="2900" spc="-1" strike="noStrike">
                <a:solidFill>
                  <a:srgbClr val="3333cc"/>
                </a:solidFill>
                <a:latin typeface="Monotype Corsiva"/>
              </a:rPr>
              <a:t>GLOBALIZACION Y DEMOCRACI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848720" cy="4343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Albertus Medium"/>
              </a:rPr>
              <a:t>1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.  Globalización económica a nivel mundi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Albertus Medium"/>
              </a:rPr>
              <a:t>2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.  Integración económica por regiones: U. Europea, mercado único, moneda únic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Albertus Medium"/>
              </a:rPr>
              <a:t>3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.  Competencia fiscal entre los Estados: soberanía fiscal nacion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Albertus Medium"/>
              </a:rPr>
              <a:t>4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.  Carga fiscal y  movilidad  de los factores productivos: equidad versus eficienc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Albertus Medium"/>
              </a:rPr>
              <a:t>5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.  Tendencia a la uniformidad  fiscal o convergencia fisc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660033"/>
                </a:solidFill>
                <a:latin typeface="CG Time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7848720" cy="6095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Albertus Medium"/>
              </a:rPr>
              <a:t>6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.  Administraciones Tributarias nacionales: límites y necesidad de cooperació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Albertus Medium"/>
              </a:rPr>
              <a:t>7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.  Sistema democrático, mercado político y reforma fiscal: la presión social del gasto público y el Estado de bienesta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Albertus Medium"/>
              </a:rPr>
              <a:t>8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.  Crecimiento económico y política fiscal: el límite del déficit públic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Albertus Medium"/>
              </a:rPr>
              <a:t>9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.  Hacia un nuevo tax-mix: impuestos indirectos, impuestos ambientales, cotizaciones social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Albertus Medium"/>
              </a:rPr>
              <a:t>10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.  Estado proveedor de servicios (UE) o facilitador de oportunidades (USA)</a:t>
            </a:r>
            <a:r>
              <a:rPr b="0" lang="es-ES_tradnl" sz="1900" spc="-1" strike="noStrike">
                <a:solidFill>
                  <a:srgbClr val="660033"/>
                </a:solidFill>
                <a:latin typeface="CG Time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lbertus Medium"/>
              </a:rPr>
              <a:t>Características básicas de las reformas fiscales aplicadas por los paises de la ocde desde 19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850"/>
              </a:spcBef>
              <a:buClr>
                <a:srgbClr val="000099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99"/>
                </a:solidFill>
                <a:latin typeface="CG Times"/>
              </a:rPr>
              <a:t>Reducción de los tipos marginales máximos y del número de tramos en el IRPF (-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850"/>
              </a:spcBef>
              <a:buClr>
                <a:srgbClr val="000099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99"/>
                </a:solidFill>
                <a:latin typeface="CG Times"/>
              </a:rPr>
              <a:t>Reducción de los tipos nominales del IS (-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850"/>
              </a:spcBef>
              <a:buClr>
                <a:srgbClr val="000099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99"/>
                </a:solidFill>
                <a:latin typeface="CG Times"/>
              </a:rPr>
              <a:t>Extensión de las bases imponibles en los impuestos sobre la renta (+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850"/>
              </a:spcBef>
              <a:buClr>
                <a:srgbClr val="000099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99"/>
                </a:solidFill>
                <a:latin typeface="CG Times"/>
              </a:rPr>
              <a:t>Reducción y eliminación de tratamientos preferenciales y deducciones (+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850"/>
              </a:spcBef>
              <a:buClr>
                <a:srgbClr val="000099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99"/>
                </a:solidFill>
                <a:latin typeface="CG Times"/>
              </a:rPr>
              <a:t>Diseño de estructuras liquidatorias más limpias y sencilla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850"/>
              </a:spcBef>
              <a:buClr>
                <a:srgbClr val="000099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99"/>
                </a:solidFill>
                <a:latin typeface="CG Times"/>
              </a:rPr>
              <a:t>Cambios de jerarquía en la aplicación de los sistemas impositivos: eficiencia y sencillez, equidad horizontal y vertic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850"/>
              </a:spcBef>
              <a:buClr>
                <a:srgbClr val="000099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99"/>
                </a:solidFill>
                <a:latin typeface="CG Times"/>
              </a:rPr>
              <a:t>Cuestionamiento del principio de residencia versus principio de la fuen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850"/>
              </a:spcBef>
              <a:buClr>
                <a:srgbClr val="000099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99"/>
                </a:solidFill>
                <a:latin typeface="CG Times"/>
              </a:rPr>
              <a:t>Realismo tributario: un impuesto que grava lo que se puede gravar, recauda más y es más eficiente que uno que grava lo que en teoría debiera gravarse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850"/>
              </a:spcBef>
              <a:buClr>
                <a:srgbClr val="000099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99"/>
                </a:solidFill>
                <a:latin typeface="CG Times"/>
              </a:rPr>
              <a:t>Preocupación por mantener la suficiencia financiera del sistema: búsqueda de otras fuentes de ingresos como las del consumo, medioambientales y tasas y precios público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lbertus Medium"/>
              </a:rPr>
              <a:t>MODELOS DE REFORMA FISCAL APLICADOS EN LOS PAISES DE LA OCDE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Albertus Medium"/>
              </a:rPr>
              <a:t>DURANTE EL PERIODO 1999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990033"/>
              </a:solidFill>
              <a:latin typeface="Garamond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38080" y="1219320"/>
          <a:ext cx="7601040" cy="10629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219320"/>
                    <a:ext cx="7601040" cy="1062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lbertus Medium"/>
              </a:rPr>
              <a:t>CAMBIOS EN LOS TIPOS DEL IMPUESTO SOBRE SOCIEDADES, OCDE 1980-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562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990033"/>
              </a:solidFill>
              <a:latin typeface="Garamond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90720" y="1066680"/>
          <a:ext cx="7277040" cy="8782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066680"/>
                    <a:ext cx="7277040" cy="878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Monotype Corsiva"/>
              </a:rPr>
              <a:t>CARACTERISTICAS BASICAS DE LAS REFORMAS FISCALES EN LA UNION EUROPE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ccc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lbertus Medium"/>
              </a:rPr>
              <a:t>1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. Existen diferencias entre los sistemas fiscales de los países de la Unión Europea (tipos, bases imponibles e importancia relativa de los impuest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lbertus Medium"/>
              </a:rPr>
              <a:t>2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.  Hay diferencias entre los países en su nivel de presión fiscal y en su tax-mi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lbertus Medium"/>
              </a:rPr>
              <a:t>3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.  La Unión Europea tiene un nivel de presión fiscal superior a USA y Jap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lbertus Medium"/>
              </a:rPr>
              <a:t>4</a:t>
            </a:r>
            <a:r>
              <a:rPr b="0" lang="es-ES_tradnl" sz="2000" spc="-1" strike="noStrike">
                <a:solidFill>
                  <a:srgbClr val="000066"/>
                </a:solidFill>
                <a:latin typeface="CG Times"/>
              </a:rPr>
              <a:t>.  USA tiene un mayor crecimiento económico y menor desempleo que la Unión Europ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lbertus Medium"/>
              </a:rPr>
              <a:t>5</a:t>
            </a:r>
            <a:r>
              <a:rPr b="0" lang="en-US" sz="1900" spc="-1" strike="noStrike">
                <a:solidFill>
                  <a:srgbClr val="000066"/>
                </a:solidFill>
                <a:latin typeface="CG Times"/>
              </a:rPr>
              <a:t>. En la Unión Europe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899"/>
              </a:spcBef>
              <a:buClr>
                <a:srgbClr val="000066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G Times"/>
              </a:rPr>
              <a:t>Los rendimientos del trabajo están más gravados que los del capit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899"/>
              </a:spcBef>
              <a:buClr>
                <a:srgbClr val="000066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G Times"/>
              </a:rPr>
              <a:t>La disparidad de tipos que gravan el trabajo es mayor que la de los tipos que gravan el capital y el consum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899"/>
              </a:spcBef>
              <a:buClr>
                <a:srgbClr val="000066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G Times"/>
              </a:rPr>
              <a:t>La evolución de los tipos sobre el trabajo, capital y consumo no ha sido muy dispar entre países en los 90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899"/>
              </a:spcBef>
              <a:buClr>
                <a:srgbClr val="000066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G Times"/>
              </a:rPr>
              <a:t>España ha reducido los tipos sobre el capital y los ha aumentado sobre el trabajo y el consum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899"/>
              </a:spcBef>
              <a:buClr>
                <a:srgbClr val="000066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G Times"/>
              </a:rPr>
              <a:t>La mayoría de los países de la Unión Europea aplican al trabajo tipos efectivos mucho más elevados, por las cotizaciones sociales, que los de US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899"/>
              </a:spcBef>
              <a:buClr>
                <a:srgbClr val="000066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G Times"/>
              </a:rPr>
              <a:t>Se han reducido los tipos marginales del IRPF y los tipos del Impuesto de Sociedades, que en algunos países son inferiores a los de US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Albertus Medium"/>
              </a:rPr>
              <a:t>6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. Política fiscal, crecimiento económico, déficit público, competitividad y emple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- Equidad horizontal y vertic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- Neutralidad y eficienc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Albertus Medium"/>
              </a:rPr>
              <a:t>7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. Política fiscal, eficiencia y medio ambient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Albertus Medium"/>
              </a:rPr>
              <a:t>8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. Competencia fiscal y colaboración entre los país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- Límites y ventajas de la competencia fisc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	</a:t>
            </a:r>
            <a:r>
              <a:rPr b="0" lang="es-ES_tradnl" sz="1900" spc="-1" strike="noStrike">
                <a:solidFill>
                  <a:srgbClr val="000066"/>
                </a:solidFill>
                <a:latin typeface="CG Times"/>
              </a:rPr>
              <a:t>- Límites y ventajas de la colaboració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06:49:54Z</dcterms:created>
  <dc:creator>h00451tb</dc:creator>
  <dc:description/>
  <dc:language>en-US</dc:language>
  <cp:lastModifiedBy>C.P.C.E.C.A.B.A.</cp:lastModifiedBy>
  <cp:lastPrinted>2005-09-04T10:55:43Z</cp:lastPrinted>
  <dcterms:modified xsi:type="dcterms:W3CDTF">2005-09-12T14:58:26Z</dcterms:modified>
  <cp:revision>38</cp:revision>
  <dc:subject/>
  <dc:title>INCIDENCIA DEL ENTORNO ECONÓMICO Y POLÍTICO</dc:title>
</cp:coreProperties>
</file>